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7500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7200" cy="99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400" y="-36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200" y="746280"/>
            <a:ext cx="4978440" cy="373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30400"/>
            <a:ext cx="533412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5792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400" y="945792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F5E0-9D43-40AD-9F03-A2700FEAF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776760" y="9458280"/>
            <a:ext cx="2889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2128-7B87-405D-91C8-8A109CAA89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44560" y="74628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66360" y="4730400"/>
            <a:ext cx="533412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338-1019-4E9D-9737-BC226A9F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3F7-A036-44E5-AC5F-CAE00026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0B4-56F4-47E9-8526-ED3D0B76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5CA-E507-40C5-A8CE-13840DE2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E58-29FA-4805-937E-59CCB7D0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936-937D-4AB1-A0DD-39014FE6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0F0-64CB-43C7-A7E0-958EB595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029-5CB9-41C4-8B2F-7AF80D49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8AB-9CCB-4D32-86ED-B33EB215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D95-287A-41EA-A037-144CEF3B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9D9-D4A2-42CE-B4EE-7BAA7569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BA4-D4C0-4B6B-A084-F5019774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0457-D5FB-438A-BF88-A2E57F15A4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hapter 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ternational Strategic Alli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ccess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520" y="1295280"/>
            <a:ext cx="846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Sel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ing strategic partner should be based on company’s goals, objectives &amp; values syst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partners who have capabilities in collaboration and  ability to work in a collaborative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Trust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istence of trust in a relationship reduces the risks associated with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pportunistic behavior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this generates greater profits and  serve customers bet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ccess Fac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-226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Communica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unication is critical for building successful relationships to achieve the benefits of collaboration as it allows partners to understand alliance goals, responsibilities and  helps with the sharing of individual experi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Conflict Resolu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rms should be motivated to engage in joint problem solving as they are, by definition, linked together to manage an environment that was more uncertain and unsettl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ccess Facto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Developing a focused winning strategy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ed on distinctive competencies and competitive advantages of the partners in the selected target market (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ensure there will not be a conflict between alliance partn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able to manage the company cultural challenges that may arise between the alliance partn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8512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ccess Fac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’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56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6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fine and align decision righ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o define what decisions are important to the alliance, which partner should make them and how the decisions will be made and monitor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xit Strate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gree upon an exit strategy for the alliance. It Is important to have agreement in advance on how the alliance will be concluded if and 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when it may fail and/or when it has achieved its objectiv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stakes Leading to Fail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8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partners is too dependent on the other’s capabi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s and dilemmas of mistru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 and language barri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access to the information, for a collaboration to work effectively, one partner (or both) may have to provide the other with information it would prefer to keep secr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quity strategic allianc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liance in which two or more firm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wn different percenta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company they have formed by combining some of their resources and capabilities to create a competitive advantag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on- equity strategic allianc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liance in which two  or more firms develop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contractual-relation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share some of their unique resources and  capabilities to create a competitive advantag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1067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Joint Venture: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ven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a special type of strategic alliance in which two or more firms join together to create a new business entity that is legally separate and different from its par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businesses has an equity stake in the individual business and share revenues, expenses and profit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unequal ownership is common, many are owned equally by the founding fir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Franchising: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anchisees pay a set-up fee and  agree to ongoing payments so the process is financially risk-free for the compan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, problems do exist, particularly with the loss of control over how franchisees run their franchi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Marketing alli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a functional alliance in which two or more firms share marketing services or experti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ost cases, one partner introduces its products or services into a market in which the other partner already has a attendan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stablished firm helps the newcomer by promoting, advertising, and/or distributing its products or servic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stablished firm may negotiate a fixed price for its assistance or may share in a percentage of the newcomer's sales or profit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Research and development (R&amp;D) alli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&amp;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lliances tend to fall into the joint venture category, where two or more businesses decide to started a research venture through forming a new ent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Distribution Relationship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perhaps the most common form of alliance. Strategic alliances are usually formed because the businesses involved want more customers. The result is that cross-promotion agreements are establish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meant by Strategic Allia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poses of Strategic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ccess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stakes Leading to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ypes of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bucks partnered wi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rnes and Nobl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tores in 1993 to provide in-house coffee shops, benefiting both retail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arbucks-United Airlines alliance has resulted in their coffee being offered on flights with the Starbucks logo on the cups and a partnership with Kraft foods has resulted in Starbucks coffee being marketed in grocery s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e has partnered with Sony, Motorola, Phillips, and AT&amp;T in the p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ta And Virgin Atlantic To Form Strategic Allianc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yota's alliances with BM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irm wishing to enter a new market often faces major difficulties, such as deep-rooted competition or tough government regulations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ing with a local fi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often help it exceed such barri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firm may want to learn more abou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produce something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acquire certain resourc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deal with local governments' regulation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 how to manage in a differen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—information that a partner often can off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ure rate of International Strategic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30% to 60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profitable alliances can be uncertain by confli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alliances are very risky and uns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trategic Alli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Definition of Strategic Alliance 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 strategic alliance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s an agreement between two or more parties stating that the involved parties will act in a certain way in order to achieve a common goal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Partners may provide the strategic alliance with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esources such as products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Distribution channels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anufacturing capability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nd knowledge, expertis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5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lliance is a cooperation which aims for a interaction where each partner hopes that the benefits from the alliance will be greater than those from individual effo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alliance usually  make sense when the parties involved have Complementary streng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trategic Alli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Strategic Alli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value to products/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ing market a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op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technological streng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hancing strategic grow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financial streng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igure.1 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enefits of Strategic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438280" y="1981080"/>
            <a:ext cx="3733920" cy="1067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otential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f Strategic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62120" y="3809880"/>
            <a:ext cx="167616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a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514600" y="3809880"/>
            <a:ext cx="167652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343400" y="3809880"/>
            <a:ext cx="167652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a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172200" y="3809880"/>
            <a:ext cx="167652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8"/>
          <p:cNvCxnSpPr>
            <a:stCxn id="62" idx="2"/>
            <a:endCxn id="63" idx="0"/>
          </p:cNvCxnSpPr>
          <p:nvPr/>
        </p:nvCxnSpPr>
        <p:spPr>
          <a:xfrm rot="5400000">
            <a:off x="2571120" y="2076480"/>
            <a:ext cx="762480" cy="270576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8" name="AutoShape 9"/>
          <p:cNvCxnSpPr>
            <a:stCxn id="62" idx="2"/>
            <a:endCxn id="64" idx="0"/>
          </p:cNvCxnSpPr>
          <p:nvPr/>
        </p:nvCxnSpPr>
        <p:spPr>
          <a:xfrm rot="5400000">
            <a:off x="3447360" y="2952720"/>
            <a:ext cx="762480" cy="95328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9" name="AutoShape 10"/>
          <p:cNvCxnSpPr>
            <a:stCxn id="62" idx="2"/>
            <a:endCxn id="65" idx="0"/>
          </p:cNvCxnSpPr>
          <p:nvPr/>
        </p:nvCxnSpPr>
        <p:spPr>
          <a:xfrm flipH="1" rot="16200000">
            <a:off x="4362480" y="2990520"/>
            <a:ext cx="762480" cy="87696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0" name="AutoShape 11"/>
          <p:cNvCxnSpPr>
            <a:stCxn id="62" idx="2"/>
            <a:endCxn id="66" idx="0"/>
          </p:cNvCxnSpPr>
          <p:nvPr/>
        </p:nvCxnSpPr>
        <p:spPr>
          <a:xfrm flipH="1" rot="16200000">
            <a:off x="5276880" y="2076120"/>
            <a:ext cx="762480" cy="270576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62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nefits of Strategic Allian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trategic alliance may allow the firm to achieve the benefits of fast market entry while keeping costs dow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abling a firm to focus resources on its core skills &amp; competencies while acquiring other components or capabilities it lacks from the partn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able partner firms to combine their individual strengths &amp; work together to reduce non-value-adding activities which lead to improved performan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rove market power of a firm because the distribution channels &amp; buying power of the partners can be combin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18:59:21Z</dcterms:created>
  <dc:creator>caim2012</dc:creator>
  <dc:description/>
  <dc:language>en-US</dc:language>
  <cp:lastModifiedBy>User</cp:lastModifiedBy>
  <dcterms:modified xsi:type="dcterms:W3CDTF">2016-12-05T18:17:52Z</dcterms:modified>
  <cp:revision>148</cp:revision>
  <dc:subject/>
  <dc:title>Multicultural Management</dc:title>
</cp:coreProperties>
</file>