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CF2-8914-43F3-85B1-C18E54A4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692-6EC7-442B-91EF-F2529509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CBC-11EE-47A5-85D0-2C3CFA96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A05-18DF-4629-A923-97C1EB63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89B-F2B0-4F77-B083-A042B211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4B6-44BC-4CD9-9398-83445A65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925-7C45-42BB-BE1F-A89FA99A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B26-C3EC-4DEB-BAC1-35C281D3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4DD-5CA6-4CEB-9AAB-F5743EC6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EB6-300E-434F-A42F-BF6E9545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916-78FE-471F-8D5B-E63D625A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7C1-D2BF-4439-8EED-23EAA7AC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27C-622C-466A-B222-47878489C4F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nk_of_England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2767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Governa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lationship Between Shareholders, Board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0" y="24382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04920" y="2819520"/>
            <a:ext cx="22096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are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581280" y="2590920"/>
            <a:ext cx="1828800" cy="886320"/>
          </a:xfrm>
          <a:prstGeom prst="rect">
            <a:avLst/>
          </a:prstGeom>
          <a:solidFill>
            <a:srgbClr val="0000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ard of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553080" y="2895480"/>
            <a:ext cx="21956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124080" y="51814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09480" y="3962520"/>
            <a:ext cx="365760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nies Act and other rules and regul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514600" y="2971800"/>
            <a:ext cx="1066680" cy="228600"/>
          </a:xfrm>
          <a:prstGeom prst="leftArrow">
            <a:avLst>
              <a:gd name="adj1" fmla="val 50000"/>
              <a:gd name="adj2" fmla="val 116654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5410080" y="297180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5105520" y="3886200"/>
            <a:ext cx="22096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2971800" y="3276720"/>
            <a:ext cx="304920" cy="609480"/>
          </a:xfrm>
          <a:prstGeom prst="upDownArrow">
            <a:avLst>
              <a:gd name="adj1" fmla="val 50000"/>
              <a:gd name="adj2" fmla="val 40254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5867280" y="32004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 Principals of Corporate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ount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ir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par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epen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D0B1-101E-4A50-B1F4-E4F3E4ED5F6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Accountab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management is accountable to the Board of Dire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the Board of Directors is accountable to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7AB5-5155-43FA-95C5-27CEEFEEBD2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Fair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 Shareholders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 all shareholders including minorities, equita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effective redress for viol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2905-EBC2-4FD1-9BA7-3FC77F20F59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Transpar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timely, accurate disclosure on all material matters, including the financial situation, performance, ownership and corporate govern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EFC7-6CDF-4F14-89B8-849BD723381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Indepen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Directors and Adviser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ee from the influence of oth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9D1C-8A45-4245-9460-CBAD5ED2D27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lements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Board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 Disclo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defined shareholder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Commi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2184-B3D5-4242-84AF-BE1F3FDBDF7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Good Board Prac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defined roles and author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ties and responsibilities of Directors underst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is well structu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work and mix of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Board proced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or compensation in line with best prac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ard self-evaluation and training condu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95B7-A858-4A4A-9B25-4BAAFFF9F03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Control Enviro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control proced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k management framework pre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ster recovery systems in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 management techniques in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stability procedures in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external auditor conducts aud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audit committee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Audit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Information systems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iance Function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9CEA-6C6D-4492-8AE8-2697AF78097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Transparent Discl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Information dis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Financial Information disclo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s prepared according to International. Financial Reporting Standards (IF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nies Registry filings up to d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Quality annual report pu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-based disclo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0614-9F64-4CD5-B3BC-39769347316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governance involves a set of relationships betwee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company’s manage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ar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othe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ak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.also the structure through which objectives of the company are set, and the means of achieving those objectives and monitoring performance are determined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d on preventing corporate collapses such 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ron collap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BCCB-A41A-4C21-878E-CE7F383B464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Well-Defined Shareholder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ority shareholder rights form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organized shareholder meetings condu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on related party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on extraordinary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defined and explicit dividend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441D-4BDA-4177-BA0B-A7DE86FB47F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. Board Commi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ard discusses corporate governance issues and has created a corporate governance committ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 has a corporate governance champ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resources are committed to corporate governance initiati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ies and procedures have been formalized and distributed to relevant staf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rporate governance code has been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 is recognized as a corporate governance lea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6EC1-D53E-4EC7-9E4B-6814A8999FF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gover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5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Corporate Governance aim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3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Define relationships between a company’s management, its board, shareholders and other stakehol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2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Provide a structure through which the company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objectives are set, and how they are achiev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monito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8000"/>
              <a:buFont typeface="Arial"/>
              <a:buAutoNum type="arabicPeriod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Recognize the value of business ethics and corpo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wareness of society interests to reputation and long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term suc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02F7-7C46-46B4-B786-AD81571C7FA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Corporate Govern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access to external fin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osts of capital – interest rates on lo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company performance – sustain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firm valuation and shar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risk of corporate crisis and scand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B430-DA68-49BC-9FB5-AC69DE18443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mporary corporate governance started in 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9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 in the U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the result of several high profile company collaps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r George Adrian Cadbury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a Director of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ank of Engl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“1970–1994” and of IBM from “1975-1994”. He was Chairman of the UK Committee on the Financial Aspects of Corporate Governance which published its Report and Code of Best Practice ("Cadbury Report and Code") in December 199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0DAF-9BAF-44C7-BC00-22E65EE1702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db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youtube.com/watch?v=ZfC7ykLKy4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6336-FE50-41C1-9C53-D8E69B09956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dbury Report  199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 Re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it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nancial Aspects of Corporate Govern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a report of a committee chaired by Adrian Cadbury that sets out recommendations on the arrangement of company boards and accounting systems to lessen  corporate governance risks and failu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port was published in 1992. The report's recommendations have been adopted in varying degree by the European Union, the United States, the World Bank, and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8BAE-4867-49E2-A60E-F10AC0E5E70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dbury Report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r use of independent dir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 of audit committ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between Chairman and CE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yalty to detailed code of best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rights of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e rights of 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ly and accurate Disclo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ibility of the Board of dire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8E10-5758-4343-98F4-BB30F8A41A3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 Par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arehold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ose that own the compa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rec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Guardians of the Company’s assets for the Shar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103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r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use the company’s ass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5E9-5FFF-4B8D-B3C6-707C5D48F10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8:41:24Z</dcterms:created>
  <dc:creator>ADK</dc:creator>
  <dc:description/>
  <dc:language>en-US</dc:language>
  <cp:lastModifiedBy>User</cp:lastModifiedBy>
  <dcterms:modified xsi:type="dcterms:W3CDTF">2014-11-15T20:35:22Z</dcterms:modified>
  <cp:revision>63</cp:revision>
  <dc:subject/>
  <dc:title>What is Corporate Governance?</dc:title>
</cp:coreProperties>
</file>