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D01F-A1CE-4B44-9A8D-85B61D9D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6F1-7DD4-435B-B86B-B2221BA3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8473-9407-4153-9EE9-65C10C2A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619-6FA1-4A29-BCA3-4B0358C8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DD6-7D1B-40BE-8B10-AD3F8419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AE1-07A2-4500-9E18-CAFA8D59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B49-C65A-4EE9-A301-D03C4105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6D9-B5C3-4A75-8E5A-1A7168F6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606B-F870-4B9E-BC9E-8CE7B084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250-B247-45F6-BF14-7A772C27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DB0-8323-44E2-B08F-05C43396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F07-2329-479D-8AFD-6BC3968F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F4EA-1CEA-4856-BDCF-C157B020E37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ank_of_England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777240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32767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Governan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lationship Between Shareholders, Board 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286000" y="243828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04920" y="2819520"/>
            <a:ext cx="22096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arehol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581280" y="2590920"/>
            <a:ext cx="1828800" cy="886320"/>
          </a:xfrm>
          <a:prstGeom prst="rect">
            <a:avLst/>
          </a:prstGeom>
          <a:solidFill>
            <a:srgbClr val="0000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oard of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re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553080" y="2895480"/>
            <a:ext cx="219564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124080" y="51814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09480" y="3962520"/>
            <a:ext cx="3657600" cy="764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nies Act and other rules and regul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2514600" y="2971800"/>
            <a:ext cx="1066680" cy="228600"/>
          </a:xfrm>
          <a:prstGeom prst="leftArrow">
            <a:avLst>
              <a:gd name="adj1" fmla="val 50000"/>
              <a:gd name="adj2" fmla="val 116654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5410080" y="2971800"/>
            <a:ext cx="1143000" cy="2286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5105520" y="3886200"/>
            <a:ext cx="220968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AutoShape 19"/>
          <p:cNvSpPr/>
          <p:nvPr/>
        </p:nvSpPr>
        <p:spPr>
          <a:xfrm>
            <a:off x="2971800" y="3276720"/>
            <a:ext cx="304920" cy="609480"/>
          </a:xfrm>
          <a:prstGeom prst="upDownArrow">
            <a:avLst>
              <a:gd name="adj1" fmla="val 50000"/>
              <a:gd name="adj2" fmla="val 40254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AutoShape 20"/>
          <p:cNvSpPr/>
          <p:nvPr/>
        </p:nvSpPr>
        <p:spPr>
          <a:xfrm>
            <a:off x="5867280" y="32004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 Principals of Corporate Gover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count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ir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nspar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depend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D24F-4088-422B-94BE-E38A2E97023D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Accountabili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that management is accountable to the Board of Directo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that the Board of Directors is accountable to 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D5DB-5A07-4662-BEAD-BA114C933747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Fair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 Shareholders righ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at all shareholders including minorities, equitab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effective redress for viol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A864-D2B7-41BB-8BA1-D7C1D9C4EE7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Transparen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sure timely, accurate disclosure on all material matters, including the financial situation, performance, ownership and corporate govern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D5EB-5035-45BB-943E-80C315575490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Independ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Directors and Adviser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.e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ee from the influence of oth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DA3A-FCC8-415C-BA01-DD6CC19041E2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lements of Corporate Gover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Board pract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Enviro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 Disclos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l-defined shareholder righ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ard Commit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5909-8987-4303-B3FC-0F70BBD2429B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 Good Board Pract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ly defined roles and author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ties and responsibilities of Directors underst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ard is well structu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priate work and mix of ski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priate Board proced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or compensation in line with best pract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ard self-evaluation and training conduc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4B36-67BA-489E-A6FC-226F78AE94E0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 Control Environ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control proced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sk management framework pres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aster recovery systems in pl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a management techniques in u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stability procedures in pl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external auditor conducts aud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audit committee establis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Audit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Information systems establis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iance Function establis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FE5A-906E-458B-8A3C-A1AF40CC9E60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. Transparent Disclo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 Information disclo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Financial Information disclo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s prepared according to International. Financial Reporting Standards (IF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nies Registry filings up to d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Quality annual report publis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-based disclos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6287-E2D2-4FD0-9A6E-26697AEDF17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finition of Corporate gover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porate governance involves a set of relationships betwee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 company’s manage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t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oa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t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harehold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othe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akehold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..also the structure through which objectives of the company are set, and the means of achieving those objectives and monitoring performance are determined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ed on preventing corporate collapses such a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ron collap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F0EB-400B-48FB-86FD-D39B909CD5B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Well-Defined Shareholder Righ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ority shareholder rights formaliz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l-organized shareholder meetings conduc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on related party trans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on extraordinary trans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ly defined and explicit dividend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DCA6-F82B-4DEF-B329-0F7C0C4D6844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. Board Commi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ard discusses corporate governance issues and has created a corporate governance committ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any has a corporate governance champ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priate resources are committed to corporate governance initiativ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ies and procedures have been formalized and distributed to relevant staf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rporate governance code has been develop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any is recognized as a corporate governance lea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A00E-2301-4C76-8889-E89FE2173AB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rporate govern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52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Corporate Governance aims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3000"/>
              <a:buFont typeface="Arial"/>
              <a:buAutoNum type="arabicPeriod"/>
              <a:tabLst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Define relationships between a company’s management, its board, shareholders and other stakehold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2000"/>
              <a:buFont typeface="Arial"/>
              <a:buAutoNum type="arabicPeriod"/>
              <a:tabLst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Provide a structure through which the company’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objectives are set, and how they are achieved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monito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8000"/>
              <a:buFont typeface="Arial"/>
              <a:buAutoNum type="arabicPeriod"/>
              <a:tabLst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Recognize the value of business ethics and corpor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wareness of society interests to reputation and long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term succ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A3AD-3661-4EE9-9897-FF1BD3382634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Corporate Governanc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access to external fin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er costs of capital – interest rates on loa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d company performance – sustain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firm valuation and share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d risk of corporate crisis and scand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96A3-311C-4436-B6C9-45A625C0F59B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Gover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mporary corporate governance started in 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9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dbu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ort in the U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dbu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as the result of several high profile company collapse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r George Adrian Cadbury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a Director of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Bank of Engl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“1970–1994” and of IBM from “1975-1994”. He was Chairman of the UK Committee on the Financial Aspects of Corporate Governance which published its Report and Code of Best Practice ("Cadbury Report and Code") in December 199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EE01-416F-442F-B4CB-18FA03328571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adb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www.youtube.com/watch?v=ZfC7ykLKy4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993E-2A33-4E8F-B106-89E7E1B1FD2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dbury Report  199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dbury Repo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it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inancial Aspects of Corporate Govern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s a report of a committee chaired by Adrian Cadbury that sets out recommendations on the arrangement of company boards and accounting systems to lessen  corporate governance risks and failur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port was published in 1992. The report's recommendations have been adopted in varying degree by the European Union, the United States, the World Bank, and oth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A2A9-851A-46FA-A9F6-9C4798FA703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dbury Report Recomme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der use of independent dire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tion of audit committ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between Chairman and CE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yalty to detailed code of best pract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 rights of 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ze the rights of  Stak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ly and accurate Disclos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ibility of the Board of directo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8532-1C13-48A8-A836-E774134389B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Governance Par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103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areholder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ose that own the compa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103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rec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: Guardians of the Company’s assets for the Shar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103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r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use the company’s asse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AC84-A3E6-4A95-A248-C969A06B6B9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8:41:24Z</dcterms:created>
  <dc:creator>ADK</dc:creator>
  <dc:description/>
  <dc:language>en-US</dc:language>
  <cp:lastModifiedBy>User</cp:lastModifiedBy>
  <dcterms:modified xsi:type="dcterms:W3CDTF">2014-11-15T20:35:22Z</dcterms:modified>
  <cp:revision>63</cp:revision>
  <dc:subject/>
  <dc:title>What is Corporate Governance?</dc:title>
</cp:coreProperties>
</file>