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584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46" name="PlaceHolder 5"/>
          <p:cNvSpPr>
            <a:spLocks noGrp="1"/>
          </p:cNvSpPr>
          <p:nvPr>
            <p:ph type="sldNum" idx="5"/>
          </p:nvPr>
        </p:nvSpPr>
        <p:spPr>
          <a:xfrm>
            <a:off x="876240" y="8705880"/>
            <a:ext cx="5105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61E8BEC9-31B1-4C6C-8377-FD2F5E4DE0C3}"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85038CBD-58A1-4976-8EB5-724BA73BDD8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89" name="PlaceHolder 1"/>
          <p:cNvSpPr>
            <a:spLocks noGrp="1"/>
          </p:cNvSpPr>
          <p:nvPr>
            <p:ph type="sldImg"/>
          </p:nvPr>
        </p:nvSpPr>
        <p:spPr>
          <a:xfrm>
            <a:off x="536400" y="531720"/>
            <a:ext cx="2356200" cy="1766880"/>
          </a:xfrm>
          <a:prstGeom prst="rect">
            <a:avLst/>
          </a:prstGeom>
          <a:ln w="0">
            <a:noFill/>
          </a:ln>
        </p:spPr>
      </p:sp>
      <p:sp>
        <p:nvSpPr>
          <p:cNvPr id="9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Management Focus: News Corporation in Chin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plores the entry of News Corp’s, one of the largest media conglomerates in the world, entry into the Chinese market.  According to critics, Robert Murdoch, head of News Corporation, gained preferential access to the Chinese media market by systematically suppressing media content that was critical of China, and publishing material designed to ingratiate the company with China’s leader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Consider the allegations against Robert Murdoch.  Did he behave in an ethical manner if he suppressed media content that was critical of Chin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Students will probably have different views on this subject.  Some will probably argue that new companies have an ethical responsibility to provide an unbiased, full report of events regardless of whether they represent values the firm endorses, or whether such a point could negatively affect the bottom line.  Other students however, might suggest that News Corporation had no such responsibility, that it is a company out to make a profit, just like any other company.  If this means omitting certain stories from its coverage, then so be it.  Students taking this perspective might also add that in this day and age of 24/7 global communication, some burden for getting an accurate interpretation of events has shifted to the consumer.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ewspapers and news programs are frequently criticized for giving biased reports of events.  What standards should these organizations hold to?  Did News Corporation hold to these standard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Most students will probably agree that it would be difficult to set explicit standards for periodicals.  They will probably suggest that companies must take the lead in establishing themselves as certain types of companies.  So, if a newspaper wants to establish itself as a hardcore reporter of newsworthy events, it should be held to different standards than a gossip magazin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a:t>
            </a:r>
            <a:r>
              <a:rPr b="1" i="1" lang="en-US" sz="1000" spc="-1" strike="noStrike">
                <a:solidFill>
                  <a:srgbClr val="000000"/>
                </a:solidFill>
                <a:latin typeface="Times New Roman"/>
              </a:rPr>
              <a:t>: </a:t>
            </a:r>
            <a:r>
              <a:rPr b="0" lang="en-US" sz="1000" spc="-1" strike="noStrike">
                <a:solidFill>
                  <a:srgbClr val="000000"/>
                </a:solidFill>
                <a:latin typeface="Times New Roman"/>
              </a:rPr>
              <a:t>To explore the company in more depth go to {www.newscorp.com}.</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BE4F8A58-7A5F-49C9-8DA1-BBABD5C1997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92" name="PlaceHolder 1"/>
          <p:cNvSpPr>
            <a:spLocks noGrp="1"/>
          </p:cNvSpPr>
          <p:nvPr>
            <p:ph type="sldImg"/>
          </p:nvPr>
        </p:nvSpPr>
        <p:spPr>
          <a:xfrm>
            <a:off x="536400" y="531720"/>
            <a:ext cx="2356200" cy="1766880"/>
          </a:xfrm>
          <a:prstGeom prst="rect">
            <a:avLst/>
          </a:prstGeom>
          <a:ln w="0">
            <a:noFill/>
          </a:ln>
        </p:spPr>
      </p:sp>
      <p:sp>
        <p:nvSpPr>
          <p:cNvPr id="9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Pfizer’s Drug Testing Strategy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raises questions as to whether pharmaceutical giant, Pfizer, acted ethically when testing a new drug.  In 1996, Pfizer was seeking FDA approval for a new antibiotic.  The company lacked the necessary test results to have the drug approved for children.  The company saw an opportunity to quickly test the drug when an outbreak of bacterial meningitis hit a town in Nigeria.  In 2003, two dozen Nigerian families sued Pfizer arguing that their children either died or were injured as a result of the drug testing.  They allege that Pfizer did not take the appropriate steps to properly test the drug, and that the company acted in an unethical mann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Was Pfizer irresponsible when it tested its experimental drug in Nigeria?  How could the company have acted more ethical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This is a difficult issue with no clear answers.  While Pfizer may have cut some corners in Nigeria in its haste to test the drug, some children who might have died without the drug, are alive today.  Some students will probably suggest that Pfizer should have been more responsible with how it set up its trials.  The company should have made the effort to clearly communicate the risks involved to parents.  Other students however, may argue that many people have been saved by participating in experimental treatments.  Students might add that the Nigerian government was desperate to halt the epidemic, and that in situations where time is critical, the benefits of overlooking some normal procedures may be worthwhi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Pfizer saw the bacterial meningitis outbreak in Nigeria as a means of quickly getting a large pool of sick children on which to test its new antibiotic.  Consider the dilemma facing pharmaceutical companies.  In order to get FDA approval to introduce their new drugs, numerous studies must demonstrate the efficacy of the drugs, studies that, as the Pfizer example demonstrates, can be difficult to complete.  Would you have been tempted to follow Pfizer’s strategy?  If you waited, and completed the testing in the United States, what might be the effect on your company’s bottom line?  Would you be acting in the best interests of your stakeholders by waiting, or by testing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tudents may start by saying that hindsight is 20/20.  In this case, perhaps Pfizer should have moved more slowly.  With strong pressure to always develop new, profitable drugs, the company clearly thought the opportunity in Nigeria would be beneficial.  Pfizer needed a large sample of sick children, something it was unlikely to find in the United States.   Some students may raise the question that if Pfizer had waited, people who took the drug after it was approved would not have had that treatment option—and could be dead toda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a:t>
            </a:r>
            <a:r>
              <a:rPr b="1" i="1" lang="en-US" sz="800" spc="-1" strike="noStrike">
                <a:solidFill>
                  <a:srgbClr val="000000"/>
                </a:solidFill>
                <a:latin typeface="Times New Roman"/>
              </a:rPr>
              <a:t> </a:t>
            </a:r>
            <a:r>
              <a:rPr b="0" lang="en-US" sz="800" spc="-1" strike="noStrike">
                <a:solidFill>
                  <a:srgbClr val="000000"/>
                </a:solidFill>
                <a:latin typeface="Times New Roman"/>
              </a:rPr>
              <a:t> Students can learn more about Pfizer by going to the corporate web site at {http://www.pfizer.co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Note: The iGlobe </a:t>
            </a:r>
            <a:r>
              <a:rPr b="0" i="1" lang="en-US" sz="800" spc="-1" strike="noStrike">
                <a:solidFill>
                  <a:srgbClr val="000000"/>
                </a:solidFill>
                <a:latin typeface="Times New Roman"/>
              </a:rPr>
              <a:t>Experimental Malaria Vaccine Shows Promise in Africa</a:t>
            </a:r>
            <a:r>
              <a:rPr b="0" lang="en-US" sz="800" spc="-1" strike="noStrike">
                <a:solidFill>
                  <a:srgbClr val="000000"/>
                </a:solidFill>
                <a:latin typeface="Times New Roman"/>
              </a:rPr>
              <a:t> is directly related to this case. </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8F128D9-11E0-41F7-B5C5-39142E01C96A}"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83" name="PlaceHolder 1"/>
          <p:cNvSpPr>
            <a:spLocks noGrp="1"/>
          </p:cNvSpPr>
          <p:nvPr>
            <p:ph type="sldImg"/>
          </p:nvPr>
        </p:nvSpPr>
        <p:spPr>
          <a:xfrm>
            <a:off x="536400" y="531720"/>
            <a:ext cx="2356200" cy="1766880"/>
          </a:xfrm>
          <a:prstGeom prst="rect">
            <a:avLst/>
          </a:prstGeom>
          <a:ln w="0">
            <a:noFill/>
          </a:ln>
        </p:spPr>
      </p:sp>
      <p:sp>
        <p:nvSpPr>
          <p:cNvPr id="8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Making Apple’s iPO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explores Apple’s experiences with employment practices at the Chinese factory that produces its iPOD.  In 2006, two Chinese journalists reported that the working conditions at Hongfujin Precision Industries where Apple’s iPODs are produced, were substandard.  According to the report, not only were workers at the plant poorly paid, but they were also forced to work overtime.  Apple immediately responded to the allegations and audited the factory in question.  However, managers at the factory filed a defamation lawsuit against the two journalists.  Despite the fact that Apple’s audit did indeed show substandard working conditions at the factory, Hongfujin did not withdraw the lawsuit.  Eventually the Reporters Without Borders group took up the case for the two reporters and the lawsuit was dropp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Should Apple be responsible for ensuring that its suppliers are safeguarding the basic rights and dignity of their employees?  How can Apple be sure that its suppliers do not employ sweatshop lab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any students will probably agree that Apple should be responsible at least to some degree for ensuring that the factories where it sources its products are safe.  Some students may suggest that to knowingly buy products from a company with substandard working conditions is a violation of basic human ethics.  Other students however, may argue that Nike cannot force suppliers to adopt specific practices and policies toward labor.  Students taking this perspective might further suggest that pushing American practices on Chinese companies is ethnocentric, and that for many Chinese the prospect of having a job, even in poor working conditions, is better than having no job at all.  Many students may be surprised that Apple did not already have an audit policy in place prior to the accusations by the Chinese reporters, but will probably agree that the company handled the situation appropriatel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he allegations against Hongfujin Precision Industries were made by two Chinese reporters.  Discuss the implications of this for other Chinese compan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ost students will probably agree that the fact that the allegations against Hongfujin Precision Industries were made by Chinese reporters who work for China Business News, a state run newspaper, could have interesting implications for other companies.  Some students will probably suggest that it should serve as a signal to other companies that poor working conditions are unacceptable, and that while in the past, it may have been possible to hide them, it is no longer the case.  Other students may suggest that the allegations may force companies to rethink their production and look for new ways to increase productivity.  Some students may note that the very fact that the report was published is startling in some regards, and that companies should anticipate further scrutin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 Apple maintains that it requires its suppliers to practice responsible manufacturing. To learn more about Apple’s policies go to {http://www.apple.com/environment/}.</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DEA58871-03E4-4B34-A5F4-0BDE1F6123EF}"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86" name="PlaceHolder 1"/>
          <p:cNvSpPr>
            <a:spLocks noGrp="1"/>
          </p:cNvSpPr>
          <p:nvPr>
            <p:ph type="sldImg"/>
          </p:nvPr>
        </p:nvSpPr>
        <p:spPr>
          <a:xfrm>
            <a:off x="536400" y="531720"/>
            <a:ext cx="2356200" cy="1766880"/>
          </a:xfrm>
          <a:prstGeom prst="rect">
            <a:avLst/>
          </a:prstGeom>
          <a:ln w="0">
            <a:noFill/>
          </a:ln>
        </p:spPr>
      </p:sp>
      <p:sp>
        <p:nvSpPr>
          <p:cNvPr id="8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Management Focus: Unocal in Myanm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plores Unocal’s actions in Myanmar.  Unocal, an American, oil and gas enterprise, formed a joint venture with a French company to build a pipeline from Myanmar to Thailand.  Unocal made that investment at a time when many other American companies were exiting the country in protest of the local government’s policy of brutally suppressing internal dissen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Why did Unocal’s investment become so controversial?  Did Unocal behave in an ethical manner?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Unocal made its investment in Myanmar just as many other companies were leaving the country in protest of the nation’s brutal military dictatorship.  The company had formed an agreement with the government that involved clearing a path for a new pipeline.  The investment became controversial when, in order to fulfill the agreement, Myanmar’s army forcibly moved villagers and then forced them to work under slave-like conditions.  Unocal claims it had no knowledge of what was occurring, but this claim was rejected by a judge who heard the case that was filed against Unocal on behalf of Myanmar villagers.  Students will probably agree that the company failed to act in an ethical manner, and that while it may not have directly participated in the brutality, Unocal did have a responsibility to oversee what was going on and ensure that people were treated fairl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 1996 law suit against Unocal was dismissed on the grounds that the Unocal could not be held liable for the actions of a foreign government against its own people, although the judge noted that the company was aware of what was going on in the country.  Discuss the difference between acting in an ethical manner and acting according to the law.</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tudents will probably be familiar with the notion that even if something is not explicitly forbidden, it does not mean it is right.  This concept would certainly seem to apply in this case.  Ethical responsibility goes beyond the letter of the law to encompass the idea of behaving in a certain way simply because it is the right thing to do.  It is worth noting that an appeal by the plaintiffs resulted in an out-of-court settlement in 2005, which would imply that Unocal was guilty at least to some exten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a:t>
            </a:r>
            <a:r>
              <a:rPr b="1" i="1" lang="en-US" sz="900" spc="-1" strike="noStrike">
                <a:solidFill>
                  <a:srgbClr val="000000"/>
                </a:solidFill>
                <a:latin typeface="Times New Roman"/>
              </a:rPr>
              <a:t> </a:t>
            </a:r>
            <a:r>
              <a:rPr b="0" lang="en-US" sz="900" spc="-1" strike="noStrike">
                <a:solidFill>
                  <a:srgbClr val="000000"/>
                </a:solidFill>
                <a:latin typeface="Times New Roman"/>
              </a:rPr>
              <a:t> Unocal is now part of Chevron.  The company’s web page is {http://www.chevron.com/}.</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F4F93-2918-4601-A0F8-1BED52558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FDC35-9946-487E-A37A-ECEE2BFBD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11461-28E6-44DC-BA86-B5D86DEF0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7DF8D-7463-40CC-885E-7BBE8F6C2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F33E6-FE6F-4535-A95A-9F97A9677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B5E82-95E4-4FBE-B59F-F24CF59FB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89D65-D228-4D40-A780-7170339AF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B36BC-2ECA-46DD-962D-B281622E0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06711-0C59-442E-9EE2-1821ABC5A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12623-6C02-4D10-9704-5EE916E21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6D469-63DB-4BE3-9AFB-959EFFB15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B863A-6264-4B63-B5ED-BFA67AAA0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754F3-F011-49F8-9427-452473DAAA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04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hapter 8</a:t>
            </a:r>
            <a:endParaRPr b="0" lang="en-US" sz="4400" spc="-1" strike="noStrike">
              <a:solidFill>
                <a:srgbClr val="000000"/>
              </a:solidFill>
              <a:latin typeface="Calibri"/>
            </a:endParaRPr>
          </a:p>
        </p:txBody>
      </p:sp>
      <p:sp>
        <p:nvSpPr>
          <p:cNvPr id="48" name="PlaceHolder 2"/>
          <p:cNvSpPr>
            <a:spLocks noGrp="1"/>
          </p:cNvSpPr>
          <p:nvPr>
            <p:ph type="subTitle"/>
          </p:nvPr>
        </p:nvSpPr>
        <p:spPr>
          <a:xfrm>
            <a:off x="838080" y="3429000"/>
            <a:ext cx="7506000" cy="17524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Ethics in </a:t>
            </a:r>
            <a:endParaRPr b="0" lang="en-US" sz="4400" spc="-1" strike="noStrike">
              <a:solidFill>
                <a:srgbClr val="000000"/>
              </a:solidFill>
              <a:latin typeface="Calibri"/>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national Business</a:t>
            </a:r>
            <a:endParaRPr b="0" lang="en-US" sz="4400" spc="-1" strike="noStrike">
              <a:solidFill>
                <a:srgbClr val="000000"/>
              </a:solidFill>
              <a:latin typeface="Calibri"/>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Ethics and The Social Responsibility </a:t>
            </a:r>
            <a:endParaRPr b="0" lang="en-US" sz="3600" spc="-1" strike="noStrike">
              <a:solidFill>
                <a:srgbClr val="000000"/>
              </a:solidFill>
              <a:latin typeface="Calibri"/>
            </a:endParaRPr>
          </a:p>
        </p:txBody>
      </p:sp>
      <p:sp>
        <p:nvSpPr>
          <p:cNvPr id="66" name=""/>
          <p:cNvSpPr txBox="1"/>
          <p:nvPr/>
        </p:nvSpPr>
        <p:spPr>
          <a:xfrm>
            <a:off x="304920" y="1599840"/>
            <a:ext cx="8534160" cy="487692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a96d3"/>
                </a:solidFill>
                <a:latin typeface="Calibri"/>
              </a:rPr>
              <a:t>    </a:t>
            </a:r>
            <a:r>
              <a:rPr b="1" lang="en-US" sz="3100" spc="-1" strike="noStrike">
                <a:solidFill>
                  <a:srgbClr val="6a96d3"/>
                </a:solidFill>
                <a:latin typeface="Calibri"/>
              </a:rPr>
              <a:t>Question:</a:t>
            </a:r>
            <a:r>
              <a:rPr b="0" lang="en-US" sz="3100" spc="-1" strike="noStrike">
                <a:solidFill>
                  <a:srgbClr val="000000"/>
                </a:solidFill>
                <a:latin typeface="Calibri"/>
              </a:rPr>
              <a:t> Do multinationals have a responsibility to give back to the societies that enable them to grow and succeed?</a:t>
            </a:r>
            <a:endParaRPr b="0" lang="en-US" sz="31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oncept of </a:t>
            </a:r>
            <a:r>
              <a:rPr b="0" lang="en-US" sz="3100" spc="-1" strike="noStrike">
                <a:solidFill>
                  <a:srgbClr val="6a96d3"/>
                </a:solidFill>
                <a:latin typeface="Calibri"/>
              </a:rPr>
              <a:t>social responsibility</a:t>
            </a:r>
            <a:r>
              <a:rPr b="0" lang="en-US" sz="3100" spc="-1" strike="noStrike">
                <a:solidFill>
                  <a:srgbClr val="000000"/>
                </a:solidFill>
                <a:latin typeface="Calibri"/>
              </a:rPr>
              <a:t> refers to the idea that business people should take the social benefits into account when making business decisions, and that there should be a belief in decisions that have both good economic and good social benefits. </a:t>
            </a:r>
            <a:endParaRPr b="0" lang="en-US" sz="31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68" name=""/>
          <p:cNvSpPr txBox="1"/>
          <p:nvPr/>
        </p:nvSpPr>
        <p:spPr>
          <a:xfrm>
            <a:off x="456840" y="1600200"/>
            <a:ext cx="8381880" cy="50292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 </a:t>
            </a:r>
            <a:r>
              <a:rPr b="1" lang="en-US" sz="3200" spc="-1" strike="noStrike">
                <a:solidFill>
                  <a:srgbClr val="000000"/>
                </a:solidFill>
                <a:latin typeface="Calibri"/>
              </a:rPr>
              <a:t> </a:t>
            </a:r>
            <a:r>
              <a:rPr b="0" lang="en-US" sz="3200" spc="-1" strike="noStrike">
                <a:solidFill>
                  <a:srgbClr val="ff0000"/>
                </a:solidFill>
                <a:latin typeface="Calibri"/>
              </a:rPr>
              <a:t>Why do managers behave in an unethical manner?</a:t>
            </a:r>
            <a:endParaRPr b="0" lang="en-US" sz="32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Managerial behavior is influenced by:</a:t>
            </a:r>
            <a:endParaRPr b="0" lang="en-US" sz="32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 ethic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ision making processe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culture</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ership</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realistic Performance Expectations.</a:t>
            </a:r>
            <a:endParaRPr b="0" lang="en-US" sz="2800" spc="-1" strike="noStrike">
              <a:solidFill>
                <a:srgbClr val="000000"/>
              </a:solidFill>
              <a:latin typeface="Calibri"/>
            </a:endParaRPr>
          </a:p>
          <a:p>
            <a:pPr lvl="1" marL="743040" indent="-2858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70" name=""/>
          <p:cNvSpPr txBox="1"/>
          <p:nvPr/>
        </p:nvSpPr>
        <p:spPr>
          <a:xfrm>
            <a:off x="457200" y="1834920"/>
            <a:ext cx="8229600" cy="4290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1" name="Picture 4" descr="hiL8139X_0401"/>
          <p:cNvPicPr/>
          <p:nvPr/>
        </p:nvPicPr>
        <p:blipFill>
          <a:blip r:embed="rId1"/>
          <a:stretch/>
        </p:blipFill>
        <p:spPr>
          <a:xfrm>
            <a:off x="2057400" y="1835280"/>
            <a:ext cx="5029200" cy="430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Personal Ethics</a:t>
            </a:r>
            <a:endParaRPr b="0" lang="en-US" sz="3600" spc="-1" strike="noStrike">
              <a:solidFill>
                <a:srgbClr val="000000"/>
              </a:solidFill>
              <a:latin typeface="Calibri"/>
            </a:endParaRPr>
          </a:p>
        </p:txBody>
      </p:sp>
      <p:sp>
        <p:nvSpPr>
          <p:cNvPr id="73" name=""/>
          <p:cNvSpPr txBox="1"/>
          <p:nvPr/>
        </p:nvSpPr>
        <p:spPr>
          <a:xfrm>
            <a:off x="456840" y="1447920"/>
            <a:ext cx="8381880" cy="4876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ethics reflect personal ethics (the generally accepted principles of right and wrong leading the conduct of individuals).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anagers  may face pressure to violate their personal ethics because they are away from their ordinary social context and supporting culture, and they are psychologically and geographically distant from the parent compan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Decision Making Processes</a:t>
            </a:r>
            <a:endParaRPr b="0" lang="en-US" sz="3600" spc="-1" strike="noStrike">
              <a:solidFill>
                <a:srgbClr val="000000"/>
              </a:solidFill>
              <a:latin typeface="Calibri"/>
            </a:endParaRPr>
          </a:p>
        </p:txBody>
      </p:sp>
      <p:sp>
        <p:nvSpPr>
          <p:cNvPr id="75"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show that business people may behave unethically  because they fail to ask the relevant </a:t>
            </a:r>
            <a:r>
              <a:rPr b="1" lang="en-US" sz="3200" spc="-1" strike="noStrike">
                <a:solidFill>
                  <a:srgbClr val="000000"/>
                </a:solidFill>
                <a:latin typeface="Calibri"/>
              </a:rPr>
              <a:t>question—is this decision or action ethical?</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isions are made based on economic logic, without consideration for ethic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Organizational Culture</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ethical behavior may exist in firms with an </a:t>
            </a:r>
            <a:r>
              <a:rPr b="0" lang="en-US" sz="3200" spc="-1" strike="noStrike">
                <a:solidFill>
                  <a:srgbClr val="6a96d3"/>
                </a:solidFill>
                <a:latin typeface="Calibri"/>
              </a:rPr>
              <a:t>organization culture</a:t>
            </a:r>
            <a:r>
              <a:rPr b="1" lang="en-US" sz="3200" spc="-1" strike="noStrike">
                <a:solidFill>
                  <a:srgbClr val="000000"/>
                </a:solidFill>
                <a:latin typeface="Calibri"/>
              </a:rPr>
              <a:t> </a:t>
            </a:r>
            <a:r>
              <a:rPr b="0" lang="en-US" sz="3200" spc="-1" strike="noStrike">
                <a:solidFill>
                  <a:srgbClr val="000000"/>
                </a:solidFill>
                <a:latin typeface="Calibri"/>
              </a:rPr>
              <a:t>(the values and standards that are shared among employees of an organization) that does not stress business ethic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and standards shape the culture of a firm, and that culture influences decision making.</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80880"/>
            <a:ext cx="8229600" cy="10368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Leadership</a:t>
            </a:r>
            <a:endParaRPr b="0" lang="en-US" sz="4400" spc="-1" strike="noStrike">
              <a:solidFill>
                <a:srgbClr val="000000"/>
              </a:solidFill>
              <a:latin typeface="Calibri"/>
            </a:endParaRPr>
          </a:p>
        </p:txBody>
      </p:sp>
      <p:sp>
        <p:nvSpPr>
          <p:cNvPr id="79"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firms leaders fail to act in an ethical manner, other employees may not act ethically</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ons speak louder than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5. Unrealistic Performance Expectations</a:t>
            </a:r>
            <a:endParaRPr b="0" lang="en-US" sz="36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sure from the parent company to meet performance goals that are unrealistic, and can only be achieved by acting in an unethical manner which cause uneth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50" name=""/>
          <p:cNvSpPr txBox="1"/>
          <p:nvPr/>
        </p:nvSpPr>
        <p:spPr>
          <a:xfrm>
            <a:off x="457200" y="1600200"/>
            <a:ext cx="8229600" cy="495288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business ethics attempts to deal with questions of :</a:t>
            </a:r>
            <a:endParaRPr b="0" lang="en-US" sz="3200" spc="-1" strike="noStrike">
              <a:solidFill>
                <a:srgbClr val="000000"/>
              </a:solidFill>
              <a:latin typeface="Calibri"/>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What to do </a:t>
            </a:r>
            <a:r>
              <a:rPr b="0" lang="en-US" sz="3200" spc="-1" strike="noStrike">
                <a:solidFill>
                  <a:srgbClr val="ff0000"/>
                </a:solidFill>
                <a:latin typeface="Calibri"/>
              </a:rPr>
              <a:t>in situations where ethical morals come into conflict as a result of the differing cultural practices?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7680" indent="-397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Example : </a:t>
            </a:r>
            <a:endParaRPr b="0" lang="en-US" sz="3200" spc="-1" strike="noStrike">
              <a:solidFill>
                <a:srgbClr val="000000"/>
              </a:solidFill>
              <a:latin typeface="Calibri"/>
            </a:endParaRPr>
          </a:p>
          <a:p>
            <a:pPr marL="517680" indent="-397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hould an international business pay bribes to corrupt government officials to gain market access to a foreign country?</a:t>
            </a:r>
            <a:endParaRPr b="0" lang="en-US" sz="3200" spc="-1" strike="noStrike">
              <a:solidFill>
                <a:srgbClr val="000000"/>
              </a:solidFill>
              <a:latin typeface="Calibri"/>
            </a:endParaRPr>
          </a:p>
          <a:p>
            <a:pPr marL="517680" indent="-39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6840"/>
            <a:ext cx="8229600" cy="10875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
        <p:nvSpPr>
          <p:cNvPr id="54" name=""/>
          <p:cNvSpPr txBox="1"/>
          <p:nvPr/>
        </p:nvSpPr>
        <p:spPr>
          <a:xfrm>
            <a:off x="457200" y="1752120"/>
            <a:ext cx="8229600" cy="4496040"/>
          </a:xfrm>
          <a:prstGeom prst="rect">
            <a:avLst/>
          </a:prstGeom>
          <a:noFill/>
          <a:ln w="0">
            <a:noFill/>
          </a:ln>
        </p:spPr>
        <p:txBody>
          <a:bodyPr anchor="t">
            <a:normAutofit/>
          </a:bodyPr>
          <a:p>
            <a:pPr marL="114480" indent="-1144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ternational business ethics has a number of open questions and dilemmas. Today it is characterized by </a:t>
            </a:r>
            <a:r>
              <a:rPr b="1" lang="en-US" sz="2800" spc="-1" strike="noStrike" u="sng">
                <a:solidFill>
                  <a:srgbClr val="000000"/>
                </a:solidFill>
                <a:uFillTx/>
                <a:latin typeface="Calibri"/>
              </a:rPr>
              <a:t>the following elements:</a:t>
            </a:r>
            <a:br>
              <a:rPr sz="2800"/>
            </a:br>
            <a:r>
              <a:rPr b="0" lang="en-US" sz="2800" spc="-1" strike="noStrike">
                <a:solidFill>
                  <a:srgbClr val="000000"/>
                </a:solidFill>
                <a:latin typeface="Calibri"/>
              </a:rPr>
              <a:t>• Every culture and nation has its own values, history, customs and traditions, thus it has developed own ethical values and understanding of ethical principles;</a:t>
            </a:r>
            <a:endParaRPr b="0" lang="en-US" sz="2800" spc="-1" strike="noStrike">
              <a:solidFill>
                <a:srgbClr val="000000"/>
              </a:solidFill>
              <a:latin typeface="Calibri"/>
            </a:endParaRPr>
          </a:p>
          <a:p>
            <a:pPr marL="114480" indent="-114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76520"/>
            <a:ext cx="8229600" cy="4449600"/>
          </a:xfrm>
          <a:prstGeom prst="rect">
            <a:avLst/>
          </a:prstGeom>
          <a:noFill/>
          <a:ln w="0">
            <a:noFill/>
          </a:ln>
        </p:spPr>
        <p:txBody>
          <a:bodyPr anchor="t">
            <a:normAutofit/>
          </a:bodyPr>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no international ethical code of conduct, accepted and followed by all the countries;</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a lack of governments’ initiative to create ethical cooperation framework and thus to enhance ethical behavior in international busines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6"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457200"/>
            <a:ext cx="807732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Issues in International Business</a:t>
            </a:r>
            <a:endParaRPr b="0" lang="en-US" sz="3600" spc="-1" strike="noStrike">
              <a:solidFill>
                <a:srgbClr val="000000"/>
              </a:solidFill>
              <a:latin typeface="Calibri"/>
            </a:endParaRPr>
          </a:p>
        </p:txBody>
      </p:sp>
      <p:sp>
        <p:nvSpPr>
          <p:cNvPr id="58" name=""/>
          <p:cNvSpPr txBox="1"/>
          <p:nvPr/>
        </p:nvSpPr>
        <p:spPr>
          <a:xfrm>
            <a:off x="457200" y="15235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most common ethical issues in business involve :</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mployment practices.</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nvironmental regulations.</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orruption.</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e Social Responsibility of multinational companies</a:t>
            </a:r>
            <a:r>
              <a:rPr b="0" lang="en-US" sz="3200" spc="-1" strike="noStrike">
                <a:solidFill>
                  <a:srgbClr val="ff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520"/>
            <a:ext cx="8229600" cy="8841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Ethics and Employment Practices</a:t>
            </a:r>
            <a:endParaRPr b="0" lang="en-US" sz="36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When work conditions in a host nations are clearly poorer to those in a multinational’s home nation</a:t>
            </a:r>
            <a:r>
              <a:rPr b="1" lang="en-US" sz="3200" spc="-1" strike="noStrike">
                <a:solidFill>
                  <a:srgbClr val="000000"/>
                </a:solidFill>
                <a:latin typeface="Calibri"/>
              </a:rPr>
              <a:t>, what standards should be applied?</a:t>
            </a:r>
            <a:endParaRPr b="0" lang="en-US" sz="32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me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st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hing in betwe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52600"/>
            <a:ext cx="8229600" cy="1047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Ethics and Environmental Pollution</a:t>
            </a:r>
            <a:endParaRPr b="0" lang="en-US" sz="3600" spc="-1" strike="noStrike">
              <a:solidFill>
                <a:srgbClr val="000000"/>
              </a:solidFill>
              <a:latin typeface="Calibri"/>
            </a:endParaRPr>
          </a:p>
        </p:txBody>
      </p:sp>
      <p:sp>
        <p:nvSpPr>
          <p:cNvPr id="62" name=""/>
          <p:cNvSpPr txBox="1"/>
          <p:nvPr/>
        </p:nvSpPr>
        <p:spPr>
          <a:xfrm>
            <a:off x="457200" y="1981080"/>
            <a:ext cx="8229600" cy="41450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   </a:t>
            </a:r>
            <a:r>
              <a:rPr b="0" lang="en-US" sz="3200" spc="-1" strike="noStrike">
                <a:solidFill>
                  <a:srgbClr val="6a96d3"/>
                </a:solidFill>
                <a:latin typeface="Calibri"/>
              </a:rPr>
              <a:t>Question:</a:t>
            </a:r>
            <a:r>
              <a:rPr b="0" lang="en-US" sz="3200" spc="-1" strike="noStrike">
                <a:solidFill>
                  <a:srgbClr val="000000"/>
                </a:solidFill>
                <a:latin typeface="Calibri"/>
              </a:rPr>
              <a:t> Should a multinational feel free to pollute in </a:t>
            </a:r>
            <a:r>
              <a:rPr b="0" lang="en-US" sz="3200" spc="-1" strike="noStrike" u="sng">
                <a:solidFill>
                  <a:srgbClr val="000000"/>
                </a:solidFill>
                <a:uFillTx/>
                <a:latin typeface="Calibri"/>
              </a:rPr>
              <a:t>a developing nation </a:t>
            </a:r>
            <a:r>
              <a:rPr b="0" lang="en-US" sz="3200" spc="-1" strike="noStrike">
                <a:solidFill>
                  <a:srgbClr val="000000"/>
                </a:solidFill>
                <a:latin typeface="Calibri"/>
              </a:rPr>
              <a:t>if doing so does not break up law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environmental regulations in host nations are far inferior to those in the home nation, ethical issues ari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Ethics and Corruption</a:t>
            </a:r>
            <a:endParaRPr b="0" lang="en-US" sz="3600" spc="-1" strike="noStrike">
              <a:solidFill>
                <a:srgbClr val="000000"/>
              </a:solidFill>
              <a:latin typeface="Calibri"/>
            </a:endParaRPr>
          </a:p>
        </p:txBody>
      </p:sp>
      <p:sp>
        <p:nvSpPr>
          <p:cNvPr id="64" name=""/>
          <p:cNvSpPr txBox="1"/>
          <p:nvPr/>
        </p:nvSpPr>
        <p:spPr>
          <a:xfrm>
            <a:off x="457200" y="1752480"/>
            <a:ext cx="82296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Is it ethical to make payments to government officials to secure busines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United States, the </a:t>
            </a:r>
            <a:r>
              <a:rPr b="0" lang="en-US" sz="3200" spc="-1" strike="noStrike">
                <a:solidFill>
                  <a:srgbClr val="6a96d3"/>
                </a:solidFill>
                <a:latin typeface="Calibri"/>
              </a:rPr>
              <a:t>Foreign Corrupt Practices Act</a:t>
            </a:r>
            <a:r>
              <a:rPr b="0" lang="en-US" sz="3200" spc="-1" strike="noStrike">
                <a:solidFill>
                  <a:srgbClr val="000000"/>
                </a:solidFill>
                <a:latin typeface="Calibri"/>
              </a:rPr>
              <a:t> forbid the practice of paying bribes to foreign government officials in order to gain busin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User</cp:lastModifiedBy>
  <dcterms:modified xsi:type="dcterms:W3CDTF">2016-12-22T06:59:12Z</dcterms:modified>
  <cp:revision>37</cp:revision>
  <dc:subject/>
  <dc:title>Slide 1</dc:title>
</cp:coreProperties>
</file>