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A211-BF0B-4BDA-9F0E-D7516EB400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0" y="4191120"/>
            <a:ext cx="6858000" cy="4952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agerial ethics are the standards of behavior that guide individual managers in their work. Ethics can affect a manager’s behavior toward:</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loyees: For example, in a case in which an employee is constantly late for work, if a manager’s ethics include perfection in attendance, this could present an issue.</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rganization: For example, if the organization is very open and wants employee suggestions, this could cause discord for employees reporting to a manager who is not accustomed to this type of input.</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ther stakeholders or economic agents such as customers, competitors, stockholders, suppliers, dealers, and unions: For example, a manager may have developed a certain communication style across his or her career, and may have a specific manner of dealing with such agents, or may hold them as equals or as outsid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al concerns that should be considered when addressing business situations can include many issues including conflict of interest.  Let’s look at two example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biguity: When an organization is not performing as well as its investors would like, the manager may consider not disclosing, or hiding, certain financial information. There have been many examples of this during the past ten years.</a:t>
            </a:r>
            <a:endParaRPr b="0" lang="en-US" sz="1000" spc="-1" strike="noStrike">
              <a:solidFill>
                <a:srgbClr val="000000"/>
              </a:solidFill>
              <a:latin typeface="Calibri"/>
            </a:endParaRPr>
          </a:p>
          <a:p>
            <a:pPr indent="2872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lobal variation in business practices: When an organization does business in another country, especially Latin America, it can be quite common to have to bribe a government official or pay a little extra money to an agent to get permits, get shipments through customs, etc. While this is illegal under U.S. law and the Foreign Corrupt Practices Act, this cannot be avoided in some countries, such as the Jeitinho in Brazil, which is more like a personal favor payment to “find a way” to make the transaction move forward more rapidly. Many Latin American countries, such as Paraguay, have taken a hard stance against such practices. The police, for example, used to make extra money by stopping cars on the road just to search for something that might be wrong. In so doing, they would ask for bribes to allow the person to pass. There were strikes and some rebellion, but now this practice has for the most part been elimin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Teaching Tip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 your same student teams, please choose one of the three areas where a manager’s ethics could have an impact (employees, the organization or other economic agents), and take a few minutes to apply the ethical codes you discovered in our last exercise. Discuss how these might impact the group you choose (i.e., employees, the organization, or other economic agents). We will then discuss this topic as a whole cla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responses to the last two exercises. Be sure to refer back to the answers from the last two exercises, as well as the examples you provided in this slide when weighing student respon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w that you have an understanding of some of the ethical concerns faced by businesses and organizations, please answer the following question based on your own values and ethics: “What would you do if your manager asked you to force billings for sales of a new product in your territory in order to make the sales numbers look better for this quart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swers will vary based on individual values, but of course the correct answer should be that the sales should only be reported specifically when the sale occurs. Sometimes customers may ask to be pre-billed for consulting work because it is included in their budget for the current fiscal year. In some cases the manager will have to accept the billing and the funds, but can place the funds received into an “escrow” account, and only report the actual sales when the work occurs.</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3165-3259-4BB3-9D91-B6EFC0C4F7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FFCE-D3F7-455A-9A5E-0F154BC8A9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6C5B-778B-48D1-8C58-C8621C4413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6CFF-5D9A-4499-BD2A-AA89A3194D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37720" y="1980720"/>
            <a:ext cx="71629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6"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increase efficiency and </a:t>
            </a:r>
            <a:br>
              <a:rPr sz="3200"/>
            </a:br>
            <a:r>
              <a:rPr b="0" lang="en-US" sz="3200" spc="-1" strike="noStrike">
                <a:solidFill>
                  <a:srgbClr val="000000"/>
                </a:solidFill>
                <a:latin typeface="Calibri"/>
              </a:rPr>
              <a:t>effectiveness in order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jon30433_0405.jpg"/>
          <p:cNvPicPr/>
          <p:nvPr/>
        </p:nvPicPr>
        <p:blipFill>
          <a:blip r:embed="rId1"/>
          <a:stretch/>
        </p:blipFill>
        <p:spPr>
          <a:xfrm>
            <a:off x="457200" y="1600200"/>
            <a:ext cx="8305920" cy="4419720"/>
          </a:xfrm>
          <a:prstGeom prst="rect">
            <a:avLst/>
          </a:prstGeom>
          <a:ln w="0">
            <a:noFill/>
          </a:ln>
        </p:spPr>
      </p:pic>
      <p:sp>
        <p:nvSpPr>
          <p:cNvPr id="78"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al)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poverty,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trade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mp;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88"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Business Ethics?</a:t>
            </a:r>
            <a:endParaRPr b="0" lang="en-US" sz="3600" spc="-1" strike="noStrike">
              <a:solidFill>
                <a:srgbClr val="000000"/>
              </a:solidFill>
              <a:latin typeface="Calibri"/>
            </a:endParaRPr>
          </a:p>
        </p:txBody>
      </p:sp>
      <p:sp>
        <p:nvSpPr>
          <p:cNvPr id="55" name=""/>
          <p:cNvSpPr txBox="1"/>
          <p:nvPr/>
        </p:nvSpPr>
        <p:spPr>
          <a:xfrm>
            <a:off x="457200" y="1142640"/>
            <a:ext cx="83059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inciples or ethical problems that arise in a business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ummary business ethics consist of the principles, values, &amp; standards that guide behavior in the world of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1"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5"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98"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0"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2"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6"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r>
              <a:rPr b="0" lang="ar-SA" sz="2000" spc="-1" strike="noStrike">
                <a:solidFill>
                  <a:srgbClr val="000000"/>
                </a:solidFill>
                <a:latin typeface="Calibri"/>
                <a:cs typeface="Calibri"/>
              </a:rPr>
              <a:t>نزاهة</a:t>
            </a:r>
            <a:r>
              <a:rPr b="0" lang="ar-SA" sz="2000" spc="-1" strike="noStrike">
                <a:solidFill>
                  <a:srgbClr val="000000"/>
                </a:solidFill>
                <a:latin typeface="Calibri"/>
                <a:ea typeface="Calibri"/>
              </a:rPr>
              <a: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r>
              <a:rPr b="0" lang="ar-SA" sz="2000" spc="-1" strike="noStrike">
                <a:solidFill>
                  <a:srgbClr val="000000"/>
                </a:solidFill>
                <a:latin typeface="Calibri"/>
                <a:cs typeface="Calibri"/>
              </a:rPr>
              <a:t>عدالة</a:t>
            </a:r>
            <a:r>
              <a:rPr b="0" lang="ar-SA" sz="2000" spc="-1" strike="noStrike">
                <a:solidFill>
                  <a:srgbClr val="000000"/>
                </a:solidFill>
                <a:latin typeface="Calibri"/>
                <a:ea typeface="Calibri"/>
              </a:rPr>
              <a:t> </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r>
              <a:rPr b="0" lang="ar-SA" sz="2000" spc="-1" strike="noStrike">
                <a:solidFill>
                  <a:srgbClr val="000000"/>
                </a:solidFill>
                <a:latin typeface="Calibri"/>
                <a:cs typeface="Calibri"/>
              </a:rPr>
              <a:t>اتقان</a:t>
            </a:r>
            <a:r>
              <a:rPr b="0" lang="ar-SA" sz="2800" spc="-1" strike="noStrike">
                <a:solidFill>
                  <a:srgbClr val="000000"/>
                </a:solidFill>
                <a:latin typeface="Calibri"/>
                <a:ea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r>
              <a:rPr b="0" lang="ar-SA" sz="2000" spc="-1" strike="noStrike">
                <a:solidFill>
                  <a:srgbClr val="000000"/>
                </a:solidFill>
                <a:latin typeface="Calibri"/>
                <a:cs typeface="Calibri"/>
              </a:rPr>
              <a:t>منفعة</a:t>
            </a:r>
            <a:r>
              <a:rPr b="0" lang="ar-SA" sz="2800" spc="-1" strike="noStrike">
                <a:solidFill>
                  <a:srgbClr val="000000"/>
                </a:solidFill>
                <a:latin typeface="Calibri"/>
                <a:ea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08"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ments Supporting Business Ethics</a:t>
            </a:r>
            <a:endParaRPr b="0" lang="en-US" sz="4000" spc="-1" strike="noStrike">
              <a:solidFill>
                <a:srgbClr val="000000"/>
              </a:solidFill>
              <a:latin typeface="Calibri"/>
            </a:endParaRPr>
          </a:p>
        </p:txBody>
      </p:sp>
      <p:sp>
        <p:nvSpPr>
          <p:cNvPr id="5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16"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7621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Expectations</a:t>
            </a:r>
            <a:br>
              <a:rPr sz="3200"/>
            </a:br>
            <a:endParaRPr b="0" lang="en-US" sz="3200" spc="-1" strike="noStrike">
              <a:solidFill>
                <a:srgbClr val="000000"/>
              </a:solidFill>
              <a:latin typeface="Calibri"/>
            </a:endParaRPr>
          </a:p>
        </p:txBody>
      </p:sp>
      <p:sp>
        <p:nvSpPr>
          <p:cNvPr id="118" name=""/>
          <p:cNvSpPr txBox="1"/>
          <p:nvPr/>
        </p:nvSpPr>
        <p:spPr>
          <a:xfrm>
            <a:off x="304560" y="1294920"/>
            <a:ext cx="838188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cDonald's believes that “the customer is importan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expect employees to be committed to their jobs and to their customers, and to behave as ambassadors of the compan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y also believe that it is important to acknowledge the community that supports each McDonald's restaurant and to return that support to the commun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0"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usiness and Managerial Ethics</a:t>
            </a:r>
            <a:endParaRPr b="0" lang="en-US" sz="3600" spc="-1" strike="noStrike">
              <a:solidFill>
                <a:srgbClr val="000000"/>
              </a:solidFill>
              <a:latin typeface="Calibri"/>
            </a:endParaRPr>
          </a:p>
        </p:txBody>
      </p:sp>
      <p:sp>
        <p:nvSpPr>
          <p:cNvPr id="59" name=""/>
          <p:cNvSpPr txBox="1"/>
          <p:nvPr/>
        </p:nvSpPr>
        <p:spPr>
          <a:xfrm>
            <a:off x="380880" y="1523880"/>
            <a:ext cx="8382240" cy="4724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rganization.</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conomic agents—customers, 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1"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3"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4-09-13T08:56:37Z</dcterms:modified>
  <cp:revision>48</cp:revision>
  <dc:subject/>
  <dc:title>Ethics and Business</dc:title>
</cp:coreProperties>
</file>