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46A-8C49-4BFC-8207-25F2B7F5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4A2-12BB-4CEA-AC9A-3B86BF88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56C-FFEB-4AB7-BC98-38E6C156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A70-20D0-44A6-8BB1-49460D64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D607-8EFE-4193-8004-A40C9006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B6BB-876B-483C-8F96-B5CCF4DC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7EE0-DBD1-4130-A03A-ED86A5BC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D997-0E7C-40B6-84F8-599506AB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4A7C-6A3D-47D6-9CCA-41811B19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A0EF-D925-48E7-BC16-AF4A4010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AD68-E71A-4463-A801-003B3E84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A16-DC2E-45CB-90D8-04A14416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3BB2-5ABF-4462-8016-2782D51D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B337-20DE-4D3F-A4F0-18137C72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D86A-B592-496D-AC81-69BFB222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4B27-97C5-441F-B148-FD967B56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0428-A84E-4F56-9384-6739477D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9F0A1-806F-42C8-BD6E-7838FF28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1CE0-69A0-4F5D-B09C-5297DE0F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AB3EE-AAD2-47B4-BD6F-134D270B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D431C-BC66-4DDB-9279-79EA28A8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7069-555D-4E7D-9152-4B401749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35A-9E21-41DB-BB53-8C6B43E6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5D174-0368-4B0A-9ECC-42EC40CC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A0DD-E3BA-4E89-AA9B-FD054CD3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FFE59-9B29-4036-86CA-ECE14E50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D010-7A92-42C2-AC8C-0E15E8B5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5D23-EF0A-4438-BBC0-9E7C60A4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5B500-5464-4F8B-A492-05C0D306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055B-D6FE-4C01-902B-F05BCFCB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CA4B-364F-47F3-AD77-C8A52ECD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FA9E0-E7DB-4DC9-A951-72AE2E84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0321-444C-4EF1-B819-A54FD000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9F4-3B4B-4328-B317-9AC58A54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77D3B-9CEA-4BF2-82DE-38F11959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09302-6F86-4DC9-BCA1-313C3C34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7F3D8-4F88-4543-91D5-8F59BFD8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32521-4117-403F-8C99-A633BFF9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33AEE-8573-40C5-8788-80718C8D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9822C-A535-4F16-900F-7569A9E2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52F7E-F5D9-497F-91A8-0A6A5CBC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EFC5D-7761-4FE8-816A-1F146E3C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EA51-8B4A-42B8-9D25-CEE5E5A8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6DB76-59A6-48B9-939F-17313C1A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E41-3F85-43E8-AB3C-FBFD1DA0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6345C-5616-44A9-8813-C802A3FA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697C9-DE13-49EA-A7E5-54510AE5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F0BFD-5A0E-4392-851B-5153D111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CBA62-071D-4F8A-8768-0785A833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F4A58-2FDB-4F46-ABBD-F74CE5D7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865F-0ED4-42C7-A16D-56D50D02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CAE15-2541-490D-AF31-5E1E3954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EBACD-8CFC-4A91-AE63-A47081D1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E800-82F8-45D2-9BBB-A6F6AEF7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D3C16-9897-4A7E-80B8-A037A214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B58-3F5D-44AA-8E45-533C73CC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869B9-3AB4-4448-8376-402670D0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28F28-9A74-4C9F-BFF2-9A871CE6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BC025-58A8-4883-A97C-8633D756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0BFBD-5327-465D-92EE-93E3CF3C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65094-31C7-4CC8-8CC9-75C61608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3E1FC-B080-4DAD-8F0A-5951D5BD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DFB62-1939-4932-9CC4-FDA1657A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0A66A-2246-439C-BED9-325036D2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AA888-4651-423D-A3E1-6C0C3892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53733-1D97-4A4C-BD7C-340B8441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B61-CC00-446B-BD17-C3A9E76F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DB8C5-D2D2-4A6E-A8FF-D3233FE7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C56FD-8D68-4FFE-AB64-B58BD503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D34FC-9435-4D53-98B2-8617F120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6EE86-EE27-4C35-AA4A-EE0A7E05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FED38-A7D4-4C1E-9AF2-403D7A6D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5A11C-F664-4E4A-A0C9-E9025266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B5253-97E0-4A4F-A6F1-509ADD55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B77CC-74E2-4FE1-97AB-98E17EA3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7646A-805B-421E-9A02-6B72ADC9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B8E83-D1FD-481A-967D-1F2FE729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E6E-9295-4B73-9326-598D5AA2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47579-B922-4A3A-BA0F-10AB8E42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3FA12-ED72-4241-8563-8E312F60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5516D-AF62-433F-AFC2-225715E4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C98D8-D31E-4986-93BE-0631F1ED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88643-1811-43EE-8E2F-B1E197BA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51C30-07B1-4F70-BAE7-AAF354C5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25837-8650-4DD0-BE25-2FE3E103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0FA13-7239-49A1-AB82-C64921B8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D9552-C2AB-46FE-9D5E-7FCA888E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A550C-9FF2-4E6F-B8F2-8DF566C2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46E-2D55-49FB-9EE0-21BC135F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5CD32-9011-41E8-B201-A755E0CA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DACF5-5466-4374-9538-50059CF2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EF038-D4C3-4FCC-B268-A2907AE9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29965-23F5-4EF7-AD39-4240BA99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65D0E-07A5-4E24-880C-DBE6D110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398A0-5A69-4228-98D3-2653E22C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0AC86-E6AE-448B-A88E-CC24F4CE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3D99-1735-4EAB-A1D7-90F4E8BE2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3B52-8CD8-4406-B95A-EDE9A6F5F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A1A1-A090-467D-81D5-D7C63F8BB6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0E03-F8DD-40C7-A7E0-745946780E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E1E5-B68B-4700-ADF6-7DA344D2A1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6055-1799-4F13-80B0-93808CD004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B529-FBC7-484F-B0D8-9139EB70BC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BFA0-7F19-40E2-ACC0-71C574AD9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globalreporting.org/Pages/default.aspx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hapter 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8195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ies of Social Responsibilit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porate Social Audit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Sustain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ocial Auditing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SA can enhance an organization’s capacity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aluate their impact on stakehold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 how well they are living up to the values they promo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their strategic planning process by identifying potential problems before they come up;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rease their accountability to the groups they serve and depend 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7416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asons to conduct a SA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what is happen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what people think and w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ll people what you are achiev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engthen loyalty / commi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hance decision-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overall performa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2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A social audit looks at factors such a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mpany’s record of charitable giv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volunteer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energy u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649"/>
              </a:spcBef>
              <a:buClr>
                <a:srgbClr val="8eb4e3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er safe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nsumer protection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audits are optional--companies can choose whether to perform them and whether to release the results publicly or only use them internall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e audits should be extended to include th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moral heal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orpo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ions that conduct social audits will be more suitable to prevent unethical and illegal behaviors by managers, employees, and represent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ocedures  for conducting a social aud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An independent outside firm should be hired to conduct the aud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ill ensure autonomy and obje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any’s staff should cooperate fully with the auditing firm while the audit is being condu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ocedures for conducting the audit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(continued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uditing firm should report its findings directly to the company’s board of dir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ard of directors should determine how the company c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meet its duty of social responsibility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audit to implement a program to correct any insufficiency it fin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2880" y="2266920"/>
            <a:ext cx="5327640" cy="1755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38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Corporate sustainability 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meeting the needs  of today’s stakeholders  in a manner that protects   the environment and resources needed for future generations, directed at improving a company’s </a:t>
            </a: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riple Bottom line (TB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he TB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accounting framework that includes three dimensions of performance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ocial, environmental and econom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9807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iple Bottom Line </a:t>
            </a:r>
            <a:r>
              <a:rPr b="1" lang="en-US" sz="3200" spc="-1" strike="noStrike">
                <a:solidFill>
                  <a:srgbClr val="669900"/>
                </a:solidFill>
                <a:latin typeface="Calibri"/>
              </a:rPr>
              <a:t>(TBL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made up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viron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eople, Profit, Plane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ories of Social Responsi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752120"/>
            <a:ext cx="8305920" cy="437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Four Theories for Social Responsibilit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ing Pro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l Minim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Inte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Citize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riple bottom line reporting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BL reporting  :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framework  for measuring and reporting corporate performance against 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om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ve from one dimensional economic reporting to three dimensional economic, social and environmental repor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088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onomic factor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ly accounting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l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s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oci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bery and corrup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 labo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and divers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nvironment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issions, and was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BL reporting enables organization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easure and manage their financial and non-      financial  performance.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Have their performance and impacts demonstrated independentl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mmunicate  effectively   with   consumers,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governments, investors, employees, oth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takeholders  and  supervisory  group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is TBL reporting achieve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TBL reporting achieved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the application of what is called the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’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a common framework for sustainability reporting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s://www.globalreporting.org/Pages/default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ed in 1997 by the combination for Environmentally Responsible Economies and the United N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became independent in 2002, and is an official collaborating center of the United Nations Environment Programme (UNEP) and works in cooperation with UN Secretary-Gene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Maximizing Prof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52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 has a duty to take actions that maximize profits for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ests of other stakeholder are not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Moral Minim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’s duty is to make a profit whil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avoiding harm to oth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long as business avoids or corrects the social injury, it has met its duty of social responsi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Occupational safety la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onsumer protection laws for product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8188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 Stakeholder Inter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 must consider the interests of all stakeholders, including stockholders, employees, customers, suppliers, creditors, and local communit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is theory was criticiz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it is difficult to harmonize the conflicting interests of stak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Corporate Citizensh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880" y="1828440"/>
            <a:ext cx="83059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responsibility that says a business has a responsibility to do good a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ing to solve social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A major criticis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is theory is that the duty of a corporation to “do good” can not be extended outside certain lim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ies of Social Responsibility –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28600" y="1371600"/>
          <a:ext cx="8686800" cy="5237280"/>
        </p:xfrm>
        <a:graphic>
          <a:graphicData uri="http://schemas.openxmlformats.org/drawingml/2006/table">
            <a:tbl>
              <a:tblPr/>
              <a:tblGrid>
                <a:gridCol w="2819520"/>
                <a:gridCol w="586728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izing profi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aximize profits for stockholder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al minimu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void causing harm and to compensate for harm caused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ter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nsider the interests of all stakeholders, including stockholders, employees, customers, suppliers, creditors, and local community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citizenshi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o good and solve social problem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432080" y="2212920"/>
            <a:ext cx="5979960" cy="3065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914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efinition of Social Auditing (SA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s a formal review used to measure the impact that a corporation has on its clients, staff and society as a who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e purpo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a social responsibility aud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o ensure that the company is doing all it can to support  non-tangible gains such as employee satisfaction, community support and customer loyal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0:17:46Z</dcterms:created>
  <dc:creator>Les Wiletzky, SPHR</dc:creator>
  <dc:description>07-19-2002
rev 12-31-2002</dc:description>
  <dc:language>en-US</dc:language>
  <cp:lastModifiedBy>User</cp:lastModifiedBy>
  <dcterms:modified xsi:type="dcterms:W3CDTF">2014-11-01T15:54:03Z</dcterms:modified>
  <cp:revision>138</cp:revision>
  <dc:subject>Cheeseman, Business Law 5e</dc:subject>
  <dc:title>Chapter 007 - Ethics &amp; Social Responsibility of Business</dc:title>
</cp:coreProperties>
</file>