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D9-BD5C-40DD-ADF8-0895ACC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C92-4A2D-4BBC-84D4-E2B7705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C0C-F248-42AB-AEDD-7C3919E1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317-9F8F-4D9F-94E8-337220DA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E68D-3F4A-4866-9245-4E6DB2C1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C683-3785-4685-940A-EDE0F9E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294D-B9CB-48E3-9071-F88BB161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5D8B-2A0A-48AE-8400-233FEECC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36C1-C701-4903-8977-13921CF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D635-EF74-42AD-897E-E5711203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C48-8551-428B-94D2-3C086AD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B97-B6B2-4CA2-84BF-02BFF9C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0B1F-1BF2-4196-B18B-1C9A790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1C2-4777-460D-AA88-C8BC93F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D9B-149A-42B7-8581-A5A57A5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3DD-5EE2-4AA0-BEC1-AE4E888B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9E0E-5D01-4E42-A626-712675B3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4745-CA7B-4966-A036-214A9A70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4662-C24F-4589-93AF-D86D044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8ECF-DD31-454E-A5ED-9B97D2D5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2AE8-11F8-48FE-98C2-611074CB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2B89-FDB0-416A-964C-FD4C59B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01E-1F2C-4066-8825-2085A53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5018-D7C4-4D41-92B5-55339B9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21C6-A403-4AE3-B5A2-79E49C8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F383-96A4-4F3C-9DA6-56F200D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616F-A951-4DE2-A884-D1F567A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F7BA-69A4-474B-86A6-A7CC16C5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04A9-FDAA-4CD7-B4DB-6CD07470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E486-9D1D-48DF-A756-3A8564DF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0743-4A58-4361-9F4C-A22A8B25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1993-D49B-43B1-B02F-FEFA42A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EF4F-536C-48B2-92EF-E2FDDE8D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9A0-F841-403B-BDB9-34578EC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63E1-7510-4F06-9892-32581E2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D3A1-099C-4063-BA8E-AF7632E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A725-441E-4611-B0EB-49690FB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6A36-E15F-4A87-B23B-50394D2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BB64-9BA4-4E72-B90B-1F39C99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4AFE-9A63-475A-B7B0-D2C2D694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3B84-E8D2-45D8-943E-1309927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BF2C-FAA8-442A-9459-2666A46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E5B0-2438-49EE-8847-498B5BC0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635C-2384-4A0B-BA59-CA557AF9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37E-BBE6-49FD-A958-0B8487F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E1F2-397B-49AE-ACCD-3499248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6AD3-02EF-4B29-98B1-D3C3A01A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97F5-E044-4F70-BAEA-1B4A885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0F10-24DA-4E0B-B9AF-B436826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1F94-0F79-493B-994E-C603A844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94E3-A7B5-4E43-B7F8-4A92CD4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F875-36BD-4B1F-8F02-C47FD00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312E-BCFC-4063-B540-510532D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10F6-98F8-4931-B113-90C52BD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9B7E-FF49-431C-BC62-77E32443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C87-8C01-41AD-B1D2-76D14B1B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685C-D57B-47ED-B312-0458F82B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DD1A-0A01-49F0-B1AE-D0FD30D8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CD19-8363-48A1-9778-245A6337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F06E-6938-405F-8424-6F2D867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F17F-99C1-4A1F-BAF4-088BD99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90FE-37B5-4271-B5AE-A109040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0FF90-3E9E-4A50-8056-D0009DA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8A20-4C17-4009-94A5-83311949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5264-8342-492F-8529-7AE3A53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9276-57F9-4F53-B8AE-D940B81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5CA-F0F9-470C-98AC-4D1A943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C911-D3E2-4176-801C-9FA377E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6438-BE5E-4021-A642-332E6443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0ECD-C4A9-4846-9A21-6C42B3AB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45AA-C1A1-4B72-911D-7FF83A58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73D1C-A810-467A-93B2-81D8F40C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0C74-8E0D-46A2-B970-5D9152D1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8507-755A-4356-8C1F-08CDB0B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7DE9-1DF4-4BA7-97D0-A0A41E8E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AB76-AAFF-499E-BB48-D552F0E1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1899-D4F4-4247-B726-5D77AA1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95D-8F28-4CF5-A367-F05E810B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638B-512D-4EEA-B375-3FB565E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B949-4D86-4581-99DE-025C8BD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A0BF-B3E9-4652-A7E8-274FDB4C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D32E-A4DF-4706-8511-39CEF6C0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FB21-83DD-4443-AEA0-0B5FC526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0A9F-F492-4C63-8494-B431FE75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11E7-0B4A-40B0-9F04-1CD39BA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613E5-7C7F-4996-8525-507DCCC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7CD4A-4711-403E-9512-2562D1E5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03B43-6E0F-4590-AE0E-75C4051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DFC-5D04-4B37-BF49-212943A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B68A-E2D8-42E6-AAFD-8B40B62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4D18-4734-4ED2-99C4-2BAA6EC0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26A6-864D-41A8-AD88-B8540A6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58E1-4D81-4F6D-B940-353A3E29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25629-F9BC-45B8-8183-FD8BA59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73CD-46CD-475B-A7AB-3D3BEC8F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35EDB-C54A-4428-A41E-903DF300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6373-ECA2-4267-B1B7-9C6DD2181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53B3-F3F6-4AA5-9893-840342D9F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1E7-A744-4CC9-BDE6-D878A2FCB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EAE-6DFE-499F-AE26-3AFF61D6D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9E9-A8C4-43B3-9312-26D681FB5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EEB-75B0-4356-8A17-FDDAF3C64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C44-0C91-42C4-B05F-9DF243774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6F2-1BB5-4042-B2DC-F60A60E7C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a formal review 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4-11-01T15:54:03Z</dcterms:modified>
  <cp:revision>138</cp:revision>
  <dc:subject>Cheeseman, Business Law 5e</dc:subject>
  <dc:title>Chapter 007 - Ethics &amp; Social Responsibility of Business</dc:title>
</cp:coreProperties>
</file>