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53E-ADD5-46AB-82B9-D246D5EB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7EC-4521-4556-9162-3D57957A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1EB-6357-47C7-9D75-444C01C7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18D-4170-4248-8B56-9A1CD127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E950-E054-4B1B-9740-B87FD0A5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5CE6-A89D-4385-BBB6-13B0A71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FAFA-FD1F-4910-B803-6BBFD324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7BDB-A19F-4F53-82C9-BDABAC06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2BCA-DA93-40BB-BE8D-9104FEC1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963-71C3-42E1-9175-5EA481E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7572-5E02-4D5E-8CE2-1C05FA14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1E9-CCD8-450E-944D-FDF92695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4DD0-CC4D-41CB-9F45-ECFD3F3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98E-7FE4-4990-902B-BA6527E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0C6B-AC54-4A6C-892C-00908275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0165-B1ED-4EE5-A141-213FE1B5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A6A8-4BD4-4515-8C6C-84D520C1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0367-2ACC-4BEA-A408-025ED7C5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596A-68A9-4560-A5E5-70953C8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B610-3EAD-44C5-98E8-9558F17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F859-05DA-495D-AB11-04FF72FA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507F-C80A-4E49-8FA9-1D5C31C7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624-2F3E-4841-B76A-7A12BF0D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3BD0-54F3-41AD-980C-60C89BA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B297-2D6A-45CC-ABD1-3564547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41B0-5F8D-459F-9398-9370627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7947-243D-43B6-A172-870F0CC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3A45-B846-4BC5-8328-E4FE23C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1CA3-B070-4450-B2DC-8CA993E7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9036-6A37-410C-AA0E-1980928C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6420-2BDE-4CDB-903D-BF81DD25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1999-DCDC-4E39-9428-684B63C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B5C52-D8FE-451E-AAEF-2F0A53AC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25E-1CA8-45D8-8C28-938DD592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8342-17F3-424B-BC32-9577B456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EF3C-664B-4C5A-BBF9-D304E663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9E0B-AE67-42C3-B556-583E4854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5366-AAD5-4504-8957-86919499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7872-29DA-40CA-B23A-9714398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82F8-678D-4D6E-A706-374CD7CC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D22B-8E83-4092-A3D7-B2B33FD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E02C-9B80-420D-9E1A-28C6E16B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4A31-C4C2-4286-B93B-F40A972B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FE17-A071-422D-86CD-94262944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273-6C52-47BE-9291-DDDB9B4A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3FB3-36F1-4404-A603-0B1D7B22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8B33-9E7C-4765-9DB8-1F32806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0FED-C384-4DC6-A8C0-E4D2935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652A-9FF9-41C8-B979-7FC15198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45071-83A4-4A07-90D7-D99ECB5D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B320-E3FD-46B3-A8A3-F54F863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7A78A-ECE9-4091-8712-F6B1651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A269-2397-4B60-A258-AB18E602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2AB3-A8AB-49D0-B5C1-B7B382B4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D978-65F7-4D9A-BFDF-ACAF9A3C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59D-9ED9-48A5-B899-6B912CA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A322-2EF5-43B6-BD96-FB1E137A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AE56-B122-40B0-9231-0073A403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39A2-D2FF-4B36-B58C-D3D20734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382F-FA55-4D2F-B40F-DB1C880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50C0-D6F4-4952-83BB-6A7F664B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9D81-513E-4E6C-BEE6-7D5FE70F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A47E-99D3-4624-93F9-D1E8A936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978E-3782-456E-B209-BD04E98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9D77-9744-4901-95F9-3EAC061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EFE1-0342-4BC3-9E53-1AF8E9E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296-3ECD-4B46-A5C1-4E9F367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93AD3-F8EB-46F9-9953-7EDB4D13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9096-E892-4748-8312-A40A3EC9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28BA-D658-4F6C-BB6E-119DF14A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3BB1-C902-47A2-BD1C-5171A25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C9A1F-69B5-4F82-8773-3B4667FE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BDC2-0CBD-46B8-BD1C-BE907D8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07A9F-A523-4371-9016-99E92FE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7CCC4-7FED-40F7-A7BD-0704E0B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A73A-6E7E-4544-8B74-5769B3AD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6EA8A-B8B5-4599-9A27-685D91E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BFB-0E03-40DA-9A8D-FD60632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7845-E289-4ACC-8FE4-621FC0C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35BC-6A7C-4E36-822E-43176605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CE23-C37C-4797-9C8F-9FD6EF83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B60E-E69E-489F-A2C1-F1D9EF7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A37C-0201-44C0-AB40-E354CF9A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7DC7-D880-4946-AD40-D8E6FF93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13082-D5A9-425A-BEB4-A2D33BF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2E0E3-795E-4F81-B3ED-93364CD8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C43EC-B731-417D-8812-BF00051F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0E633-6AC7-49C2-B768-6611124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7B6-311B-4B0C-AA65-1ED1F01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A39B-5839-47C2-87CF-2A3CA31E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4D22C-CE5C-44FF-A4E5-7E632B0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8F7E-FDC9-4FA2-99B9-1F91D5F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058AD-7953-4424-A08F-636126C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3E2C-3225-40E7-AC6C-A93054E9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DFE42-7450-47AA-B0DA-DCA2DA42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48DCC-E82D-451D-861D-2861F47C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1F88-1BD9-43C3-B791-3B53498D2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C641-D156-45F2-A55F-34AE5214C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F29A-5FB6-413D-8C43-E4048024D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080-170E-4633-AA84-B3A66F151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429F-15EA-4ED5-AD8A-6D3650C84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88E0-625D-439C-A0FD-4331E3778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91F-08DE-4C29-9ECC-11C41EBD6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3BC-4131-4C45-8D49-235C59C3E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ir strategic planning process by identifying potential problems before they come up;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their accountability to the groups they serve and depend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7416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sons to conduct a S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 for conducting a social aud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ensure autonomy and obje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meet its duty of social responsibility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udit to implement a program to correct any insufficiency it fi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2880" y="2266920"/>
            <a:ext cx="5327640" cy="175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ies of Social Responsi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752120"/>
            <a:ext cx="8305920" cy="437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ur Theories for Social Responsibilit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became independent in 2002, and is an official collaborating center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Maximizing Pro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5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Moral Minim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ccupational safety la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sumer protection laws for product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 Stakeholder 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must consider the interests of all stakeholders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s theory was critic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is difficult to harmonize the conflicting interests of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Corporate Citizen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82844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responsibility that says a business has a responsibility to do good a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 major criticis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is theory is that the duty of a corporation to “do good” can not be extended outside certain lim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28600" y="1371600"/>
          <a:ext cx="8686800" cy="52372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a formal review 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non-tangible gains 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4-11-01T15:54:03Z</dcterms:modified>
  <cp:revision>138</cp:revision>
  <dc:subject>Cheeseman, Business Law 5e</dc:subject>
  <dc:title>Chapter 007 - Ethics &amp; Social Responsibility of Business</dc:title>
</cp:coreProperties>
</file>