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5C0-2DDF-4768-8204-45BCF882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28D-B4B5-48A5-A7B8-502AB28D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40A-718F-4111-89FA-0AEAB690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F8C5-B725-47F6-A06C-5FD811E7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6653-78BF-4E75-A745-AC30E84B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D751-9A6C-4082-9D73-B7DF4532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D018-3026-4031-B82E-230BD598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CBDE-C0E7-47C5-B024-32D119A7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3A6C-B475-4ACD-B302-569B9D81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5995-B26F-42A2-BF2C-326C43E1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6692-51B4-4445-B74C-C28C4CB0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298-36AC-4254-A029-BAB622DF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140F-B637-4642-BC1A-006FF6B4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1F50-8450-4494-A773-C419229C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F92A-68E0-4D69-8DF2-26DAD9C5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DEEE-9EF0-4295-AAC4-B7A7124C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D547-D476-4F5A-BC6E-425F962B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C2B39-6221-4FCA-BE78-B52BBBE1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16EB2-7FC3-4F8C-974A-E9EF05DB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719F2-1823-4BB5-BF67-22E96595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40E1C-460D-456A-89E1-B29BF0AB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A5085-B925-408C-AFF9-5EA1B9B0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137-720E-4303-9AE6-861C615A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4D32F-1AA5-4D81-8A99-69660545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7CDEF-6090-4F0F-882E-18358BBC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F0CFE-3FAC-4FCF-86A8-60B9EDC2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E583F-0BE7-4DB3-8DCB-A4419BA7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F02DF-1E28-4478-BA2B-3C09C4EE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ED48B-46E1-4C8C-ACD1-79ED06D9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A32D3-545D-4E7E-BE54-EEE7F8DD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9A0B9-251A-43FE-A91F-3545F71E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B7C18-FE55-4522-9D30-CAD8DB89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1374C-775D-47D1-BD70-FEE973BF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D32-444C-4B0C-BDDF-FD026EF4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80458-A373-43EB-BBDB-9BCBC33F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289D6-D149-4D8E-B75F-3E444EC5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CCF6A-C2D0-43FB-8DD7-598A25E0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115EA-73DE-4DCD-B728-EA469752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CE985-7343-4171-936A-2C47082E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28888-E7B0-4FAC-9190-6D45AA90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7C5FC-B336-4BCB-8516-0E97E51D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0783E-2C70-48EC-B0B2-421B9CE5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619D8-2750-4DA5-AFFC-0AB810A3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CFD2B-53C7-4731-BDB5-3A35C7FA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6B1B-3D5F-446F-8F86-065A6D2D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29E3A-7088-4530-BF6C-885F4681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21C64-CE0F-4359-908F-FF67BDB3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8DFAB-DFCE-468D-9E35-8E164BD3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957FD-14C5-408C-959E-74FE60B8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78758-168B-45F7-B5C7-87D7C74D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3FC5A-A0E6-47EB-BDF4-2F38F464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CEC27-6576-4D49-8E3B-AB00B271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4991E-F7D3-4E1E-BB2C-91A17C74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25FCD-8DE8-46C5-9333-622EC257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A2F5D-2589-424D-8C56-D93E4568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FC08-CC0F-4E2C-BAD3-B832B111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1C1C1-D66A-40E9-B364-D8FE418D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2783E-E229-4761-B3B0-E8AB590F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31252-F262-4B8A-AA29-DD4CEF37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A695A-23A3-4140-BB61-F7074C93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8F421-3A06-41C8-8B49-7CB7CB07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7E955-4352-4B69-A8FA-AB3E5F9B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4BC3B-57EA-4605-A52C-02DAEA62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A3045-13C1-438F-92B4-013690CD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961AA-F059-4E96-8385-AAA0620E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7016D-C749-4F62-8084-7C998188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011-53E7-4E8D-A44B-5D959FFB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AA8BB-7A3A-473E-886C-B4786427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B313A-DF4F-41A7-AAA3-FC7FE994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63EE3-5960-4C78-97E6-31299800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35ACF-84C0-4694-A852-DE96826E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909C9-A8B0-43A5-B666-8C4D3E18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45618-49CD-44FA-AE44-19018B6B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99C5F-5F87-4561-9B02-99197512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5EA45-93DB-4FCF-8EE9-AF652E81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D24D5-8D9C-4592-A1EE-67A3B6B2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ED67D-0B7C-430D-A5FD-636D70E9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B73-8407-4B0E-A845-04E0C331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F9D7B-C659-4FD8-B09C-67165D29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2FBDB-24AA-423A-B2D8-9CDF9321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193AE-E56D-4CB4-8F73-1B5BA13C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0FB80-6ADC-4D1B-8ABC-98C9CBA9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12F34-0F18-4F68-831B-EC31E915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C4E93-B68E-45DF-A2B1-ABFE96D1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91A41-6094-4C7D-8FAB-3911D209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2118A-600B-4F8C-BAA7-22749BCD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4F67B-F5DC-496C-BCFC-F5DD8734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DD885-0360-42E9-ABF6-16726D82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9792-EFDC-4BDE-9606-70664CC1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2A23F-88D3-4592-99CF-3AD9D017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49458-7587-4BEC-B964-08B4DE55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70D4E-8CDF-41D1-A8DE-689D2CB9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9D9F0-07B5-4229-9D23-B578219C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870DC-C0E2-4A5D-B0DB-3D23E097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18B42-87C1-48C3-BE06-0D78DEDE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603E6-AF81-4E0F-B011-A2D030B0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2AC6-0520-4B43-B6A5-8759BB3458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B697-A03A-43A7-9221-C2B7A53C05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D082-D9F9-48FF-8517-C7A0270D2E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7D37-A866-4340-A0C8-F91AC0A85C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DC9D-1ECF-4AB8-B376-8A1B76F26A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EEDA-0699-467A-B038-0B78869D01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99DD-7E8B-40A5-91A2-58A6182CBB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BF5C-BB4A-4515-B096-0E2FF1E258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www.globalreporting.org/Pages/default.aspx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520" y="18288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hapter  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28195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ies of Social Responsibility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porate Social Audit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Sustain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Social Auditing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08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SA can enhance an organization’s capacity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valuate their impact on stakehold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 how well they are living up to the values they promo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their strategic planning process by identifying potential problems before they come up; 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rease their accountability to the groups they serve and depend 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7416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asons to conduct a SA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 what is happen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derstand what people think and wa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ll people what you are achiev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engthen loyalty / commit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hance decision-mak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overall performa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25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A social audit looks at factors such a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company’s record of charitable giv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volunteer activ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energy u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work enviro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lnSpc>
                <a:spcPct val="90000"/>
              </a:lnSpc>
              <a:spcBef>
                <a:spcPts val="649"/>
              </a:spcBef>
              <a:buClr>
                <a:srgbClr val="8eb4e3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Worker safe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Consumer protection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al audits are optional--companies can choose whether to perform them and whether to release the results publicly or only use them internally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28600" y="17521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porate audits should be extended to include the </a:t>
            </a:r>
            <a:r>
              <a:rPr b="0" i="1" lang="en-US" sz="3200" spc="-1" strike="noStrike">
                <a:solidFill>
                  <a:srgbClr val="0000cc"/>
                </a:solidFill>
                <a:latin typeface="Calibri"/>
              </a:rPr>
              <a:t>moral heal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corpo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porations that conduct social audits will be more suitable to prevent unethical and illegal behaviors by managers, employees, and represent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Procedures  for conducting a social aud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An independent outside firm should be hired to conduct the aud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will ensure autonomy and obje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pany’s staff should cooperate fully with the auditing firm while the audit is being condu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Procedures for conducting the audit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(continued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uditing firm should report its findings directly to the company’s board of dire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ard of directors should determine how the company c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meet its duty of social responsibility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audit to implement a program to correct any insufficiency it find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712880" y="2266920"/>
            <a:ext cx="5327640" cy="1755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8384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ustainabilit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Corporate sustainability 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s meeting the needs  of today’s stakeholders  in a manner that protects   the environment and resources needed for future generations, directed at improving a company’s </a:t>
            </a:r>
            <a:r>
              <a:rPr b="1" i="1" lang="en-US" sz="3200" spc="-1" strike="noStrike">
                <a:solidFill>
                  <a:srgbClr val="669900"/>
                </a:solidFill>
                <a:latin typeface="Calibri"/>
              </a:rPr>
              <a:t>Triple Bottom line (TB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9900"/>
                </a:solidFill>
                <a:latin typeface="Calibri"/>
              </a:rPr>
              <a:t>The TB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n accounting framework that includes three dimensions of performance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ocial, environmental and econom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ustaina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9807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iple Bottom Line </a:t>
            </a:r>
            <a:r>
              <a:rPr b="1" lang="en-US" sz="3200" spc="-1" strike="noStrike">
                <a:solidFill>
                  <a:srgbClr val="669900"/>
                </a:solidFill>
                <a:latin typeface="Calibri"/>
              </a:rPr>
              <a:t>(TBL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made up of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onom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vironment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"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People, Profit, Plane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riple Bottom Line (TB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543800" cy="4190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ories of Social Responsi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0880" y="1752120"/>
            <a:ext cx="8305920" cy="437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Four Theories for Social Responsibilit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ing Pro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al Minim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keholder Inte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Citize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triple bottom line reporting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TBL reporting  :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framework  for measuring and reporting corporate performance against 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om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vironment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ove from one dimensional economic reporting to three dimensional economic, social and environmental repor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088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conomic factor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ly accounting princip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li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ees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ocial factor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bery and corrup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 labor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and divers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nvironmental factor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er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issions, and was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riple Bottom Line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(TB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BL reporting enables organizations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easure and manage their financial and non-      financial  performance.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Have their performance and impacts demonstrated independentl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ommunicate  effectively   with   consumers,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governments, investors, employees, other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takeholders  and  supervisory  group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is TBL reporting achieved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TBL reporting achieved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hrough the application of what is called the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lobal Report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Initiative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“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’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“a common framework for sustainability reporting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s://www.globalreporting.org/Pages/default.asp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Started in 1997 by the combination for Environmentally Responsible Economies and the United N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lobal Reporting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Initiative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GR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became independent in 2002, and is an official collaborating center of the United Nations Environment Programme (UNEP) and works in cooperation with UN Secretary-Gener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 Maximizing Prof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0520" y="18288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social responsibility that says a corporation has a duty to take actions that maximize profits for 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erests of other stakeholder are not impor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Moral Minim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social responsibility that says a corporation’s duty is to make a profit while </a:t>
            </a:r>
            <a:r>
              <a:rPr b="0" i="1" lang="en-US" sz="3200" spc="-1" strike="noStrike">
                <a:solidFill>
                  <a:srgbClr val="0000cc"/>
                </a:solidFill>
                <a:latin typeface="Calibri"/>
              </a:rPr>
              <a:t>avoiding harm to oth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long as business avoids or corrects the social injury, it has met its duty of social responsi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Occupational safety la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Consumer protection laws for product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8188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.  Stakeholder Inter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social responsibility that says a corporation must consider the interests of all stakeholders, including stockholders, employees, customers, suppliers, creditors, and local community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is theory was criticiz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cause it is difficult to harmonize the conflicting interests of stak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Corporate Citizenshi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0880" y="1828440"/>
            <a:ext cx="83059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responsibility that says a business has a responsibility to do good an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ing to solve social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A major criticis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is theory is that the duty of a corporation to “do good” can not be extended outside certain lim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ories of Social Responsibility – 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Summa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28600" y="1371600"/>
          <a:ext cx="8686800" cy="5237280"/>
        </p:xfrm>
        <a:graphic>
          <a:graphicData uri="http://schemas.openxmlformats.org/drawingml/2006/table">
            <a:tbl>
              <a:tblPr/>
              <a:tblGrid>
                <a:gridCol w="2819520"/>
                <a:gridCol w="5867280"/>
              </a:tblGrid>
              <a:tr h="685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o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Responsi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imizing profi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aximize profits for stockholder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al minimu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avoid causing harm and to compensate for harm caused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tere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onsider the interests of all stakeholders, including stockholders, employees, customers, suppliers, creditors, and local community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citizenshi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o good and solve social problem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1432080" y="2212920"/>
            <a:ext cx="5979960" cy="3065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848360" cy="914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efinition of Social Auditing (SA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s a formal review used to measure the impact that a corporation has on its clients, staff and society as a who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The purpos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f a social responsibility aud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o ensure that the company is doing all it can to support  non-tangible gains such as employee satisfaction, community support and customer loyal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00:17:46Z</dcterms:created>
  <dc:creator>Les Wiletzky, SPHR</dc:creator>
  <dc:description>07-19-2002
rev 12-31-2002</dc:description>
  <dc:language>en-US</dc:language>
  <cp:lastModifiedBy>User</cp:lastModifiedBy>
  <dcterms:modified xsi:type="dcterms:W3CDTF">2014-11-01T15:54:03Z</dcterms:modified>
  <cp:revision>138</cp:revision>
  <dc:subject>Cheeseman, Business Law 5e</dc:subject>
  <dc:title>Chapter 007 - Ethics &amp; Social Responsibility of Business</dc:title>
</cp:coreProperties>
</file>