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FCFD-313E-4153-8846-EAAA7A2C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D6A7-3988-4550-820F-293D1785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090B-5F1C-42FC-8B8C-BEBA8F96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7588-9AED-4579-A302-8E2353D3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026F-79C7-4C83-8572-EB843A07B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6C9C-161F-421E-9971-08BBFC5F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3B45-9EFA-4926-9F31-2E7807CD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A58B-C7B0-40AE-9CF8-FA83FE83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1EF7-9290-4B01-8949-C89C3FA6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6E75-EC63-4090-A5C4-669D95CB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C929-2809-4D50-99BF-BFA391DC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B071-D7A5-4CAF-BAC3-EDF0A5E5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B813-A1BC-40EA-B13A-49BF34A2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32A0-8207-417F-ABF2-5B1757E5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FCDD-11B9-4027-BCCF-DA967E3F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6222-0FA5-4593-B255-FD08D462B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41CA-DAF2-4C92-86F1-1DAFBB59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E427F-E498-4D7D-86E6-61151CDE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E6B67-F46B-495B-AF06-CCFF73DE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0BA98-BC64-4EDD-AA82-820A7D28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C8CC4-6C5E-42FD-A7E9-7FBC7630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0DEB3-A223-4E21-A719-EA03CCF2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281A-C967-4F34-8144-23C52DF8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4F6E0-A540-48DF-91B2-CC5BC12B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EB049-9561-4496-AC7B-A0084395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FB6C8-FE0D-4D4C-9323-98E2CDD7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FC28E-B910-4C9B-89AB-45359FEE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09271-4833-4AF3-82ED-EDC4FD25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CAFB4-4A68-4F67-8603-EA0E2EF49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839F5-0097-478C-BC30-2BDCC7190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67204-44D3-4A48-8F23-2C06F273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34B85-11C1-4EF7-BBD6-D7103290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DD879-20D3-42FD-AE2A-C3C12ECF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6CA8-DE20-4457-B256-CD2FD89C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3DE16-43EC-4BD6-8946-4D071526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B4D33-DBBD-479B-A831-8ADF025A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3C388-4941-4002-998B-9698588E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F82EE-B37B-499D-B7B9-72F91E08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B7889-7035-4A3F-9E04-14E6086B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5EDEA-F2F4-472F-B6BE-544D0B9B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1B9A9-D4DE-4E66-9FDA-D52E8567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E29A4-5824-4EC2-AE1B-8360114CF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6E0D2-406F-470D-AAD9-C5BE8A9D2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02CE4-E284-4E95-A605-854C99C2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2409-FF8F-45CF-868C-BFD60501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15AA3-88EE-43B5-896B-43E9E102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EFF33-87FD-4CA6-8252-98826203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4CA76-178B-4BE1-B596-A738D421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23B43-0687-44DA-AF81-A44EE7F1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EB2D3-1318-4E9C-B0C6-67AAD5E6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B1948-E300-4CDA-BFE5-B08D2D93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12540-AF59-47E0-96E0-E80566B5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724F6-198D-47F0-8A8B-04C4A7FF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62B7E-87BF-4D06-A52B-57B72042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11758-B3A6-42D2-8EF0-D74754BD0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E158-10A1-4541-BB02-5AB3AF36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CADA6-2AEF-4AE7-B97C-8AC85A75B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8FF05-DBD4-4F80-B49D-9C281328D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D87FF-C66D-48A5-AFBA-5E2C6F0D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D945E-D823-4EA9-865F-6A2708DC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390E5-A7C1-4328-AFF1-BEF34A56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7B0EE-F32F-44CC-A7CD-A40745A5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CB129-3E8F-4943-BE01-D6561F93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E0D31-19A1-4D8B-8462-11F2B581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3B17B-AB40-44C7-94F2-82F1F352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84C81-0987-46EE-B098-0AFA5591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2A25-1006-4A63-A294-8612D039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07CE7-B0CA-4C1F-A286-A688B366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6B788-998F-4910-A43B-AFE44CBC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C4FE2-CBA5-45B7-9441-E589D618C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943E6-2317-4E17-8EE7-4BEBF162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2E846-E1CD-4F72-8173-70866A7F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53387-B7A3-456F-9793-EACC32C3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61192-7F02-4C88-974A-39AADB05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3798A-CC6E-40CC-8057-248D1F40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268E9-8506-4462-82C0-5DEE4BAA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DFBF9-21A1-4786-B03C-3C90F5A6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F23F-A0B4-43F2-80FB-CD50C580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79CBE-3F4E-4C27-9AAA-02DBD587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B4133-1D95-472B-AF06-242C6254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80699-349E-485C-9466-D2C36A8E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248D2-2ABB-47A2-8851-8CBFCD90C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4009A-2B67-42BD-A2E8-BD0E64FAF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FF3DD-0DD3-4344-9F6D-3A21F5C2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1DACB-916B-4B3B-A316-4B1E9F51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BADC9-EFCE-4185-902F-521037D6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5D9A0-17AD-47F1-A02A-DC79391C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423F3-CE7A-4034-9BE3-9684E64F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08E8-34D3-4B7C-A6C4-5D9E626A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71B99-0A4F-4208-8592-B5606F66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D5258-EE26-49D7-9487-B65829BF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30E58-0F4E-44AC-BF47-3F55AD8F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9E3F9-A02B-4BA4-B712-7C026E26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5C028-328C-4D08-BB34-24019B29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77DA8-D017-46E2-AA34-3271C3E6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86056-0813-4093-ADA4-8464CEDAA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7938-EEF9-4C1A-B732-2F28760D5B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C5BE-5015-4D53-BDB2-B91FB29617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EDC9-D562-44E6-A5BE-6F8C269840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72B1-EB62-44C0-8E4B-7415CE9A9D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3E39-A7CC-46ED-836B-4DCCCC75E8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F07D-DE1D-4F3F-A17B-6CF503DFE0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532F-12AF-4E30-9FEB-CFE2CAC872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6B34-6F25-401F-927F-1ED2B7A425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www.globalreporting.org/Pages/default.aspx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520" y="18288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Chapter  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281952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ies of Social Responsibility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rporate Social Audit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orate Sustain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is Social Auditing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088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SA can enhance an organization’s capacity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valuate their impact on stakehold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termine how well they are living up to the values they promo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rove their strategic planning process by identifying potential problems before they come up; 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crease their accountability to the groups they serve and depend 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7416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asons to conduct a SA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now what is happen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derstand what people think and wa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ll people what you are achiev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rengthen loyalty / commit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hance decision-mak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rove overall performan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25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Corporate Social Audit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A social audit looks at factors such as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company’s record of charitable giv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volunteer activ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energy u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work environ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08000">
              <a:lnSpc>
                <a:spcPct val="90000"/>
              </a:lnSpc>
              <a:spcBef>
                <a:spcPts val="649"/>
              </a:spcBef>
              <a:buClr>
                <a:srgbClr val="8eb4e3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Worker safe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080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Consumer protection</a:t>
            </a:r>
            <a:r>
              <a:rPr b="0" lang="en-US" sz="2400" spc="-1" strike="noStrike">
                <a:solidFill>
                  <a:srgbClr val="0000cc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0800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cial audits are optional--companies can choose whether to perform them and whether to release the results publicly or only use them internally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Corporate Social Audit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28600" y="17521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porate audits should be extended to include the </a:t>
            </a:r>
            <a:r>
              <a:rPr b="0" i="1" lang="en-US" sz="3200" spc="-1" strike="noStrike">
                <a:solidFill>
                  <a:srgbClr val="0000cc"/>
                </a:solidFill>
                <a:latin typeface="Calibri"/>
              </a:rPr>
              <a:t>moral heal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the corpo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porations that conduct social audits will be more suitable to prevent unethical and illegal behaviors by managers, employees, and representat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Corporate Social Audi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Procedures  for conducting a social audi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An independent outside firm should be hired to conduct the aud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will ensure autonomy and objectiv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mpany’s staff should cooperate fully with the auditing firm while the audit is being conduc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Corporate Social Audi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Procedures for conducting the audit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(continued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uditing firm should report its findings directly to the company’s board of direc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oard of directors should determine how the company ca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meet its duty of social responsibility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he audit to implement a program to correct any insufficiency it find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1712880" y="2266920"/>
            <a:ext cx="5327640" cy="1755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8384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rporate Sustainabilit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001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Corporate sustainability 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olves meeting the needs  of today’s stakeholders  in a manner that protects   the environment and resources needed for future generations, directed at improving a company’s </a:t>
            </a:r>
            <a:r>
              <a:rPr b="1" i="1" lang="en-US" sz="3200" spc="-1" strike="noStrike">
                <a:solidFill>
                  <a:srgbClr val="669900"/>
                </a:solidFill>
                <a:latin typeface="Calibri"/>
              </a:rPr>
              <a:t>Triple Bottom line (TBL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1001"/>
              </a:spcBef>
              <a:spcAft>
                <a:spcPts val="799"/>
              </a:spcAft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9900"/>
                </a:solidFill>
                <a:latin typeface="Calibri"/>
              </a:rPr>
              <a:t>The TB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n accounting framework that includes three dimensions of performance: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ocial, environmental and econom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rporate Sustainabil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98072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riple Bottom Line </a:t>
            </a:r>
            <a:r>
              <a:rPr b="1" lang="en-US" sz="3200" spc="-1" strike="noStrike">
                <a:solidFill>
                  <a:srgbClr val="669900"/>
                </a:solidFill>
                <a:latin typeface="Calibri"/>
              </a:rPr>
              <a:t>(TBL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made up of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ci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conom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vironment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"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People, Profit, Plane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riple Bottom Line (TB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543800" cy="41907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ories of Social Responsibil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80880" y="1752120"/>
            <a:ext cx="8305920" cy="437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Four Theories for Social Responsibilit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izing Profits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rehol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al Minimum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rehol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keholder Inter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orate Citize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is triple bottom line reporting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088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TBL reporting  : 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framework  for measuring and reporting corporate performance against 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omi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ci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vironment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or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ove from one dimensional economic reporting to three dimensional economic, social and environmental repor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0880" y="5335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conomic factor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ly accounting princip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li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ees.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ocial factor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ibery and corrup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ild labor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ing and divers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nvironmental factor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er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issions, and was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riple Bottom Line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(TB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TBL reporting enables organizations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Measure and manage their financial and non-      financial  performance. 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Have their performance and impacts demonstrated independently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ommunicate  effectively   with   consumers,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governments, investors, employees, other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takeholders  and  supervisory  groups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90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ow is TBL reporting achieved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TBL reporting achieved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through the application of what is called the 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Global Reporting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Initiative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“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GRI’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GRI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“a common framework for sustainability reporting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"/>
              </a:rPr>
              <a:t>https://www.globalreporting.org/Pages/default.asp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Started in 1997 by the combination for Environmentally Responsible Economies and the United Na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066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lobal Reporting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Initiative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“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RI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28600" y="17524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GRI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 became independent in 2002, and is an official collaborating center of the United Nations Environment Programme (UNEP) and works in cooperation with UN Secretary-Gener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. Maximizing Profi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0520" y="182880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heory of social responsibility that says a corporation has a duty to take actions that maximize profits for sharehol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terests of other stakeholder are not importa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066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 Moral Minim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28600" y="16765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heory of social responsibility that says a corporation’s duty is to make a profit while </a:t>
            </a:r>
            <a:r>
              <a:rPr b="0" i="1" lang="en-US" sz="3200" spc="-1" strike="noStrike">
                <a:solidFill>
                  <a:srgbClr val="0000cc"/>
                </a:solidFill>
                <a:latin typeface="Calibri"/>
              </a:rPr>
              <a:t>avoiding harm to oth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long as business avoids or corrects the social injury, it has met its duty of social responsi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Occupational safety law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Consumer protection laws for product saf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38188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.  Stakeholder Intere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2860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heory of social responsibility that says a corporation must consider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the interests of all stakehold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including stockholders, employees, customers, suppliers, creditors, and local community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his theory was criticiz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cause it is difficult to harmonize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conflicting interest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stakehol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Corporate Citizenshi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0880" y="1828440"/>
            <a:ext cx="83059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heory of responsibility that says a business has a responsibility to do good and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lping to solve social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A major criticis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this theory is that the duty of a corporation to “do good” can not be extended outside certain lim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761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ories of Social Responsibility – </a:t>
            </a: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Summa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228600" y="1371600"/>
          <a:ext cx="8686800" cy="5237280"/>
        </p:xfrm>
        <a:graphic>
          <a:graphicData uri="http://schemas.openxmlformats.org/drawingml/2006/table">
            <a:tbl>
              <a:tblPr/>
              <a:tblGrid>
                <a:gridCol w="2819520"/>
                <a:gridCol w="5867280"/>
              </a:tblGrid>
              <a:tr h="685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or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al Responsibilit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imizing profi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maximize profits for stockholder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al minimu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avoid causing harm and to compensate for harm caused.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3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keholder intere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consider the interests of all stakeholders, including stockholders, employees, customers, suppliers, creditors, and local community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citizenshi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o good and solve social problem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1432080" y="2212920"/>
            <a:ext cx="5979960" cy="3065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848360" cy="9144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Corporate Social Audi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5235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Definition of Social Auditing (SA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i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a formal review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measure the impact that a corporation has on its clients, staff and society as a who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The purpos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f a social responsibility aud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to ensure that the company is doing all it can to support 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non-tangible gain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h as employee satisfaction, community support and customer loyal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00:17:46Z</dcterms:created>
  <dc:creator>Les Wiletzky, SPHR</dc:creator>
  <dc:description>07-19-2002
rev 12-31-2002</dc:description>
  <dc:language>en-US</dc:language>
  <cp:lastModifiedBy>User</cp:lastModifiedBy>
  <dcterms:modified xsi:type="dcterms:W3CDTF">2017-04-15T15:54:30Z</dcterms:modified>
  <cp:revision>142</cp:revision>
  <dc:subject>Cheeseman, Business Law 5e</dc:subject>
  <dc:title>Chapter 007 - Ethics &amp; Social Responsibility of Business</dc:title>
</cp:coreProperties>
</file>