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2F7-6483-4867-8FF6-24198510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996-2EDA-435B-8134-67C3EC01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67C-F524-4D14-8B31-D410C2E5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F2A-BEAD-49F6-8807-4817CBDE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3FEE-914A-4079-86F7-2E9B73BE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01D3-235A-42F8-AFB9-CFF97596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E6C1-F0B6-473B-BC75-68ACCE3A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A766-B2F2-4077-B5A1-DBECA0A1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B586-DDD1-4A6F-AD1B-F1FB93EF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C677-436A-4BF7-8585-EC643663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6795-CDD2-4DDF-965A-6EB08DD2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0FC-08E9-4A2C-8E94-A5C4ECB2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DF2B-58F1-4D4C-A5F1-AC9B82F4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5C89-8763-40F5-9243-314F4742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85BA-025C-4F7C-9963-BDB0B1C9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EC7A-71E9-438E-BD28-ABD4FBF9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0C08-EFB4-4BA0-8153-7E8AB9D3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0DF7D-ACC0-4FA6-9677-D5C9910A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911DE-8A7C-494C-BD9A-78CF29B3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A10CD-7E79-442C-9155-92DEE571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339C-E953-4B60-92D7-9A285D58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33DEF-AF67-4E8E-92C7-93CBD741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95B0-259E-4860-8F7C-46C1C355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6C30A-5449-43D9-9C95-FA873796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07C30-B9CA-4320-87B5-7051910E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2F8B9-F80F-406F-B145-737587E2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FA7E2-0CE0-4DAB-BC1A-4DC2B5D2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168CE-0BAC-4FC4-9CD8-E89DFE75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A6A0D-018A-4885-8DBB-79D3E99C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2C79-A8B1-45E7-BAA3-4DB4D62A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D5CF3-D7E6-423D-BCCA-E01AAC21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3ED70-72BC-4944-AEB3-77E00776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D0586-E84E-4664-913B-91989FBC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0C5-355B-4635-AB31-645FEE44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796BF-A6BD-4B35-AC30-8A7867ED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A1C3C-7F60-4530-B6A7-463CEEA8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9A13C-BBE1-4DB5-8B38-D482017B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2BD1E-970D-4AFA-82DB-DD2AE96C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F7955-F462-4835-9D43-ABD79E40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3A41A-5D8E-4ED5-A025-CF5DCBB1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635DA-D173-49A8-A63C-858F2160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CF0D6-7B73-46D8-B669-AE64C8AC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49292-0229-4241-9ED4-0D8C00DB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0CF55-0764-43DC-B0B7-8FCC4A1C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429E-0428-4F8C-9E40-17510E00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063DB-6D53-44EE-8792-385860C9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53364-BEA6-4889-A4EA-7C8AD448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B026B-892F-4C43-829D-99F55287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A6DD7-4F8B-4A51-ADF3-9F787A8A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5D163-BB7E-4DD1-B151-626A7927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95266-10A5-4CB3-9D43-D62B9A9D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6AC4B-5FE7-460C-8E8B-01A0E8DE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3FB95-6805-4027-AEBC-93162400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79C42-A5AB-42E6-BEA6-3704164B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CE67A-9C8A-4075-A1AC-E9B40138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4C5D-BAE8-4813-B681-EBB1C802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29F6A-6272-4239-8FE7-138D013C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F3BF4-060E-439E-AF2A-1352DBA2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6A919-DE4D-4203-AAF7-69300D8B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1ED6C-2DE0-4C44-B828-1DFE746D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9B21B-0E6E-4653-9A38-95C3F2ED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21113-5317-4EF5-AF51-CBD4DDD3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938C6-C92A-4BB7-9651-69E2245E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4916E-457C-430B-BE2E-768A66B9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04E4A-BAC2-4EC7-BF94-CE8A599C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9DD81-8727-44A5-9C2A-B335DF92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105-677A-4E9E-B5EF-BD4D463A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C319A-74F8-4B1A-AA39-5F3E3CE2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539B0-B523-4876-B49C-DA304BB6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2C2AC-53B9-48BF-AF8E-681235DC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6E346-86AA-4737-9B69-A0ADFC6A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F75BB-83BC-4A7B-A768-1D7DD611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84A78-FEC4-4B3C-8B2C-D2D5B2DD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92105-4913-4B7F-8E3C-3A985DA9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23FD8-26A4-4D56-83F4-F57C6EDD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BD5EC-A82B-4EBA-ABC8-07874F58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7177A-27E5-42DB-A8DC-157390CC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8BA-25BC-4362-A6E5-12240E42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A40C7-4B56-401A-8DFD-BA435DCD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15791-ADEA-4F0A-9C56-CBBD9EEF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0C5E7-D5FF-4E22-B870-D9BC8A64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D37AF-6B29-4F54-87FF-312B7F07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13FB5-3433-45FB-8B8A-0BB9B493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BA7DC-8457-4091-8F2B-4FC4F1CD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B2F28-A14E-4748-B40F-0447986F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D47F3-C53D-435C-818F-4160126F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72BC3-D73B-41FD-8890-7F1BE7F6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C9DC9-407F-40B2-B7D3-64F26B30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B20-2604-40F0-8A39-0E359730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C08D4-E852-4CF3-AC35-DA8F6E8E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C4F69-583D-45E5-B934-7B1DA290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6CA92-72EE-4A05-8D1B-33DA14D9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18D0D-5C16-40E9-8340-736E5682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6A877-FCAF-457B-AB7E-11F3696F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0CA95-219E-46EC-B60B-F463C088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AA385-D109-4675-8236-794E5DFF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A886-BC52-4DFC-8B8B-44E2C0FE2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75FD-9BF0-4315-9210-63D7A61AAE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AE12-EF6F-4521-ABC6-9AD93A6B90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2A5B-9B8C-487E-930E-E23D78ABFF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25D2-B9C0-448C-83D7-77C702748B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ADE5-7E28-4246-BA79-9459EADD05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34B9-A255-4708-8818-01181BE271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71A7-A293-4F53-A46F-AE833A2F59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globalreporting.org/Pages/default.aspx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18288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hapter 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28195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ies of Social Responsibility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porate Social Audit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Sustain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Social Auditing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SA can enhance an organization’s capacity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valuate their impact on stakehold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 how well they are living up to the values they promo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their strategic planning process by identifying potential problems before they come up; 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rease their accountability to the groups they serve and depend 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7416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asons to conduct a SA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 what is happen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derstand what people think and w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ll people what you are achiev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engthen loyalty / commit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hance decision-mak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overall performa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25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A social audit looks at factors such a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company’s record of charitable giv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volunteer a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energy u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work enviro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lnSpc>
                <a:spcPct val="90000"/>
              </a:lnSpc>
              <a:spcBef>
                <a:spcPts val="649"/>
              </a:spcBef>
              <a:buClr>
                <a:srgbClr val="8eb4e3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Worker safe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Consumer protection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cial audits are optional--companies can choose whether to perform them and whether to release the results publicly or only use them internally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28600" y="17521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e audits should be extended to include the </a:t>
            </a:r>
            <a:r>
              <a:rPr b="0" i="1" lang="en-US" sz="3200" spc="-1" strike="noStrike">
                <a:solidFill>
                  <a:srgbClr val="0000cc"/>
                </a:solidFill>
                <a:latin typeface="Calibri"/>
              </a:rPr>
              <a:t>moral heal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corpo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ions that conduct social audits will be more suitable to prevent unethical and illegal behaviors by managers, employees, and represent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Procedures  for conducting a social aud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An independent outside firm should be hired to conduct the aud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will ensure autonomy and obje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any’s staff should cooperate fully with the auditing firm while the audit is being condu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Procedures for conducting the audit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(continued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uditing firm should report its findings directly to the company’s board of dire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ard of directors should determine how the company c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meet its duty of social responsibility;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audit to implement a program to correct any insufficiency it fin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712880" y="2266920"/>
            <a:ext cx="5327640" cy="1755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384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ustainabilit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Corporate sustainability 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s meeting the needs  of today’s stakeholders  in a manner that protects   the environment and resources needed for future generations, directed at improving a company’s </a:t>
            </a:r>
            <a:r>
              <a:rPr b="1" i="1" lang="en-US" sz="3200" spc="-1" strike="noStrike">
                <a:solidFill>
                  <a:srgbClr val="669900"/>
                </a:solidFill>
                <a:latin typeface="Calibri"/>
              </a:rPr>
              <a:t>Triple Bottom line (TB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9900"/>
                </a:solidFill>
                <a:latin typeface="Calibri"/>
              </a:rPr>
              <a:t>The TB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accounting framework that includes three dimensions of performance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ocial, environmental and econom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ustaina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9807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iple Bottom Line </a:t>
            </a:r>
            <a:r>
              <a:rPr b="1" lang="en-US" sz="3200" spc="-1" strike="noStrike">
                <a:solidFill>
                  <a:srgbClr val="669900"/>
                </a:solidFill>
                <a:latin typeface="Calibri"/>
              </a:rPr>
              <a:t>(TBL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made up o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nom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vironment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"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People, Profit, Plane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riple Bottom Line (TB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543800" cy="4190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ories of Social Responsi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0880" y="1752120"/>
            <a:ext cx="8305920" cy="437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Four Theories for Social Responsibilit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ing Profit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al Minim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keholder Inte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Citize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triple bottom line reporting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TBL reporting  :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framework  for measuring and reporting corporate performance against 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om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vironment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ove from one dimensional economic reporting to three dimensional economic, social and environmental repor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088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conomic factor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ly accounting princip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l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es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ocial factor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bery and corrup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 labor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and divers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nvironmental factor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issions, and was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riple Bottom Line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(TB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BL reporting enables organizations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easure and manage their financial and non-      financial  performance.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Have their performance and impacts demonstrated independentl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ommunicate  effectively   with   consumers,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governments, investors, employees, other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takeholders  and  supervisory  group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is TBL reporting achieved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TBL reporting achieved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hrough the application of what is called the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lobal Report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Initiative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“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’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“a common framework for sustainability reporting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s://www.globalreporting.org/Pages/default.asp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rted in 1997 by the combination for Environmentally Responsible Economies and the United N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lobal Reporting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Initiative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GR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became independent in 2002, and is an official collaborating center of the United Nations Environment Programme (UNEP) and works in cooperation with UN Secretary-Gener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 Maximizing Prof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0520" y="18288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social responsibility that says a corporation has a duty to take actions that maximize profits for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ests of other stakeholder are not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Moral Minim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social responsibility that says a corporation’s duty is to make a profit while </a:t>
            </a:r>
            <a:r>
              <a:rPr b="0" i="1" lang="en-US" sz="3200" spc="-1" strike="noStrike">
                <a:solidFill>
                  <a:srgbClr val="0000cc"/>
                </a:solidFill>
                <a:latin typeface="Calibri"/>
              </a:rPr>
              <a:t>avoiding harm to oth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long as business avoids or corrects the social injury, it has met its duty of social responsi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Occupational safety la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Consumer protection laws for product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8188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.  Stakeholder Inter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social responsibility that says a corporation must consider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he interests of all stakehold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ncluding stockholders, employees, customers, suppliers, creditors, and local community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is theory was criticiz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cause it is difficult to harmonize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onflicting interes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stak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Corporate Citizenshi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0880" y="1828440"/>
            <a:ext cx="83059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heory of responsibility that says a business has a responsibility to do good an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ing to solve social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A major criticis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is theory is that the duty of a corporation to “do good” can not be extended outside certain lim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ories of Social Responsibility – 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Summa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28600" y="1371600"/>
          <a:ext cx="8686800" cy="5237280"/>
        </p:xfrm>
        <a:graphic>
          <a:graphicData uri="http://schemas.openxmlformats.org/drawingml/2006/table">
            <a:tbl>
              <a:tblPr/>
              <a:tblGrid>
                <a:gridCol w="2819520"/>
                <a:gridCol w="586728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o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 Responsi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imizing profi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aximize profits for stockholder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al minimu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avoid causing harm and to compensate for harm caused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tere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onsider the interests of all stakeholders, including stockholders, employees, customers, suppliers, creditors, and local community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citizenshi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o good and solve social problem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1432080" y="2212920"/>
            <a:ext cx="5979960" cy="3065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848360" cy="914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efinition of Social Auditing (SA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a formal review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measure the impact that a corporation has on its clients, staff and society as a who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he purpo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f a social responsibility aud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o ensure that the company is doing all it can to support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non-tangible gai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h as employee satisfaction, community support and customer loyal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00:17:46Z</dcterms:created>
  <dc:creator>Les Wiletzky, SPHR</dc:creator>
  <dc:description>07-19-2002
rev 12-31-2002</dc:description>
  <dc:language>en-US</dc:language>
  <cp:lastModifiedBy>User</cp:lastModifiedBy>
  <dcterms:modified xsi:type="dcterms:W3CDTF">2017-04-15T15:54:30Z</dcterms:modified>
  <cp:revision>142</cp:revision>
  <dc:subject>Cheeseman, Business Law 5e</dc:subject>
  <dc:title>Chapter 007 - Ethics &amp; Social Responsibility of Business</dc:title>
</cp:coreProperties>
</file>