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A4E-A996-454D-A2C9-297840B8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A1A-D597-4F59-BDB7-02D7EA2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4A3-32E9-4B8F-B19C-A91E897D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7FB-9F04-40E1-A5D1-C924089F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7A3-1675-4F20-969B-6972C17B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D6EE-0604-4FBE-B77A-B649255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EB57-6C3B-4333-BB3D-7A6CA90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26B-FF65-4318-89DD-7481D6F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2C45-FEC2-487E-8839-52C91B59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7266-DFC4-4F44-9CB4-F4F05D29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835A-DBC8-4D61-AB4A-4675B9D8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564-D131-438B-A427-D9788A94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F0E5-CD0D-4DE0-BC5C-85E778E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A45-CB04-4D2F-9364-6D10A720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982E-8140-4B87-A10C-C90E6DC5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AB19-5285-4E24-BA34-1483BF0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B87F-6367-48D4-8953-776B4B01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BC79-0FAB-490A-A309-E6A978EF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0C27-A362-4C5C-803B-1EBA6CD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CCA8-9727-4FAA-AC2E-339C50F6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D6A2-E0B7-47B5-A039-9E3DBD1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EA269-F9BC-4D1A-B86F-47D201E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391-B9DE-4164-A09D-7845F870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9147-F9B5-476E-9186-2883B694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3B34-AB27-4D5D-BA7F-E73740B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4093-F489-49C2-9B1D-DBF1C31A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2981-7EDC-445E-9CE3-148A3F6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07C1-4F0B-4792-B9E9-B68D7AB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0037-0259-4659-ABB7-2BDD472C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583F-C23C-44BF-BD07-E560379A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7FEF-C6E6-41F2-88FC-181FF9F1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EE31-B512-4CE7-9F24-A562386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924E8-3072-4395-BD76-3BF1E05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572-07B2-4B0D-8E8D-6BCF1699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F629-BF72-4BF8-A998-D367347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D009-6B18-40AE-9284-0A6AEF2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5D28-1C74-4BDC-B9AA-D7470B49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76531-1083-4ECE-9EB0-9A165DF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42C9-E964-4031-913D-F6C1DE8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3B92-1E1F-4F6B-A87F-EB63BFE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B4C7A-78F2-4FD8-A363-0A71A99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A4AB-3158-465D-A56D-D6F5213C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0323-2BBB-4586-9733-3BF8ECCF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990E-7F36-418C-9C2A-E6B942E3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026-AC21-401E-9CAA-2A79F3C6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EAF6-A69C-441A-B37E-1D374B3F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2E2E-ED3F-4804-A0DB-1BE9F10F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F578C-930C-4E2B-9E0D-35D4F38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BE2E4-D710-435E-B2BF-8CA4C0E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8CA1-ACAA-42B1-B254-2AC3AF5C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72D87-2D1A-4034-8D47-13AE064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57049-55CF-43E1-B85A-3EBE767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19B4-30C7-4284-8E37-DE9A1C44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65AC-2F4B-4DC5-ACEC-97A1AB55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B4CA-5F4F-419C-82E6-8142A30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5CE-8E53-4476-A658-3A9CF423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F35F-C8EC-4926-8E2E-3A4FA0A3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5DFD-0E7F-40A3-A6EE-37F86502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3F9B7-39A6-4CBD-91B7-191D4F34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4AFF-E328-48F4-A36F-A29AB9A8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398AC-38A9-4A31-8795-A9FE8C21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132E7-E586-4C55-83F3-6486B16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6969-BD54-4582-8D97-01D23E5E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956D5-48D9-49C8-8FAF-2C0E6C9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558E-59B8-43C1-B653-1589E13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923EE-71B0-4B7A-9F4D-B9F10E9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4FA-5F58-40B0-85B6-CD7E4CB3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4A497-D534-4927-AE22-1D45B3C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7F37-F544-4595-8E6F-29D40E73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4EAFC-ED57-4847-9FB5-9A24CA44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FB47-E3C5-472D-9767-CAD4A273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77B74-D478-4170-B723-51797258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40253-06B3-438F-80FF-94FE26B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32E3-83EB-43EA-AACB-B9F198BD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83B20-44AD-4449-B61A-807D315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C9A1-44E1-4B2F-8BB0-3B8DE179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6B1D-E0D9-452E-8ADD-3D15B89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14E-60F4-42D2-BBAF-D05D2DD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0468-DE8A-44A4-9BF3-397A6FD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93A20-7BAB-4403-9EDF-9A5738D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28B17-D218-4C9F-9BD6-25E43B31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1BB71-1CF8-4B2F-85F8-E844D020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3BBB1-3F5C-469D-B73E-67530FCD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D1A56-2B4A-4CE7-B11D-2B333A7F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352AC-F68F-4E90-8837-40723974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0836F-FD8D-4AE7-9DF9-C6F77249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6C942-B0C1-4D62-A380-D984CF06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363D-CB86-4984-8C4F-32035906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05E-86DA-4A85-84A8-CB26A62C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C700-1E71-4E77-A978-FC0F95AB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713B3-D482-4EBB-9498-238BFCE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EEB61-382F-42ED-81EF-4F649818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5B56C-A964-471C-91AF-529CC42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99B88-AB13-4B9A-A537-2697FCCA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48720-A3A1-44A6-AFA9-D699EFDD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B0C9-ECAA-4DFB-980D-0829145D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819E-EA6A-487E-9750-ADBEFEB96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BC7C-169F-4250-AB1A-6E4C878F8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A0D-DAD3-4D10-8932-B9A1CC82F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EBDF-1CB5-43C7-B1F5-537730F1D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DF0C-6ADE-453B-A8FA-E1FC55EF8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94CA-AE9A-43D7-9BDB-7C65E74FF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18D8-76E5-43EC-B2DD-C176A89F1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4 by Prentice-Hall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812D-A728-410A-B1DE-9C9C0C808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lobalreporting.org/Pages/default.aspx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nk_of_England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fC7ykLKy4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rporate_governanc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07732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hapter 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590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porate Social Audit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Sustain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triple bottom line report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BL reporting  : 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framework  for measuring and reporting corporate performance against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om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vironment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e from one dimensional economic reporting to three dimensional economic, social and environmental repor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088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onomic facto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ly accounting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l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ee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oci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ibery and corrup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 labo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and d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vironmental factor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ssions, and was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riple Bottom Line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(TB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BL reporting enables organization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easure and manage their financial and non-      financial  performance.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Have their performance and impacts demonstrated independentl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ommunicate  effectively   with   consumers,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governments, investors, employees, oth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stakeholders  and  supervisory  groups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90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is TBL reporting achieved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TBL reporting achieved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hrough the application of what is called th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lobal Report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Initiative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“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’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GR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“a common framework for sustainability reporting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https://www.globalreporting.org/Pages/default.asp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ed in 1997 by the combination for Environmentally Responsible Economies and the United N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371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orate Governanc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porate governanc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a set of relationships betwee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company’s manage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ar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structure through which objectives of the company are set, and the means of achieving those objectiv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prevent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rporate collaps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ron collap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23A6-E958-4632-B691-06DFEEDE4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nefits of  Corporate Governanc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access to external fi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costs of capital – interest rates on lo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company performance – sustain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r firm evaluation and share perform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2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d risk of corporate crisis and scan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096-69D9-4685-AB07-6B219CA5C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mporary corporate governanc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arted in 199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por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U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dbu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as the result of several high profile company collaps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r George Adrian Cadbury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a Director of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ank of Engl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“1970–1994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as Chairman of the UK Committee on the Financial Aspects of Corporate Governance which published its Report and Code of Best Practice (Cadbury Report and code of Best Practice) in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cember 199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82F-1241-461B-8B6C-ED2A46B98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db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ZfC7ykLKy4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18A4-AD73-4116-A5CF-867E8AE98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432080" y="2212920"/>
            <a:ext cx="597996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dbury Report 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238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adbury Repor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itle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inancial Aspects of Corporate Govern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s a report of a committee chaired by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drian Cadbury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sets out recommendations on the arrangement of company boards and accounting systems to lessen 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rporate govern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isks and failu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report's recommendations have been adopted in varying degree by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uropean Un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United Stat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oth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91A6-90BE-4DB8-AE24-189CE4C019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dbury Report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r use of independent dir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of audit committ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ion between Chairman and CE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rights of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e rights of  Stak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ly and accurate Disclo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4950-830D-4F6C-8E82-9AFDB9AA83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Governance Par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103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rehold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ose that own the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103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rect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Guardians of the Company’s assets for the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103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use the company’s ass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E88E-1727-4B83-8FED-5C3AB4650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our Principal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oun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r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par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61D6-D531-454F-9AB3-58F97381F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Accountabili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management is accountable to the Board of Dire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hat the Board of Directors is accountable to sharehold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2F30-30D8-41D9-9E5C-456005D0B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Fair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 Shareholder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 all shareholders including minorities, equitab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effective redress for vio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29B-5A4E-42B2-BD7D-9874E0498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Transpar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timely, accurate disclosure on all material matters, including the financial situation, performance, ownership and corporate govern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1F9A-9100-4B9E-99D0-D051302B7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Independ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Directors and Advisers.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ee from the influence of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D102-E530-4B6B-A306-19018290C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4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lement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of Corporate Govern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ood Board pract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 Enviro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ransparent Disclos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ell-defined shareholder righ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ard Commi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F63E-0551-4BD0-A443-367067FF5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1. Good Board Pract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rly defined roles and author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priate Board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or compensation in line with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ard self-evaluation and training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1E4-2C62-4016-ABBB-39C55720D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Definition of Social Auditing (SA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formal revie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measure the impact that a corporation has on its clients, staff and society as a who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The purpo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a social responsibility aud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o ensure that the company is doing all it can to support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on-tangible gai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h as employee satisfaction, community support and customer loyal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2. Control Enviro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control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ternal audit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s aud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pendent audit committee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ment Information systems esta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B398-CC64-4DF0-BB99-15EE3B5AEC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3. Transparent Discl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Information discl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Financial Information discl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s prepared according to International  Financial Reporting Standards (IF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-Quality annual report publis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8260-B2E8-4885-AD12-1DF5CE3FB1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4. Well-Defined Shareholder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rity shareholder rights formaliz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organized shareholder meetings condu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on extraordinary trans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rly defined dividend poli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0FF8-A793-4304-BA54-6D96F231A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5. Board Commi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oard has created a corporate governance committe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pany has a corporate governance champ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ppropriate resources are committed to corporate governance initiativ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licies and procedures have been formalized and distributed to relevant staf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2CEC-4693-4B27-A048-29D3713BB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is Social Auditing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SA can enhance an organization’s capacity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valuate their impact on stakehold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 how well they are living up to the values they promo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ll people what you are achiev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rove overall perform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decision-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2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A social audit looks at factors such a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mpany’s record of charitable giv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volunteer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energy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 enviro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spcBef>
                <a:spcPts val="649"/>
              </a:spcBef>
              <a:buClr>
                <a:srgbClr val="8eb4e3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Worker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spcBef>
                <a:spcPts val="601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alibri"/>
              </a:rPr>
              <a:t>Consumer protection</a:t>
            </a:r>
            <a:r>
              <a:rPr b="0" lang="en-US" sz="2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08000">
              <a:spcBef>
                <a:spcPts val="400"/>
              </a:spcBef>
              <a:buClr>
                <a:srgbClr val="cc33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Corporate Social Audi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28600" y="17521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e audits should be extended to include the </a:t>
            </a:r>
            <a:r>
              <a:rPr b="0" i="1" lang="en-US" sz="3200" spc="-1" strike="noStrike">
                <a:solidFill>
                  <a:srgbClr val="0000cc"/>
                </a:solidFill>
                <a:latin typeface="Calibri"/>
              </a:rPr>
              <a:t>moral heal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rpo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porations that conduct social audits will be more suitable to prevent unethical and illegal behaviors by managers, employees, and represent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838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Corporate sustainability 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s meeting the needs  of today’s stakeholders  in a manner that protects   the environment and resources needed for future generations, directed at improving a company’s </a:t>
            </a: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riple Bottom line (TB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1001"/>
              </a:spcBef>
              <a:spcAft>
                <a:spcPts val="7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00"/>
                </a:solidFill>
                <a:latin typeface="Calibri"/>
              </a:rPr>
              <a:t>The TB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counting framework that includes three dimensions of performanc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ocial, environmental and econom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ustain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le Bottom Line </a:t>
            </a:r>
            <a:r>
              <a:rPr b="1" lang="en-US" sz="3200" spc="-1" strike="noStrike">
                <a:solidFill>
                  <a:srgbClr val="669900"/>
                </a:solidFill>
                <a:latin typeface="Calibri"/>
              </a:rPr>
              <a:t>(TBL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made up o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People, Profit, Plane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00:17:46Z</dcterms:created>
  <dc:creator>Les Wiletzky, SPHR</dc:creator>
  <dc:description>07-19-2002
rev 12-31-2002</dc:description>
  <dc:language>en-US</dc:language>
  <cp:lastModifiedBy>User</cp:lastModifiedBy>
  <dcterms:modified xsi:type="dcterms:W3CDTF">2017-11-28T18:02:27Z</dcterms:modified>
  <cp:revision>145</cp:revision>
  <dc:subject>Cheeseman, Business Law 5e</dc:subject>
  <dc:title>Chapter 007 - Ethics &amp; Social Responsibility of Business</dc:title>
</cp:coreProperties>
</file>