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F90-8D68-4170-BFC7-E0692C7A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153-D77D-465A-ABAF-9ADB93B6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32E-05A6-4C1B-ACFF-EA3C341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2D5-2774-4FAF-AD5F-D68A84E7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CD7-224F-43A1-B818-E6D76625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91A7-B75C-4361-ADC8-76EA2BA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6412-64D2-42A9-A885-7793B97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847-E313-44E2-A6A5-B59129E6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68B-1A54-49E0-8567-7A98331A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90F-0CC5-4E8F-AC7F-DE54775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EDA-FC63-4E0F-A0B0-980441CB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8F4-6AC0-483B-910C-2E9D1206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9F74-947C-48E8-972C-3152C83C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F14-7188-42DD-8C5C-5D50517E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9E8E-5D6D-445A-B347-0372585D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9179-E80D-4995-A34F-34A7A7F2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A263-1697-4C8C-B8DD-769E8FF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86B3-113E-44F6-9220-5A94497D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D85F-210C-482C-BB66-9BE8A2A7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AF44-0FBB-40F2-931A-27D44F0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4280-C613-405A-98AC-9A36B33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31CE-656D-4D60-8508-9A6129A0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A0B-A06A-475B-AD90-AAEE3232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CD13-837F-499B-A9A6-55F34EBA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9BF6-2366-49DE-B41E-6398E75A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C595-87EE-45E3-A7CA-B5203BA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33E0-D90D-4D66-9D13-23D21792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2750-FEF5-4A49-B3DE-C3DFE56E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6E9A-7858-406D-A3D2-1A415204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24AA-5E7F-4658-967E-09FF70BC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3C71-5CAF-4E70-8FD4-A3321273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0F7C-5B36-4C59-BDA0-0053464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BB46-396D-4D5D-B137-B08F1447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2D2-9958-43BA-94C4-6009BFE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899F-BCA2-4073-968B-22B6FC9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BED0-5455-473E-BB7B-C7AF7B05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276E-5581-4152-8115-A492945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F13C-90F2-4BFE-BA54-90CFB82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3BC9-BDB9-4A6F-8DB2-B399CE81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5E27-D983-4A81-8483-55A9936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0379-2986-475D-9A07-EEDCC8F0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6C78-E0D9-4BC5-B819-8BAB12A3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08EA-0F62-498D-8C4B-6A6E4649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2A9F-9DB7-4CE3-86BA-6121FFB4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D93-8AFF-44BB-ABF6-353D9C4B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FCA3-C2C0-445C-8633-9EFCBFF1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579C-20C0-4202-8B85-538FEF54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973A-1A69-461F-B517-A5A5ECD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A6FD6-BC49-4DA0-968F-6D0EBDC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B529-958D-49E1-B860-A596879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966C-30B6-4244-9F57-BB20666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60DF-3192-423B-A4B6-82B2EBAC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185D1-FD30-49C3-A475-86F4BEE4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05A1-695C-492C-A9F0-FEB860A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7CD1-7A94-4ED4-92CD-83EE0B7C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D7B-0D22-43EA-82CB-A56A4215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2647-65FE-40E9-9A67-1188F6A7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B634-13A8-443A-9E27-25FEC218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1C05-1EA9-4AF2-8C89-F8705EC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B2E8-EB9F-47B6-9DBF-77C29E78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8360-36A8-43B3-9817-5B3E286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21CD-6F74-440C-A212-79BEAA02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2A1B-DD74-4BAC-A11E-FF508F1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3F4C8-516D-4B92-BE6D-857CEDE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93343-7042-45E6-8DCF-1EB7C0C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271D-559F-44AA-A023-985A25E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47F-9E96-4BF6-AC4A-19AA0F2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770B-B6B8-4D07-81FE-AB2DB6A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57FF9-D5EB-47A1-8242-0F8219FB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A5D73-CE54-46EF-8397-8BDAF038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8DB15-F030-4034-BD5A-FEA1F64D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FB35-F889-4A75-B0B7-76945FA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2A81A-7388-4C39-B9A9-640D38F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D3136-DB45-432B-97B2-0F903B57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599E-14AF-4C6F-9711-F3C14D3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6E74-EB1A-499F-B84F-C11746FA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F9F6C-3427-494D-8D51-0322F3C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B8D-0EA0-4EA5-A5F3-DB4D860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C1555-E172-40C0-BB03-07F0714F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D15B6-ACC1-403C-914D-CCF7D30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49A9-3F4B-4EAB-A681-8D0BDF4A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3571-5C4E-487B-9046-D7FFA222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A14F-9DFC-48E4-A922-41AC560D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97F58-A3A3-4BCB-AF41-A00B0151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198A9-E42B-45CB-80E6-960F7399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A9577-9947-4488-A10F-88697087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C0208-1529-4336-BB15-04DECB5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6522-05F8-414B-9475-351A374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3F1-083A-40BC-87FC-9152E6FF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9920F-9474-4234-B207-937AF838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04AF4-52E7-4B96-9612-FEBB62A5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829F-2C1A-496A-878F-700CA69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7C4D-5579-421E-B12E-8CDEEB8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60A2A-E219-482C-8F1B-2ACBB45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3DF6-B7E1-43BA-9802-7AD9C19F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C948-CFDA-4613-842C-F2D19C8B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7820-E1F0-47DE-A17B-DC15FEEB1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5591-4378-417B-8964-64E2E4F10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C862-0A8D-49F5-9DDC-A404DD83D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8A9D-E035-4380-853F-F15CB759A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8666-D2EE-4C51-BF48-DB7518ACB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4D85-CF24-4FA2-BA8C-9C645F7DD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6AE-46D6-41C2-B3EE-36B562DB2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745A-8F6F-48CA-A91D-3E164F9A4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nk_of_England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fC7ykLKy4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rporate_governanc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07732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590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porate governanc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a set of relationships betwe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mpany’s manag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ar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structure through which objectives of the company are set, and the means of achieving those objectiv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prevent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rporate collap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ron collap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4CE9-78ED-4FF8-B4A1-A4EC1EF14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ts of  Corporate Govern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access to external fi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costs of capital – interest rates on lo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company performance – sustain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firm evaluation and shar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risk of corporate crisis and scan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192-FBEA-4737-A2BE-47D1CB987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corporate governan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rted in 199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por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U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result of several high profile company collaps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r George Adrian Cadbury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a Director of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nk of Eng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“1970–1994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as Chairman of the UK Committee on the Financial Aspects of Corporate Governance which published its Report and Code of Best Practice (Cadbury Report and code of Best Practice) i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ember 199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8767-CA05-4760-B2CA-B6D7CCAE5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db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ZfC7ykLKy4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47C3-9DF1-494F-B499-F2193118D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dbury Report 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adbury Repor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itle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inancial Aspects of Corporate Govern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s a report of a committee chaired by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drian Cadbur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ets out recommendations on the arrangement of company boards and accounting systems to lessen 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rporate govern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isks and failu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eport's recommendations have been adopted in varying degree by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uropean U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United St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oth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B9C5-A1D0-4705-8013-84D33D7E7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bury Report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r use of independent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of audit committ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ion between Chairman and C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rights of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 rights of 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y and accurate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32C-15AD-4484-A534-1F9E7379C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 Pa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10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hold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ose that own the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103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Guardians of the Company’s assets for the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103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use the company’s ass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DD52-E685-4B6C-9CC5-C414F5194F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our Principal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oun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r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ar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CAAF-C01F-4EDA-ABF9-73875E3B0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Account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management is accountable to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the Board of Directors is accountable to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CA2C-4081-4758-A28A-6FEEE1B16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Fair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Shareholder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all shareholders including minorities, equitab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effective redress for vio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C968-66D6-4CD0-95C6-60BBB9D9E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Transpar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imely, accurate disclosure on all material matters, including the financial situation, performance, ownership and corporate gover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761-A7CA-4954-8834-5AA6E196F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Directors and Advisers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ee from the influence of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B29B-DAA1-4AFB-A786-4A87E2E5C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4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lement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ood Board pract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 Enviro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ransparent Disclos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ell-defined shareholder righ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ard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13F0-D409-44E4-AF70-C9EE65DEC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1. Good Board 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rly defined roles and author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priate Board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or compensation in line with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ard self-evaluation and train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39A-40DE-4E07-80C6-EA6877F64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formal revie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on-tangible ga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2. Control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control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ternal audi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s aud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audit committee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ment Information systems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1247-0F14-473F-A9EB-122B5429E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3. Transparent Discl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Information discl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Financial Information discl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s prepared according to International  Financial Reporting Standards (IF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-Quality annual report pu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49D8-0A65-4381-B097-9C9C5E213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4. Well-Defined Shareholder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rity shareholder rights formaliz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organized shareholder meetings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on extraordinary trans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rly defined dividend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3814-A772-4AFC-AE65-DDFD837EC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5. Board Comm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oard has created a corporate governance committ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pany has a corporate governance champ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ropriate resources are committed to corporate governance initiat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cies and procedures have been formalized and distributed to relevant staf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BC66-8C73-47E0-BF16-66E020C52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7-11-28T18:02:27Z</dcterms:modified>
  <cp:revision>145</cp:revision>
  <dc:subject>Cheeseman, Business Law 5e</dc:subject>
  <dc:title>Chapter 007 - Ethics &amp; Social Responsibility of Business</dc:title>
</cp:coreProperties>
</file>