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15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26.wmf" ContentType="image/x-wmf"/>
  <Override PartName="/ppt/media/image63.wmf" ContentType="image/x-wmf"/>
  <Override PartName="/ppt/media/image64.wmf" ContentType="image/x-wmf"/>
  <Override PartName="/ppt/media/image77.wmf" ContentType="image/x-wmf"/>
  <Override PartName="/ppt/media/image65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3.png" ContentType="image/png"/>
  <Override PartName="/ppt/media/image72.wmf" ContentType="image/x-wmf"/>
  <Override PartName="/ppt/media/image2.png" ContentType="image/png"/>
  <Override PartName="/ppt/media/image71.wmf" ContentType="image/x-wmf"/>
  <Override PartName="/ppt/media/image1.png" ContentType="image/png"/>
  <Override PartName="/ppt/media/image29.wmf" ContentType="image/x-wmf"/>
  <Override PartName="/ppt/media/image6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14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0E2-BCE1-4A03-9862-9594B483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BED-538A-49FB-8A16-0573673F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04A-CDCC-4109-87EA-825CDC76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CFDF-51F8-41EC-ABE9-F32336A2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D7E8-ADE6-40E5-BE32-60A3C17F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60C8-40F3-4BF4-B7AA-106F86B0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BC7F-C7E4-4968-9E9C-811B43BA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F93F-260E-451E-8493-1E30DDD5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B85B-A8B0-46A6-AF3C-AB685BF4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797C-94A0-4C52-ABE2-70622338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763E-C280-435A-AC71-A207BDFC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EA0-13AB-4A09-90E1-94A2C858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EC75-F8B9-4A28-8A3D-220880DD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0CD4-6F6E-4503-BF45-8E7F7ED9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D88F-0B87-4861-8D3D-E097073A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A9D8-37C0-4A11-8290-B62957A9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AD26-C4CF-45A5-A810-C5E0D94E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826EE-BB8A-4B95-A66D-B8A2C0A4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A1D1B-0570-4082-BD3F-C97B638E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4083C-DDE4-44F1-979D-16E54884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C6FE6-4C1C-428E-AAAD-78FE6F7C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5246D-D226-4964-AC16-373CEC4F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EA93-4F18-4EDB-B8E0-45708BDF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301E8-C723-41F2-9212-FAC6B7FF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80623-8F31-4757-8DDF-BE673B2B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B8E97-1101-4F87-9383-4143748B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3FE60-BAAA-4B80-9AC3-C6BD3429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98264-363A-4B8B-8E83-3AC3CCA8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7B889-2CEE-40CA-9FDF-F46963E3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EEA78-9CBF-4AEC-A8C8-BE8BD95B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C0E59-F729-4AEF-ABBF-724C2C16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639BD-B125-4F08-A72C-2B5BF615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1E5F8-51FA-4F7E-91B1-989CE769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93E7-ABFD-4494-B114-31224EE4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B5B74-73E1-46C8-910E-D3A9B30E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E9A06-CCD3-41E2-94BD-197C4117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6DA9F-4C82-4360-8709-BA6FDC52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C5C8A-D764-4632-A71C-A6A038AD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7284F-8967-43A9-8D00-E417B594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E32CB-2CF4-4DEB-BFE9-C0CFC745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4177F-2742-4DF2-A148-8EC96E67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B0F46-0AE4-4200-9B96-2DC9A8EF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EACF6-7AA0-4A11-A0FA-6A697C08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B97B0-9E17-4F2F-8CCF-2554DB74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A0DD-E3D5-49D7-8FD0-1BC8FB41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56B75-B4CA-4222-A893-FFCA3028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67B34-8D93-495D-A536-0B20A5A8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A51A0-0B44-41A9-8B37-F084AE52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AE1C6-DD5C-49A4-9BD6-4AD4E23D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56B36-93AD-47D8-A49A-BC1DCF0E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274C3-F1A1-47D3-9C6E-BC94BFA1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863C4-C7C5-49FC-8E4F-60312D68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61B4D-81E6-431B-B51E-057CB601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8C3E3-EBE2-4EDF-B663-73CBD7A7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4E627-29FC-46F1-B155-9093C8AC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7A17-9504-4922-B167-E1478020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E6197-4B91-4961-82FC-A141E41F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240F-E759-4448-B9BB-113BDCDD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D95C-CB8E-460C-A869-6CB32053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C039-EAC8-4C4D-91E3-E163418E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3C61-21E5-4247-92E2-83D1738C93F6}" type="slidenum">
              <a:rPr b="0" lang="ar-SA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BD54-2420-40B4-BB4C-9C04AFE6EE08}" type="slidenum">
              <a:rPr b="0" lang="ar-SA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دائرة مجوفة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914B-0134-4501-A157-5EC9E9498843}" type="slidenum">
              <a:rPr b="0" lang="ar-SA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دائرة مجوفة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AED1-2001-4C6F-AF68-E91E4B35E25A}" type="slidenum">
              <a:rPr b="0" lang="ar-SA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دائرة مجوفة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4367-69CA-443C-B98D-0C6575917394}" type="slidenum">
              <a:rPr b="0" lang="ar-SA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King Saud University</a:t>
            </a:r>
            <a:br>
              <a:rPr sz="3900"/>
            </a:b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Women Student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Gill Sans MT"/>
              </a:rPr>
              <a:t>Medical Studies &amp; Science Sections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Gill Sans MT"/>
              </a:rPr>
              <a:t>College of Science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r.  Lamiaa Diab &amp; Dr. Mona EL-Wake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3300" spc="-1" strike="noStrike">
                <a:solidFill>
                  <a:srgbClr val="000000"/>
                </a:solidFill>
                <a:latin typeface="Gill Sans MT"/>
              </a:rPr>
              <a:t>Department of Statistics and Operation 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Gill Sans MT"/>
              </a:rPr>
              <a:t>Research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Gill Sans MT"/>
              </a:rPr>
              <a:t>Lectures of Stat_324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Object 2"/>
          <p:cNvGraphicFramePr/>
          <p:nvPr/>
        </p:nvGraphicFramePr>
        <p:xfrm>
          <a:off x="928800" y="785880"/>
          <a:ext cx="9826560" cy="459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785880"/>
                    <a:ext cx="9826560" cy="45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Object 2"/>
          <p:cNvGraphicFramePr/>
          <p:nvPr/>
        </p:nvGraphicFramePr>
        <p:xfrm>
          <a:off x="360360" y="644400"/>
          <a:ext cx="8904240" cy="38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644400"/>
                    <a:ext cx="890424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Object 2"/>
          <p:cNvGraphicFramePr/>
          <p:nvPr/>
        </p:nvGraphicFramePr>
        <p:xfrm>
          <a:off x="1071720" y="785880"/>
          <a:ext cx="964404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785880"/>
                    <a:ext cx="964404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Object 2"/>
          <p:cNvGraphicFramePr/>
          <p:nvPr/>
        </p:nvGraphicFramePr>
        <p:xfrm>
          <a:off x="1004760" y="853920"/>
          <a:ext cx="9637920" cy="32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853920"/>
                    <a:ext cx="963792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Object 2"/>
          <p:cNvGraphicFramePr/>
          <p:nvPr/>
        </p:nvGraphicFramePr>
        <p:xfrm>
          <a:off x="-285840" y="1708200"/>
          <a:ext cx="10854000" cy="36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5840" y="1708200"/>
                    <a:ext cx="10854000" cy="36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Object 2"/>
          <p:cNvGraphicFramePr/>
          <p:nvPr/>
        </p:nvGraphicFramePr>
        <p:xfrm>
          <a:off x="-79200" y="1139760"/>
          <a:ext cx="9937440" cy="38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9200" y="1139760"/>
                    <a:ext cx="993744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Object 8"/>
          <p:cNvGraphicFramePr/>
          <p:nvPr/>
        </p:nvGraphicFramePr>
        <p:xfrm>
          <a:off x="-1592280" y="0"/>
          <a:ext cx="1259352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92280" y="0"/>
                    <a:ext cx="1259352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9"/>
          <p:cNvGraphicFramePr/>
          <p:nvPr/>
        </p:nvGraphicFramePr>
        <p:xfrm>
          <a:off x="-2143080" y="3073320"/>
          <a:ext cx="11990520" cy="307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2143080" y="3073320"/>
                    <a:ext cx="11990520" cy="30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Object 2"/>
          <p:cNvGraphicFramePr/>
          <p:nvPr/>
        </p:nvGraphicFramePr>
        <p:xfrm>
          <a:off x="214200" y="1071720"/>
          <a:ext cx="9237600" cy="48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071720"/>
                    <a:ext cx="923760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Object 1"/>
          <p:cNvGraphicFramePr/>
          <p:nvPr/>
        </p:nvGraphicFramePr>
        <p:xfrm>
          <a:off x="90360" y="1139760"/>
          <a:ext cx="8979120" cy="37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1139760"/>
                    <a:ext cx="897912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Object 2"/>
          <p:cNvGraphicFramePr/>
          <p:nvPr/>
        </p:nvGraphicFramePr>
        <p:xfrm>
          <a:off x="1214280" y="928800"/>
          <a:ext cx="757260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928800"/>
                    <a:ext cx="757260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 u="sng">
                <a:solidFill>
                  <a:srgbClr val="1c4853"/>
                </a:solidFill>
                <a:uFillTx/>
                <a:latin typeface="Gill Sans MT"/>
                <a:ea typeface="Times New Roman"/>
              </a:rPr>
              <a:t>CHAPTER 1</a:t>
            </a:r>
            <a:br>
              <a:rPr sz="4300"/>
            </a:br>
            <a:br>
              <a:rPr sz="4300"/>
            </a:br>
            <a:r>
              <a:rPr b="1" i="1" lang="en-US" sz="4300" spc="-1" strike="noStrike" u="sng">
                <a:solidFill>
                  <a:srgbClr val="1c4853"/>
                </a:solidFill>
                <a:uFillTx/>
                <a:latin typeface="Gill Sans MT"/>
                <a:ea typeface="Times New Roman"/>
              </a:rPr>
              <a:t>PROBABILIT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Object 2"/>
          <p:cNvGraphicFramePr/>
          <p:nvPr/>
        </p:nvGraphicFramePr>
        <p:xfrm>
          <a:off x="1143000" y="928800"/>
          <a:ext cx="757224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28800"/>
                    <a:ext cx="757224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Object 1"/>
          <p:cNvGraphicFramePr/>
          <p:nvPr/>
        </p:nvGraphicFramePr>
        <p:xfrm>
          <a:off x="1000080" y="785880"/>
          <a:ext cx="8543880" cy="50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785880"/>
                    <a:ext cx="854388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Object 1"/>
          <p:cNvGraphicFramePr/>
          <p:nvPr/>
        </p:nvGraphicFramePr>
        <p:xfrm>
          <a:off x="714240" y="1571760"/>
          <a:ext cx="864396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571760"/>
                    <a:ext cx="864396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Object 1"/>
          <p:cNvGraphicFramePr/>
          <p:nvPr/>
        </p:nvGraphicFramePr>
        <p:xfrm>
          <a:off x="1000080" y="500040"/>
          <a:ext cx="77342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500040"/>
                    <a:ext cx="77342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2"/>
          <p:cNvGraphicFramePr/>
          <p:nvPr/>
        </p:nvGraphicFramePr>
        <p:xfrm>
          <a:off x="0" y="2143080"/>
          <a:ext cx="9715680" cy="42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143080"/>
                    <a:ext cx="97156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Object 1"/>
          <p:cNvGraphicFramePr/>
          <p:nvPr/>
        </p:nvGraphicFramePr>
        <p:xfrm>
          <a:off x="1143000" y="642960"/>
          <a:ext cx="8358120" cy="56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42960"/>
                    <a:ext cx="8358120" cy="56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Object 1"/>
          <p:cNvGraphicFramePr/>
          <p:nvPr/>
        </p:nvGraphicFramePr>
        <p:xfrm>
          <a:off x="1000080" y="71280"/>
          <a:ext cx="8001000" cy="35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71280"/>
                    <a:ext cx="8001000" cy="35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2"/>
          <p:cNvGraphicFramePr/>
          <p:nvPr/>
        </p:nvGraphicFramePr>
        <p:xfrm>
          <a:off x="1193760" y="3571920"/>
          <a:ext cx="9522000" cy="22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3760" y="3571920"/>
                    <a:ext cx="9522000" cy="22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Object 2"/>
          <p:cNvGraphicFramePr/>
          <p:nvPr/>
        </p:nvGraphicFramePr>
        <p:xfrm>
          <a:off x="1268280" y="214200"/>
          <a:ext cx="758988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214200"/>
                    <a:ext cx="758988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3"/>
          <p:cNvGraphicFramePr/>
          <p:nvPr/>
        </p:nvGraphicFramePr>
        <p:xfrm>
          <a:off x="-785880" y="3467160"/>
          <a:ext cx="10929960" cy="310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85880" y="3467160"/>
                    <a:ext cx="109299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Object 2"/>
          <p:cNvGraphicFramePr/>
          <p:nvPr/>
        </p:nvGraphicFramePr>
        <p:xfrm>
          <a:off x="1071720" y="1071720"/>
          <a:ext cx="8429400" cy="35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071720"/>
                    <a:ext cx="8429400" cy="35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Object 2"/>
          <p:cNvGraphicFramePr/>
          <p:nvPr/>
        </p:nvGraphicFramePr>
        <p:xfrm>
          <a:off x="1143000" y="1071720"/>
          <a:ext cx="78580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71720"/>
                    <a:ext cx="78580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Object 2"/>
          <p:cNvGraphicFramePr/>
          <p:nvPr/>
        </p:nvGraphicFramePr>
        <p:xfrm>
          <a:off x="-1000080" y="1143000"/>
          <a:ext cx="1214424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00080" y="1143000"/>
                    <a:ext cx="1214424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1434960" y="42840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ill Sans MT"/>
                <a:ea typeface="Arial"/>
              </a:rPr>
              <a:t>Definitions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ill Sans MT"/>
                <a:ea typeface="Arial"/>
              </a:rPr>
              <a:t>1.1 Sample Space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s the set of all possible outcomes of a statistical experiment, which is denoted by the symbol S, which is called the sure event. Each outcome in a sample space is called an element or a member or a sample poi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Object 2"/>
          <p:cNvGraphicFramePr/>
          <p:nvPr/>
        </p:nvGraphicFramePr>
        <p:xfrm>
          <a:off x="1503360" y="571680"/>
          <a:ext cx="1049832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3360" y="571680"/>
                    <a:ext cx="1049832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Object 3"/>
          <p:cNvGraphicFramePr/>
          <p:nvPr/>
        </p:nvGraphicFramePr>
        <p:xfrm>
          <a:off x="1143000" y="925560"/>
          <a:ext cx="85726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25560"/>
                    <a:ext cx="85726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Object 2"/>
          <p:cNvGraphicFramePr/>
          <p:nvPr/>
        </p:nvGraphicFramePr>
        <p:xfrm>
          <a:off x="1000080" y="1214280"/>
          <a:ext cx="79358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214280"/>
                    <a:ext cx="79358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Object 2"/>
          <p:cNvGraphicFramePr/>
          <p:nvPr/>
        </p:nvGraphicFramePr>
        <p:xfrm>
          <a:off x="-214200" y="1003320"/>
          <a:ext cx="1092204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4200" y="1003320"/>
                    <a:ext cx="1092204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Object 2"/>
          <p:cNvGraphicFramePr/>
          <p:nvPr/>
        </p:nvGraphicFramePr>
        <p:xfrm>
          <a:off x="1214280" y="785880"/>
          <a:ext cx="1013796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785880"/>
                    <a:ext cx="1013796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2"/>
          <p:cNvGraphicFramePr/>
          <p:nvPr/>
        </p:nvGraphicFramePr>
        <p:xfrm>
          <a:off x="1214280" y="1063800"/>
          <a:ext cx="7750440" cy="38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063800"/>
                    <a:ext cx="7750440" cy="38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Object 2"/>
          <p:cNvGraphicFramePr/>
          <p:nvPr/>
        </p:nvGraphicFramePr>
        <p:xfrm>
          <a:off x="65160" y="1000080"/>
          <a:ext cx="8935920" cy="48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0" y="1000080"/>
                    <a:ext cx="8935920" cy="48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Object 2"/>
          <p:cNvGraphicFramePr/>
          <p:nvPr/>
        </p:nvGraphicFramePr>
        <p:xfrm>
          <a:off x="1143000" y="285840"/>
          <a:ext cx="8248680" cy="24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5840"/>
                    <a:ext cx="824868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Object 3"/>
          <p:cNvGraphicFramePr/>
          <p:nvPr/>
        </p:nvGraphicFramePr>
        <p:xfrm>
          <a:off x="-1357200" y="3357720"/>
          <a:ext cx="11349000" cy="25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357200" y="3357720"/>
                    <a:ext cx="113490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Object 3"/>
          <p:cNvGraphicFramePr/>
          <p:nvPr/>
        </p:nvGraphicFramePr>
        <p:xfrm>
          <a:off x="1143000" y="785880"/>
          <a:ext cx="8001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85880"/>
                    <a:ext cx="8001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1138320" y="785880"/>
          <a:ext cx="9362880" cy="52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785880"/>
                    <a:ext cx="936288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91440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Gill Sans MT"/>
                <a:ea typeface="Arial"/>
              </a:rPr>
              <a:t>EX (1)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  <a:ea typeface="Arial"/>
              </a:rPr>
              <a:t>Consider the experiment of tossing a die. If we are interested in the number that shows on the top face, the sample space would be: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  <a:ea typeface="Arial"/>
              </a:rPr>
              <a:t>S= {1, 2, 3, 4, 5, 6}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  <a:ea typeface="Arial"/>
              </a:rPr>
              <a:t>If we are interested only in whether the number is even or odd, the sample space is simply: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  <a:ea typeface="Arial"/>
              </a:rPr>
              <a:t>S= {even, odd}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Object 2"/>
          <p:cNvGraphicFramePr/>
          <p:nvPr/>
        </p:nvGraphicFramePr>
        <p:xfrm>
          <a:off x="-434880" y="434880"/>
          <a:ext cx="957888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34880" y="434880"/>
                    <a:ext cx="957888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Object 2"/>
          <p:cNvGraphicFramePr/>
          <p:nvPr/>
        </p:nvGraphicFramePr>
        <p:xfrm>
          <a:off x="1143000" y="638280"/>
          <a:ext cx="8001000" cy="49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38280"/>
                    <a:ext cx="800100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Object 2"/>
          <p:cNvGraphicFramePr/>
          <p:nvPr/>
        </p:nvGraphicFramePr>
        <p:xfrm>
          <a:off x="376200" y="285840"/>
          <a:ext cx="8481960" cy="59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285840"/>
                    <a:ext cx="8481960" cy="59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Object 2"/>
          <p:cNvGraphicFramePr/>
          <p:nvPr/>
        </p:nvGraphicFramePr>
        <p:xfrm>
          <a:off x="1071720" y="214200"/>
          <a:ext cx="8358120" cy="15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14200"/>
                    <a:ext cx="8358120" cy="15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3"/>
          <p:cNvGraphicFramePr/>
          <p:nvPr/>
        </p:nvGraphicFramePr>
        <p:xfrm>
          <a:off x="-1855800" y="1863720"/>
          <a:ext cx="12195360" cy="406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55800" y="1863720"/>
                    <a:ext cx="12195360" cy="40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Object 2"/>
          <p:cNvGraphicFramePr/>
          <p:nvPr/>
        </p:nvGraphicFramePr>
        <p:xfrm>
          <a:off x="500040" y="0"/>
          <a:ext cx="8829720" cy="27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0"/>
                    <a:ext cx="882972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4"/>
          <p:cNvGraphicFramePr/>
          <p:nvPr/>
        </p:nvGraphicFramePr>
        <p:xfrm>
          <a:off x="857160" y="3000240"/>
          <a:ext cx="8786880" cy="385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3000240"/>
                    <a:ext cx="878688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Object 2"/>
          <p:cNvGraphicFramePr/>
          <p:nvPr/>
        </p:nvGraphicFramePr>
        <p:xfrm>
          <a:off x="209520" y="719280"/>
          <a:ext cx="8650440" cy="57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19280"/>
                    <a:ext cx="8650440" cy="57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Object 2"/>
          <p:cNvGraphicFramePr/>
          <p:nvPr/>
        </p:nvGraphicFramePr>
        <p:xfrm>
          <a:off x="1071720" y="1143000"/>
          <a:ext cx="7858080" cy="45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143000"/>
                    <a:ext cx="785808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Object 1"/>
          <p:cNvGraphicFramePr/>
          <p:nvPr/>
        </p:nvGraphicFramePr>
        <p:xfrm>
          <a:off x="1093680" y="760320"/>
          <a:ext cx="8264520" cy="567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3680" y="760320"/>
                    <a:ext cx="8264520" cy="567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1"/>
          <p:cNvGraphicFramePr/>
          <p:nvPr/>
        </p:nvGraphicFramePr>
        <p:xfrm>
          <a:off x="1000080" y="714240"/>
          <a:ext cx="8929800" cy="27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714240"/>
                    <a:ext cx="892980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2"/>
          <p:cNvGraphicFramePr/>
          <p:nvPr/>
        </p:nvGraphicFramePr>
        <p:xfrm>
          <a:off x="1214280" y="4143240"/>
          <a:ext cx="9083880" cy="20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4143240"/>
                    <a:ext cx="908388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1"/>
          <p:cNvGraphicFramePr/>
          <p:nvPr/>
        </p:nvGraphicFramePr>
        <p:xfrm>
          <a:off x="1071720" y="714240"/>
          <a:ext cx="8215200" cy="25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714240"/>
                    <a:ext cx="8215200" cy="25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2"/>
          <p:cNvGraphicFramePr/>
          <p:nvPr/>
        </p:nvGraphicFramePr>
        <p:xfrm>
          <a:off x="142920" y="3857760"/>
          <a:ext cx="9715320" cy="142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920" y="3857760"/>
                    <a:ext cx="9715320" cy="14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Gill Sans MT"/>
                <a:ea typeface="Times New Roman"/>
              </a:rPr>
              <a:t>EX (2):</a:t>
            </a: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The sample space of tossing a coin </a:t>
            </a: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3</a:t>
            </a:r>
            <a:r>
              <a:rPr b="0" lang="en-US" sz="43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times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S= {HHH, HHT, THH, HTH, HTT, TTH, THT, TTT}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Object 2"/>
          <p:cNvGraphicFramePr/>
          <p:nvPr/>
        </p:nvGraphicFramePr>
        <p:xfrm>
          <a:off x="1135080" y="1571760"/>
          <a:ext cx="8008920" cy="39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5080" y="1571760"/>
                    <a:ext cx="800892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Object 1"/>
          <p:cNvGraphicFramePr/>
          <p:nvPr/>
        </p:nvGraphicFramePr>
        <p:xfrm>
          <a:off x="1071720" y="571680"/>
          <a:ext cx="7815240" cy="17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571680"/>
                    <a:ext cx="781524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5" name="Object 2"/>
              <p:cNvSpPr txBox="1"/>
              <p:nvPr/>
            </p:nvSpPr>
            <p:spPr>
              <a:xfrm>
                <a:off x="955800" y="2643120"/>
                <a:ext cx="818820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∩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∪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∩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Object 1"/>
          <p:cNvGraphicFramePr/>
          <p:nvPr/>
        </p:nvGraphicFramePr>
        <p:xfrm>
          <a:off x="1071720" y="571680"/>
          <a:ext cx="7945200" cy="17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571680"/>
                    <a:ext cx="794520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2"/>
          <p:cNvGraphicFramePr/>
          <p:nvPr/>
        </p:nvGraphicFramePr>
        <p:xfrm>
          <a:off x="1000080" y="2443320"/>
          <a:ext cx="9072720" cy="391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2443320"/>
                    <a:ext cx="9072720" cy="39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Object 6"/>
          <p:cNvGraphicFramePr/>
          <p:nvPr/>
        </p:nvGraphicFramePr>
        <p:xfrm>
          <a:off x="1042920" y="428760"/>
          <a:ext cx="10601280" cy="19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28760"/>
                    <a:ext cx="10601280" cy="19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8"/>
          <p:cNvGraphicFramePr/>
          <p:nvPr/>
        </p:nvGraphicFramePr>
        <p:xfrm>
          <a:off x="1143000" y="2786040"/>
          <a:ext cx="7794720" cy="36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786040"/>
                    <a:ext cx="779472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1"/>
          <p:cNvGraphicFramePr/>
          <p:nvPr/>
        </p:nvGraphicFramePr>
        <p:xfrm>
          <a:off x="149400" y="644400"/>
          <a:ext cx="10269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644400"/>
                    <a:ext cx="10269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Object 1"/>
          <p:cNvGraphicFramePr/>
          <p:nvPr/>
        </p:nvGraphicFramePr>
        <p:xfrm>
          <a:off x="357120" y="793800"/>
          <a:ext cx="8805960" cy="54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793800"/>
                    <a:ext cx="8805960" cy="54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Object 1"/>
          <p:cNvGraphicFramePr/>
          <p:nvPr/>
        </p:nvGraphicFramePr>
        <p:xfrm>
          <a:off x="1071720" y="357120"/>
          <a:ext cx="9001080" cy="664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357120"/>
                    <a:ext cx="9001080" cy="66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Object 1"/>
          <p:cNvGraphicFramePr/>
          <p:nvPr/>
        </p:nvGraphicFramePr>
        <p:xfrm>
          <a:off x="-71280" y="785880"/>
          <a:ext cx="10144080" cy="55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1280" y="785880"/>
                    <a:ext cx="10144080" cy="55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Object 1"/>
          <p:cNvGraphicFramePr/>
          <p:nvPr/>
        </p:nvGraphicFramePr>
        <p:xfrm>
          <a:off x="1322280" y="2143080"/>
          <a:ext cx="90360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2280" y="2143080"/>
                    <a:ext cx="903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Object 1"/>
          <p:cNvGraphicFramePr/>
          <p:nvPr/>
        </p:nvGraphicFramePr>
        <p:xfrm>
          <a:off x="1106640" y="285840"/>
          <a:ext cx="10037520" cy="20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285840"/>
                    <a:ext cx="1003752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2"/>
          <p:cNvGraphicFramePr/>
          <p:nvPr/>
        </p:nvGraphicFramePr>
        <p:xfrm>
          <a:off x="1343160" y="2903400"/>
          <a:ext cx="9015120" cy="271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3160" y="2903400"/>
                    <a:ext cx="901512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Gill Sans MT"/>
                <a:ea typeface="Times New Roman"/>
              </a:rPr>
              <a:t>EX (3):</a:t>
            </a: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S= {X|X+2=0} = {-2}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Object 1"/>
          <p:cNvGraphicFramePr/>
          <p:nvPr/>
        </p:nvGraphicFramePr>
        <p:xfrm>
          <a:off x="1324080" y="1708200"/>
          <a:ext cx="9462960" cy="37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4080" y="1708200"/>
                    <a:ext cx="946296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Object 1"/>
          <p:cNvGraphicFramePr/>
          <p:nvPr/>
        </p:nvGraphicFramePr>
        <p:xfrm>
          <a:off x="0" y="571680"/>
          <a:ext cx="8996400" cy="47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71680"/>
                    <a:ext cx="899640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Object 2"/>
          <p:cNvGraphicFramePr/>
          <p:nvPr/>
        </p:nvGraphicFramePr>
        <p:xfrm>
          <a:off x="1071720" y="1214280"/>
          <a:ext cx="8001000" cy="45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214280"/>
                    <a:ext cx="800100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Object 2"/>
          <p:cNvGraphicFramePr/>
          <p:nvPr/>
        </p:nvGraphicFramePr>
        <p:xfrm>
          <a:off x="1209600" y="428760"/>
          <a:ext cx="8005680" cy="20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9600" y="428760"/>
                    <a:ext cx="800568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8"/>
          <p:cNvGraphicFramePr/>
          <p:nvPr/>
        </p:nvGraphicFramePr>
        <p:xfrm>
          <a:off x="1000080" y="2428920"/>
          <a:ext cx="8640720" cy="242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2428920"/>
                    <a:ext cx="864072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Object 1"/>
          <p:cNvGraphicFramePr/>
          <p:nvPr/>
        </p:nvGraphicFramePr>
        <p:xfrm>
          <a:off x="-1214280" y="1428840"/>
          <a:ext cx="11215440" cy="41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4280" y="1428840"/>
                    <a:ext cx="1121544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Object 1"/>
          <p:cNvGraphicFramePr/>
          <p:nvPr/>
        </p:nvGraphicFramePr>
        <p:xfrm>
          <a:off x="149400" y="1000080"/>
          <a:ext cx="963900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1000080"/>
                    <a:ext cx="963900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Object 1"/>
          <p:cNvGraphicFramePr/>
          <p:nvPr/>
        </p:nvGraphicFramePr>
        <p:xfrm>
          <a:off x="554040" y="1363680"/>
          <a:ext cx="8589960" cy="32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1363680"/>
                    <a:ext cx="858996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Object 1"/>
          <p:cNvGraphicFramePr/>
          <p:nvPr/>
        </p:nvGraphicFramePr>
        <p:xfrm>
          <a:off x="571680" y="393840"/>
          <a:ext cx="8786520" cy="61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393840"/>
                    <a:ext cx="8786520" cy="61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64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1" lang="en-US" sz="3900" spc="-1" strike="noStrike" u="sng">
                <a:solidFill>
                  <a:srgbClr val="000000"/>
                </a:solidFill>
                <a:uFillTx/>
                <a:latin typeface="Gill Sans MT"/>
                <a:ea typeface="Times New Roman"/>
              </a:rPr>
              <a:t>1.2</a:t>
            </a:r>
            <a:r>
              <a:rPr b="1" lang="ar-SA" sz="3900" spc="-1" strike="noStrike" u="sng">
                <a:solidFill>
                  <a:srgbClr val="000000"/>
                </a:solidFill>
                <a:uFillTx/>
                <a:latin typeface="Gill Sans MT"/>
                <a:ea typeface="Times New Roman"/>
              </a:rPr>
              <a:t> </a:t>
            </a:r>
            <a:r>
              <a:rPr b="1" lang="en-US" sz="3900" spc="-1" strike="noStrike" u="sng">
                <a:solidFill>
                  <a:srgbClr val="000000"/>
                </a:solidFill>
                <a:uFillTx/>
                <a:latin typeface="Gill Sans MT"/>
                <a:ea typeface="Times New Roman"/>
              </a:rPr>
              <a:t>Events: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n event A is a subset of a sample space, that is . For instance, when a die is tossed, then the sample space is {1,2,3,4,5,6}. If the event </a:t>
            </a:r>
            <a:r>
              <a:rPr b="1" lang="en-US" sz="39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is concerned with the elements that divisible by </a:t>
            </a:r>
            <a:r>
              <a:rPr b="1" lang="en-US" sz="39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3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such that 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={3,6}, then </a:t>
            </a:r>
            <a:r>
              <a:rPr b="0" lang="ar-SA" sz="39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           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.</a:t>
            </a:r>
            <a:br>
              <a:rPr sz="3900"/>
            </a:b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19144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7880" y="3642840"/>
            <a:ext cx="82360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en-US" sz="3900" spc="-1" strike="noStrike" u="sng">
                <a:solidFill>
                  <a:srgbClr val="000000"/>
                </a:solidFill>
                <a:uFillTx/>
                <a:latin typeface="Gill Sans MT"/>
                <a:ea typeface="Times New Roman"/>
              </a:rPr>
              <a:t>Notice: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     S , S      S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267" name="مجموعة 7"/>
          <p:cNvGrpSpPr/>
          <p:nvPr/>
        </p:nvGrpSpPr>
        <p:grpSpPr>
          <a:xfrm>
            <a:off x="3286080" y="5072040"/>
            <a:ext cx="2411280" cy="784080"/>
            <a:chOff x="3286080" y="5072040"/>
            <a:chExt cx="2411280" cy="784080"/>
          </a:xfrm>
        </p:grpSpPr>
        <p:pic>
          <p:nvPicPr>
            <p:cNvPr id="268" name="Picture 4" descr=""/>
            <p:cNvPicPr/>
            <p:nvPr/>
          </p:nvPicPr>
          <p:blipFill>
            <a:blip r:embed="rId1"/>
            <a:stretch/>
          </p:blipFill>
          <p:spPr>
            <a:xfrm>
              <a:off x="4906800" y="5072040"/>
              <a:ext cx="79056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" descr=""/>
            <p:cNvPicPr/>
            <p:nvPr/>
          </p:nvPicPr>
          <p:blipFill>
            <a:blip r:embed="rId2"/>
            <a:stretch/>
          </p:blipFill>
          <p:spPr>
            <a:xfrm>
              <a:off x="3286080" y="5094360"/>
              <a:ext cx="79056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مربع نص 6"/>
          <p:cNvSpPr/>
          <p:nvPr/>
        </p:nvSpPr>
        <p:spPr>
          <a:xfrm>
            <a:off x="1143000" y="500040"/>
            <a:ext cx="7072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 (4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t which contains no elements at all is called then null hypothesis denoted by  which is called the impossible event. For instanc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{X|X is an even factor of 7}, then B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{ 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Object 4"/>
          <p:cNvGraphicFramePr/>
          <p:nvPr/>
        </p:nvGraphicFramePr>
        <p:xfrm>
          <a:off x="214200" y="716040"/>
          <a:ext cx="972504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716040"/>
                    <a:ext cx="972504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20:08:40Z</dcterms:created>
  <dc:creator>Dell</dc:creator>
  <dc:description/>
  <dc:language>en-US</dc:language>
  <cp:lastModifiedBy>ksu</cp:lastModifiedBy>
  <dcterms:modified xsi:type="dcterms:W3CDTF">2012-02-21T08:48:25Z</dcterms:modified>
  <cp:revision>150</cp:revision>
  <dc:subject/>
  <dc:title>King Saud University Women Students</dc:title>
</cp:coreProperties>
</file>