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15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26.wmf" ContentType="image/x-wmf"/>
  <Override PartName="/ppt/media/image63.wmf" ContentType="image/x-wmf"/>
  <Override PartName="/ppt/media/image64.wmf" ContentType="image/x-wmf"/>
  <Override PartName="/ppt/media/image77.wmf" ContentType="image/x-wmf"/>
  <Override PartName="/ppt/media/image65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3.png" ContentType="image/png"/>
  <Override PartName="/ppt/media/image72.wmf" ContentType="image/x-wmf"/>
  <Override PartName="/ppt/media/image2.png" ContentType="image/png"/>
  <Override PartName="/ppt/media/image71.wmf" ContentType="image/x-wmf"/>
  <Override PartName="/ppt/media/image1.png" ContentType="image/png"/>
  <Override PartName="/ppt/media/image29.wmf" ContentType="image/x-wmf"/>
  <Override PartName="/ppt/media/image6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14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705C-2E56-4BFC-92C4-075C486A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3A02-27C8-4B6A-A462-45F4794C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9CC3-2994-4A32-9795-DB4DC53A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31CC-A107-49E8-8F9D-EBF8E58A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E21B-9D2E-46BC-8CDE-F5DBB0F5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78E4-1482-499D-A984-67DD2D84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CA19-7A95-4873-8C20-5C1DDF06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788D-F7C8-4780-88D7-6CF309DA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A215-B59A-41B5-BAE9-9D1C68CD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833B-9466-40DB-BBB3-BFCFA5D6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8094-7940-4F46-972C-E25E1830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5613-8D57-4120-96C1-1E4629F8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26E6-E286-4B67-B4DD-1C6DEB54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B7CC-B7D4-44DE-9405-95B66AB0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9F50-C002-468D-ABE5-C0FC1AC6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2D3D-8945-49D3-AEFA-F0B51FAA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B71F-A065-4AD8-9113-879A0553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3E8A6-7E06-4E29-BA54-3D01C08A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8FD5D-862F-4F42-AD0A-15D0A32D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149BD-7EF0-45B0-899F-97B56C0D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73CBD-114C-478A-9943-50C361D7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37CC6-F84D-4769-913A-D49F9C33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A51C-F172-4382-A14A-E84749BC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EA1A3-11FD-4A0F-BBEC-182BAA15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9364A-3762-4C66-B860-2D27F0A0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357A8-DD44-49B3-A655-37AEF768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14234-108D-488D-83FA-3E934D25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263F6-06F8-497A-AFCD-DF36354F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EAE78-87AE-4AFE-8777-406D3BC2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F27B9-5BC4-4FA1-AB36-DAD7522E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2A7FD-42D8-4B4F-9F3D-E0F502F1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F6423-29FB-4F29-B64E-AC2F44AC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4BA82-0A56-49C3-A4E5-94991C35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72BB-D36A-4D0B-8389-10E38A31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A9320-61A8-4BF9-AC62-9D9F01F3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56ACE-0DDA-422D-8703-68186397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2E936-C05C-4533-92D4-226FB5D5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CE526-CB7E-40E1-AD0B-D6951C08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52032-4B6B-4F29-BDE3-44C8FEE0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F5165-3CC0-4A8B-949F-9704D909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1493A-0203-4A4F-93B9-90188EB1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27781-4C85-4B1D-A20F-34D8C333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AEEE2-0DC3-42DD-A400-71723786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E9D2E-D316-4B31-9561-18990169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7FC4-77B9-4E45-8D8B-1322B916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8CF3E-1859-4559-ABB3-7A34F31B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C3278-6C9D-46EF-AF6D-A47EC689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9BF78-4412-4D89-AF41-79D4BBF6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17D24-DB6C-40D0-8D57-4B299325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0C9C1-A1D7-4BDC-975E-64FE6885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1B18C-0671-4E08-965C-01FF525D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EF36F-A2B1-4641-86BC-74EBC90D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087EA-D48B-4D01-B29D-D81E7D6A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E8A24-CD52-475D-BF99-6EA5C4FE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7D638-1616-4225-B6EB-6B7597D8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5C3C-FA1C-492B-B0F6-D7442089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B2A64-44B5-40CF-86B6-62A69993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9F04-FF18-4993-A1FC-2EDF9131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D7D4-B5E8-4C0D-955A-CCDE0FE3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FDD-CA68-455B-8FBA-9ED819D7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63FC-4A1E-4E09-A3C3-877654C2A2A8}" type="slidenum">
              <a:rPr b="0" lang="ar-SA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3725-2F90-4A71-B9F2-5444E4C88EA0}" type="slidenum">
              <a:rPr b="0" lang="ar-SA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دائرة مجوفة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1A00-6708-4FEE-B2F4-33E3F1DBDA6D}" type="slidenum">
              <a:rPr b="0" lang="ar-SA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دائرة مجوفة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EAD3-3F9A-4D41-8360-81467C5EDD13}" type="slidenum">
              <a:rPr b="0" lang="ar-SA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دائرة مجوفة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B587-2ADC-4D1F-AB9E-5626124AFD47}" type="slidenum">
              <a:rPr b="0" lang="ar-SA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King Saud University</a:t>
            </a:r>
            <a:br>
              <a:rPr sz="3900"/>
            </a:b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Women Student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Gill Sans MT"/>
              </a:rPr>
              <a:t>Medical Studies &amp; Science Sections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Gill Sans MT"/>
              </a:rPr>
              <a:t>College of Science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r.  Lamiaa Diab &amp; Dr. Mona EL-Wake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3300" spc="-1" strike="noStrike">
                <a:solidFill>
                  <a:srgbClr val="000000"/>
                </a:solidFill>
                <a:latin typeface="Gill Sans MT"/>
              </a:rPr>
              <a:t>Department of Statistics and Operation 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Gill Sans MT"/>
              </a:rPr>
              <a:t>Research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Gill Sans MT"/>
              </a:rPr>
              <a:t>Lectures of Stat_324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Object 2"/>
          <p:cNvGraphicFramePr/>
          <p:nvPr/>
        </p:nvGraphicFramePr>
        <p:xfrm>
          <a:off x="928800" y="785880"/>
          <a:ext cx="9826560" cy="459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785880"/>
                    <a:ext cx="9826560" cy="45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Object 2"/>
          <p:cNvGraphicFramePr/>
          <p:nvPr/>
        </p:nvGraphicFramePr>
        <p:xfrm>
          <a:off x="360360" y="644400"/>
          <a:ext cx="8904240" cy="38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644400"/>
                    <a:ext cx="890424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Object 2"/>
          <p:cNvGraphicFramePr/>
          <p:nvPr/>
        </p:nvGraphicFramePr>
        <p:xfrm>
          <a:off x="1071720" y="785880"/>
          <a:ext cx="964404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785880"/>
                    <a:ext cx="964404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Object 2"/>
          <p:cNvGraphicFramePr/>
          <p:nvPr/>
        </p:nvGraphicFramePr>
        <p:xfrm>
          <a:off x="1004760" y="853920"/>
          <a:ext cx="9637920" cy="32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853920"/>
                    <a:ext cx="963792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Object 2"/>
          <p:cNvGraphicFramePr/>
          <p:nvPr/>
        </p:nvGraphicFramePr>
        <p:xfrm>
          <a:off x="-285840" y="1708200"/>
          <a:ext cx="10854000" cy="36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5840" y="1708200"/>
                    <a:ext cx="10854000" cy="36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Object 2"/>
          <p:cNvGraphicFramePr/>
          <p:nvPr/>
        </p:nvGraphicFramePr>
        <p:xfrm>
          <a:off x="-79200" y="1139760"/>
          <a:ext cx="9937440" cy="38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9200" y="1139760"/>
                    <a:ext cx="993744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Object 8"/>
          <p:cNvGraphicFramePr/>
          <p:nvPr/>
        </p:nvGraphicFramePr>
        <p:xfrm>
          <a:off x="-1592280" y="0"/>
          <a:ext cx="1259352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92280" y="0"/>
                    <a:ext cx="1259352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9"/>
          <p:cNvGraphicFramePr/>
          <p:nvPr/>
        </p:nvGraphicFramePr>
        <p:xfrm>
          <a:off x="-2143080" y="3073320"/>
          <a:ext cx="11990520" cy="307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2143080" y="3073320"/>
                    <a:ext cx="11990520" cy="30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Object 2"/>
          <p:cNvGraphicFramePr/>
          <p:nvPr/>
        </p:nvGraphicFramePr>
        <p:xfrm>
          <a:off x="214200" y="1071720"/>
          <a:ext cx="9237600" cy="48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071720"/>
                    <a:ext cx="923760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Object 1"/>
          <p:cNvGraphicFramePr/>
          <p:nvPr/>
        </p:nvGraphicFramePr>
        <p:xfrm>
          <a:off x="90360" y="1139760"/>
          <a:ext cx="8979120" cy="37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1139760"/>
                    <a:ext cx="897912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Object 2"/>
          <p:cNvGraphicFramePr/>
          <p:nvPr/>
        </p:nvGraphicFramePr>
        <p:xfrm>
          <a:off x="1214280" y="928800"/>
          <a:ext cx="757260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928800"/>
                    <a:ext cx="757260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 u="sng">
                <a:solidFill>
                  <a:srgbClr val="1c4853"/>
                </a:solidFill>
                <a:uFillTx/>
                <a:latin typeface="Gill Sans MT"/>
                <a:ea typeface="Times New Roman"/>
              </a:rPr>
              <a:t>CHAPTER 1</a:t>
            </a:r>
            <a:br>
              <a:rPr sz="4300"/>
            </a:br>
            <a:br>
              <a:rPr sz="4300"/>
            </a:br>
            <a:r>
              <a:rPr b="1" i="1" lang="en-US" sz="4300" spc="-1" strike="noStrike" u="sng">
                <a:solidFill>
                  <a:srgbClr val="1c4853"/>
                </a:solidFill>
                <a:uFillTx/>
                <a:latin typeface="Gill Sans MT"/>
                <a:ea typeface="Times New Roman"/>
              </a:rPr>
              <a:t>PROBABILIT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Object 2"/>
          <p:cNvGraphicFramePr/>
          <p:nvPr/>
        </p:nvGraphicFramePr>
        <p:xfrm>
          <a:off x="1143000" y="928800"/>
          <a:ext cx="757224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28800"/>
                    <a:ext cx="757224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Object 1"/>
          <p:cNvGraphicFramePr/>
          <p:nvPr/>
        </p:nvGraphicFramePr>
        <p:xfrm>
          <a:off x="1000080" y="785880"/>
          <a:ext cx="8543880" cy="50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785880"/>
                    <a:ext cx="854388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Object 1"/>
          <p:cNvGraphicFramePr/>
          <p:nvPr/>
        </p:nvGraphicFramePr>
        <p:xfrm>
          <a:off x="714240" y="1571760"/>
          <a:ext cx="864396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571760"/>
                    <a:ext cx="864396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Object 1"/>
          <p:cNvGraphicFramePr/>
          <p:nvPr/>
        </p:nvGraphicFramePr>
        <p:xfrm>
          <a:off x="1000080" y="500040"/>
          <a:ext cx="77342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500040"/>
                    <a:ext cx="77342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2"/>
          <p:cNvGraphicFramePr/>
          <p:nvPr/>
        </p:nvGraphicFramePr>
        <p:xfrm>
          <a:off x="0" y="2143080"/>
          <a:ext cx="9715680" cy="42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143080"/>
                    <a:ext cx="97156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Object 1"/>
          <p:cNvGraphicFramePr/>
          <p:nvPr/>
        </p:nvGraphicFramePr>
        <p:xfrm>
          <a:off x="1143000" y="642960"/>
          <a:ext cx="8358120" cy="56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42960"/>
                    <a:ext cx="8358120" cy="56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Object 1"/>
          <p:cNvGraphicFramePr/>
          <p:nvPr/>
        </p:nvGraphicFramePr>
        <p:xfrm>
          <a:off x="1000080" y="71280"/>
          <a:ext cx="8001000" cy="35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71280"/>
                    <a:ext cx="8001000" cy="35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2"/>
          <p:cNvGraphicFramePr/>
          <p:nvPr/>
        </p:nvGraphicFramePr>
        <p:xfrm>
          <a:off x="1193760" y="3571920"/>
          <a:ext cx="9522000" cy="22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3760" y="3571920"/>
                    <a:ext cx="9522000" cy="22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Object 2"/>
          <p:cNvGraphicFramePr/>
          <p:nvPr/>
        </p:nvGraphicFramePr>
        <p:xfrm>
          <a:off x="1268280" y="214200"/>
          <a:ext cx="758988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214200"/>
                    <a:ext cx="758988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3"/>
          <p:cNvGraphicFramePr/>
          <p:nvPr/>
        </p:nvGraphicFramePr>
        <p:xfrm>
          <a:off x="-785880" y="3467160"/>
          <a:ext cx="10929960" cy="310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85880" y="3467160"/>
                    <a:ext cx="109299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Object 2"/>
          <p:cNvGraphicFramePr/>
          <p:nvPr/>
        </p:nvGraphicFramePr>
        <p:xfrm>
          <a:off x="1071720" y="1071720"/>
          <a:ext cx="8429400" cy="35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071720"/>
                    <a:ext cx="8429400" cy="35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Object 2"/>
          <p:cNvGraphicFramePr/>
          <p:nvPr/>
        </p:nvGraphicFramePr>
        <p:xfrm>
          <a:off x="1143000" y="1071720"/>
          <a:ext cx="78580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71720"/>
                    <a:ext cx="78580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Object 2"/>
          <p:cNvGraphicFramePr/>
          <p:nvPr/>
        </p:nvGraphicFramePr>
        <p:xfrm>
          <a:off x="-1000080" y="1143000"/>
          <a:ext cx="1214424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00080" y="1143000"/>
                    <a:ext cx="1214424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1434960" y="42840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ill Sans MT"/>
                <a:ea typeface="Arial"/>
              </a:rPr>
              <a:t>Definitions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ill Sans MT"/>
                <a:ea typeface="Arial"/>
              </a:rPr>
              <a:t>1.1 Sample Space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s the set of all possible outcomes of a statistical experiment, which is denoted by the symbol S, which is called the sure event. Each outcome in a sample space is called an element or a member or a sample poi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Object 2"/>
          <p:cNvGraphicFramePr/>
          <p:nvPr/>
        </p:nvGraphicFramePr>
        <p:xfrm>
          <a:off x="1503360" y="571680"/>
          <a:ext cx="1049832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3360" y="571680"/>
                    <a:ext cx="1049832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Object 3"/>
          <p:cNvGraphicFramePr/>
          <p:nvPr/>
        </p:nvGraphicFramePr>
        <p:xfrm>
          <a:off x="1143000" y="925560"/>
          <a:ext cx="85726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25560"/>
                    <a:ext cx="85726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Object 2"/>
          <p:cNvGraphicFramePr/>
          <p:nvPr/>
        </p:nvGraphicFramePr>
        <p:xfrm>
          <a:off x="1000080" y="1214280"/>
          <a:ext cx="79358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214280"/>
                    <a:ext cx="79358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Object 2"/>
          <p:cNvGraphicFramePr/>
          <p:nvPr/>
        </p:nvGraphicFramePr>
        <p:xfrm>
          <a:off x="-214200" y="1003320"/>
          <a:ext cx="1092204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4200" y="1003320"/>
                    <a:ext cx="1092204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Object 2"/>
          <p:cNvGraphicFramePr/>
          <p:nvPr/>
        </p:nvGraphicFramePr>
        <p:xfrm>
          <a:off x="1214280" y="785880"/>
          <a:ext cx="1013796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785880"/>
                    <a:ext cx="1013796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2"/>
          <p:cNvGraphicFramePr/>
          <p:nvPr/>
        </p:nvGraphicFramePr>
        <p:xfrm>
          <a:off x="1214280" y="1063800"/>
          <a:ext cx="7750440" cy="38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063800"/>
                    <a:ext cx="7750440" cy="38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Object 2"/>
          <p:cNvGraphicFramePr/>
          <p:nvPr/>
        </p:nvGraphicFramePr>
        <p:xfrm>
          <a:off x="65160" y="1000080"/>
          <a:ext cx="8935920" cy="48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0" y="1000080"/>
                    <a:ext cx="8935920" cy="48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Object 2"/>
          <p:cNvGraphicFramePr/>
          <p:nvPr/>
        </p:nvGraphicFramePr>
        <p:xfrm>
          <a:off x="1143000" y="285840"/>
          <a:ext cx="8248680" cy="24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5840"/>
                    <a:ext cx="824868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Object 3"/>
          <p:cNvGraphicFramePr/>
          <p:nvPr/>
        </p:nvGraphicFramePr>
        <p:xfrm>
          <a:off x="-1357200" y="3357720"/>
          <a:ext cx="11349000" cy="25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357200" y="3357720"/>
                    <a:ext cx="113490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Object 3"/>
          <p:cNvGraphicFramePr/>
          <p:nvPr/>
        </p:nvGraphicFramePr>
        <p:xfrm>
          <a:off x="1143000" y="785880"/>
          <a:ext cx="8001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85880"/>
                    <a:ext cx="8001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1138320" y="785880"/>
          <a:ext cx="9362880" cy="52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785880"/>
                    <a:ext cx="936288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91440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Gill Sans MT"/>
                <a:ea typeface="Arial"/>
              </a:rPr>
              <a:t>EX (1)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  <a:ea typeface="Arial"/>
              </a:rPr>
              <a:t>Consider the experiment of tossing a die. If we are interested in the number that shows on the top face, the sample space would be: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  <a:ea typeface="Arial"/>
              </a:rPr>
              <a:t>S= {1, 2, 3, 4, 5, 6}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  <a:ea typeface="Arial"/>
              </a:rPr>
              <a:t>If we are interested only in whether the number is even or odd, the sample space is simply: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  <a:ea typeface="Arial"/>
              </a:rPr>
              <a:t>S= {even, odd}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Object 2"/>
          <p:cNvGraphicFramePr/>
          <p:nvPr/>
        </p:nvGraphicFramePr>
        <p:xfrm>
          <a:off x="-434880" y="434880"/>
          <a:ext cx="957888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34880" y="434880"/>
                    <a:ext cx="957888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Object 2"/>
          <p:cNvGraphicFramePr/>
          <p:nvPr/>
        </p:nvGraphicFramePr>
        <p:xfrm>
          <a:off x="1143000" y="638280"/>
          <a:ext cx="8001000" cy="49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38280"/>
                    <a:ext cx="800100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Object 2"/>
          <p:cNvGraphicFramePr/>
          <p:nvPr/>
        </p:nvGraphicFramePr>
        <p:xfrm>
          <a:off x="376200" y="285840"/>
          <a:ext cx="8481960" cy="59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285840"/>
                    <a:ext cx="8481960" cy="59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Object 2"/>
          <p:cNvGraphicFramePr/>
          <p:nvPr/>
        </p:nvGraphicFramePr>
        <p:xfrm>
          <a:off x="1071720" y="214200"/>
          <a:ext cx="8358120" cy="15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14200"/>
                    <a:ext cx="8358120" cy="15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3"/>
          <p:cNvGraphicFramePr/>
          <p:nvPr/>
        </p:nvGraphicFramePr>
        <p:xfrm>
          <a:off x="-1855800" y="1863720"/>
          <a:ext cx="12195360" cy="406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55800" y="1863720"/>
                    <a:ext cx="12195360" cy="40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Object 2"/>
          <p:cNvGraphicFramePr/>
          <p:nvPr/>
        </p:nvGraphicFramePr>
        <p:xfrm>
          <a:off x="500040" y="0"/>
          <a:ext cx="8829720" cy="27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0"/>
                    <a:ext cx="882972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4"/>
          <p:cNvGraphicFramePr/>
          <p:nvPr/>
        </p:nvGraphicFramePr>
        <p:xfrm>
          <a:off x="857160" y="3000240"/>
          <a:ext cx="8786880" cy="385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3000240"/>
                    <a:ext cx="878688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Object 2"/>
          <p:cNvGraphicFramePr/>
          <p:nvPr/>
        </p:nvGraphicFramePr>
        <p:xfrm>
          <a:off x="209520" y="719280"/>
          <a:ext cx="8650440" cy="57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19280"/>
                    <a:ext cx="8650440" cy="57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Object 2"/>
          <p:cNvGraphicFramePr/>
          <p:nvPr/>
        </p:nvGraphicFramePr>
        <p:xfrm>
          <a:off x="1071720" y="1143000"/>
          <a:ext cx="7858080" cy="45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143000"/>
                    <a:ext cx="785808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Object 1"/>
          <p:cNvGraphicFramePr/>
          <p:nvPr/>
        </p:nvGraphicFramePr>
        <p:xfrm>
          <a:off x="1093680" y="760320"/>
          <a:ext cx="8264520" cy="567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3680" y="760320"/>
                    <a:ext cx="8264520" cy="567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1"/>
          <p:cNvGraphicFramePr/>
          <p:nvPr/>
        </p:nvGraphicFramePr>
        <p:xfrm>
          <a:off x="1000080" y="714240"/>
          <a:ext cx="8929800" cy="27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714240"/>
                    <a:ext cx="892980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2"/>
          <p:cNvGraphicFramePr/>
          <p:nvPr/>
        </p:nvGraphicFramePr>
        <p:xfrm>
          <a:off x="1214280" y="4143240"/>
          <a:ext cx="9083880" cy="20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4143240"/>
                    <a:ext cx="908388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1"/>
          <p:cNvGraphicFramePr/>
          <p:nvPr/>
        </p:nvGraphicFramePr>
        <p:xfrm>
          <a:off x="1071720" y="714240"/>
          <a:ext cx="8215200" cy="25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714240"/>
                    <a:ext cx="8215200" cy="25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2"/>
          <p:cNvGraphicFramePr/>
          <p:nvPr/>
        </p:nvGraphicFramePr>
        <p:xfrm>
          <a:off x="142920" y="3857760"/>
          <a:ext cx="9715320" cy="142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920" y="3857760"/>
                    <a:ext cx="9715320" cy="14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Gill Sans MT"/>
                <a:ea typeface="Times New Roman"/>
              </a:rPr>
              <a:t>EX (2):</a:t>
            </a: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The sample space of tossing a coin </a:t>
            </a: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3</a:t>
            </a:r>
            <a:r>
              <a:rPr b="0" lang="en-US" sz="43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times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S= {HHH, HHT, THH, HTH, HTT, TTH, THT, TTT}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Object 2"/>
          <p:cNvGraphicFramePr/>
          <p:nvPr/>
        </p:nvGraphicFramePr>
        <p:xfrm>
          <a:off x="1135080" y="1571760"/>
          <a:ext cx="8008920" cy="39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5080" y="1571760"/>
                    <a:ext cx="800892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Object 1"/>
          <p:cNvGraphicFramePr/>
          <p:nvPr/>
        </p:nvGraphicFramePr>
        <p:xfrm>
          <a:off x="1071720" y="571680"/>
          <a:ext cx="7815240" cy="17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571680"/>
                    <a:ext cx="781524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5" name="Object 2"/>
              <p:cNvSpPr txBox="1"/>
              <p:nvPr/>
            </p:nvSpPr>
            <p:spPr>
              <a:xfrm>
                <a:off x="955800" y="2643120"/>
                <a:ext cx="818820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∩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∪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∩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Object 1"/>
          <p:cNvGraphicFramePr/>
          <p:nvPr/>
        </p:nvGraphicFramePr>
        <p:xfrm>
          <a:off x="1071720" y="571680"/>
          <a:ext cx="7945200" cy="17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571680"/>
                    <a:ext cx="794520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2"/>
          <p:cNvGraphicFramePr/>
          <p:nvPr/>
        </p:nvGraphicFramePr>
        <p:xfrm>
          <a:off x="1000080" y="2443320"/>
          <a:ext cx="9072720" cy="391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2443320"/>
                    <a:ext cx="9072720" cy="39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Object 6"/>
          <p:cNvGraphicFramePr/>
          <p:nvPr/>
        </p:nvGraphicFramePr>
        <p:xfrm>
          <a:off x="1042920" y="428760"/>
          <a:ext cx="10601280" cy="19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28760"/>
                    <a:ext cx="10601280" cy="19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8"/>
          <p:cNvGraphicFramePr/>
          <p:nvPr/>
        </p:nvGraphicFramePr>
        <p:xfrm>
          <a:off x="1143000" y="2786040"/>
          <a:ext cx="7794720" cy="36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786040"/>
                    <a:ext cx="779472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1"/>
          <p:cNvGraphicFramePr/>
          <p:nvPr/>
        </p:nvGraphicFramePr>
        <p:xfrm>
          <a:off x="149400" y="644400"/>
          <a:ext cx="10269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644400"/>
                    <a:ext cx="10269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Object 1"/>
          <p:cNvGraphicFramePr/>
          <p:nvPr/>
        </p:nvGraphicFramePr>
        <p:xfrm>
          <a:off x="357120" y="793800"/>
          <a:ext cx="8805960" cy="54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793800"/>
                    <a:ext cx="8805960" cy="54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Object 1"/>
          <p:cNvGraphicFramePr/>
          <p:nvPr/>
        </p:nvGraphicFramePr>
        <p:xfrm>
          <a:off x="1071720" y="357120"/>
          <a:ext cx="9001080" cy="664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357120"/>
                    <a:ext cx="9001080" cy="66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Object 1"/>
          <p:cNvGraphicFramePr/>
          <p:nvPr/>
        </p:nvGraphicFramePr>
        <p:xfrm>
          <a:off x="-71280" y="785880"/>
          <a:ext cx="10144080" cy="55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1280" y="785880"/>
                    <a:ext cx="10144080" cy="55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Object 1"/>
          <p:cNvGraphicFramePr/>
          <p:nvPr/>
        </p:nvGraphicFramePr>
        <p:xfrm>
          <a:off x="1322280" y="2143080"/>
          <a:ext cx="90360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2280" y="2143080"/>
                    <a:ext cx="903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Object 1"/>
          <p:cNvGraphicFramePr/>
          <p:nvPr/>
        </p:nvGraphicFramePr>
        <p:xfrm>
          <a:off x="1106640" y="285840"/>
          <a:ext cx="10037520" cy="20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285840"/>
                    <a:ext cx="1003752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2"/>
          <p:cNvGraphicFramePr/>
          <p:nvPr/>
        </p:nvGraphicFramePr>
        <p:xfrm>
          <a:off x="1343160" y="2903400"/>
          <a:ext cx="9015120" cy="271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3160" y="2903400"/>
                    <a:ext cx="901512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Gill Sans MT"/>
                <a:ea typeface="Times New Roman"/>
              </a:rPr>
              <a:t>EX (3):</a:t>
            </a: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S= {X|X+2=0} = {-2}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Object 1"/>
          <p:cNvGraphicFramePr/>
          <p:nvPr/>
        </p:nvGraphicFramePr>
        <p:xfrm>
          <a:off x="1324080" y="1708200"/>
          <a:ext cx="9462960" cy="37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4080" y="1708200"/>
                    <a:ext cx="946296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Object 1"/>
          <p:cNvGraphicFramePr/>
          <p:nvPr/>
        </p:nvGraphicFramePr>
        <p:xfrm>
          <a:off x="0" y="571680"/>
          <a:ext cx="8996400" cy="47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71680"/>
                    <a:ext cx="899640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Object 2"/>
          <p:cNvGraphicFramePr/>
          <p:nvPr/>
        </p:nvGraphicFramePr>
        <p:xfrm>
          <a:off x="1071720" y="1214280"/>
          <a:ext cx="8001000" cy="45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214280"/>
                    <a:ext cx="800100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Object 2"/>
          <p:cNvGraphicFramePr/>
          <p:nvPr/>
        </p:nvGraphicFramePr>
        <p:xfrm>
          <a:off x="1209600" y="428760"/>
          <a:ext cx="8005680" cy="20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9600" y="428760"/>
                    <a:ext cx="800568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8"/>
          <p:cNvGraphicFramePr/>
          <p:nvPr/>
        </p:nvGraphicFramePr>
        <p:xfrm>
          <a:off x="1000080" y="2428920"/>
          <a:ext cx="8640720" cy="242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2428920"/>
                    <a:ext cx="864072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Object 1"/>
          <p:cNvGraphicFramePr/>
          <p:nvPr/>
        </p:nvGraphicFramePr>
        <p:xfrm>
          <a:off x="-1214280" y="1428840"/>
          <a:ext cx="11215440" cy="41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4280" y="1428840"/>
                    <a:ext cx="1121544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Object 1"/>
          <p:cNvGraphicFramePr/>
          <p:nvPr/>
        </p:nvGraphicFramePr>
        <p:xfrm>
          <a:off x="149400" y="1000080"/>
          <a:ext cx="963900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1000080"/>
                    <a:ext cx="963900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Object 1"/>
          <p:cNvGraphicFramePr/>
          <p:nvPr/>
        </p:nvGraphicFramePr>
        <p:xfrm>
          <a:off x="554040" y="1363680"/>
          <a:ext cx="8589960" cy="32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1363680"/>
                    <a:ext cx="858996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Object 1"/>
          <p:cNvGraphicFramePr/>
          <p:nvPr/>
        </p:nvGraphicFramePr>
        <p:xfrm>
          <a:off x="571680" y="393840"/>
          <a:ext cx="8786520" cy="61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393840"/>
                    <a:ext cx="8786520" cy="61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64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1" lang="en-US" sz="3900" spc="-1" strike="noStrike" u="sng">
                <a:solidFill>
                  <a:srgbClr val="000000"/>
                </a:solidFill>
                <a:uFillTx/>
                <a:latin typeface="Gill Sans MT"/>
                <a:ea typeface="Times New Roman"/>
              </a:rPr>
              <a:t>1.2</a:t>
            </a:r>
            <a:r>
              <a:rPr b="1" lang="ar-SA" sz="3900" spc="-1" strike="noStrike" u="sng">
                <a:solidFill>
                  <a:srgbClr val="000000"/>
                </a:solidFill>
                <a:uFillTx/>
                <a:latin typeface="Gill Sans MT"/>
                <a:ea typeface="Times New Roman"/>
              </a:rPr>
              <a:t> </a:t>
            </a:r>
            <a:r>
              <a:rPr b="1" lang="en-US" sz="3900" spc="-1" strike="noStrike" u="sng">
                <a:solidFill>
                  <a:srgbClr val="000000"/>
                </a:solidFill>
                <a:uFillTx/>
                <a:latin typeface="Gill Sans MT"/>
                <a:ea typeface="Times New Roman"/>
              </a:rPr>
              <a:t>Events: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n event A is a subset of a sample space, that is . For instance, when a die is tossed, then the sample space is {1,2,3,4,5,6}. If the event </a:t>
            </a:r>
            <a:r>
              <a:rPr b="1" lang="en-US" sz="39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is concerned with the elements that divisible by </a:t>
            </a:r>
            <a:r>
              <a:rPr b="1" lang="en-US" sz="39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3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such that 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={3,6}, then </a:t>
            </a:r>
            <a:r>
              <a:rPr b="0" lang="ar-SA" sz="39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           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.</a:t>
            </a:r>
            <a:br>
              <a:rPr sz="3900"/>
            </a:b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19144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7880" y="3642840"/>
            <a:ext cx="82360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en-US" sz="3900" spc="-1" strike="noStrike" u="sng">
                <a:solidFill>
                  <a:srgbClr val="000000"/>
                </a:solidFill>
                <a:uFillTx/>
                <a:latin typeface="Gill Sans MT"/>
                <a:ea typeface="Times New Roman"/>
              </a:rPr>
              <a:t>Notice: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     S , S      S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267" name="مجموعة 7"/>
          <p:cNvGrpSpPr/>
          <p:nvPr/>
        </p:nvGrpSpPr>
        <p:grpSpPr>
          <a:xfrm>
            <a:off x="3286080" y="5072040"/>
            <a:ext cx="2411280" cy="784080"/>
            <a:chOff x="3286080" y="5072040"/>
            <a:chExt cx="2411280" cy="784080"/>
          </a:xfrm>
        </p:grpSpPr>
        <p:pic>
          <p:nvPicPr>
            <p:cNvPr id="268" name="Picture 4" descr=""/>
            <p:cNvPicPr/>
            <p:nvPr/>
          </p:nvPicPr>
          <p:blipFill>
            <a:blip r:embed="rId1"/>
            <a:stretch/>
          </p:blipFill>
          <p:spPr>
            <a:xfrm>
              <a:off x="4906800" y="5072040"/>
              <a:ext cx="79056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" descr=""/>
            <p:cNvPicPr/>
            <p:nvPr/>
          </p:nvPicPr>
          <p:blipFill>
            <a:blip r:embed="rId2"/>
            <a:stretch/>
          </p:blipFill>
          <p:spPr>
            <a:xfrm>
              <a:off x="3286080" y="5094360"/>
              <a:ext cx="79056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مربع نص 6"/>
          <p:cNvSpPr/>
          <p:nvPr/>
        </p:nvSpPr>
        <p:spPr>
          <a:xfrm>
            <a:off x="1143000" y="500040"/>
            <a:ext cx="7072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 (4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t which contains no elements at all is called then null hypothesis denoted by  which is called the impossible event. For instanc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{X|X is an even factor of 7}, then B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{ 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Object 4"/>
          <p:cNvGraphicFramePr/>
          <p:nvPr/>
        </p:nvGraphicFramePr>
        <p:xfrm>
          <a:off x="214200" y="716040"/>
          <a:ext cx="972504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716040"/>
                    <a:ext cx="972504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20:08:40Z</dcterms:created>
  <dc:creator>Dell</dc:creator>
  <dc:description/>
  <dc:language>en-US</dc:language>
  <cp:lastModifiedBy>ksu</cp:lastModifiedBy>
  <dcterms:modified xsi:type="dcterms:W3CDTF">2012-02-21T08:48:25Z</dcterms:modified>
  <cp:revision>150</cp:revision>
  <dc:subject/>
  <dc:title>King Saud University Women Students</dc:title>
</cp:coreProperties>
</file>