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E8E86D-100D-49FF-9DD3-D8547E63E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D0E53B-2607-464C-97F4-C8BD09B6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260912-4ED8-4421-BBD8-70211F7C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B922E1-9BB5-441D-BB36-571C209DF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31CF21-8D01-4489-B3D8-A46144C9F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FDAFB2-FB74-41BD-A5DF-BDA0AD1F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6C464C-4554-48AF-9E55-CB56D8597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2C8D6E-CE1E-410A-87E0-AAFA35711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877316-8250-488F-88EE-D340E556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F274BC-FF2E-44F0-A588-2A9F74D6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3D5F56-85E0-48C4-8184-291DF5CCE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0E2945-2AF6-41CC-AEF4-4CC445AF9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26A541-A128-4258-A15E-CDFE1826D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C56477-205A-4C09-B1D3-590E730E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E1E3FC-E6CF-484D-AFAC-4DF98319E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70353D-69AD-488A-812F-BBA29B7E8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32FE50-F8B7-4DC9-BBBF-38F708611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185AC6-A296-465B-9C66-17CDFBE9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B9591A-D06C-4808-BAAB-685E7B9B1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EF1835-56AA-45FB-A926-C59FA68E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3F232F-064E-477A-A5A1-E67CACB42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E975D4-5D81-4228-AB7A-F2E075602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7367A5-1B37-42EB-AFE9-7F3F2A09A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C41C85-AE26-4A96-9DA7-84BED325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AACBEE-69B2-4C08-8554-647C8A0D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AF9BA2-3A47-4C02-AC5D-1CE38167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DBB861-30A1-49C3-880A-3D11A8AF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8F0F27-BE22-405E-9E7E-336F0368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5418E1-EB3E-4519-B724-FBF1A47F9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E3C6E5-C895-49C3-9051-A4717BE21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3C9F17-1441-4DC1-BC85-788D87941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9AD0C4-DA21-44CD-8874-ACB9CE01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7577D7-E9B1-4EF4-8B76-26998AE0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532284-8495-4230-9BF5-306CE65BA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2D92E3-1FFB-4CB2-AD9C-24545A28F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E4DFFD-404A-4D7C-A37C-03A100AAF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63000E-206B-449D-8CAF-0FC9FFCE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2315A16-6805-47FB-89B1-0ED5808C1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31FFA7-9B68-42D4-908D-C0EE34895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A3B97C-E1EF-441A-9717-A65F5AFF3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A2B01C-28D0-41CC-A0DB-684C0E1B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B6A1D0-529A-455F-887A-01917024E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258648-A25A-4249-A2C5-3396D9C5D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786359-4A88-4351-97A4-833C49072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BADA43-A573-422B-BB0F-64F339978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703E07-CDB9-4463-B6BC-B5BA6FEFA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3F94C7-1B2D-4013-A391-6879DDDC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206C76-C696-4A29-B646-4F595A72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B49D58-F725-4381-807C-1CBA1A5C9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94B3BF-1BF7-45D9-A100-EDC3DF02C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F14000-5914-4C15-9819-FACF1B2B8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5AF-A086-4EE3-B5E6-11ECE600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3A2-06EE-4F48-AB40-26148BA6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237-5A6C-4386-B068-42610837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658-84BA-4E9A-AA3F-A89B1CA6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F612-89CF-44AE-BEF7-1C1CD595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32F1-EC33-467A-B9FD-0768DCD4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963F-5015-4683-B622-4E5D3590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4D97-A00C-4429-9FC7-AACCB6F9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766F-B194-43FF-BFC3-11DB9D5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F195-B273-4BE5-8523-2D91769B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E099-2E2C-4EDF-B9C5-4A78467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9BC-AB65-4E43-BE4D-A7E3AE1E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9490-EFD0-4F86-B86D-CB08C4F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75A8-E4B2-4034-B3E8-C37E344B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114-016F-4EC0-8C8A-0EADB7F3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FD35-EDB2-4C04-B786-4C61A737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A234-3D73-48D0-85CA-9B2DF549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8EF-658A-44F1-9A01-E3AB7F4E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F16-51F3-4755-ACD4-563D5384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6C4-E1BC-4074-9ACD-C3CA971C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237-59B7-4DED-B7F1-A859A2AB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0BF-B73B-495F-B802-BD2538B4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205-807E-4A7E-AF54-A7588F6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159-B826-40C4-88B4-20CE2299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C9DA-8071-44BA-9F9E-85D3C72008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32920" y="6612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7 McGraw-Hill Higher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232920" y="6612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7 McGraw-Hill Higher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EE22-9EAC-47D5-9C23-5307D639C3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9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tory Adaptation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3657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 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and Application to Fitness and Performance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K. Powers &amp; Edward T. How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ardiac Cy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27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3040" y="15987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9"/>
          <p:cNvPicPr/>
          <p:nvPr/>
        </p:nvPicPr>
        <p:blipFill>
          <a:blip r:embed="rId1"/>
          <a:stretch/>
        </p:blipFill>
        <p:spPr>
          <a:xfrm>
            <a:off x="0" y="3238560"/>
            <a:ext cx="9144000" cy="2638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7732800" y="61214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as systolic/diast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rmal is 120/80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 i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40/90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ic pressure (top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sure generated during ________________ (systole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sure in the arteries during _____________ (diasto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ce between systolic and diastol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________ (M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erage pressure in the arte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32200" y="3152880"/>
            <a:ext cx="73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se Pressure = Systolic - Diast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81080" y="5286240"/>
            <a:ext cx="67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 =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n Arterial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pressure of 120/80 mm H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9160" y="609120"/>
            <a:ext cx="38149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ement of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9"/>
          <p:cNvPicPr/>
          <p:nvPr/>
        </p:nvPicPr>
        <p:blipFill>
          <a:blip r:embed="rId1"/>
          <a:srcRect l="4265" t="2714" r="3693" b="1622"/>
          <a:stretch/>
        </p:blipFill>
        <p:spPr>
          <a:xfrm>
            <a:off x="416412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8010720" y="63626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actors That Influence Arterial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9"/>
          <p:cNvPicPr/>
          <p:nvPr/>
        </p:nvPicPr>
        <p:blipFill>
          <a:blip r:embed="rId1"/>
          <a:stretch/>
        </p:blipFill>
        <p:spPr>
          <a:xfrm>
            <a:off x="1420920" y="1446120"/>
            <a:ext cx="5903640" cy="5062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7961400" y="619272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is Blood Pressure Regulat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reg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hieved by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ction of the 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y do so by control of ______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ectrical Activity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action of the heart depends on electrical stimulation of the myoca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ulse is initiated in the __________ and spreads throughout entire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be recorded on an __________________ (EC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ction System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9"/>
          <p:cNvPicPr/>
          <p:nvPr/>
        </p:nvPicPr>
        <p:blipFill>
          <a:blip r:embed="rId1"/>
          <a:srcRect l="2151" t="3013" r="3225" b="2104"/>
          <a:stretch/>
        </p:blipFill>
        <p:spPr>
          <a:xfrm>
            <a:off x="630360" y="1214280"/>
            <a:ext cx="7270560" cy="5205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7726680" y="552132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28760" y="2882880"/>
            <a:ext cx="21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The amount of blood pumped by the heart each 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of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number of beats per minu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amount of blood ejected in each be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5840" y="3613320"/>
            <a:ext cx="43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 = 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challenge to homeostasis posed by exercise is the increased muscular demand for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heavy exercise, oxygen demands ma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15 to 25 ti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jor adjustments of blood flow 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distribution of blood flo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orough understanding of the cardiovascular system is essential to exercise physi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gulation of Heart R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rominent factors that influence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a ______________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ows HR by inhibiting 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a cardiac 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HR by stimulating 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gulation of Stroke Volu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V at rest or during exercise is regulated by 3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1.  __________________ (E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lume of blood in the ventricles at the end of diastol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“preload”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2. 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sure the heart must pump against to eject blood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“afterload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3.  _________ of the ventricular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actility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d-Diastolic Volu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8736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er preload results in stretch of ventricles and in a more forceful cont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by venous ret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regulate venous ret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Skeletal Muscle Pum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ic skeletal muscle contractions force blood in the extremities toward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way valves in veins prevent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9"/>
          <p:cNvPicPr/>
          <p:nvPr/>
        </p:nvPicPr>
        <p:blipFill>
          <a:blip r:embed="rId1"/>
          <a:srcRect l="4079" t="3090" r="4079" b="4635"/>
          <a:stretch/>
        </p:blipFill>
        <p:spPr>
          <a:xfrm>
            <a:off x="5192640" y="1619280"/>
            <a:ext cx="3951360" cy="5238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3836160" y="622152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verage Aortic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tic pressure is ___________ related to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fterload results in a ____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greater force generation by the myocardium to eject blood into the aor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aortic pressure results in 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ntricular Contract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tractility results in _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irculating epinephrine and norepinephr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sympathetic stimulation of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actors that Regulate Cardiac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14720" y="3436920"/>
            <a:ext cx="84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ardiac = Cardiac Rate x Stroke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12600" y="228924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628400" y="4581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909760" y="4438800"/>
            <a:ext cx="148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843600" y="568152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k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7970760" y="4022640"/>
            <a:ext cx="0" cy="4431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7985160" y="5105520"/>
            <a:ext cx="0" cy="914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6637320" y="6027840"/>
            <a:ext cx="13572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645240" y="5102280"/>
            <a:ext cx="0" cy="93024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6630840" y="4016520"/>
            <a:ext cx="0" cy="44280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5707440" y="53420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070520" y="480852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128680" y="227952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3171960" y="306720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4772160" y="4002120"/>
            <a:ext cx="0" cy="8398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H="1">
            <a:off x="5608800" y="4792680"/>
            <a:ext cx="458640" cy="16992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149960" y="304488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23200" y="575316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emodynamic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study of the physical principles of blood f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09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ysical Characteristics of Blo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quid portion of 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 ions, proteins, horm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ain hemoglobin to carry oxyg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ortant in blood clot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9"/>
          <p:cNvPicPr/>
          <p:nvPr/>
        </p:nvPicPr>
        <p:blipFill>
          <a:blip r:embed="rId1"/>
          <a:srcRect l="1300" t="4696" r="2599" b="4696"/>
          <a:stretch/>
        </p:blipFill>
        <p:spPr>
          <a:xfrm>
            <a:off x="1220760" y="1492200"/>
            <a:ext cx="6566040" cy="51404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8580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blood composed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8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verview of the design and function of 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cardiac cycle &amp; associated electrical activity recorded via electrocardi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attern of redistribution of blood flow during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the circulatory responses to various types of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4880" y="41400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63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ed on interrelationships betwe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7ff"/>
                </a:solidFill>
                <a:latin typeface="Arial"/>
              </a:rPr>
              <a:t>Since large increases in P are hazardous to health – decreasing resistance is the primary factor used to achieve increases in BF during exercise with a small rise in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flows from ___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___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al to the difference between MAP and right atrial pressure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BF depends on P at 2 ends of vascular 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P at 2 ends of a vessel are equal = 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ood Flow Through the Systemic Circu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9"/>
          <p:cNvPicPr/>
          <p:nvPr/>
        </p:nvPicPr>
        <p:blipFill>
          <a:blip r:embed="rId1"/>
          <a:srcRect l="1101" t="3892" r="2202" b="5838"/>
          <a:stretch/>
        </p:blipFill>
        <p:spPr>
          <a:xfrm>
            <a:off x="228600" y="1752480"/>
            <a:ext cx="8686800" cy="4587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Resistan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the resistance of blood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_________ change in vessel diameter can have a dramatic impact on resistanc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1"/>
          <p:cNvGrpSpPr/>
          <p:nvPr/>
        </p:nvGrpSpPr>
        <p:grpSpPr>
          <a:xfrm>
            <a:off x="1981080" y="5076720"/>
            <a:ext cx="4800600" cy="990360"/>
            <a:chOff x="1981080" y="5076720"/>
            <a:chExt cx="4800600" cy="990360"/>
          </a:xfrm>
        </p:grpSpPr>
        <p:sp>
          <p:nvSpPr>
            <p:cNvPr id="206" name="Text Box 6"/>
            <p:cNvSpPr/>
            <p:nvPr/>
          </p:nvSpPr>
          <p:spPr>
            <a:xfrm>
              <a:off x="2059920" y="5381280"/>
              <a:ext cx="202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istance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038480" y="5157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4038480" y="560844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9"/>
            <p:cNvSpPr/>
            <p:nvPr/>
          </p:nvSpPr>
          <p:spPr>
            <a:xfrm>
              <a:off x="4038480" y="5609880"/>
              <a:ext cx="2514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981080" y="5076720"/>
              <a:ext cx="4800600" cy="990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2"/>
          <p:cNvSpPr/>
          <p:nvPr/>
        </p:nvSpPr>
        <p:spPr>
          <a:xfrm>
            <a:off x="5497560" y="2709720"/>
            <a:ext cx="34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is directly proportional to these 2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5497560" y="3460680"/>
            <a:ext cx="35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factor determining vascular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Blood Fl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roportional to the pressure difference between the two ends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roportional to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"/>
          <p:cNvGrpSpPr/>
          <p:nvPr/>
        </p:nvGrpSpPr>
        <p:grpSpPr>
          <a:xfrm>
            <a:off x="2895480" y="4267080"/>
            <a:ext cx="3047760" cy="1066680"/>
            <a:chOff x="2895480" y="4267080"/>
            <a:chExt cx="3047760" cy="1066680"/>
          </a:xfrm>
        </p:grpSpPr>
        <p:sp>
          <p:nvSpPr>
            <p:cNvPr id="216" name="Text Box 4"/>
            <p:cNvSpPr/>
            <p:nvPr/>
          </p:nvSpPr>
          <p:spPr>
            <a:xfrm>
              <a:off x="2973600" y="457164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ow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5"/>
            <p:cNvSpPr/>
            <p:nvPr/>
          </p:nvSpPr>
          <p:spPr>
            <a:xfrm>
              <a:off x="4190760" y="4348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6"/>
            <p:cNvSpPr/>
            <p:nvPr/>
          </p:nvSpPr>
          <p:spPr>
            <a:xfrm>
              <a:off x="4190760" y="4798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"/>
            <p:cNvSpPr/>
            <p:nvPr/>
          </p:nvSpPr>
          <p:spPr>
            <a:xfrm>
              <a:off x="4190760" y="4800240"/>
              <a:ext cx="1523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2895480" y="4267080"/>
              <a:ext cx="3047760" cy="10666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urces of Vascular Resist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 __________ throughout the systemic cir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st drop occurs across the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oles are called “resistance vesse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ssure Changes Across the Systemic Circu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9"/>
          <p:cNvPicPr/>
          <p:nvPr/>
        </p:nvPicPr>
        <p:blipFill>
          <a:blip r:embed="rId1"/>
          <a:srcRect l="2780" t="4500" r="4515" b="4173"/>
          <a:stretch/>
        </p:blipFill>
        <p:spPr>
          <a:xfrm>
            <a:off x="1438200" y="1452600"/>
            <a:ext cx="6004080" cy="5148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xygen Delivery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demand by muscles during exercise is many times greater than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ivery accomplished via 2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7ff"/>
                </a:solidFill>
                <a:latin typeface="Arial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7ff"/>
                </a:solidFill>
                <a:latin typeface="Arial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Cardiac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increases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d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ar increase to 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d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teau at ~40% V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uptake by the muscle also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er arteriovenous differ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514160" y="30243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HR = 220 - Age (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5320" y="369360"/>
            <a:ext cx="4336920" cy="463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Cardiovascular Variables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9"/>
          <p:cNvPicPr/>
          <p:nvPr/>
        </p:nvPicPr>
        <p:blipFill>
          <a:blip r:embed="rId1"/>
          <a:srcRect l="5677" t="2817" r="4186" b="2142"/>
          <a:stretch/>
        </p:blipFill>
        <p:spPr>
          <a:xfrm>
            <a:off x="458640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3220200" y="618012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8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factors that regulate local blood flow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&amp; discuss those factors responsible for regulation of stroke volume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regulation of cardiac output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distribution of Blood Fl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Muscle blood fl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working skeletal mus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Splanchnic blood fl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less active org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, kidneys, GI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2640" y="304560"/>
            <a:ext cx="3074760" cy="49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Muscle and Splanchnic Blood Flow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9"/>
          <p:cNvPicPr/>
          <p:nvPr/>
        </p:nvPicPr>
        <p:blipFill>
          <a:blip r:embed="rId1"/>
          <a:srcRect l="1727" t="1497" r="5180" b="1497"/>
          <a:stretch/>
        </p:blipFill>
        <p:spPr>
          <a:xfrm>
            <a:off x="3436920" y="0"/>
            <a:ext cx="570708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2056680" y="578016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ased Blood Flow to Skeletal Muscle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47880"/>
            <a:ext cx="77724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gulates blood flow to various organs during exerc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lood flow increased to meet metabolic demands of tiss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happens because of muscle vasodi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ension, C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ension, pH, nitric ox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distribution of Blood Flow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9"/>
          <p:cNvPicPr/>
          <p:nvPr/>
        </p:nvPicPr>
        <p:blipFill>
          <a:blip r:embed="rId1"/>
          <a:srcRect l="2422" t="2104" r="2422" b="2383"/>
          <a:stretch/>
        </p:blipFill>
        <p:spPr>
          <a:xfrm>
            <a:off x="320760" y="0"/>
            <a:ext cx="8823240" cy="68374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1600" y="63626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rculatory Responses to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rate and blood pres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, intensity, and duration of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ition From Rest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Exercise and Exercise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Recove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4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increase in HR, SV, cardiac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eau in submaximal (below lactate threshold)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very depends 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and intensity of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state of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mental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Heart rate and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linearly with increasing work r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ches plateau at 100% V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m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ystolic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with increasing work r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Double product – also called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linearly with exercise inten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cates the work of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17840" y="563076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produc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m vs. Le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ame oxygen uptake arm work results in hig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e to higher ______________ stimul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e to _____________ of large inactive muscle m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267080" y="634032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4840" y="609120"/>
            <a:ext cx="3605400" cy="44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art Rate and Blood Pressure During Arm and Le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9"/>
          <p:cNvPicPr/>
          <p:nvPr/>
        </p:nvPicPr>
        <p:blipFill>
          <a:blip r:embed="rId1"/>
          <a:srcRect l="1569" t="1506" r="3137" b="1506"/>
          <a:stretch/>
        </p:blipFill>
        <p:spPr>
          <a:xfrm>
            <a:off x="1336680" y="0"/>
            <a:ext cx="6159600" cy="6527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0" y="5361120"/>
            <a:ext cx="21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se 2 factors increase so will 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V="1">
            <a:off x="439560" y="2141280"/>
            <a:ext cx="960480" cy="3252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V="1">
            <a:off x="822240" y="4547880"/>
            <a:ext cx="542880" cy="880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longed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iac output is mainta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decrease in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increase in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ardiovascular dr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rift du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191120" y="634032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ardiovascular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R, SV, and Q During Prolonged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9"/>
          <p:cNvPicPr/>
          <p:nvPr/>
        </p:nvPicPr>
        <p:blipFill>
          <a:blip r:embed="rId1"/>
          <a:srcRect l="1648" t="2921" r="3295" b="1460"/>
          <a:stretch/>
        </p:blipFill>
        <p:spPr>
          <a:xfrm>
            <a:off x="2414520" y="1584360"/>
            <a:ext cx="4299120" cy="4879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diovascular Adjustments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9"/>
          <p:cNvPicPr/>
          <p:nvPr/>
        </p:nvPicPr>
        <p:blipFill>
          <a:blip r:embed="rId1"/>
          <a:srcRect l="2154" t="2466" r="3488" b="0"/>
          <a:stretch/>
        </p:blipFill>
        <p:spPr>
          <a:xfrm>
            <a:off x="1454040" y="1582560"/>
            <a:ext cx="6201000" cy="49118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mps 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Arteries and arter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ry blood ________ from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change of __________ with tiss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Veins and ven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ry blood __________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cture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9"/>
          <p:cNvPicPr/>
          <p:nvPr/>
        </p:nvPicPr>
        <p:blipFill>
          <a:blip r:embed="rId1"/>
          <a:srcRect l="3138" t="670" r="1943" b="670"/>
          <a:stretch/>
        </p:blipFill>
        <p:spPr>
          <a:xfrm>
            <a:off x="1406520" y="1171440"/>
            <a:ext cx="6221520" cy="5500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7732800" y="61214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lmonary and Systemic Circui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5760" y="91764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ystemic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side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 _________ blood to the whole body via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____________ blood to the right heart via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89560" y="914400"/>
            <a:ext cx="416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Pulmonary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side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 __________ blood to the ______ via pulmonary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___________ blood to the ________ heart via pulmonary 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yocardi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9"/>
          <p:cNvPicPr/>
          <p:nvPr/>
        </p:nvPicPr>
        <p:blipFill>
          <a:blip r:embed="rId1"/>
          <a:srcRect l="745" t="347" r="0" b="693"/>
          <a:stretch/>
        </p:blipFill>
        <p:spPr>
          <a:xfrm>
            <a:off x="306360" y="957240"/>
            <a:ext cx="8123400" cy="5618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75920" y="614988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4:33:06Z</dcterms:created>
  <dc:creator>Brian Parr</dc:creator>
  <dc:description/>
  <dc:language>en-US</dc:language>
  <cp:lastModifiedBy>sai</cp:lastModifiedBy>
  <dcterms:modified xsi:type="dcterms:W3CDTF">2012-01-04T08:01:52Z</dcterms:modified>
  <cp:revision>44</cp:revision>
  <dc:subject>Circulatory Adaptations to Exercise</dc:subject>
  <dc:title>Chapter 9</dc:title>
</cp:coreProperties>
</file>