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42CA26-398B-424E-9BBA-35DBCA08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DECC02B-17E8-45B9-BB55-7762965D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840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2D6FD5-7924-4FBE-9FFA-9403BF2C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D97030-F5C8-4DC6-ABC7-C3DA77AA7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B5C93B-DC6A-44B0-B9F5-90A03C22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509D71-A39C-48EE-BD84-9FB5EAC0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F5104F-E1F1-49E2-8C29-1A8D2EA9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E12842-533D-482A-8089-E5F317E8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60B66DF-3364-410C-8F7D-82E5D8A62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D9FDE14-2F97-4C33-9B97-C81FA5B53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57E5BE-C099-45CD-9AA5-0BA7C7ED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508EF5-E71E-4DDD-8A7E-F2576D05E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E939C4-281D-4645-96F1-17A12494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A270C96-5FE6-42AF-B69D-2A6751CE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46FA3F-45A6-4034-98DD-D295F3C7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40E9C8-984C-4474-B6C6-A6667839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A2A21D4-118A-427F-BE55-AA0CEE56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61EBC2-2937-42E3-837D-0044E048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2018B1-B509-4D53-9B69-429383D9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ED1D3A-FCEB-48E8-B432-95896CEE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3054A5-4D4A-41EA-AAFB-224A66CA5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D090C4-ABEA-4144-BEFC-306DEDED6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D5D02D-8F55-475A-983C-55772587F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A7CC61-2D2D-4F3C-913F-34DFDE7F9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C54AE6-076D-412E-9DED-6269DAA5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0EA8EC2-557D-4FD3-8FC2-2752A2818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9978E8-7D3A-4240-95E4-25CC53BD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C70EAA-FB03-40DB-9C1E-72CEA019E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11D7AD-DF67-4880-AD57-5752AC82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B3FA5D-0268-40C7-B567-A08FFA598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FBB51F-9E1A-4414-B93B-DD575147F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29B5DD-8703-4D30-8FA7-AB117ED0D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B1B15C-F927-4760-9446-EF12CFE25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A240BA-4C82-418D-8E9A-427EA1B41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AAE54A-3002-4EAF-AA22-459E1A926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51CFFC-871C-44AB-915E-2A8EE5598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855AE8-A7D3-470D-A718-994F71CA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4B4869-AC09-41DC-BB88-380C32F22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E4F377-41AA-4D96-B7B2-CCD74B9D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3D8007-0743-4876-A56F-EC6BD405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8A4A3E-B243-4E7A-9204-05F2925A6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85F2FF-6567-4136-94EF-459501B0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50C7BE-0E33-41E2-AC75-6AF92C6FF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9D9A89-493F-4B1F-B03B-656679364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4BBC9E-E8A8-47E0-A51E-680AD7CC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5259606-12AD-4BA4-AA5C-C17BDB497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C4BDF19-5B52-4C3F-BBEB-B29D269A9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133DBBC-7805-4099-8EB8-D3895DBAC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05D43D-4BD8-49ED-B6D5-7505A3C6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9C4505-9F4F-4512-A976-DA735E514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252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960D4A-C338-4F38-B87A-D8F77D45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E1A-3B6B-470E-A6D2-FF2458C1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3DA-20DD-4B86-ABCD-F1FF92BC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1CC-DBCE-489C-B8B9-257AE414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972-BCA6-4163-8093-78000102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FC69-5051-4138-921B-581E0F22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630-4033-47FC-9DD2-02006049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3A2A-8D43-4A3F-A927-33FCC376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24A5-5C4A-4F2F-BAE7-8F8411C5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B283-92E4-488D-B275-93B81B56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9919-84A7-4B3D-A21D-B52C22D1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0E75-E493-4E67-BEB5-3893DBC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74C-5AEE-48FF-BBC5-F81DCD82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A5A2-C917-410A-9360-BBBD245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C4C3-0B29-42A5-8E18-0D03F39B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117A-A2DD-4CBB-9F68-A86D170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05E0-10F0-43F3-A50E-52DB9B6A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657E-A6B5-4459-8E24-9B9FD942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13C-7D57-4214-8A66-D68F0370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4E0-9417-4B68-BF89-8B998F54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9FC-12B9-4572-8A87-FDB13B7E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2B3C-4B69-4233-8092-972E9866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16F-C943-4880-8823-151027D2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011-CF77-4ADE-9020-FF15110E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489-4F6D-41CC-9840-174F24A3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E4CF-515F-4598-97B6-8BE92DC3C2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232920" y="6612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7 McGraw-Hill Higher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A78D-AF73-48F7-B059-43010D4E8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Chapter 9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rculatory Adaptation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3657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and Application to Fitness and Performance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K. Powers &amp; Edward T. How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ac Cycl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27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83040" y="15987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9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2638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d as systolic/diast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rmal is 120/8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 is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40/90 mmH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olic pressure (top num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generated during ________________ (systole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stolic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ssure in the arteries during _____________ (diastol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fference between systolic and diastoli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______ (MA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erage pressure in the arte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32200" y="3152880"/>
            <a:ext cx="730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lse Pressure = Systolic - Diast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81080" y="5286240"/>
            <a:ext cx="67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 = 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n Arterial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od pressure of 120/80 mm H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9160" y="609120"/>
            <a:ext cx="38149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asurement of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9"/>
          <p:cNvPicPr/>
          <p:nvPr/>
        </p:nvPicPr>
        <p:blipFill>
          <a:blip r:embed="rId1"/>
          <a:srcRect l="4265" t="2714" r="3693" b="1622"/>
          <a:stretch/>
        </p:blipFill>
        <p:spPr>
          <a:xfrm>
            <a:off x="4164120" y="0"/>
            <a:ext cx="497988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8010720" y="63626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Influence Arterial Blood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9"/>
          <p:cNvPicPr/>
          <p:nvPr/>
        </p:nvPicPr>
        <p:blipFill>
          <a:blip r:embed="rId1"/>
          <a:stretch/>
        </p:blipFill>
        <p:spPr>
          <a:xfrm>
            <a:off x="1420920" y="1446120"/>
            <a:ext cx="5903640" cy="5062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7961400" y="61927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ow is Blood Pressure Regulated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reg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hieved by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nction of the 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y do so by control of __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ctrical Activity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action of the heart depends on electrical stimulation of the myoca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ulse is initiated in the __________ and spreads throughout entire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be recorded on an __________________ (EC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80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nduction System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9"/>
          <p:cNvPicPr/>
          <p:nvPr/>
        </p:nvPicPr>
        <p:blipFill>
          <a:blip r:embed="rId1"/>
          <a:srcRect l="2151" t="3013" r="3225" b="2104"/>
          <a:stretch/>
        </p:blipFill>
        <p:spPr>
          <a:xfrm>
            <a:off x="630360" y="1214280"/>
            <a:ext cx="7270560" cy="5205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7726680" y="552132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428760" y="2882880"/>
            <a:ext cx="21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The amount of blood pumped by the heart each 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of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number of beats per minu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= amount of blood ejected in each be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5840" y="3613320"/>
            <a:ext cx="43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 = 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jor challenge to homeostasis posed by exercise is the increased muscular demand for 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heavy exercise, oxygen demands ma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15 to 25 ti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major adjustments of blood flow 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rdiac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orough understanding of the cardiovascular system is essential to exercise physi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Heart Ra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rominent factors that influence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______________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ows HR by inhibiting 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__________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a cardiac 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HR by stimulating 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gulation of Stroke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SV at rest or during exercise is regulated by 3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1.  __________________ (ED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lume of blood in the ventricles at the end of diastol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preload”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2.  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sure the heart must pump against to eject blood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“afterload”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767ff"/>
                </a:solidFill>
                <a:latin typeface="Arial"/>
              </a:rPr>
              <a:t>3.  _________ of the ventricular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actility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nd-Diastolic Volu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87360"/>
            <a:ext cx="8229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eater preload results in stretch of ventricles and in a more forceful cont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ed by venous ret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regulate venous ret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Skeletal Muscle Pum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ythmic skeletal muscle contractions force blood in the extremities toward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 valves in veins prevent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8" descr="9"/>
          <p:cNvPicPr/>
          <p:nvPr/>
        </p:nvPicPr>
        <p:blipFill>
          <a:blip r:embed="rId1"/>
          <a:srcRect l="4079" t="3090" r="4079" b="4635"/>
          <a:stretch/>
        </p:blipFill>
        <p:spPr>
          <a:xfrm>
            <a:off x="5192640" y="1619280"/>
            <a:ext cx="3951360" cy="5238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3836160" y="62215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verage Aortic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ortic pressure is ___________ related to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afterload results in a ___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greater force generation by the myocardium to eject blood into the aor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ing aortic pressure results in 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ntricular Contractil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contractility results in ________ 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irculating epinephrine and norepinephr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sympathetic stimulation of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actors that Regulate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14720" y="3436920"/>
            <a:ext cx="84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ac = Cardiac Rate x Stroke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12600" y="2289240"/>
            <a:ext cx="166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628400" y="4581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909760" y="4438800"/>
            <a:ext cx="148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843600" y="5681520"/>
            <a:ext cx="10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k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7970760" y="4022640"/>
            <a:ext cx="0" cy="44316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7985160" y="5105520"/>
            <a:ext cx="0" cy="9144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6637320" y="6027840"/>
            <a:ext cx="13572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645240" y="5102280"/>
            <a:ext cx="0" cy="93024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6630840" y="4016520"/>
            <a:ext cx="0" cy="44280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707440" y="534204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070520" y="480852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128680" y="227952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sympathe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3171960" y="306720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4772160" y="4002120"/>
            <a:ext cx="0" cy="8398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5608800" y="4792680"/>
            <a:ext cx="458640" cy="16992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149960" y="304488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23200" y="5753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study of the physical principles of blood f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09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hysical Characteristics of Bloo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quid portion of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ains ions, proteins, horm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ain hemoglobin to carry oxyg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____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nt in blood clot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____________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9"/>
          <p:cNvPicPr/>
          <p:nvPr/>
        </p:nvPicPr>
        <p:blipFill>
          <a:blip r:embed="rId1"/>
          <a:srcRect l="1300" t="4696" r="2599" b="4696"/>
          <a:stretch/>
        </p:blipFill>
        <p:spPr>
          <a:xfrm>
            <a:off x="1220760" y="1492200"/>
            <a:ext cx="6566040" cy="51404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580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blood composed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verview of the design and function of 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cardiac cycle &amp; associated electrical activity recorded via electrocardi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attern of redistribution of blood flow dur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the circulatory responses to various types of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4880" y="41400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63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ed on interrelationships betwe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_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767ff"/>
                </a:solidFill>
                <a:latin typeface="Arial"/>
              </a:rPr>
              <a:t>Since large increases in P are hazardous to health – decreasing resistance is the primary factor used to achieve increases in BF during exercise with a small rise in 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Pressu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flows from ___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___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al to the difference between MAP and right atrial pressure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BF depends on P at 2 ends of vascular syste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2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767ff"/>
                </a:solidFill>
                <a:latin typeface="Arial"/>
              </a:rPr>
              <a:t>P at 2 ends of a vessel are equal = ___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6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ood Flow Through the Systemic Circu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9"/>
          <p:cNvPicPr/>
          <p:nvPr/>
        </p:nvPicPr>
        <p:blipFill>
          <a:blip r:embed="rId1"/>
          <a:srcRect l="1101" t="3892" r="2202" b="5838"/>
          <a:stretch/>
        </p:blipFill>
        <p:spPr>
          <a:xfrm>
            <a:off x="228600" y="1752480"/>
            <a:ext cx="8686800" cy="45878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Resistanc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the resistance of blood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_________ change in vessel diameter can have a dramatic impact on resistance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1"/>
          <p:cNvGrpSpPr/>
          <p:nvPr/>
        </p:nvGrpSpPr>
        <p:grpSpPr>
          <a:xfrm>
            <a:off x="1981080" y="5076720"/>
            <a:ext cx="4800600" cy="990360"/>
            <a:chOff x="1981080" y="5076720"/>
            <a:chExt cx="4800600" cy="990360"/>
          </a:xfrm>
        </p:grpSpPr>
        <p:sp>
          <p:nvSpPr>
            <p:cNvPr id="206" name="Text Box 6"/>
            <p:cNvSpPr/>
            <p:nvPr/>
          </p:nvSpPr>
          <p:spPr>
            <a:xfrm>
              <a:off x="2059920" y="5381280"/>
              <a:ext cx="202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istance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4038480" y="5157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4038480" y="5608440"/>
              <a:ext cx="2514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>
              <a:off x="4038480" y="5609880"/>
              <a:ext cx="2514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981080" y="5076720"/>
              <a:ext cx="4800600" cy="99036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12"/>
          <p:cNvSpPr/>
          <p:nvPr/>
        </p:nvSpPr>
        <p:spPr>
          <a:xfrm>
            <a:off x="5497560" y="2709720"/>
            <a:ext cx="34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ce is directly proportional to these 2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5497560" y="3460680"/>
            <a:ext cx="35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factor determining vascular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modynamics: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the pressure difference between the two end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proportional to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1"/>
          <p:cNvGrpSpPr/>
          <p:nvPr/>
        </p:nvGrpSpPr>
        <p:grpSpPr>
          <a:xfrm>
            <a:off x="2895480" y="4267080"/>
            <a:ext cx="3047760" cy="1066680"/>
            <a:chOff x="2895480" y="4267080"/>
            <a:chExt cx="3047760" cy="1066680"/>
          </a:xfrm>
        </p:grpSpPr>
        <p:sp>
          <p:nvSpPr>
            <p:cNvPr id="216" name="Text Box 4"/>
            <p:cNvSpPr/>
            <p:nvPr/>
          </p:nvSpPr>
          <p:spPr>
            <a:xfrm>
              <a:off x="2973600" y="4571640"/>
              <a:ext cx="116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ow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5"/>
            <p:cNvSpPr/>
            <p:nvPr/>
          </p:nvSpPr>
          <p:spPr>
            <a:xfrm>
              <a:off x="4190760" y="4348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"/>
            <p:cNvSpPr/>
            <p:nvPr/>
          </p:nvSpPr>
          <p:spPr>
            <a:xfrm>
              <a:off x="4190760" y="4798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>
              <a:off x="4190760" y="4800240"/>
              <a:ext cx="1523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2895480" y="4267080"/>
              <a:ext cx="3047760" cy="106668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urces of Vascular Resist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P __________ throughout the systemic circ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st drop occurs across the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rioles are called “resistance vesse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essure Changes Across the Systemic Circul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9"/>
          <p:cNvPicPr/>
          <p:nvPr/>
        </p:nvPicPr>
        <p:blipFill>
          <a:blip r:embed="rId1"/>
          <a:srcRect l="2780" t="4500" r="4515" b="4173"/>
          <a:stretch/>
        </p:blipFill>
        <p:spPr>
          <a:xfrm>
            <a:off x="1438200" y="1452600"/>
            <a:ext cx="6004080" cy="51483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xygen Delivery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demand by muscles during exercise is many times greater than at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ivery accomplished via 2 mechanis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67ff"/>
                </a:solidFill>
                <a:latin typeface="Arial"/>
              </a:rPr>
              <a:t>2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ac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output increases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ar increase to 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d 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lateau at ~40% V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uptake by the muscle also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gher arteriovenous differ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514160" y="30243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HR = 220 - Age (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320" y="369360"/>
            <a:ext cx="4336920" cy="463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Cardiovascular Variables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9"/>
          <p:cNvPicPr/>
          <p:nvPr/>
        </p:nvPicPr>
        <p:blipFill>
          <a:blip r:embed="rId1"/>
          <a:srcRect l="5677" t="2817" r="4186" b="2142"/>
          <a:stretch/>
        </p:blipFill>
        <p:spPr>
          <a:xfrm>
            <a:off x="458640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3220200" y="618012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8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factors that regulate local blood flow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&amp; discuss those factors responsible for regulation of stroke volume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regulation of cardiac output during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Muscle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working skeletal 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Splanchnic blood flo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less active org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, kidneys, GI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2640" y="304560"/>
            <a:ext cx="3074760" cy="49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nges in Muscle and Splanchnic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9"/>
          <p:cNvPicPr/>
          <p:nvPr/>
        </p:nvPicPr>
        <p:blipFill>
          <a:blip r:embed="rId1"/>
          <a:srcRect l="1727" t="1497" r="5180" b="1497"/>
          <a:stretch/>
        </p:blipFill>
        <p:spPr>
          <a:xfrm>
            <a:off x="3436920" y="0"/>
            <a:ext cx="570708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2056680" y="578016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ased Blood Flow to Skeletal Muscle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4788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gulates blood flow to various organs during exerci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lood flow increased to meet metabolic demands of tiss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happens because of muscle vasodi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CO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ension, pH, nitric oxid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distribution of Blood Flow Durin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9"/>
          <p:cNvPicPr/>
          <p:nvPr/>
        </p:nvPicPr>
        <p:blipFill>
          <a:blip r:embed="rId1"/>
          <a:srcRect l="2422" t="2104" r="2422" b="2383"/>
          <a:stretch/>
        </p:blipFill>
        <p:spPr>
          <a:xfrm>
            <a:off x="320760" y="0"/>
            <a:ext cx="8823240" cy="68374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1600" y="63626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irculatory Responses 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rate and blood press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, intensity, and duration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ransition From Rest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Exercise and Exercise </a:t>
            </a:r>
            <a:r>
              <a:rPr b="0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Recov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id increase in HR, SV, cardiac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teau in submaximal (below lactate threshold)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very depends 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ation and intensity of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state of 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mental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112760"/>
            <a:ext cx="822960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 rate and cardiac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ches plateau at 100% V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m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olic 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with increasing work r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Double product – also called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creases linearly with exercise intens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dicates the work of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17840" y="563076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produc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m vs.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same oxygen uptake arm work results in hig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higher ______________ stimul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__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ue to _____________ of large inactive muscle m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267080" y="634032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4840" y="609120"/>
            <a:ext cx="3605400" cy="44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art Rate and Blood Pressure During Arm and Leg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9"/>
          <p:cNvPicPr/>
          <p:nvPr/>
        </p:nvPicPr>
        <p:blipFill>
          <a:blip r:embed="rId1"/>
          <a:srcRect l="1569" t="1506" r="3137" b="1506"/>
          <a:stretch/>
        </p:blipFill>
        <p:spPr>
          <a:xfrm>
            <a:off x="1336680" y="0"/>
            <a:ext cx="6159600" cy="6527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0" y="5361120"/>
            <a:ext cx="21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se 2 factors increase so will 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 flipV="1">
            <a:off x="439560" y="2141280"/>
            <a:ext cx="960480" cy="3252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 flipV="1">
            <a:off x="822240" y="4547880"/>
            <a:ext cx="542880" cy="880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diac output is maintai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de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increase in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67ff"/>
                </a:solidFill>
                <a:latin typeface="Arial"/>
              </a:rPr>
              <a:t>Cardiovascular dr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rift due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191120" y="634032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ardiovascular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R, SV, and Q During Prolonged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9"/>
          <p:cNvPicPr/>
          <p:nvPr/>
        </p:nvPicPr>
        <p:blipFill>
          <a:blip r:embed="rId1"/>
          <a:srcRect l="1648" t="2921" r="3295" b="1460"/>
          <a:stretch/>
        </p:blipFill>
        <p:spPr>
          <a:xfrm>
            <a:off x="2414520" y="1584360"/>
            <a:ext cx="4299120" cy="4879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0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ardiovascular Adjustments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 Exerc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9"/>
          <p:cNvPicPr/>
          <p:nvPr/>
        </p:nvPicPr>
        <p:blipFill>
          <a:blip r:embed="rId1"/>
          <a:srcRect l="2154" t="2466" r="3488" b="0"/>
          <a:stretch/>
        </p:blipFill>
        <p:spPr>
          <a:xfrm>
            <a:off x="1454040" y="1582560"/>
            <a:ext cx="6201000" cy="49118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7733520" y="6121440"/>
            <a:ext cx="128088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mps bl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Arteries and arter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 from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Capill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change of __________ with tiss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Veins and ven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ry blood __________ the hear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ructure of the Hear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9"/>
          <p:cNvPicPr/>
          <p:nvPr/>
        </p:nvPicPr>
        <p:blipFill>
          <a:blip r:embed="rId1"/>
          <a:srcRect l="3138" t="670" r="1943" b="670"/>
          <a:stretch/>
        </p:blipFill>
        <p:spPr>
          <a:xfrm>
            <a:off x="1406520" y="1171440"/>
            <a:ext cx="6221520" cy="5500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7732800" y="612144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lmonary and Systemic Circui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5760" y="91764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Systemic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 blood to the whole body via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____________ blood to the right heart via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89560" y="914400"/>
            <a:ext cx="416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767ff"/>
                </a:solidFill>
                <a:latin typeface="Arial"/>
              </a:rPr>
              <a:t>Pulmonary circ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side of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s __________ blood to the ______ via pulmonary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___________ blood to the ________ heart via pulmonary 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Myocardi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9"/>
          <p:cNvPicPr/>
          <p:nvPr/>
        </p:nvPicPr>
        <p:blipFill>
          <a:blip r:embed="rId1"/>
          <a:srcRect l="745" t="347" r="0" b="693"/>
          <a:stretch/>
        </p:blipFill>
        <p:spPr>
          <a:xfrm>
            <a:off x="306360" y="957240"/>
            <a:ext cx="8123400" cy="5618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75920" y="6149880"/>
            <a:ext cx="1112040" cy="459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g 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14:33:06Z</dcterms:created>
  <dc:creator>Brian Parr</dc:creator>
  <dc:description/>
  <dc:language>en-US</dc:language>
  <cp:lastModifiedBy>sai</cp:lastModifiedBy>
  <dcterms:modified xsi:type="dcterms:W3CDTF">2012-01-04T08:01:52Z</dcterms:modified>
  <cp:revision>44</cp:revision>
  <dc:subject>Circulatory Adaptations to Exercise</dc:subject>
  <dc:title>Chapter 9</dc:title>
</cp:coreProperties>
</file>