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D3CF-2A2D-4912-9282-B5A6298179A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BFEF-3436-4956-8751-5D1CFE31E0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A6C9-B8BE-47DB-A506-791A8C9C45F7}"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7E82-01E5-4CFA-A777-833A1791ABC1}"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2941-C1BA-4A7F-BC1E-BBA99C3F9329}"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1A15-50AF-4109-BC59-E1DBBA73BA81}"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B05A-2BC3-404F-B74E-D730E66CD72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CFBF-2665-4746-940D-CEA37893AA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A717-FF1E-464C-B2A9-A4BA4938B6F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4637-2CDF-4E0F-84DF-12F5E1CD9F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ACFC-80FA-4212-AAD1-AB29AFB46E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6C5A-CCC5-454E-A400-295BA77D99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148E-5C38-48ED-8621-3730FD9273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CB15-0E49-4C38-A3F4-098B90A3D1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B648-CB86-4D3D-81D5-CCE6099F78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A51B-6245-4EF2-8FC2-B5CCF550F0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F966-7A6E-47AA-892D-8DE4B5B03F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613F-271F-42E6-B7F5-B138CC6638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77B1-F241-47AC-8C17-AFDA9C64228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8665-9C9D-469E-9F4E-F5FB9CBF2ED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1362-3ADA-485D-8A1C-783CFF036674}"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C562-12CF-4A2C-9383-8B5814066F90}"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6ED7-6C6F-4260-9845-25224FABEA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9A55-3022-431D-92CB-F99DC41F74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1E2B-FD9D-44A0-824E-67174A6AA8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FC01-2D1F-42D7-A0CE-0808C39127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F033-F29E-442F-B54A-401BC9E945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21F3-14FF-4B6B-8397-193EA5EB6C6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493E-38DC-4DE8-9FE0-EA52496B83EA}"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B29E-9B42-4BEE-86D6-EAD4EE79B8FD}"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09FF3-A923-4785-AD1E-CE7894843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B58B-FA66-479A-B51B-D39323699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8D39F-EA1E-4CBE-9118-8DADD7D62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3B9DF-9219-4EB7-8611-B9A8B54BA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43E94-7842-4FE3-B087-FB8C398DF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7B43-F523-4AD2-95DE-AC2AF4CE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2449-DD44-4521-9C72-4A5DA1106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D2DB-7994-4479-A026-090BFD672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314C-D544-4F7F-BD77-5F0C541A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0D65-C92F-4CFE-83D2-BAF423F60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BD55-D570-4C9C-A2C3-DACECF88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CF3B-D003-466C-96C3-DBEAF1722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84EEC7FC-1E6D-4BFD-9C30-B001272FB3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education and skills 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developed countries fail to complete their assignments, and almost 70 percent of Americans assigned to developing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0E9C-EA8A-47B1-8117-0D33DE85A195}"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 All rights reserved.</a:t>
            </a:r>
            <a:endParaRPr b="1" lang="en-US" sz="1000" spc="-1" strike="noStrike">
              <a:solidFill>
                <a:srgbClr val="000000"/>
              </a:solidFill>
              <a:latin typeface="Arial"/>
            </a:endParaRPr>
          </a:p>
        </p:txBody>
      </p:sp>
      <p:sp>
        <p:nvSpPr>
          <p:cNvPr id="13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B1FF720E-CE77-4A7D-901E-7E8504B782ED}"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9"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3"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AEE9-439E-4CCA-B475-66F4007952D0}"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5"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6-10-08T17:16:55Z</dcterms:modified>
  <cp:revision>83</cp:revision>
  <dc:subject>Chapter 17</dc:subject>
  <dc:title>Human Resource Management 10e.- Gary Dessler</dc:title>
</cp:coreProperties>
</file>