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34DB-C4F9-4DE4-A588-9B751389D2B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8479-A5BE-46C1-AF5B-AE859E9BE5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63F0-9A6D-4E3C-B25B-7E341BAC9FD5}"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FDE6-D583-4945-A9D3-1B52BE9BF717}"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86FC-B9E9-4C79-BE95-56E8F20A267A}"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5FD5-AD6C-4291-9E8C-A5F57C612208}"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8147-29F6-43AF-B61B-76B4B76391FB}"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F464-A181-49BD-9A26-0BD6642B72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57DF-EC9D-4F61-B73A-FFA2215BC3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74A0-8A43-4EF9-A300-3DED92C22F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428D-BE47-472C-B73D-35F8E435CA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DC42-CF6E-4F56-94CD-2367D896DD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5CDB-D5A6-47E0-A48B-36B3A51BDC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AF3B-789E-4311-9480-61EBBD3D5E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BAB4-4186-4DFD-9618-0AD4F5BFC3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EDF7-3AD5-47E4-9ABB-F4F9BE5730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2008-21C1-4D2E-8194-923E2FE5F0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7EC5-117F-4D66-990C-1F51E7928E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19C3-288D-440D-8E1F-8B5D94E2B1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8408-B8D0-4332-862F-01889B9CE9CF}"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CD74-8151-4059-BA6A-0DDFAAA42D0B}"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17EC-8438-4A94-9AD9-385F79DF6AAE}"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5812-F649-48FB-A10A-9C4D0DE930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3964-A0EB-477C-91BE-DFB2FDD79F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E5FE-B398-4F1D-ADF6-BC6532D6E4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D189-DE58-46DC-A47D-1F00B90B93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9147-C8B9-4554-A8D0-BFB19EB56C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5843-E4F3-44CB-9F23-31516BE9F8D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1FBB-CEE0-4F3C-9EE9-43868C05F419}"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0DD1-F59A-4D2C-A660-5BA938D3FB39}"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B5EE2-A81D-49A9-97D4-EA3575FB5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B02AF-4912-4ACF-9C2F-0BD48E04A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EBFF9-0636-412E-BB4C-285E7BDD5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4DD54-0C60-4FC2-B2CC-5E7D0CEB5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CAA8D-D275-4623-A15E-C5985699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8764-0034-4261-905C-A0CBF5F8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EFF1-DD19-4C49-AD15-E847B6B4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5BD6-E4CF-43FF-8353-2A5C3B08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EFB9-B37E-4619-8DF0-CB6CFF59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0EB4-A523-4225-BF7C-E710BAE1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E46B-560C-4AFC-BC66-53D5EA4C0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8D60-DDB8-48AB-9BB3-D45AA0ECB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75559521-AEAB-4A29-A249-D10CAD79F3D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education and skills 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developed countries fail to complete their assignments, and almost 70 percent of Americans assigned to developing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C6F2-2CA8-4C14-9DE9-F20E32CB40D6}"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 All rights reserved.</a:t>
            </a:r>
            <a:endParaRPr b="1" lang="en-US" sz="1000" spc="-1" strike="noStrike">
              <a:solidFill>
                <a:srgbClr val="000000"/>
              </a:solidFill>
              <a:latin typeface="Arial"/>
            </a:endParaRPr>
          </a:p>
        </p:txBody>
      </p:sp>
      <p:sp>
        <p:nvSpPr>
          <p:cNvPr id="13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02154E32-2287-416C-8553-595C69C018B3}"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9"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3"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50F9-120A-4AD8-AC26-586F59B58476}"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5"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6-10-08T17:16:55Z</dcterms:modified>
  <cp:revision>83</cp:revision>
  <dc:subject>Chapter 17</dc:subject>
  <dc:title>Human Resource Management 10e.- Gary Dessler</dc:title>
</cp:coreProperties>
</file>