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75A0-A752-4443-AE46-F3A22608FE7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43CB-5088-4701-818F-C93892142E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87F4-7045-426D-BD9E-360EB9337131}"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E580-EA28-4343-8AC3-5288180C2DF4}"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7473-AF1C-4F8E-8978-C17C8CC6CB74}"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4234-7425-4147-8AAB-4FC0EDC3798F}"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6B73-AE9D-42DD-8023-6B2BEEBBCAAA}"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DBAC-1FD9-4BA8-A6FA-27ECB36641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85FF-1E63-4B03-9B1B-EEA1C353FC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02D5-BEBA-4DFC-B3A1-EDAD4705B6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2423-6CA3-42EE-99B0-3AF4D4D301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87B3-D210-406C-9FB5-9A2B499DAE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F49B-3BB4-4C05-A062-1CCA038EF9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C1B1-B16E-4611-8C77-51C05B3ABC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D4A2-C285-4365-9EA1-748F6E769F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7B66-B4AC-42D5-8ED5-CD3FB66C25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8EAB-E69F-4581-993F-C44A7C82C2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7CF0-CBA7-4A97-9D3E-E036195C01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591E-D2B5-4233-9093-9B02BB8939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E17-188D-470E-A83B-B54C535AAB47}"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47FB-BB7C-4807-9B10-10D0D283676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61E5-ADED-499A-A0B4-0E900986E8DE}"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C2A4-CAFD-4F96-9888-CEF244613F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154C-6EFB-486E-8627-A96202B7BB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A5A3-3B5E-475F-8479-2B505C9370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343D-7489-4598-B12D-0872C2EE11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D53D-4496-4D7E-BD79-3A4020C8700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98EC-1ADC-4E61-BF9C-A6429C526D5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0129-56E0-4E80-81A5-61B14FC0586D}"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52EB-91AE-42A6-840D-C5FADF8CAB23}"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5D5B-F3F2-4395-AC40-9EB00731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EEAC-A91F-4C6D-8D48-742A620CD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23EEC-B1F8-4179-B239-90EF6A192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09A40-5C87-430B-AECF-B11BA2917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81D2-1D54-4638-BF9A-BE942C36D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B957-5A2E-4482-9469-8A46C5BF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C545-918E-42F1-8E9A-EC173FF4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B19B-5F56-4BC1-A17E-57A02FDBC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FE68-DEC5-42A2-95A3-4CFE8DD7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BD7E-BAD3-412C-8CDD-D0BF8BAA2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371F-63ED-45B5-BE46-F92F72873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DF93-B7EF-40E1-93A0-EFDFB13F4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04DA8EB6-43E7-4892-9AE4-E1FEBF1FFCA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a:t>
            </a:r>
            <a:r>
              <a:rPr b="0" lang="en-US" sz="2700" spc="-1" strike="noStrike">
                <a:solidFill>
                  <a:srgbClr val="ff0000"/>
                </a:solidFill>
                <a:latin typeface="Calibri"/>
                <a:ea typeface="MS PGothic"/>
              </a:rPr>
              <a:t>education and skills </a:t>
            </a:r>
            <a:r>
              <a:rPr b="0" lang="en-US" sz="2700" spc="-1" strike="noStrike">
                <a:solidFill>
                  <a:srgbClr val="000000"/>
                </a:solidFill>
                <a:latin typeface="Calibri"/>
                <a:ea typeface="MS PGothic"/>
              </a:rPr>
              <a:t>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a:t>
            </a:r>
            <a:r>
              <a:rPr b="0" lang="en-US" sz="3200" spc="-1" strike="noStrike">
                <a:solidFill>
                  <a:srgbClr val="ff0000"/>
                </a:solidFill>
                <a:latin typeface="Calibri"/>
              </a:rPr>
              <a:t>developed</a:t>
            </a:r>
            <a:r>
              <a:rPr b="0" lang="en-US" sz="3200" spc="-1" strike="noStrike">
                <a:solidFill>
                  <a:srgbClr val="000000"/>
                </a:solidFill>
                <a:latin typeface="Calibri"/>
              </a:rPr>
              <a:t> countries fail to complete their assignments, and almost </a:t>
            </a:r>
            <a:r>
              <a:rPr b="0" lang="en-US" sz="3200" spc="-1" strike="noStrike">
                <a:solidFill>
                  <a:srgbClr val="ff0000"/>
                </a:solidFill>
                <a:latin typeface="Calibri"/>
              </a:rPr>
              <a:t>70</a:t>
            </a:r>
            <a:r>
              <a:rPr b="0" lang="en-US" sz="3200" spc="-1" strike="noStrike">
                <a:solidFill>
                  <a:srgbClr val="000000"/>
                </a:solidFill>
                <a:latin typeface="Calibri"/>
              </a:rPr>
              <a:t> percent of Americans assigned to </a:t>
            </a:r>
            <a:r>
              <a:rPr b="0" lang="en-US" sz="3200" spc="-1" strike="noStrike">
                <a:solidFill>
                  <a:srgbClr val="ff0000"/>
                </a:solidFill>
                <a:latin typeface="Calibri"/>
              </a:rPr>
              <a:t>developing</a:t>
            </a:r>
            <a:r>
              <a:rPr b="0" lang="en-US" sz="3200" spc="-1" strike="noStrike">
                <a:solidFill>
                  <a:srgbClr val="000000"/>
                </a:solidFill>
                <a:latin typeface="Calibri"/>
              </a:rPr>
              <a:t>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2E13-B3B8-4E47-953D-9D0DC1BCA2E2}"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F54A4027-FC53-4634-988C-D7609EB6C595}"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8"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0"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2"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E01B-64B4-4724-9BDD-3D54A830253A}"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4"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7-03-09T08:04:56Z</dcterms:modified>
  <cp:revision>85</cp:revision>
  <dc:subject>Chapter 17</dc:subject>
  <dc:title>Human Resource Management 10e.- Gary Dessler</dc:title>
</cp:coreProperties>
</file>