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5028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28600" y="20570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thics of Manufactu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d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6108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 Duty to comply: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g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nthrop Lab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rkete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painkill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it advertised as nonaddictive.  A patient using the painkiller became addicted to it and died of overdo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urt foun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nthrop responsible for the patient’s death becau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hough it had expressly stated that the drug as non addictive Winthrop La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d failed to respect its duty to comply with this express contractual clai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Duty Of Disclosu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greement is not obligatory unless both parties to the agreement knows what they are doing and freely choose to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ller who intends to enter to contract with a customer has a duty to disclose exactly what the customer is buying and what the terms of the sale 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ller has a duty to inform the buyer of any characteristics of the product that could affect the customer’s decision to purchase the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 Example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product the consumer is buying possesses a fault that causes a risk to the user’s health or safety, the consumer should be so info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ler’s should also disclose a product’s components or ingredients, its performance characteristics, cost of operation, product ratings and any other applicable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Duty Not To Misrepresen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representation makes freedom of choice im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representation is coerc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erson who purposely misled, acts not as HE would freely have chosen to act if he had known the tr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uty Not To Coerc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ople act irrationally when under the influence of fear or emotional st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a seller takes advantage of a buyer’s fear or emotional stress to get authority to an agreement that the buyer would not make if the buyer was thinking rationally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eller is using pressure or unwanted influence to coe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  Criticisms of the Contractu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s makers of products deal directly with   consumers but they do not deal directly with th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ers can remove all their duties to buyers by getting them to agree to disclaime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es consumer and seller meet as equals, but seller has more knowledge so consumer must rely on the sel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 Due Care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 that because manufacturers are in a more advantaged position and consumers must rely on them, they have a duty to take special care to ensure that consumers’ interests are not harmed by the products that they offer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a duty to exerci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e ca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event others from being injured by the product, even if they clearly disclaim such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1  Manufacturer’s Duties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n Due Care Theor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designing produc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its risks in conditions of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it so risks are minim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capacities of users into acc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productio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trict quality control to eliminate def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materials and manufacturing do not add faults or ri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marketing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users with information about using product safe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n of all dang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market to those unable to avoid ri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2  Criticisms of  the Due Car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447560"/>
            <a:ext cx="85341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indicate who should pay for product injuries that cannot be fores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way to determine when one has exercised enough due care. Every product involves some small ri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eory assumes that the manufacturer can indeed discover all the risks attendant upon using a product before it is actually used and this may not b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Costs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iew that a manufacturer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hould pay the costs of any injuries caused by faults in the produ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even if the manufacturer exercised all due care in designing, making, and marketing it, and the injury could not have been foreseen.(expecte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duct injuries are external cos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should be internalized as a cost of bringing the product to market, this maximizes utility and distributes costs more fair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Though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f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manufacturers go to make their products and services completely saf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ationship between a business and its customers? a contract, or is there more to it than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do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t that companies usually know more about their products than their custom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ir duty to protect customers from injury or ha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responsibil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businesses have for customer injuries no one could practically have predict or prev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1  Criticisms of the Social Costs the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Unjust to manufacturers since compensatory justice says one should compensa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pay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jured parties only if the injury was foreseeable and preven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77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alsely assumes that the social cost view prevents accid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stead, it encourag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umer carelessness by relieving them of responsibility for thei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User\Desktop\hqdefault.jpg"/>
          <p:cNvPicPr/>
          <p:nvPr/>
        </p:nvPicPr>
        <p:blipFill>
          <a:blip r:embed="rId1"/>
          <a:stretch/>
        </p:blipFill>
        <p:spPr>
          <a:xfrm>
            <a:off x="1905120" y="12952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Ethical Criticisms of Marke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service to consum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gerous and risky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eading selling prac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ly constructed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to respect warran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eading and unpleasant adverti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kets and Consumer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that wish to be morally responsible in providing products that meet a high standard of safety may face problems competing against firms that make unsafe products and sell these products at cheap pr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rs must produce more safety products or they risk losing customers to competi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lots of cases about the injuries happen to the consumers, each year som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mill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uffer serious accidental injuries and about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.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killed, more than half of them in accidents involving consumer produc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Ethical Duties of Manufactu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ct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ue Car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Costs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Contract Theory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4756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ct View of Firm’s Duties to Custom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ew that the relationship between a business firm and its customers is essentially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ractual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 firm’s moral duties to the customer are those created by this contractual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  Moral Duties to Consumers Under Contractu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SzPct val="112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ying with the terms of the sales contrac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to comply) 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pply the  claims of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i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vice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intain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af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losing the nature of the produc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of Disclosure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ing misrepresent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Not to Misrepresent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3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ing the use of force and unwanted influenc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not to Coerce)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1. Duty To Compl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the duty to provide consumers with 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t that respect the claims that the firms expressly made about the product which led the customers to enter the contract freel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 The claims  of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(a) Reli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bability that the product will function as the consumer is led to expect that it will func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(b) Service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eriod of time during which the product will function as effectively as the consumer is lead to expect it to function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c) Maintainabil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ase with which the product can be repaired and kept in operating condi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arr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d) Product Safe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gree of risk associated with using a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6-10-22T18:19:46Z</dcterms:modified>
  <cp:revision>56</cp:revision>
  <dc:subject/>
  <dc:title>Ethics and Business</dc:title>
</cp:coreProperties>
</file>