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Lst>
  <p:sldSz cx="9144000" cy="6858000"/>
  <p:notesSz cx="6858000" cy="9144000"/>
</p:presentation>
</file>

<file path=ppt/commentAuthors.xml><?xml version="1.0" encoding="utf-8"?>
<p:cmAuthorLst xmlns:p="http://schemas.openxmlformats.org/presentationml/2006/main">
  <p:cmAuthor id="0" name="Kate Stephenson" initials="K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presProps" Target="presProps.xml"/><Relationship Id="rId49" Type="http://schemas.openxmlformats.org/officeDocument/2006/relationships/commentAuthors" Target="commentAuthors.xml"/>
</Relationships>
</file>

<file path=ppt/comments/comment12.xml><?xml version="1.0" encoding="utf-8"?>
<p:cmLst xmlns:p="http://schemas.openxmlformats.org/presentationml/2006/main">
  <p:cm authorId="0" dt="2012-04-05T11:56:44.598000000" idx="1">
    <p:pos x="10" y="10"/>
    <p:text>The note does not seem to belong with the slide. Please review.</p:text>
  </p:cm>
</p:cmLst>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7"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0"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1"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27AFF-FF41-48FA-8910-9F74A47D8E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5A24D-5D8F-4334-B5F5-1A76A7A89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9A77C-6375-430F-ADBA-121025552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F474D-9CDD-42B4-B915-D1DAD6AA7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055DA-2D62-4D93-A461-287425D77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4E85D-9292-4B52-BE6C-90EA138968F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DD42F-FAF2-48D5-BABB-082F5DC8C61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526B1-84E5-4AA1-A77B-78E3FAE34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0FC71-E0E3-4712-98B2-71EE2F9F9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2B05B-D12B-4576-8B10-5ADFCFCBB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CFACD-D7F5-455E-83CB-273526B70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3EE78E-5F3B-4905-9085-14352C03D2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43938-CF64-4DBD-A2D2-3C511F905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8840FE-091A-4299-B191-BB99C8DDB0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A6CDC6-CEFB-47D8-AF41-A2AB898E96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296AA6-BEFC-4017-A895-FBFE91CAAF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0B8CA4-C89F-4B50-B48A-E7DBD4C409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997ED8-944E-412E-83A3-3EDFDD9A42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44D32-3555-41DB-B550-299500CE2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6016DB-867C-4A83-B65E-3F5BA8ACB4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CBB007-81EE-4393-A9FF-894E3546A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95EBD0-431D-4D0B-A884-38AD88D89A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615D2E-21EF-4394-8A77-2FA97E040B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9B2AE-177B-4B2A-AE17-CEC05A12E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9571AC-C6C3-4807-8267-97DAF81F37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52C5F926-5202-4115-A109-E755C19E76BB}"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A704D8BB-366A-4AD8-9108-8917764C32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92022B92-70FD-45BE-BFB9-1A111E8C58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0213D667-468F-4A02-89ED-D824E8F240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0161409D-1095-4D7C-AEEC-0E919E3BB1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CDD26B51-F66E-404F-A1C8-F37A68C7FC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0D20A123-47E3-42B7-9A6D-47A7C13371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60E6D36F-38B5-4B3F-8DDB-11B0663A12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D7B56686-41D9-4909-8D32-CFBD3A38A5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2AC9D-3EA6-435A-A4E0-FEB3D0F63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A142C289-A3CC-445F-A615-E7529A1C71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B2619BDF-3CCC-4A5D-AA79-A6E6343D9D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24F2218D-E38B-4845-AFD5-847F364A52B1}"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47C9B81-A5B6-4DB6-8D23-AD1CE1ECA32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9914252-0E14-423F-81EB-F33C3E038B1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7647FD0-2567-4E84-A45A-1BE5F4BE8FA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CA3C83A-37FC-4EB1-AB8B-8FFF66AE5C6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05D5F56-8D66-41C6-822F-8F746A9C0D0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4500E89-6D3E-470D-B498-2A10FC715A8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BD93177-DE08-4042-A241-A404B93F0A1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083A7-D885-4EE2-9AFA-079CC4B8C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FF09C19-4A06-49CD-A94D-AE72A041D50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8711AE7-E1DF-41BD-99B0-DEA986720DD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01CCBED-0694-4647-B11F-CF996D32815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89E561C-09BE-43A1-AE3A-B1B5CAB8556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11AEB12-ED3B-4E29-80D0-2D45ACC0A82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960190F-ACF3-4122-9B4E-FDA84CA26A3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91557BE-4874-42D6-A081-A20D5311A33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599CD4C-7EC8-4B1A-BBFD-799C022A673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A8C385D-46F8-4214-B0E2-F758ADD97F1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286AF14-45AE-457D-97F2-1CE79A4E08B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47895-D3D8-4B75-99D9-FFF589652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2139E18-D49C-44CD-B9C6-875ECF539AF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1852503-A752-4B35-A003-BE9A02C87A0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47CAF68-C203-47A8-82EF-C996A6D64CE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9166BD2-F79D-4490-9E32-AF048BE88FB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C4A6922-9B88-4A3C-BE4A-43E52CC388A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63E8618-8001-46A4-A9EF-73EB18E16BA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134736E-E276-45EA-8812-BFE703C3724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ECB1BEA7-C0E2-4A61-A461-99B431E997A5}"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252D2E02-A7FB-4DB2-907B-BA7995D3FAB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3CD461A1-1182-4BFB-8C5F-1A671C85BFA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E6B5B-AA79-4B70-A898-78CA5E55B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9A6C7C2A-0E07-42D4-8ED4-FA5FB4CD19D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2C359F63-1BBE-4787-90A7-3F74D02A461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A510C0A9-C28E-4D75-B823-2AEBF4D9C8A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01A6F9D0-24DB-461B-870C-D0C1858C450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04AB7ED9-331D-461A-9713-0B8BDF82A63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839A9F53-CC93-4DEB-B517-449E006B40C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9AF03F05-544C-43BD-A2FC-0370E62D123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0BAD857B-4B4F-45AA-9D0B-BDAC5E8320F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B354AE2C-87C6-4418-B238-05D84387F251}"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096E50F6-F84C-42EF-B889-8CE540D2ABDB}"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4AA67-A279-481F-9458-41B2B3269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D5BFB36C-8528-4414-8BD3-22D1213372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F59B26C3-3D91-4E60-9E5B-DFF055A414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BCD89997-1FCB-4AC2-9A4F-6240E360E6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5793CD25-E88D-4AEA-9AEE-CFB3C85C1A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2C1BD14F-50E0-4885-8419-5D18727C5A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13FCA58F-3E0F-41BB-9C71-E4573D3E04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2543A045-3861-4483-B0C3-50351328AC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3C127559-02B2-4101-8F8C-88A5AF0BDD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3F576633-9C68-4BE4-BC24-43B008379D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172A16E6-1A8A-44AE-9FA3-8F610BD33E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ED34D-F543-4635-8444-CA438C3B8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482D954B-6C3F-4128-A47A-C8FB2A5CEA4E}"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28CD84E-E3F9-4837-9B45-03FE18C860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308E88-4AB1-42A1-B2BA-A75FC9CE22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66B188-3466-4B0D-9D1F-7CDFDDFD7D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8DF1C0-2CC7-46F5-ADF3-D559BC4724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C9EB132-9532-4BAF-8A68-2490790DB9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E06A0A-8DD4-4569-90C0-9864401D77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8E7BF1-96E5-403D-B8E8-0F14358EB5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E382E0-9738-489E-A166-C8C01FEC7F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FF8A21-FFD7-40E8-BB70-564E3C1D4F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71292-24DC-44F1-982A-0669A225D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5F5218-2A09-47BF-855E-47C0CA848B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8333ECA-84F7-4938-884E-BB26FF2299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57D83E3-1A12-4AE3-9E49-F5BCE5294A7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CB49BDC-A939-4526-BEE1-F52887077B0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8536D75-9284-4BCF-ADBB-94CD5866039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1D4D79-CF62-46CC-BCDE-1F9E3F8AD6D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EB2AF0-C6FC-4E2A-8CD0-52EE4D14CC6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3D800F5-3B34-4ABC-8EAD-3B5EE71763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397D1D8-510B-4C29-85FE-40681B78F6E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6C6610E-4452-4D05-A3AF-1102B853ED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47AF5-C61A-4E1B-AEA3-562845BF9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743D4-80E8-4960-B14F-1E65F8805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EE2577-8FA7-4DB1-9B25-B66880A0D5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D1B3F5-3E26-4D64-8DD0-5122924C10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CC279E-DDB5-407B-AEB2-D5D06E7383C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5B7FBE8-4A11-4AAB-817C-D8CA63E6B78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D14E84D-6270-4DD0-A142-D8A7E9EB5F1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FFF434C-E621-40E3-B2BA-616D4FE31D2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E7CEF8-0694-488C-85B3-335B270C177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5C472E-FE97-4536-9524-71B6BC87A6A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6FA46B-44E4-4274-BCE2-09264576B6B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EA8ADAE-CF95-4EAC-8F28-EC453017109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93F97-AC2F-415C-AFE9-63200134B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14E0D0F-0123-4D81-8E8F-BC4885EEB63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2CBEE5-B508-4791-8161-CAA0FF65E27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A44336-ED4D-42BB-B30D-097666167D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4AEBFD-C282-4C3F-93EE-15211FC602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E98B65-CA28-4351-AE8A-B1802BF8CE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AF1DE45-CD5D-4F15-AD9D-8F830574837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6318832-16BB-4B60-A895-409821CE4FA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2FC9457-326B-402A-820B-D77ADC44B28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992463C-39E6-4B98-BF61-59541358AB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3FE5835-C6A5-4155-868D-8CA500C39E0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C8D7D-4539-4C18-801E-287B80F30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A62C348-FD43-4E1A-B30F-0DBC7B9577C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0EEEF9E-747E-453B-B423-8C18FA0EC76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09C78C0-9E8F-46D3-AA4F-9D9945E9BCD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31C89C-0724-4025-82D2-B718E214219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210CF6-C2F5-46F8-B86F-E3EBE44354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98754A-AACB-4999-8735-293A629702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CFA62AB-0851-4171-BC8D-11503B3BAF8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3391B75-12EA-444F-AC70-7C504AB3C17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3D9EFE1-1CDE-4F65-8E22-A9E448042D7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9CA0A85-052A-4D0F-9495-110BEF757BD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A6CC4-2BE4-4184-8AC7-172C37062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F1FD71F-5E8A-4C3C-A934-467D9831338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C309C76-E50A-4C90-973E-567FE5F83B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27F227E-865C-49C3-846A-40ECBD0A6AA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4B9F91B-55D2-48F5-B421-E84EC380151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AC14E91-0EE6-4B10-87F4-DB3D744B934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9909F4-0750-440B-9A0D-007BEE54CD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959D78-8916-40EA-8912-61CAAFCE99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1D32D7E-1568-4410-91D5-9158988F1E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4260DAD-7FCD-46E4-BBD9-A3BA7A00F9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8ADDFBC-ACA3-4B51-9F7F-D534F1B71F9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B8AAC-85E5-452E-B0E0-108D901FC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4B53468-A97D-474F-A32A-9A2A02BA8B2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0F1499C-DA9F-4586-A591-FB9AC100842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C778094-7F99-4173-BDF9-2B2601FC73B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29C31A3-4ED6-4CF8-B887-596A63789C5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06C6A4C-4F38-4E25-BF65-222C818BBDB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9C7DC15-E840-4C0A-A3C0-1021AF35BE6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17AD347-C941-4AFD-A4E4-FBD3FD3B1A4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B538FDA-462C-4DCF-BD7D-08EF67EC637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A4803C-447C-43D7-8268-A8386AA2F3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A7E40A8-3903-4714-86A1-E91DF5091D1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54A8DB-FEEB-4D81-BA71-DC6F56FAF4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68956E8-7322-4E4B-82A9-3C82FAE07B7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2157E31-6406-46A0-9662-7BE9A306A34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4D30865-E509-45BD-A6B1-2B443BCC2A9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87186CC-31A3-488D-BA8D-1557B83DC8C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3DEE507-4258-4B2A-B4E3-AF99C0A2A76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08C3494-B7C8-4C74-B0AB-0BF5130FBB6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D5ED590-624B-4EB6-8D7F-EC837D77D5B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34B073B-D8BF-4579-9F49-B4FEC44A39A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24686F4-E932-4A11-A42F-5CDF0747537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B126982-9C0F-401B-9166-4556CF95DBA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786AD-4785-472E-B6AD-DF203F1BB4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9F5FF56-4BFC-4C1E-82F9-86CB702ADCA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1A105CB-046B-4EB1-8847-0A5ECB68E6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D18AEEE-B473-4FD2-8303-A4721F86D28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BA25929-2953-4775-A3D1-3873ACB6DA2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E952478-3251-4E95-8105-ECD4D828A62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1735507-1F00-402E-82D1-30FF4428322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655682F-9E20-4F15-8226-62A0916D937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CF75302-72A2-48F7-BE0C-11D1C87FEB9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EECFF3B-6320-4B34-93BF-42C7889F18C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23D5981-D0D9-4002-AEF4-A47E39D6339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732CE-2A31-4043-96D3-DD46336C5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CA2DBA4-9DE5-48C4-B455-E8C991305D7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BB2AF67-9683-4FB3-B798-AA62848B6CA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5AC40F1-5D84-4B4C-BC32-27BA3FDFA1F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102AC6A-E40B-493D-A9EA-06CE91A9206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1504036-A77A-4A2C-AE91-DCB6C871B18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34B6CA6-D0D9-4945-915B-BF900CB35CB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F4B8FB5-8462-483F-AA27-6A4699BE9EA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11F0644-3BA0-42C4-A1BC-106A1FADD4E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9B328EB-572E-43DE-A516-33AD9121D03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65FE00D-6C1C-4578-96D5-E76E6B1F9B1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065BC-8CF6-4CBE-A751-E20EE97D3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6506CF1-945C-449C-A8E0-DAF92834A09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38396C0-0C17-482B-8AA6-93E47978701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4BB43AB-4073-403C-8817-E539D548EF4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00B938D-0756-4E6B-B5FB-C559501CE96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34F9CEF-60C1-46BB-9507-BD357DAA459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8D5ADAF-CAD1-4510-9B15-9198DD8D02F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AAC8391-B29A-41AC-8EB8-84652686E74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82E4E4E-B96A-4EA3-9118-A4BDE8A90EF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B5DA941-885B-4509-ACED-5B63D7DE58E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5A250-7522-4BA3-8FF9-5493279FD2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ED270-360B-4412-9DE2-32B6FED4C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02577-CF02-4391-915F-C667F24DD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53493-DB9E-457D-8295-E183317A1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453E5-4E2C-4902-8C76-830165291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99114-8373-4113-8612-192BAC11E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C66AFD-9C25-4D20-BB77-3EA0B682B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6A3D7-1A31-494C-B27F-CFD1A51D7C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5EF8C3-D412-4799-AD90-D122B590D5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FC8AD6-847C-4E66-AD65-F828F6C04D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E4699F-5C21-42CA-924D-4279A48938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7F382-31A1-4E29-A073-B4894EE07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E2E76-FDBF-4D3B-9A5A-490EA62F3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E057FE-C5CF-4364-A81F-41095D3239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FDCAA-3DA9-4C0F-AA4C-0B47436D3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D3463-778B-4C43-A9B3-0C419367EF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D61080-47D7-4AB5-9F30-5E7BD2554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D9255-4A5A-445B-A1E3-B1C7750C3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E94A2-B228-4ACF-B3A1-55F2D6876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93E93-EA5C-48E0-A676-6F832114D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F0D8C4-4694-4AC6-867D-527980D7BA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0CAE07-B91C-4207-AC7B-16442EAC00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E8FDC6-26E5-44EB-B36A-CA02F7810E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4E6DF-530B-4813-93F1-E24B12DE5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ED720-0368-41EE-9400-AF25467BB9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99FAD-4F87-4D26-BF2A-E453D40CFC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1F9334-19E8-4FB4-BF52-85C8E3919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D6C23-3B8D-4140-BA5A-5F6DC4422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505B8-70E1-484E-8607-2DEC78BCB4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C9302-C754-4888-B8B9-A8588421C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D0BE4-CA3F-4600-8C17-1F0F28EBE9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9CAED-AA10-4353-A4DD-E343D0917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79A68-0E7A-4656-8E87-C64E7F30B3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71A822-CA8A-4E41-96C8-2BC559D49B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8F2EF-9301-41A9-9FE4-AD16A3A80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83806-6CB6-4EAD-B0CC-F6185E9179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56A0E3-54E9-44E1-9A72-9110CA3EB4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26520E-B08C-47A6-932A-F1A111E714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C0D264-CFCF-4FAB-A2E4-43D8D266C9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A51C7-2637-4FB6-905E-E47B98650C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9F4C99-ED26-46C6-8014-4F39B46910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7EEEC5-3315-415B-BC5B-E37B642814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DF6953-4A66-43C1-8CFA-7BE0B82699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465625-B388-4100-8DB1-434543769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19996-8C9B-4948-90AE-F1AC97EDA5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90EA5-282E-4E19-8863-7EF984374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EAFEC8-B131-417F-8430-992155113B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1442BC-D66E-42F3-B4AB-9B115F3A49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3A3553-CA0A-4BE6-8CA5-488001E9A6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1E2F74-0023-4AC8-95BB-9084B76198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DAA1E-8577-4CB0-A1BF-10DF75B9E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2828D0-A8BE-430F-9CB2-67AC66EC29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8F2D4-4A5C-493C-9A5F-D4BF7595A6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8D91F5-5877-4767-910D-470E0A6AD0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319F7D-A87F-442C-93A3-9037860A08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476DC-EB8A-4EA4-B0B1-4B5F6EAD52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A59B8-BB22-4AE5-8EC2-54F95AC07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8E38BD-E72E-45F6-A221-FE36D6EDEF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E9F44-48C3-4E27-916F-3245BECB54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B4F4E2-295C-4FCF-A49F-BD04E5182E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3E153A-ED65-45BC-8381-318A30BBB2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BE408B-B677-4081-BA56-37B4F9FF63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2ACFC4-C797-4F25-A141-8BBC53247E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E7E2B2-F7CD-4651-9FF5-96B46C43C4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1C58CF-866B-40E9-A474-31CEB5C409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3375F7-A62B-4B96-BB23-9A71784BC4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46929A-6A7A-4E3E-B9F3-467DE31C43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D0CD8-B543-45E3-9092-3D52829A6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146BDA-B122-4C0D-9009-4D13E00DFC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2AC3D-21EF-4E8E-A7C4-DDE0AED01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A1BFFE-16C1-4242-9970-1B596D5D30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7591F1-8F46-415F-AE90-AEA7FCD03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BAAA53-2F8E-403E-94A6-8E3322F9F6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3C6CEA-CC76-4356-99D9-EE9093BAA5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22B203-F41D-49A3-98B7-0D8DE55EB8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BCADB-FED0-4A49-A50B-7AA5FBC330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3" name="Group 6"/>
          <p:cNvGrpSpPr/>
          <p:nvPr/>
        </p:nvGrpSpPr>
        <p:grpSpPr>
          <a:xfrm>
            <a:off x="227160" y="601560"/>
            <a:ext cx="4130640" cy="5883480"/>
            <a:chOff x="227160" y="601560"/>
            <a:chExt cx="4130640" cy="5883480"/>
          </a:xfrm>
        </p:grpSpPr>
        <p:grpSp>
          <p:nvGrpSpPr>
            <p:cNvPr id="4" name="Group 7"/>
            <p:cNvGrpSpPr/>
            <p:nvPr/>
          </p:nvGrpSpPr>
          <p:grpSpPr>
            <a:xfrm>
              <a:off x="2430360" y="830160"/>
              <a:ext cx="1494360" cy="1276200"/>
              <a:chOff x="2430360" y="830160"/>
              <a:chExt cx="1494360" cy="1276200"/>
            </a:xfrm>
          </p:grpSpPr>
          <p:sp>
            <p:nvSpPr>
              <p:cNvPr id="5"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 name="Group 8"/>
            <p:cNvGrpSpPr/>
            <p:nvPr/>
          </p:nvGrpSpPr>
          <p:grpSpPr>
            <a:xfrm>
              <a:off x="3094560" y="2134080"/>
              <a:ext cx="1263240" cy="1078920"/>
              <a:chOff x="3094560" y="2134080"/>
              <a:chExt cx="1263240" cy="1078920"/>
            </a:xfrm>
          </p:grpSpPr>
          <p:sp>
            <p:nvSpPr>
              <p:cNvPr id="7"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 name="Group 9"/>
            <p:cNvGrpSpPr/>
            <p:nvPr/>
          </p:nvGrpSpPr>
          <p:grpSpPr>
            <a:xfrm>
              <a:off x="3316320" y="3307320"/>
              <a:ext cx="850320" cy="726120"/>
              <a:chOff x="3316320" y="3307320"/>
              <a:chExt cx="850320" cy="726120"/>
            </a:xfrm>
          </p:grpSpPr>
          <p:sp>
            <p:nvSpPr>
              <p:cNvPr id="9"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 name="Group 10"/>
            <p:cNvGrpSpPr/>
            <p:nvPr/>
          </p:nvGrpSpPr>
          <p:grpSpPr>
            <a:xfrm>
              <a:off x="3285720" y="4097880"/>
              <a:ext cx="538920" cy="460080"/>
              <a:chOff x="3285720" y="4097880"/>
              <a:chExt cx="538920" cy="460080"/>
            </a:xfrm>
          </p:grpSpPr>
          <p:sp>
            <p:nvSpPr>
              <p:cNvPr id="11"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 name="Group 11"/>
            <p:cNvGrpSpPr/>
            <p:nvPr/>
          </p:nvGrpSpPr>
          <p:grpSpPr>
            <a:xfrm>
              <a:off x="3090240" y="4593600"/>
              <a:ext cx="450360" cy="384840"/>
              <a:chOff x="3090240" y="4593600"/>
              <a:chExt cx="450360" cy="384840"/>
            </a:xfrm>
          </p:grpSpPr>
          <p:sp>
            <p:nvSpPr>
              <p:cNvPr id="13"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 name="Group 12"/>
            <p:cNvGrpSpPr/>
            <p:nvPr/>
          </p:nvGrpSpPr>
          <p:grpSpPr>
            <a:xfrm>
              <a:off x="2809080" y="4977360"/>
              <a:ext cx="445680" cy="380520"/>
              <a:chOff x="2809080" y="4977360"/>
              <a:chExt cx="445680" cy="380520"/>
            </a:xfrm>
          </p:grpSpPr>
          <p:sp>
            <p:nvSpPr>
              <p:cNvPr id="15"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 name="Group 13"/>
            <p:cNvGrpSpPr/>
            <p:nvPr/>
          </p:nvGrpSpPr>
          <p:grpSpPr>
            <a:xfrm>
              <a:off x="2490840" y="5333040"/>
              <a:ext cx="407520" cy="347760"/>
              <a:chOff x="2490840" y="5333040"/>
              <a:chExt cx="407520" cy="347760"/>
            </a:xfrm>
          </p:grpSpPr>
          <p:sp>
            <p:nvSpPr>
              <p:cNvPr id="17"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 name="Group 14"/>
            <p:cNvGrpSpPr/>
            <p:nvPr/>
          </p:nvGrpSpPr>
          <p:grpSpPr>
            <a:xfrm>
              <a:off x="231840" y="3613320"/>
              <a:ext cx="2466000" cy="1896120"/>
              <a:chOff x="231840" y="3613320"/>
              <a:chExt cx="2466000" cy="1896120"/>
            </a:xfrm>
          </p:grpSpPr>
          <p:sp>
            <p:nvSpPr>
              <p:cNvPr id="19"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 name="Group 15"/>
            <p:cNvGrpSpPr/>
            <p:nvPr/>
          </p:nvGrpSpPr>
          <p:grpSpPr>
            <a:xfrm>
              <a:off x="231840" y="3841200"/>
              <a:ext cx="2464560" cy="1667160"/>
              <a:chOff x="231840" y="3841200"/>
              <a:chExt cx="2464560" cy="1667160"/>
            </a:xfrm>
          </p:grpSpPr>
          <p:sp>
            <p:nvSpPr>
              <p:cNvPr id="21"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 name="Group 16"/>
            <p:cNvGrpSpPr/>
            <p:nvPr/>
          </p:nvGrpSpPr>
          <p:grpSpPr>
            <a:xfrm>
              <a:off x="231840" y="3991320"/>
              <a:ext cx="2464560" cy="1517040"/>
              <a:chOff x="231840" y="3991320"/>
              <a:chExt cx="2464560" cy="1517040"/>
            </a:xfrm>
          </p:grpSpPr>
          <p:sp>
            <p:nvSpPr>
              <p:cNvPr id="23"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 name="Group 17"/>
            <p:cNvGrpSpPr/>
            <p:nvPr/>
          </p:nvGrpSpPr>
          <p:grpSpPr>
            <a:xfrm>
              <a:off x="231840" y="4080600"/>
              <a:ext cx="2464560" cy="1427760"/>
              <a:chOff x="231840" y="4080600"/>
              <a:chExt cx="2464560" cy="1427760"/>
            </a:xfrm>
          </p:grpSpPr>
          <p:sp>
            <p:nvSpPr>
              <p:cNvPr id="25"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Group 18"/>
            <p:cNvGrpSpPr/>
            <p:nvPr/>
          </p:nvGrpSpPr>
          <p:grpSpPr>
            <a:xfrm>
              <a:off x="231840" y="4136760"/>
              <a:ext cx="2464560" cy="1371960"/>
              <a:chOff x="231840" y="4136760"/>
              <a:chExt cx="2464560" cy="1371960"/>
            </a:xfrm>
          </p:grpSpPr>
          <p:sp>
            <p:nvSpPr>
              <p:cNvPr id="27"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 name="Group 19"/>
            <p:cNvGrpSpPr/>
            <p:nvPr/>
          </p:nvGrpSpPr>
          <p:grpSpPr>
            <a:xfrm>
              <a:off x="231840" y="4183200"/>
              <a:ext cx="2464560" cy="1325160"/>
              <a:chOff x="231840" y="4183200"/>
              <a:chExt cx="2464560" cy="1325160"/>
            </a:xfrm>
          </p:grpSpPr>
          <p:sp>
            <p:nvSpPr>
              <p:cNvPr id="29"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 name="Group 20"/>
            <p:cNvGrpSpPr/>
            <p:nvPr/>
          </p:nvGrpSpPr>
          <p:grpSpPr>
            <a:xfrm>
              <a:off x="231840" y="4226040"/>
              <a:ext cx="2464560" cy="1282320"/>
              <a:chOff x="231840" y="4226040"/>
              <a:chExt cx="2464560" cy="1282320"/>
            </a:xfrm>
          </p:grpSpPr>
          <p:sp>
            <p:nvSpPr>
              <p:cNvPr id="31"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 name="Group 21"/>
            <p:cNvGrpSpPr/>
            <p:nvPr/>
          </p:nvGrpSpPr>
          <p:grpSpPr>
            <a:xfrm>
              <a:off x="231840" y="3458880"/>
              <a:ext cx="2802240" cy="1711800"/>
              <a:chOff x="231840" y="3458880"/>
              <a:chExt cx="2802240" cy="1711800"/>
            </a:xfrm>
          </p:grpSpPr>
          <p:sp>
            <p:nvSpPr>
              <p:cNvPr id="33"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Group 22"/>
            <p:cNvGrpSpPr/>
            <p:nvPr/>
          </p:nvGrpSpPr>
          <p:grpSpPr>
            <a:xfrm>
              <a:off x="231840" y="3695760"/>
              <a:ext cx="2801520" cy="1473120"/>
              <a:chOff x="231840" y="3695760"/>
              <a:chExt cx="2801520" cy="1473120"/>
            </a:xfrm>
          </p:grpSpPr>
          <p:sp>
            <p:nvSpPr>
              <p:cNvPr id="35"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 name="Group 23"/>
            <p:cNvGrpSpPr/>
            <p:nvPr/>
          </p:nvGrpSpPr>
          <p:grpSpPr>
            <a:xfrm>
              <a:off x="231840" y="3858120"/>
              <a:ext cx="2801520" cy="1311120"/>
              <a:chOff x="231840" y="3858120"/>
              <a:chExt cx="2801520" cy="1311120"/>
            </a:xfrm>
          </p:grpSpPr>
          <p:sp>
            <p:nvSpPr>
              <p:cNvPr id="37"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24"/>
            <p:cNvGrpSpPr/>
            <p:nvPr/>
          </p:nvGrpSpPr>
          <p:grpSpPr>
            <a:xfrm>
              <a:off x="231840" y="3959640"/>
              <a:ext cx="2801520" cy="1209600"/>
              <a:chOff x="231840" y="3959640"/>
              <a:chExt cx="2801520" cy="1209600"/>
            </a:xfrm>
          </p:grpSpPr>
          <p:sp>
            <p:nvSpPr>
              <p:cNvPr id="39"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 name="Group 25"/>
            <p:cNvGrpSpPr/>
            <p:nvPr/>
          </p:nvGrpSpPr>
          <p:grpSpPr>
            <a:xfrm>
              <a:off x="231840" y="4021920"/>
              <a:ext cx="2801520" cy="1146960"/>
              <a:chOff x="231840" y="4021920"/>
              <a:chExt cx="2801520" cy="1146960"/>
            </a:xfrm>
          </p:grpSpPr>
          <p:sp>
            <p:nvSpPr>
              <p:cNvPr id="41"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 name="Group 26"/>
            <p:cNvGrpSpPr/>
            <p:nvPr/>
          </p:nvGrpSpPr>
          <p:grpSpPr>
            <a:xfrm>
              <a:off x="231840" y="4077720"/>
              <a:ext cx="2801520" cy="1091520"/>
              <a:chOff x="231840" y="4077720"/>
              <a:chExt cx="2801520" cy="1091520"/>
            </a:xfrm>
          </p:grpSpPr>
          <p:sp>
            <p:nvSpPr>
              <p:cNvPr id="43"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 name="Group 27"/>
            <p:cNvGrpSpPr/>
            <p:nvPr/>
          </p:nvGrpSpPr>
          <p:grpSpPr>
            <a:xfrm>
              <a:off x="231840" y="4128480"/>
              <a:ext cx="2801520" cy="1040400"/>
              <a:chOff x="231840" y="4128480"/>
              <a:chExt cx="2801520" cy="1040400"/>
            </a:xfrm>
          </p:grpSpPr>
          <p:sp>
            <p:nvSpPr>
              <p:cNvPr id="45"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8"/>
            <p:cNvGrpSpPr/>
            <p:nvPr/>
          </p:nvGrpSpPr>
          <p:grpSpPr>
            <a:xfrm>
              <a:off x="231840" y="3319560"/>
              <a:ext cx="3084840" cy="1467720"/>
              <a:chOff x="231840" y="3319560"/>
              <a:chExt cx="3084840" cy="1467720"/>
            </a:xfrm>
          </p:grpSpPr>
          <p:sp>
            <p:nvSpPr>
              <p:cNvPr id="47"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29"/>
            <p:cNvGrpSpPr/>
            <p:nvPr/>
          </p:nvGrpSpPr>
          <p:grpSpPr>
            <a:xfrm>
              <a:off x="231840" y="3560400"/>
              <a:ext cx="3084840" cy="1227240"/>
              <a:chOff x="231840" y="3560400"/>
              <a:chExt cx="3084840" cy="1227240"/>
            </a:xfrm>
          </p:grpSpPr>
          <p:sp>
            <p:nvSpPr>
              <p:cNvPr id="49"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 name="Group 30"/>
            <p:cNvGrpSpPr/>
            <p:nvPr/>
          </p:nvGrpSpPr>
          <p:grpSpPr>
            <a:xfrm>
              <a:off x="231840" y="3730680"/>
              <a:ext cx="3085560" cy="1058760"/>
              <a:chOff x="231840" y="3730680"/>
              <a:chExt cx="3085560" cy="1058760"/>
            </a:xfrm>
          </p:grpSpPr>
          <p:sp>
            <p:nvSpPr>
              <p:cNvPr id="51"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Group 31"/>
            <p:cNvGrpSpPr/>
            <p:nvPr/>
          </p:nvGrpSpPr>
          <p:grpSpPr>
            <a:xfrm>
              <a:off x="231840" y="3842640"/>
              <a:ext cx="3084840" cy="945000"/>
              <a:chOff x="231840" y="3842640"/>
              <a:chExt cx="3084840" cy="945000"/>
            </a:xfrm>
          </p:grpSpPr>
          <p:sp>
            <p:nvSpPr>
              <p:cNvPr id="53"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32"/>
            <p:cNvGrpSpPr/>
            <p:nvPr/>
          </p:nvGrpSpPr>
          <p:grpSpPr>
            <a:xfrm>
              <a:off x="231840" y="3910680"/>
              <a:ext cx="3085560" cy="878400"/>
              <a:chOff x="231840" y="3910680"/>
              <a:chExt cx="3085560" cy="878400"/>
            </a:xfrm>
          </p:grpSpPr>
          <p:sp>
            <p:nvSpPr>
              <p:cNvPr id="55"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Group 33"/>
            <p:cNvGrpSpPr/>
            <p:nvPr/>
          </p:nvGrpSpPr>
          <p:grpSpPr>
            <a:xfrm>
              <a:off x="231840" y="3975120"/>
              <a:ext cx="3084840" cy="812880"/>
              <a:chOff x="231840" y="3975120"/>
              <a:chExt cx="3084840" cy="812880"/>
            </a:xfrm>
          </p:grpSpPr>
          <p:sp>
            <p:nvSpPr>
              <p:cNvPr id="57"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34"/>
            <p:cNvGrpSpPr/>
            <p:nvPr/>
          </p:nvGrpSpPr>
          <p:grpSpPr>
            <a:xfrm>
              <a:off x="231840" y="4025880"/>
              <a:ext cx="3084840" cy="761760"/>
              <a:chOff x="231840" y="4025880"/>
              <a:chExt cx="3084840" cy="761760"/>
            </a:xfrm>
          </p:grpSpPr>
          <p:sp>
            <p:nvSpPr>
              <p:cNvPr id="60"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35"/>
            <p:cNvGrpSpPr/>
            <p:nvPr/>
          </p:nvGrpSpPr>
          <p:grpSpPr>
            <a:xfrm>
              <a:off x="231840" y="3181320"/>
              <a:ext cx="3316320" cy="1164600"/>
              <a:chOff x="231840" y="3181320"/>
              <a:chExt cx="3316320" cy="1164600"/>
            </a:xfrm>
          </p:grpSpPr>
          <p:sp>
            <p:nvSpPr>
              <p:cNvPr id="63"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36"/>
            <p:cNvGrpSpPr/>
            <p:nvPr/>
          </p:nvGrpSpPr>
          <p:grpSpPr>
            <a:xfrm>
              <a:off x="231840" y="3419280"/>
              <a:ext cx="3318840" cy="931680"/>
              <a:chOff x="231840" y="3419280"/>
              <a:chExt cx="3318840" cy="931680"/>
            </a:xfrm>
          </p:grpSpPr>
          <p:sp>
            <p:nvSpPr>
              <p:cNvPr id="65"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37"/>
            <p:cNvGrpSpPr/>
            <p:nvPr/>
          </p:nvGrpSpPr>
          <p:grpSpPr>
            <a:xfrm>
              <a:off x="231840" y="3604320"/>
              <a:ext cx="3316320" cy="741240"/>
              <a:chOff x="231840" y="3604320"/>
              <a:chExt cx="3316320" cy="741240"/>
            </a:xfrm>
          </p:grpSpPr>
          <p:sp>
            <p:nvSpPr>
              <p:cNvPr id="67"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Group 38"/>
            <p:cNvGrpSpPr/>
            <p:nvPr/>
          </p:nvGrpSpPr>
          <p:grpSpPr>
            <a:xfrm>
              <a:off x="231840" y="3720600"/>
              <a:ext cx="3317400" cy="627120"/>
              <a:chOff x="231840" y="3720600"/>
              <a:chExt cx="3317400" cy="627120"/>
            </a:xfrm>
          </p:grpSpPr>
          <p:sp>
            <p:nvSpPr>
              <p:cNvPr id="69"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39"/>
            <p:cNvGrpSpPr/>
            <p:nvPr/>
          </p:nvGrpSpPr>
          <p:grpSpPr>
            <a:xfrm>
              <a:off x="231840" y="3795480"/>
              <a:ext cx="3316320" cy="550440"/>
              <a:chOff x="231840" y="3795480"/>
              <a:chExt cx="3316320" cy="550440"/>
            </a:xfrm>
          </p:grpSpPr>
          <p:sp>
            <p:nvSpPr>
              <p:cNvPr id="71"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40"/>
            <p:cNvGrpSpPr/>
            <p:nvPr/>
          </p:nvGrpSpPr>
          <p:grpSpPr>
            <a:xfrm>
              <a:off x="231840" y="3846240"/>
              <a:ext cx="3316320" cy="499320"/>
              <a:chOff x="231840" y="3846240"/>
              <a:chExt cx="3316320" cy="499320"/>
            </a:xfrm>
          </p:grpSpPr>
          <p:sp>
            <p:nvSpPr>
              <p:cNvPr id="74"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41"/>
            <p:cNvGrpSpPr/>
            <p:nvPr/>
          </p:nvGrpSpPr>
          <p:grpSpPr>
            <a:xfrm>
              <a:off x="231840" y="3882240"/>
              <a:ext cx="3316320" cy="463320"/>
              <a:chOff x="231840" y="3882240"/>
              <a:chExt cx="3316320" cy="463320"/>
            </a:xfrm>
          </p:grpSpPr>
          <p:sp>
            <p:nvSpPr>
              <p:cNvPr id="77"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42"/>
            <p:cNvGrpSpPr/>
            <p:nvPr/>
          </p:nvGrpSpPr>
          <p:grpSpPr>
            <a:xfrm>
              <a:off x="231840" y="2994120"/>
              <a:ext cx="3510360" cy="683640"/>
              <a:chOff x="231840" y="2994120"/>
              <a:chExt cx="3510360" cy="683640"/>
            </a:xfrm>
          </p:grpSpPr>
          <p:sp>
            <p:nvSpPr>
              <p:cNvPr id="80"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3"/>
            <p:cNvGrpSpPr/>
            <p:nvPr/>
          </p:nvGrpSpPr>
          <p:grpSpPr>
            <a:xfrm>
              <a:off x="231840" y="3234960"/>
              <a:ext cx="3510360" cy="442080"/>
              <a:chOff x="231840" y="3234960"/>
              <a:chExt cx="3510360" cy="442080"/>
            </a:xfrm>
          </p:grpSpPr>
          <p:sp>
            <p:nvSpPr>
              <p:cNvPr id="82"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44"/>
            <p:cNvGrpSpPr/>
            <p:nvPr/>
          </p:nvGrpSpPr>
          <p:grpSpPr>
            <a:xfrm>
              <a:off x="231840" y="3417120"/>
              <a:ext cx="3511440" cy="263880"/>
              <a:chOff x="231840" y="3417120"/>
              <a:chExt cx="3511440" cy="263880"/>
            </a:xfrm>
          </p:grpSpPr>
          <p:sp>
            <p:nvSpPr>
              <p:cNvPr id="84"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oup 45"/>
            <p:cNvGrpSpPr/>
            <p:nvPr/>
          </p:nvGrpSpPr>
          <p:grpSpPr>
            <a:xfrm>
              <a:off x="231840" y="3512520"/>
              <a:ext cx="3510000" cy="159840"/>
              <a:chOff x="231840" y="3512520"/>
              <a:chExt cx="3510000" cy="159840"/>
            </a:xfrm>
          </p:grpSpPr>
          <p:sp>
            <p:nvSpPr>
              <p:cNvPr id="86"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46"/>
            <p:cNvGrpSpPr/>
            <p:nvPr/>
          </p:nvGrpSpPr>
          <p:grpSpPr>
            <a:xfrm>
              <a:off x="231840" y="3538080"/>
              <a:ext cx="3510000" cy="136080"/>
              <a:chOff x="231840" y="3538080"/>
              <a:chExt cx="3510000" cy="136080"/>
            </a:xfrm>
          </p:grpSpPr>
          <p:sp>
            <p:nvSpPr>
              <p:cNvPr id="89"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oup 47"/>
            <p:cNvGrpSpPr/>
            <p:nvPr/>
          </p:nvGrpSpPr>
          <p:grpSpPr>
            <a:xfrm>
              <a:off x="231840" y="3556440"/>
              <a:ext cx="3510000" cy="159480"/>
              <a:chOff x="231840" y="3556440"/>
              <a:chExt cx="3510000" cy="159480"/>
            </a:xfrm>
          </p:grpSpPr>
          <p:sp>
            <p:nvSpPr>
              <p:cNvPr id="92"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48"/>
            <p:cNvGrpSpPr/>
            <p:nvPr/>
          </p:nvGrpSpPr>
          <p:grpSpPr>
            <a:xfrm>
              <a:off x="231840" y="3567240"/>
              <a:ext cx="3510000" cy="221400"/>
              <a:chOff x="231840" y="3567240"/>
              <a:chExt cx="3510000" cy="221400"/>
            </a:xfrm>
          </p:grpSpPr>
          <p:sp>
            <p:nvSpPr>
              <p:cNvPr id="95"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Group 49"/>
            <p:cNvGrpSpPr/>
            <p:nvPr/>
          </p:nvGrpSpPr>
          <p:grpSpPr>
            <a:xfrm>
              <a:off x="231840" y="2679840"/>
              <a:ext cx="3492360" cy="193320"/>
              <a:chOff x="231840" y="2679840"/>
              <a:chExt cx="3492360" cy="193320"/>
            </a:xfrm>
          </p:grpSpPr>
          <p:sp>
            <p:nvSpPr>
              <p:cNvPr id="98"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Group 50"/>
            <p:cNvGrpSpPr/>
            <p:nvPr/>
          </p:nvGrpSpPr>
          <p:grpSpPr>
            <a:xfrm>
              <a:off x="231840" y="2673000"/>
              <a:ext cx="3493800" cy="336960"/>
              <a:chOff x="231840" y="2673000"/>
              <a:chExt cx="3493800" cy="336960"/>
            </a:xfrm>
          </p:grpSpPr>
          <p:sp>
            <p:nvSpPr>
              <p:cNvPr id="101"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Group 51"/>
            <p:cNvGrpSpPr/>
            <p:nvPr/>
          </p:nvGrpSpPr>
          <p:grpSpPr>
            <a:xfrm>
              <a:off x="231840" y="2683440"/>
              <a:ext cx="3491280" cy="499680"/>
              <a:chOff x="231840" y="2683440"/>
              <a:chExt cx="3491280" cy="499680"/>
            </a:xfrm>
          </p:grpSpPr>
          <p:sp>
            <p:nvSpPr>
              <p:cNvPr id="103"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2"/>
            <p:cNvGrpSpPr/>
            <p:nvPr/>
          </p:nvGrpSpPr>
          <p:grpSpPr>
            <a:xfrm>
              <a:off x="231840" y="2687040"/>
              <a:ext cx="3490920" cy="623160"/>
              <a:chOff x="231840" y="2687040"/>
              <a:chExt cx="3490920" cy="623160"/>
            </a:xfrm>
          </p:grpSpPr>
          <p:sp>
            <p:nvSpPr>
              <p:cNvPr id="105"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53"/>
            <p:cNvGrpSpPr/>
            <p:nvPr/>
          </p:nvGrpSpPr>
          <p:grpSpPr>
            <a:xfrm>
              <a:off x="231840" y="2688840"/>
              <a:ext cx="3490560" cy="708480"/>
              <a:chOff x="231840" y="2688840"/>
              <a:chExt cx="3490560" cy="708480"/>
            </a:xfrm>
          </p:grpSpPr>
          <p:sp>
            <p:nvSpPr>
              <p:cNvPr id="107"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54"/>
            <p:cNvGrpSpPr/>
            <p:nvPr/>
          </p:nvGrpSpPr>
          <p:grpSpPr>
            <a:xfrm>
              <a:off x="231840" y="2688840"/>
              <a:ext cx="3490560" cy="874440"/>
              <a:chOff x="231840" y="2688840"/>
              <a:chExt cx="3490560" cy="874440"/>
            </a:xfrm>
          </p:grpSpPr>
          <p:sp>
            <p:nvSpPr>
              <p:cNvPr id="109"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55"/>
            <p:cNvGrpSpPr/>
            <p:nvPr/>
          </p:nvGrpSpPr>
          <p:grpSpPr>
            <a:xfrm>
              <a:off x="231840" y="2687040"/>
              <a:ext cx="3490920" cy="796320"/>
              <a:chOff x="231840" y="2687040"/>
              <a:chExt cx="3490920" cy="796320"/>
            </a:xfrm>
          </p:grpSpPr>
          <p:sp>
            <p:nvSpPr>
              <p:cNvPr id="111"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56"/>
            <p:cNvGrpSpPr/>
            <p:nvPr/>
          </p:nvGrpSpPr>
          <p:grpSpPr>
            <a:xfrm>
              <a:off x="231840" y="1468440"/>
              <a:ext cx="2956680" cy="1017000"/>
              <a:chOff x="231840" y="1468440"/>
              <a:chExt cx="2956680" cy="1017000"/>
            </a:xfrm>
          </p:grpSpPr>
          <p:sp>
            <p:nvSpPr>
              <p:cNvPr id="113"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Group 57"/>
            <p:cNvGrpSpPr/>
            <p:nvPr/>
          </p:nvGrpSpPr>
          <p:grpSpPr>
            <a:xfrm>
              <a:off x="231840" y="1477800"/>
              <a:ext cx="2950200" cy="1182240"/>
              <a:chOff x="231840" y="1477800"/>
              <a:chExt cx="2950200" cy="1182240"/>
            </a:xfrm>
          </p:grpSpPr>
          <p:sp>
            <p:nvSpPr>
              <p:cNvPr id="115"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58"/>
            <p:cNvGrpSpPr/>
            <p:nvPr/>
          </p:nvGrpSpPr>
          <p:grpSpPr>
            <a:xfrm>
              <a:off x="231840" y="1477800"/>
              <a:ext cx="2950200" cy="1348200"/>
              <a:chOff x="231840" y="1477800"/>
              <a:chExt cx="2950200" cy="1348200"/>
            </a:xfrm>
          </p:grpSpPr>
          <p:sp>
            <p:nvSpPr>
              <p:cNvPr id="117"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59"/>
            <p:cNvGrpSpPr/>
            <p:nvPr/>
          </p:nvGrpSpPr>
          <p:grpSpPr>
            <a:xfrm>
              <a:off x="231840" y="1480680"/>
              <a:ext cx="2948040" cy="1465920"/>
              <a:chOff x="231840" y="1480680"/>
              <a:chExt cx="2948040" cy="1465920"/>
            </a:xfrm>
          </p:grpSpPr>
          <p:sp>
            <p:nvSpPr>
              <p:cNvPr id="119"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60"/>
            <p:cNvGrpSpPr/>
            <p:nvPr/>
          </p:nvGrpSpPr>
          <p:grpSpPr>
            <a:xfrm>
              <a:off x="231840" y="1482480"/>
              <a:ext cx="2946600" cy="1550880"/>
              <a:chOff x="231840" y="1482480"/>
              <a:chExt cx="2946600" cy="1550880"/>
            </a:xfrm>
          </p:grpSpPr>
          <p:sp>
            <p:nvSpPr>
              <p:cNvPr id="121"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61"/>
            <p:cNvGrpSpPr/>
            <p:nvPr/>
          </p:nvGrpSpPr>
          <p:grpSpPr>
            <a:xfrm>
              <a:off x="231840" y="1480680"/>
              <a:ext cx="2948040" cy="1640520"/>
              <a:chOff x="231840" y="1480680"/>
              <a:chExt cx="2948040" cy="1640520"/>
            </a:xfrm>
          </p:grpSpPr>
          <p:sp>
            <p:nvSpPr>
              <p:cNvPr id="123"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62"/>
            <p:cNvGrpSpPr/>
            <p:nvPr/>
          </p:nvGrpSpPr>
          <p:grpSpPr>
            <a:xfrm>
              <a:off x="231840" y="1480680"/>
              <a:ext cx="2948040" cy="1726920"/>
              <a:chOff x="231840" y="1480680"/>
              <a:chExt cx="2948040" cy="1726920"/>
            </a:xfrm>
          </p:grpSpPr>
          <p:sp>
            <p:nvSpPr>
              <p:cNvPr id="125"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63"/>
            <p:cNvGrpSpPr/>
            <p:nvPr/>
          </p:nvGrpSpPr>
          <p:grpSpPr>
            <a:xfrm>
              <a:off x="2219040" y="601560"/>
              <a:ext cx="9000" cy="4320"/>
              <a:chOff x="2219040" y="601560"/>
              <a:chExt cx="9000" cy="4320"/>
            </a:xfrm>
          </p:grpSpPr>
          <p:sp>
            <p:nvSpPr>
              <p:cNvPr id="127"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28" name="Group 64"/>
            <p:cNvGrpSpPr/>
            <p:nvPr/>
          </p:nvGrpSpPr>
          <p:grpSpPr>
            <a:xfrm>
              <a:off x="2232360" y="607320"/>
              <a:ext cx="9360" cy="7200"/>
              <a:chOff x="2232360" y="607320"/>
              <a:chExt cx="9360" cy="7200"/>
            </a:xfrm>
          </p:grpSpPr>
          <p:sp>
            <p:nvSpPr>
              <p:cNvPr id="129"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0" name="Group 65"/>
            <p:cNvGrpSpPr/>
            <p:nvPr/>
          </p:nvGrpSpPr>
          <p:grpSpPr>
            <a:xfrm>
              <a:off x="2248200" y="619200"/>
              <a:ext cx="6840" cy="3600"/>
              <a:chOff x="2248200" y="619200"/>
              <a:chExt cx="6840" cy="3600"/>
            </a:xfrm>
          </p:grpSpPr>
          <p:sp>
            <p:nvSpPr>
              <p:cNvPr id="131"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32" name="Group 66"/>
            <p:cNvGrpSpPr/>
            <p:nvPr/>
          </p:nvGrpSpPr>
          <p:grpSpPr>
            <a:xfrm>
              <a:off x="2245680" y="615960"/>
              <a:ext cx="9360" cy="6120"/>
              <a:chOff x="2245680" y="615960"/>
              <a:chExt cx="9360" cy="6120"/>
            </a:xfrm>
          </p:grpSpPr>
          <p:sp>
            <p:nvSpPr>
              <p:cNvPr id="133"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34" name="Group 67"/>
            <p:cNvGrpSpPr/>
            <p:nvPr/>
          </p:nvGrpSpPr>
          <p:grpSpPr>
            <a:xfrm>
              <a:off x="2259000" y="624600"/>
              <a:ext cx="9360" cy="7200"/>
              <a:chOff x="2259000" y="624600"/>
              <a:chExt cx="9360" cy="7200"/>
            </a:xfrm>
          </p:grpSpPr>
          <p:sp>
            <p:nvSpPr>
              <p:cNvPr id="135"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6" name="Group 68"/>
            <p:cNvGrpSpPr/>
            <p:nvPr/>
          </p:nvGrpSpPr>
          <p:grpSpPr>
            <a:xfrm>
              <a:off x="227160" y="633240"/>
              <a:ext cx="3561480" cy="5851800"/>
              <a:chOff x="227160" y="633240"/>
              <a:chExt cx="3561480" cy="5851800"/>
            </a:xfrm>
          </p:grpSpPr>
          <p:sp>
            <p:nvSpPr>
              <p:cNvPr id="137"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138" name="Picture 70" descr=""/>
              <p:cNvPicPr/>
              <p:nvPr/>
            </p:nvPicPr>
            <p:blipFill>
              <a:blip r:embed="rId2"/>
              <a:stretch/>
            </p:blipFill>
            <p:spPr>
              <a:xfrm>
                <a:off x="227160" y="637560"/>
                <a:ext cx="3561480" cy="5847480"/>
              </a:xfrm>
              <a:prstGeom prst="rect">
                <a:avLst/>
              </a:prstGeom>
              <a:ln w="0">
                <a:noFill/>
              </a:ln>
            </p:spPr>
          </p:pic>
        </p:grpSp>
      </p:grpSp>
      <p:sp>
        <p:nvSpPr>
          <p:cNvPr id="139"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140"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141"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142" name="Rectangle 144"/>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B01EB-DA1B-43FD-83DD-373E66ACB5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Rectangle 5"/>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
        <p:nvSpPr>
          <p:cNvPr id="671"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2" name="PlaceHolder 2"/>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A46E7-276C-44CD-BDC6-1A2A0EE121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0" name="PlaceHolder 2"/>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3"/>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A9AB4-B4CD-4893-B583-6513C3F40F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49" name="PlaceHolder 2"/>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PlaceHolder 3"/>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8786D-964D-46F3-8BA5-2925C788C0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9"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0"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814FB-90AA-4B2D-84BA-9A31782ADF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9"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0" name="PlaceHolder 4"/>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B9C66-6623-4F32-AE3B-FD7DB0152C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EA446-59AA-43B8-AEFA-58B093B353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CA0DE-ECFB-4245-84B9-D273ECE2BF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5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24B4F-D241-4965-9216-45B584237E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9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5CC32F-AD9D-4C42-9DDF-DB519A14E9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180" name="Picture 6" descr="Untitled.png"/>
          <p:cNvPicPr/>
          <p:nvPr/>
        </p:nvPicPr>
        <p:blipFill>
          <a:blip r:embed="rId2"/>
          <a:stretch/>
        </p:blipFill>
        <p:spPr>
          <a:xfrm>
            <a:off x="2687760" y="1490760"/>
            <a:ext cx="3539880" cy="5322960"/>
          </a:xfrm>
          <a:prstGeom prst="rect">
            <a:avLst/>
          </a:prstGeom>
          <a:ln w="0">
            <a:noFill/>
          </a:ln>
        </p:spPr>
      </p:pic>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33F64D-0D4B-4315-A4AF-100873C134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3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53537-C563-4A45-B226-62A391B414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7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548A8-7F9D-4DED-956C-AB6462A639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1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2FD8D-804B-48A6-9375-18BBB13A56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5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41F5D-AB1E-4CA7-8E6B-CB527593F6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9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BCC96-9540-4821-9FAA-5FCFE518DA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6" name="Picture 6" descr="Untitled.png"/>
          <p:cNvPicPr/>
          <p:nvPr/>
        </p:nvPicPr>
        <p:blipFill>
          <a:blip r:embed="rId2"/>
          <a:stretch/>
        </p:blipFill>
        <p:spPr>
          <a:xfrm>
            <a:off x="2687760" y="1490760"/>
            <a:ext cx="3539880" cy="5322960"/>
          </a:xfrm>
          <a:prstGeom prst="rect">
            <a:avLst/>
          </a:prstGeom>
          <a:ln w="0">
            <a:noFill/>
          </a:ln>
        </p:spPr>
      </p:pic>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2"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C0433-0EFE-4C6A-ACAA-103C34502C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088BC-CF9F-4F8A-ABD8-A7B8DE7AA6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0"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C54F7-BA0C-42D7-868B-2BC24D6CB2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0E400-9682-48D0-82A0-63DB057BBC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93A73-C287-47DC-A636-102A101647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4EC71-31CE-48FE-8053-7AA9C4A7A3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27160" y="601560"/>
            <a:ext cx="4130640" cy="5883480"/>
            <a:chOff x="227160" y="601560"/>
            <a:chExt cx="4130640" cy="5883480"/>
          </a:xfrm>
        </p:grpSpPr>
        <p:grpSp>
          <p:nvGrpSpPr>
            <p:cNvPr id="456" name="Group 7"/>
            <p:cNvGrpSpPr/>
            <p:nvPr/>
          </p:nvGrpSpPr>
          <p:grpSpPr>
            <a:xfrm>
              <a:off x="2430360" y="830160"/>
              <a:ext cx="1494360" cy="1276200"/>
              <a:chOff x="2430360" y="830160"/>
              <a:chExt cx="1494360" cy="1276200"/>
            </a:xfrm>
          </p:grpSpPr>
          <p:sp>
            <p:nvSpPr>
              <p:cNvPr id="457"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8"/>
            <p:cNvGrpSpPr/>
            <p:nvPr/>
          </p:nvGrpSpPr>
          <p:grpSpPr>
            <a:xfrm>
              <a:off x="3094560" y="2134080"/>
              <a:ext cx="1263240" cy="1078920"/>
              <a:chOff x="3094560" y="2134080"/>
              <a:chExt cx="1263240" cy="1078920"/>
            </a:xfrm>
          </p:grpSpPr>
          <p:sp>
            <p:nvSpPr>
              <p:cNvPr id="459"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9"/>
            <p:cNvGrpSpPr/>
            <p:nvPr/>
          </p:nvGrpSpPr>
          <p:grpSpPr>
            <a:xfrm>
              <a:off x="3316320" y="3307320"/>
              <a:ext cx="850320" cy="726120"/>
              <a:chOff x="3316320" y="3307320"/>
              <a:chExt cx="850320" cy="726120"/>
            </a:xfrm>
          </p:grpSpPr>
          <p:sp>
            <p:nvSpPr>
              <p:cNvPr id="461"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10"/>
            <p:cNvGrpSpPr/>
            <p:nvPr/>
          </p:nvGrpSpPr>
          <p:grpSpPr>
            <a:xfrm>
              <a:off x="3285720" y="4097880"/>
              <a:ext cx="538920" cy="460080"/>
              <a:chOff x="3285720" y="4097880"/>
              <a:chExt cx="538920" cy="460080"/>
            </a:xfrm>
          </p:grpSpPr>
          <p:sp>
            <p:nvSpPr>
              <p:cNvPr id="463"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Group 11"/>
            <p:cNvGrpSpPr/>
            <p:nvPr/>
          </p:nvGrpSpPr>
          <p:grpSpPr>
            <a:xfrm>
              <a:off x="3090240" y="4593600"/>
              <a:ext cx="450360" cy="384840"/>
              <a:chOff x="3090240" y="4593600"/>
              <a:chExt cx="450360" cy="384840"/>
            </a:xfrm>
          </p:grpSpPr>
          <p:sp>
            <p:nvSpPr>
              <p:cNvPr id="465"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Group 12"/>
            <p:cNvGrpSpPr/>
            <p:nvPr/>
          </p:nvGrpSpPr>
          <p:grpSpPr>
            <a:xfrm>
              <a:off x="2809080" y="4977360"/>
              <a:ext cx="445680" cy="380520"/>
              <a:chOff x="2809080" y="4977360"/>
              <a:chExt cx="445680" cy="380520"/>
            </a:xfrm>
          </p:grpSpPr>
          <p:sp>
            <p:nvSpPr>
              <p:cNvPr id="467"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13"/>
            <p:cNvGrpSpPr/>
            <p:nvPr/>
          </p:nvGrpSpPr>
          <p:grpSpPr>
            <a:xfrm>
              <a:off x="2490840" y="5333040"/>
              <a:ext cx="407520" cy="347760"/>
              <a:chOff x="2490840" y="5333040"/>
              <a:chExt cx="407520" cy="347760"/>
            </a:xfrm>
          </p:grpSpPr>
          <p:sp>
            <p:nvSpPr>
              <p:cNvPr id="469"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14"/>
            <p:cNvGrpSpPr/>
            <p:nvPr/>
          </p:nvGrpSpPr>
          <p:grpSpPr>
            <a:xfrm>
              <a:off x="231840" y="3613320"/>
              <a:ext cx="2466000" cy="1896120"/>
              <a:chOff x="231840" y="3613320"/>
              <a:chExt cx="2466000" cy="1896120"/>
            </a:xfrm>
          </p:grpSpPr>
          <p:sp>
            <p:nvSpPr>
              <p:cNvPr id="471"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Group 15"/>
            <p:cNvGrpSpPr/>
            <p:nvPr/>
          </p:nvGrpSpPr>
          <p:grpSpPr>
            <a:xfrm>
              <a:off x="231840" y="3841200"/>
              <a:ext cx="2464560" cy="1667160"/>
              <a:chOff x="231840" y="3841200"/>
              <a:chExt cx="2464560" cy="1667160"/>
            </a:xfrm>
          </p:grpSpPr>
          <p:sp>
            <p:nvSpPr>
              <p:cNvPr id="473"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16"/>
            <p:cNvGrpSpPr/>
            <p:nvPr/>
          </p:nvGrpSpPr>
          <p:grpSpPr>
            <a:xfrm>
              <a:off x="231840" y="3991320"/>
              <a:ext cx="2464560" cy="1517040"/>
              <a:chOff x="231840" y="3991320"/>
              <a:chExt cx="2464560" cy="1517040"/>
            </a:xfrm>
          </p:grpSpPr>
          <p:sp>
            <p:nvSpPr>
              <p:cNvPr id="475"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Group 17"/>
            <p:cNvGrpSpPr/>
            <p:nvPr/>
          </p:nvGrpSpPr>
          <p:grpSpPr>
            <a:xfrm>
              <a:off x="231840" y="4080600"/>
              <a:ext cx="2464560" cy="1427760"/>
              <a:chOff x="231840" y="4080600"/>
              <a:chExt cx="2464560" cy="1427760"/>
            </a:xfrm>
          </p:grpSpPr>
          <p:sp>
            <p:nvSpPr>
              <p:cNvPr id="477"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Group 18"/>
            <p:cNvGrpSpPr/>
            <p:nvPr/>
          </p:nvGrpSpPr>
          <p:grpSpPr>
            <a:xfrm>
              <a:off x="231840" y="4136760"/>
              <a:ext cx="2464560" cy="1371960"/>
              <a:chOff x="231840" y="4136760"/>
              <a:chExt cx="2464560" cy="1371960"/>
            </a:xfrm>
          </p:grpSpPr>
          <p:sp>
            <p:nvSpPr>
              <p:cNvPr id="479"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19"/>
            <p:cNvGrpSpPr/>
            <p:nvPr/>
          </p:nvGrpSpPr>
          <p:grpSpPr>
            <a:xfrm>
              <a:off x="231840" y="4183200"/>
              <a:ext cx="2464560" cy="1325160"/>
              <a:chOff x="231840" y="4183200"/>
              <a:chExt cx="2464560" cy="1325160"/>
            </a:xfrm>
          </p:grpSpPr>
          <p:sp>
            <p:nvSpPr>
              <p:cNvPr id="481"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0"/>
            <p:cNvGrpSpPr/>
            <p:nvPr/>
          </p:nvGrpSpPr>
          <p:grpSpPr>
            <a:xfrm>
              <a:off x="231840" y="4226040"/>
              <a:ext cx="2464560" cy="1282320"/>
              <a:chOff x="231840" y="4226040"/>
              <a:chExt cx="2464560" cy="1282320"/>
            </a:xfrm>
          </p:grpSpPr>
          <p:sp>
            <p:nvSpPr>
              <p:cNvPr id="483"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oup 21"/>
            <p:cNvGrpSpPr/>
            <p:nvPr/>
          </p:nvGrpSpPr>
          <p:grpSpPr>
            <a:xfrm>
              <a:off x="231840" y="3458880"/>
              <a:ext cx="2802240" cy="1711800"/>
              <a:chOff x="231840" y="3458880"/>
              <a:chExt cx="2802240" cy="1711800"/>
            </a:xfrm>
          </p:grpSpPr>
          <p:sp>
            <p:nvSpPr>
              <p:cNvPr id="485"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22"/>
            <p:cNvGrpSpPr/>
            <p:nvPr/>
          </p:nvGrpSpPr>
          <p:grpSpPr>
            <a:xfrm>
              <a:off x="231840" y="3695760"/>
              <a:ext cx="2801520" cy="1473120"/>
              <a:chOff x="231840" y="3695760"/>
              <a:chExt cx="2801520" cy="1473120"/>
            </a:xfrm>
          </p:grpSpPr>
          <p:sp>
            <p:nvSpPr>
              <p:cNvPr id="487"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23"/>
            <p:cNvGrpSpPr/>
            <p:nvPr/>
          </p:nvGrpSpPr>
          <p:grpSpPr>
            <a:xfrm>
              <a:off x="231840" y="3858120"/>
              <a:ext cx="2801520" cy="1311120"/>
              <a:chOff x="231840" y="3858120"/>
              <a:chExt cx="2801520" cy="1311120"/>
            </a:xfrm>
          </p:grpSpPr>
          <p:sp>
            <p:nvSpPr>
              <p:cNvPr id="489"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24"/>
            <p:cNvGrpSpPr/>
            <p:nvPr/>
          </p:nvGrpSpPr>
          <p:grpSpPr>
            <a:xfrm>
              <a:off x="231840" y="3959640"/>
              <a:ext cx="2801520" cy="1209600"/>
              <a:chOff x="231840" y="3959640"/>
              <a:chExt cx="2801520" cy="1209600"/>
            </a:xfrm>
          </p:grpSpPr>
          <p:sp>
            <p:nvSpPr>
              <p:cNvPr id="491"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Group 25"/>
            <p:cNvGrpSpPr/>
            <p:nvPr/>
          </p:nvGrpSpPr>
          <p:grpSpPr>
            <a:xfrm>
              <a:off x="231840" y="4021920"/>
              <a:ext cx="2801520" cy="1146960"/>
              <a:chOff x="231840" y="4021920"/>
              <a:chExt cx="2801520" cy="1146960"/>
            </a:xfrm>
          </p:grpSpPr>
          <p:sp>
            <p:nvSpPr>
              <p:cNvPr id="493"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Group 26"/>
            <p:cNvGrpSpPr/>
            <p:nvPr/>
          </p:nvGrpSpPr>
          <p:grpSpPr>
            <a:xfrm>
              <a:off x="231840" y="4077720"/>
              <a:ext cx="2801520" cy="1091520"/>
              <a:chOff x="231840" y="4077720"/>
              <a:chExt cx="2801520" cy="1091520"/>
            </a:xfrm>
          </p:grpSpPr>
          <p:sp>
            <p:nvSpPr>
              <p:cNvPr id="495"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oup 27"/>
            <p:cNvGrpSpPr/>
            <p:nvPr/>
          </p:nvGrpSpPr>
          <p:grpSpPr>
            <a:xfrm>
              <a:off x="231840" y="4128480"/>
              <a:ext cx="2801520" cy="1040400"/>
              <a:chOff x="231840" y="4128480"/>
              <a:chExt cx="2801520" cy="1040400"/>
            </a:xfrm>
          </p:grpSpPr>
          <p:sp>
            <p:nvSpPr>
              <p:cNvPr id="497"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28"/>
            <p:cNvGrpSpPr/>
            <p:nvPr/>
          </p:nvGrpSpPr>
          <p:grpSpPr>
            <a:xfrm>
              <a:off x="231840" y="3319560"/>
              <a:ext cx="3084840" cy="1467720"/>
              <a:chOff x="231840" y="3319560"/>
              <a:chExt cx="3084840" cy="1467720"/>
            </a:xfrm>
          </p:grpSpPr>
          <p:sp>
            <p:nvSpPr>
              <p:cNvPr id="499"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29"/>
            <p:cNvGrpSpPr/>
            <p:nvPr/>
          </p:nvGrpSpPr>
          <p:grpSpPr>
            <a:xfrm>
              <a:off x="231840" y="3560400"/>
              <a:ext cx="3084840" cy="1227240"/>
              <a:chOff x="231840" y="3560400"/>
              <a:chExt cx="3084840" cy="1227240"/>
            </a:xfrm>
          </p:grpSpPr>
          <p:sp>
            <p:nvSpPr>
              <p:cNvPr id="501"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30"/>
            <p:cNvGrpSpPr/>
            <p:nvPr/>
          </p:nvGrpSpPr>
          <p:grpSpPr>
            <a:xfrm>
              <a:off x="231840" y="3730680"/>
              <a:ext cx="3085560" cy="1058760"/>
              <a:chOff x="231840" y="3730680"/>
              <a:chExt cx="3085560" cy="1058760"/>
            </a:xfrm>
          </p:grpSpPr>
          <p:sp>
            <p:nvSpPr>
              <p:cNvPr id="503"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31"/>
            <p:cNvGrpSpPr/>
            <p:nvPr/>
          </p:nvGrpSpPr>
          <p:grpSpPr>
            <a:xfrm>
              <a:off x="231840" y="3842640"/>
              <a:ext cx="3084840" cy="945000"/>
              <a:chOff x="231840" y="3842640"/>
              <a:chExt cx="3084840" cy="945000"/>
            </a:xfrm>
          </p:grpSpPr>
          <p:sp>
            <p:nvSpPr>
              <p:cNvPr id="505"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Group 32"/>
            <p:cNvGrpSpPr/>
            <p:nvPr/>
          </p:nvGrpSpPr>
          <p:grpSpPr>
            <a:xfrm>
              <a:off x="231840" y="3910680"/>
              <a:ext cx="3085560" cy="878400"/>
              <a:chOff x="231840" y="3910680"/>
              <a:chExt cx="3085560" cy="878400"/>
            </a:xfrm>
          </p:grpSpPr>
          <p:sp>
            <p:nvSpPr>
              <p:cNvPr id="507"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Group 33"/>
            <p:cNvGrpSpPr/>
            <p:nvPr/>
          </p:nvGrpSpPr>
          <p:grpSpPr>
            <a:xfrm>
              <a:off x="231840" y="3975120"/>
              <a:ext cx="3084840" cy="812880"/>
              <a:chOff x="231840" y="3975120"/>
              <a:chExt cx="3084840" cy="812880"/>
            </a:xfrm>
          </p:grpSpPr>
          <p:sp>
            <p:nvSpPr>
              <p:cNvPr id="509"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Group 34"/>
            <p:cNvGrpSpPr/>
            <p:nvPr/>
          </p:nvGrpSpPr>
          <p:grpSpPr>
            <a:xfrm>
              <a:off x="231840" y="4025880"/>
              <a:ext cx="3084840" cy="761760"/>
              <a:chOff x="231840" y="4025880"/>
              <a:chExt cx="3084840" cy="761760"/>
            </a:xfrm>
          </p:grpSpPr>
          <p:sp>
            <p:nvSpPr>
              <p:cNvPr id="512"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Group 35"/>
            <p:cNvGrpSpPr/>
            <p:nvPr/>
          </p:nvGrpSpPr>
          <p:grpSpPr>
            <a:xfrm>
              <a:off x="231840" y="3181320"/>
              <a:ext cx="3316320" cy="1164600"/>
              <a:chOff x="231840" y="3181320"/>
              <a:chExt cx="3316320" cy="1164600"/>
            </a:xfrm>
          </p:grpSpPr>
          <p:sp>
            <p:nvSpPr>
              <p:cNvPr id="515"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Group 36"/>
            <p:cNvGrpSpPr/>
            <p:nvPr/>
          </p:nvGrpSpPr>
          <p:grpSpPr>
            <a:xfrm>
              <a:off x="231840" y="3419280"/>
              <a:ext cx="3318840" cy="931680"/>
              <a:chOff x="231840" y="3419280"/>
              <a:chExt cx="3318840" cy="931680"/>
            </a:xfrm>
          </p:grpSpPr>
          <p:sp>
            <p:nvSpPr>
              <p:cNvPr id="517"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Group 37"/>
            <p:cNvGrpSpPr/>
            <p:nvPr/>
          </p:nvGrpSpPr>
          <p:grpSpPr>
            <a:xfrm>
              <a:off x="231840" y="3604320"/>
              <a:ext cx="3316320" cy="741240"/>
              <a:chOff x="231840" y="3604320"/>
              <a:chExt cx="3316320" cy="741240"/>
            </a:xfrm>
          </p:grpSpPr>
          <p:sp>
            <p:nvSpPr>
              <p:cNvPr id="519"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38"/>
            <p:cNvGrpSpPr/>
            <p:nvPr/>
          </p:nvGrpSpPr>
          <p:grpSpPr>
            <a:xfrm>
              <a:off x="231840" y="3720600"/>
              <a:ext cx="3317400" cy="627120"/>
              <a:chOff x="231840" y="3720600"/>
              <a:chExt cx="3317400" cy="627120"/>
            </a:xfrm>
          </p:grpSpPr>
          <p:sp>
            <p:nvSpPr>
              <p:cNvPr id="521"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Group 39"/>
            <p:cNvGrpSpPr/>
            <p:nvPr/>
          </p:nvGrpSpPr>
          <p:grpSpPr>
            <a:xfrm>
              <a:off x="231840" y="3795480"/>
              <a:ext cx="3316320" cy="550440"/>
              <a:chOff x="231840" y="3795480"/>
              <a:chExt cx="3316320" cy="550440"/>
            </a:xfrm>
          </p:grpSpPr>
          <p:sp>
            <p:nvSpPr>
              <p:cNvPr id="523"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Group 40"/>
            <p:cNvGrpSpPr/>
            <p:nvPr/>
          </p:nvGrpSpPr>
          <p:grpSpPr>
            <a:xfrm>
              <a:off x="231840" y="3846240"/>
              <a:ext cx="3316320" cy="499320"/>
              <a:chOff x="231840" y="3846240"/>
              <a:chExt cx="3316320" cy="499320"/>
            </a:xfrm>
          </p:grpSpPr>
          <p:sp>
            <p:nvSpPr>
              <p:cNvPr id="526"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41"/>
            <p:cNvGrpSpPr/>
            <p:nvPr/>
          </p:nvGrpSpPr>
          <p:grpSpPr>
            <a:xfrm>
              <a:off x="231840" y="3882240"/>
              <a:ext cx="3316320" cy="463320"/>
              <a:chOff x="231840" y="3882240"/>
              <a:chExt cx="3316320" cy="463320"/>
            </a:xfrm>
          </p:grpSpPr>
          <p:sp>
            <p:nvSpPr>
              <p:cNvPr id="529"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Group 42"/>
            <p:cNvGrpSpPr/>
            <p:nvPr/>
          </p:nvGrpSpPr>
          <p:grpSpPr>
            <a:xfrm>
              <a:off x="231840" y="2994120"/>
              <a:ext cx="3510360" cy="683640"/>
              <a:chOff x="231840" y="2994120"/>
              <a:chExt cx="3510360" cy="683640"/>
            </a:xfrm>
          </p:grpSpPr>
          <p:sp>
            <p:nvSpPr>
              <p:cNvPr id="532"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43"/>
            <p:cNvGrpSpPr/>
            <p:nvPr/>
          </p:nvGrpSpPr>
          <p:grpSpPr>
            <a:xfrm>
              <a:off x="231840" y="3234960"/>
              <a:ext cx="3510360" cy="442080"/>
              <a:chOff x="231840" y="3234960"/>
              <a:chExt cx="3510360" cy="442080"/>
            </a:xfrm>
          </p:grpSpPr>
          <p:sp>
            <p:nvSpPr>
              <p:cNvPr id="534"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44"/>
            <p:cNvGrpSpPr/>
            <p:nvPr/>
          </p:nvGrpSpPr>
          <p:grpSpPr>
            <a:xfrm>
              <a:off x="231840" y="3417120"/>
              <a:ext cx="3511440" cy="263880"/>
              <a:chOff x="231840" y="3417120"/>
              <a:chExt cx="3511440" cy="263880"/>
            </a:xfrm>
          </p:grpSpPr>
          <p:sp>
            <p:nvSpPr>
              <p:cNvPr id="536"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45"/>
            <p:cNvGrpSpPr/>
            <p:nvPr/>
          </p:nvGrpSpPr>
          <p:grpSpPr>
            <a:xfrm>
              <a:off x="231840" y="3512520"/>
              <a:ext cx="3510000" cy="159840"/>
              <a:chOff x="231840" y="3512520"/>
              <a:chExt cx="3510000" cy="159840"/>
            </a:xfrm>
          </p:grpSpPr>
          <p:sp>
            <p:nvSpPr>
              <p:cNvPr id="538"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46"/>
            <p:cNvGrpSpPr/>
            <p:nvPr/>
          </p:nvGrpSpPr>
          <p:grpSpPr>
            <a:xfrm>
              <a:off x="231840" y="3538080"/>
              <a:ext cx="3510000" cy="136080"/>
              <a:chOff x="231840" y="3538080"/>
              <a:chExt cx="3510000" cy="136080"/>
            </a:xfrm>
          </p:grpSpPr>
          <p:sp>
            <p:nvSpPr>
              <p:cNvPr id="541"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47"/>
            <p:cNvGrpSpPr/>
            <p:nvPr/>
          </p:nvGrpSpPr>
          <p:grpSpPr>
            <a:xfrm>
              <a:off x="231840" y="3556440"/>
              <a:ext cx="3510000" cy="159480"/>
              <a:chOff x="231840" y="3556440"/>
              <a:chExt cx="3510000" cy="159480"/>
            </a:xfrm>
          </p:grpSpPr>
          <p:sp>
            <p:nvSpPr>
              <p:cNvPr id="544"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Group 48"/>
            <p:cNvGrpSpPr/>
            <p:nvPr/>
          </p:nvGrpSpPr>
          <p:grpSpPr>
            <a:xfrm>
              <a:off x="231840" y="3567240"/>
              <a:ext cx="3510000" cy="221400"/>
              <a:chOff x="231840" y="3567240"/>
              <a:chExt cx="3510000" cy="221400"/>
            </a:xfrm>
          </p:grpSpPr>
          <p:sp>
            <p:nvSpPr>
              <p:cNvPr id="547"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Group 49"/>
            <p:cNvGrpSpPr/>
            <p:nvPr/>
          </p:nvGrpSpPr>
          <p:grpSpPr>
            <a:xfrm>
              <a:off x="231840" y="2679840"/>
              <a:ext cx="3492360" cy="193320"/>
              <a:chOff x="231840" y="2679840"/>
              <a:chExt cx="3492360" cy="193320"/>
            </a:xfrm>
          </p:grpSpPr>
          <p:sp>
            <p:nvSpPr>
              <p:cNvPr id="550"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Group 50"/>
            <p:cNvGrpSpPr/>
            <p:nvPr/>
          </p:nvGrpSpPr>
          <p:grpSpPr>
            <a:xfrm>
              <a:off x="231840" y="2673000"/>
              <a:ext cx="3493800" cy="336960"/>
              <a:chOff x="231840" y="2673000"/>
              <a:chExt cx="3493800" cy="336960"/>
            </a:xfrm>
          </p:grpSpPr>
          <p:sp>
            <p:nvSpPr>
              <p:cNvPr id="553"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Group 51"/>
            <p:cNvGrpSpPr/>
            <p:nvPr/>
          </p:nvGrpSpPr>
          <p:grpSpPr>
            <a:xfrm>
              <a:off x="231840" y="2683440"/>
              <a:ext cx="3491280" cy="499680"/>
              <a:chOff x="231840" y="2683440"/>
              <a:chExt cx="3491280" cy="499680"/>
            </a:xfrm>
          </p:grpSpPr>
          <p:sp>
            <p:nvSpPr>
              <p:cNvPr id="555"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52"/>
            <p:cNvGrpSpPr/>
            <p:nvPr/>
          </p:nvGrpSpPr>
          <p:grpSpPr>
            <a:xfrm>
              <a:off x="231840" y="2687040"/>
              <a:ext cx="3490920" cy="623160"/>
              <a:chOff x="231840" y="2687040"/>
              <a:chExt cx="3490920" cy="623160"/>
            </a:xfrm>
          </p:grpSpPr>
          <p:sp>
            <p:nvSpPr>
              <p:cNvPr id="557"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53"/>
            <p:cNvGrpSpPr/>
            <p:nvPr/>
          </p:nvGrpSpPr>
          <p:grpSpPr>
            <a:xfrm>
              <a:off x="231840" y="2688840"/>
              <a:ext cx="3490560" cy="708480"/>
              <a:chOff x="231840" y="2688840"/>
              <a:chExt cx="3490560" cy="708480"/>
            </a:xfrm>
          </p:grpSpPr>
          <p:sp>
            <p:nvSpPr>
              <p:cNvPr id="559"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Group 54"/>
            <p:cNvGrpSpPr/>
            <p:nvPr/>
          </p:nvGrpSpPr>
          <p:grpSpPr>
            <a:xfrm>
              <a:off x="231840" y="2688840"/>
              <a:ext cx="3490560" cy="874440"/>
              <a:chOff x="231840" y="2688840"/>
              <a:chExt cx="3490560" cy="874440"/>
            </a:xfrm>
          </p:grpSpPr>
          <p:sp>
            <p:nvSpPr>
              <p:cNvPr id="561"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Group 55"/>
            <p:cNvGrpSpPr/>
            <p:nvPr/>
          </p:nvGrpSpPr>
          <p:grpSpPr>
            <a:xfrm>
              <a:off x="231840" y="2687040"/>
              <a:ext cx="3490920" cy="796320"/>
              <a:chOff x="231840" y="2687040"/>
              <a:chExt cx="3490920" cy="796320"/>
            </a:xfrm>
          </p:grpSpPr>
          <p:sp>
            <p:nvSpPr>
              <p:cNvPr id="563"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56"/>
            <p:cNvGrpSpPr/>
            <p:nvPr/>
          </p:nvGrpSpPr>
          <p:grpSpPr>
            <a:xfrm>
              <a:off x="231840" y="1468440"/>
              <a:ext cx="2956680" cy="1017000"/>
              <a:chOff x="231840" y="1468440"/>
              <a:chExt cx="2956680" cy="1017000"/>
            </a:xfrm>
          </p:grpSpPr>
          <p:sp>
            <p:nvSpPr>
              <p:cNvPr id="565"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 57"/>
            <p:cNvGrpSpPr/>
            <p:nvPr/>
          </p:nvGrpSpPr>
          <p:grpSpPr>
            <a:xfrm>
              <a:off x="231840" y="1477800"/>
              <a:ext cx="2950200" cy="1182240"/>
              <a:chOff x="231840" y="1477800"/>
              <a:chExt cx="2950200" cy="1182240"/>
            </a:xfrm>
          </p:grpSpPr>
          <p:sp>
            <p:nvSpPr>
              <p:cNvPr id="567"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8"/>
            <p:cNvGrpSpPr/>
            <p:nvPr/>
          </p:nvGrpSpPr>
          <p:grpSpPr>
            <a:xfrm>
              <a:off x="231840" y="1477800"/>
              <a:ext cx="2950200" cy="1348200"/>
              <a:chOff x="231840" y="1477800"/>
              <a:chExt cx="2950200" cy="1348200"/>
            </a:xfrm>
          </p:grpSpPr>
          <p:sp>
            <p:nvSpPr>
              <p:cNvPr id="569"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Group 59"/>
            <p:cNvGrpSpPr/>
            <p:nvPr/>
          </p:nvGrpSpPr>
          <p:grpSpPr>
            <a:xfrm>
              <a:off x="231840" y="1480680"/>
              <a:ext cx="2948040" cy="1465920"/>
              <a:chOff x="231840" y="1480680"/>
              <a:chExt cx="2948040" cy="1465920"/>
            </a:xfrm>
          </p:grpSpPr>
          <p:sp>
            <p:nvSpPr>
              <p:cNvPr id="571"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Group 60"/>
            <p:cNvGrpSpPr/>
            <p:nvPr/>
          </p:nvGrpSpPr>
          <p:grpSpPr>
            <a:xfrm>
              <a:off x="231840" y="1482480"/>
              <a:ext cx="2946600" cy="1550880"/>
              <a:chOff x="231840" y="1482480"/>
              <a:chExt cx="2946600" cy="1550880"/>
            </a:xfrm>
          </p:grpSpPr>
          <p:sp>
            <p:nvSpPr>
              <p:cNvPr id="573"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61"/>
            <p:cNvGrpSpPr/>
            <p:nvPr/>
          </p:nvGrpSpPr>
          <p:grpSpPr>
            <a:xfrm>
              <a:off x="231840" y="1480680"/>
              <a:ext cx="2948040" cy="1640520"/>
              <a:chOff x="231840" y="1480680"/>
              <a:chExt cx="2948040" cy="1640520"/>
            </a:xfrm>
          </p:grpSpPr>
          <p:sp>
            <p:nvSpPr>
              <p:cNvPr id="575"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62"/>
            <p:cNvGrpSpPr/>
            <p:nvPr/>
          </p:nvGrpSpPr>
          <p:grpSpPr>
            <a:xfrm>
              <a:off x="231840" y="1480680"/>
              <a:ext cx="2948040" cy="1726920"/>
              <a:chOff x="231840" y="1480680"/>
              <a:chExt cx="2948040" cy="1726920"/>
            </a:xfrm>
          </p:grpSpPr>
          <p:sp>
            <p:nvSpPr>
              <p:cNvPr id="577"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3"/>
            <p:cNvGrpSpPr/>
            <p:nvPr/>
          </p:nvGrpSpPr>
          <p:grpSpPr>
            <a:xfrm>
              <a:off x="2219040" y="601560"/>
              <a:ext cx="9000" cy="4320"/>
              <a:chOff x="2219040" y="601560"/>
              <a:chExt cx="9000" cy="4320"/>
            </a:xfrm>
          </p:grpSpPr>
          <p:sp>
            <p:nvSpPr>
              <p:cNvPr id="579"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580" name="Group 64"/>
            <p:cNvGrpSpPr/>
            <p:nvPr/>
          </p:nvGrpSpPr>
          <p:grpSpPr>
            <a:xfrm>
              <a:off x="2232360" y="607320"/>
              <a:ext cx="9360" cy="7200"/>
              <a:chOff x="2232360" y="607320"/>
              <a:chExt cx="9360" cy="7200"/>
            </a:xfrm>
          </p:grpSpPr>
          <p:sp>
            <p:nvSpPr>
              <p:cNvPr id="581"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2" name="Group 65"/>
            <p:cNvGrpSpPr/>
            <p:nvPr/>
          </p:nvGrpSpPr>
          <p:grpSpPr>
            <a:xfrm>
              <a:off x="2248200" y="619200"/>
              <a:ext cx="6840" cy="3600"/>
              <a:chOff x="2248200" y="619200"/>
              <a:chExt cx="6840" cy="3600"/>
            </a:xfrm>
          </p:grpSpPr>
          <p:sp>
            <p:nvSpPr>
              <p:cNvPr id="583"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584" name="Group 66"/>
            <p:cNvGrpSpPr/>
            <p:nvPr/>
          </p:nvGrpSpPr>
          <p:grpSpPr>
            <a:xfrm>
              <a:off x="2245680" y="615960"/>
              <a:ext cx="9360" cy="6120"/>
              <a:chOff x="2245680" y="615960"/>
              <a:chExt cx="9360" cy="6120"/>
            </a:xfrm>
          </p:grpSpPr>
          <p:sp>
            <p:nvSpPr>
              <p:cNvPr id="585"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86" name="Group 67"/>
            <p:cNvGrpSpPr/>
            <p:nvPr/>
          </p:nvGrpSpPr>
          <p:grpSpPr>
            <a:xfrm>
              <a:off x="2259000" y="624600"/>
              <a:ext cx="9360" cy="7200"/>
              <a:chOff x="2259000" y="624600"/>
              <a:chExt cx="9360" cy="7200"/>
            </a:xfrm>
          </p:grpSpPr>
          <p:sp>
            <p:nvSpPr>
              <p:cNvPr id="587"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8" name="Group 68"/>
            <p:cNvGrpSpPr/>
            <p:nvPr/>
          </p:nvGrpSpPr>
          <p:grpSpPr>
            <a:xfrm>
              <a:off x="227160" y="633240"/>
              <a:ext cx="3561480" cy="5851800"/>
              <a:chOff x="227160" y="633240"/>
              <a:chExt cx="3561480" cy="5851800"/>
            </a:xfrm>
          </p:grpSpPr>
          <p:sp>
            <p:nvSpPr>
              <p:cNvPr id="589"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590" name="Picture 70" descr=""/>
              <p:cNvPicPr/>
              <p:nvPr/>
            </p:nvPicPr>
            <p:blipFill>
              <a:blip r:embed="rId2"/>
              <a:stretch/>
            </p:blipFill>
            <p:spPr>
              <a:xfrm>
                <a:off x="227160" y="637560"/>
                <a:ext cx="3561480" cy="5847480"/>
              </a:xfrm>
              <a:prstGeom prst="rect">
                <a:avLst/>
              </a:prstGeom>
              <a:ln w="0">
                <a:noFill/>
              </a:ln>
            </p:spPr>
          </p:pic>
        </p:grpSp>
      </p:grpSp>
      <p:sp>
        <p:nvSpPr>
          <p:cNvPr id="591"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592"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593"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594" name="Rectangle 141"/>
          <p:cNvSpPr/>
          <p:nvPr/>
        </p:nvSpPr>
        <p:spPr>
          <a:xfrm>
            <a:off x="2830320" y="630072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Box 1"/>
          <p:cNvSpPr/>
          <p:nvPr/>
        </p:nvSpPr>
        <p:spPr>
          <a:xfrm>
            <a:off x="700200" y="2016000"/>
            <a:ext cx="762948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Arial"/>
              </a:rPr>
              <a:t>Chapter 5</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Arial"/>
              </a:rPr>
              <a:t>Global Marketing</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73550-E231-40F7-AE0C-5440C29EF9B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307" name="PlaceHolder 1"/>
          <p:cNvSpPr>
            <a:spLocks noGrp="1"/>
          </p:cNvSpPr>
          <p:nvPr>
            <p:ph type="title"/>
          </p:nvPr>
        </p:nvSpPr>
        <p:spPr>
          <a:xfrm>
            <a:off x="321840" y="429840"/>
            <a:ext cx="8364600" cy="879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08" name="PlaceHolder 2"/>
          <p:cNvSpPr>
            <a:spLocks noGrp="1"/>
          </p:cNvSpPr>
          <p:nvPr>
            <p:ph/>
          </p:nvPr>
        </p:nvSpPr>
        <p:spPr>
          <a:xfrm>
            <a:off x="456840" y="1474560"/>
            <a:ext cx="8396280" cy="508788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fferent attitudes towards company’s involvement with international marketing process are called international marketing orientations.</a:t>
            </a:r>
            <a:endParaRPr b="0" lang="en-US" sz="2800" spc="-1" strike="noStrike">
              <a:solidFill>
                <a:srgbClr val="000000"/>
              </a:solidFill>
              <a:latin typeface="Calibri"/>
            </a:endParaRPr>
          </a:p>
          <a:p>
            <a:pPr marL="343080" indent="-34308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Four approaches for International Marketing Orientations: </a:t>
            </a:r>
            <a:endParaRPr b="0" lang="en-US" sz="3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1. Ethn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2. Poly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3. Regi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4. Geocentric  Approach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06080"/>
            <a:ext cx="8229600" cy="102852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10" name=""/>
          <p:cNvSpPr txBox="1"/>
          <p:nvPr/>
        </p:nvSpPr>
        <p:spPr>
          <a:xfrm>
            <a:off x="457200" y="1595520"/>
            <a:ext cx="8229600" cy="4967280"/>
          </a:xfrm>
          <a:prstGeom prst="rect">
            <a:avLst/>
          </a:prstGeom>
          <a:noFill/>
          <a:ln w="9360">
            <a:solidFill>
              <a:srgbClr val="c4bd97"/>
            </a:solidFill>
            <a:miter/>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1. </a:t>
            </a:r>
            <a:r>
              <a:rPr b="1" lang="en-US" sz="3200" spc="-1" strike="noStrike" u="sng">
                <a:solidFill>
                  <a:srgbClr val="ff0000"/>
                </a:solidFill>
                <a:uFillTx/>
                <a:latin typeface="Calibri"/>
                <a:ea typeface="MS PGothic"/>
              </a:rPr>
              <a:t>Ethnocentric Orient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MS PGothic"/>
              </a:rPr>
              <a:t> </a:t>
            </a:r>
            <a:r>
              <a:rPr b="0" lang="en-US" sz="2800" spc="-1" strike="noStrike">
                <a:solidFill>
                  <a:srgbClr val="000000"/>
                </a:solidFill>
                <a:latin typeface="Calibri"/>
                <a:ea typeface="MS PGothic"/>
              </a:rPr>
              <a:t>Home country is superior to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Sees only similarities in other countri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Assumes products and practices that succeed at home will be successful everywhe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ment focus is to do in host countries what is done in the home cou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times called an </a:t>
            </a:r>
            <a:r>
              <a:rPr b="1" i="1" lang="en-US" sz="2800" spc="-1" strike="noStrike">
                <a:solidFill>
                  <a:srgbClr val="000000"/>
                </a:solidFill>
                <a:latin typeface="Calibri"/>
                <a:ea typeface="MS PGothic"/>
              </a:rPr>
              <a:t>international 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1" i="1" lang="en-US" sz="2800" spc="-1" strike="noStrike">
                <a:solidFill>
                  <a:srgbClr val="000000"/>
                </a:solidFill>
                <a:latin typeface="Calibri"/>
                <a:ea typeface="MS PGothic"/>
              </a:rPr>
              <a:t>standardized</a:t>
            </a:r>
            <a:r>
              <a:rPr b="0" lang="en-US" sz="2800" spc="-1" strike="noStrike">
                <a:solidFill>
                  <a:srgbClr val="000000"/>
                </a:solidFill>
                <a:latin typeface="Calibri"/>
                <a:ea typeface="MS PGothic"/>
              </a:rPr>
              <a:t>  </a:t>
            </a:r>
            <a:r>
              <a:rPr b="1" i="1" lang="en-US" sz="2800" spc="-1" strike="noStrike">
                <a:solidFill>
                  <a:srgbClr val="000000"/>
                </a:solidFill>
                <a:latin typeface="Calibri"/>
                <a:ea typeface="MS PGothic"/>
              </a:rPr>
              <a:t>approach.</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ternational Marketing Orientation</a:t>
            </a:r>
            <a:endParaRPr b="0" lang="en-US" sz="3200" spc="-1" strike="noStrike">
              <a:solidFill>
                <a:srgbClr val="000000"/>
              </a:solidFill>
              <a:latin typeface="Calibri"/>
            </a:endParaRPr>
          </a:p>
        </p:txBody>
      </p:sp>
      <p:sp>
        <p:nvSpPr>
          <p:cNvPr id="1312" name=""/>
          <p:cNvSpPr txBox="1"/>
          <p:nvPr/>
        </p:nvSpPr>
        <p:spPr>
          <a:xfrm>
            <a:off x="457200" y="1703160"/>
            <a:ext cx="8229600" cy="48942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2 . </a:t>
            </a:r>
            <a:r>
              <a:rPr b="1" lang="en-US" sz="3200" spc="-1" strike="noStrike" u="sng">
                <a:solidFill>
                  <a:srgbClr val="ff0000"/>
                </a:solidFill>
                <a:uFillTx/>
                <a:latin typeface="Calibri"/>
                <a:ea typeface="MS PGothic"/>
              </a:rPr>
              <a:t>Polycentric Ori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Each country is uniq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0" i="1" lang="en-US" sz="2800" spc="-1" strike="noStrike">
                <a:solidFill>
                  <a:srgbClr val="000000"/>
                </a:solidFill>
                <a:latin typeface="Calibri"/>
                <a:ea typeface="MS PGothic"/>
              </a:rPr>
              <a:t>localized or adaptation</a:t>
            </a:r>
            <a:r>
              <a:rPr b="0" lang="en-US" sz="2800" spc="-1" strike="noStrike">
                <a:solidFill>
                  <a:srgbClr val="000000"/>
                </a:solidFill>
                <a:latin typeface="Calibri"/>
                <a:ea typeface="MS PGothic"/>
              </a:rPr>
              <a:t> </a:t>
            </a:r>
            <a:r>
              <a:rPr b="0" i="1" lang="en-US" sz="2800" spc="-1" strike="noStrike">
                <a:solidFill>
                  <a:srgbClr val="000000"/>
                </a:solidFill>
                <a:latin typeface="Calibri"/>
                <a:ea typeface="MS PGothic"/>
              </a:rPr>
              <a:t>approach </a:t>
            </a:r>
            <a:r>
              <a:rPr b="0" lang="en-US" sz="2800" spc="-1" strike="noStrike">
                <a:solidFill>
                  <a:srgbClr val="000000"/>
                </a:solidFill>
                <a:latin typeface="Calibri"/>
                <a:ea typeface="MS PGothic"/>
              </a:rPr>
              <a:t>that assumes products must be adapted to local market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ny operates differently in each host country based on that situ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times called </a:t>
            </a:r>
            <a:r>
              <a:rPr b="1" i="1" lang="en-US" sz="2800" spc="-1" strike="noStrike">
                <a:solidFill>
                  <a:srgbClr val="000000"/>
                </a:solidFill>
                <a:latin typeface="Calibri"/>
              </a:rPr>
              <a:t>a multinational compan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43020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br>
              <a:rPr sz="3600"/>
            </a:br>
            <a:r>
              <a:rPr b="1"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1314" name=""/>
          <p:cNvSpPr txBox="1"/>
          <p:nvPr/>
        </p:nvSpPr>
        <p:spPr>
          <a:xfrm>
            <a:off x="321840" y="1828440"/>
            <a:ext cx="8364600" cy="4660920"/>
          </a:xfrm>
          <a:prstGeom prst="rect">
            <a:avLst/>
          </a:prstGeom>
          <a:noFill/>
          <a:ln w="0">
            <a:noFill/>
          </a:ln>
        </p:spPr>
        <p:txBody>
          <a:bodyPr anchor="t">
            <a:normAutofit fontScale="87000"/>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ea typeface="MS PGothic"/>
              </a:rPr>
              <a:t>3. </a:t>
            </a:r>
            <a:r>
              <a:rPr b="1" lang="en-US" sz="3000" spc="-1" strike="noStrike" u="sng">
                <a:solidFill>
                  <a:srgbClr val="ff0000"/>
                </a:solidFill>
                <a:uFillTx/>
                <a:latin typeface="Calibri"/>
                <a:ea typeface="MS PGothic"/>
              </a:rPr>
              <a:t>Regiocentric Orientation:</a:t>
            </a:r>
            <a:endParaRPr b="0" lang="en-US" sz="3000" spc="-1" strike="noStrike">
              <a:solidFill>
                <a:srgbClr val="000000"/>
              </a:solidFill>
              <a:latin typeface="Calibri"/>
            </a:endParaRPr>
          </a:p>
          <a:p>
            <a:pPr lvl="1" marL="646200" indent="-2484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Region becomes the relevant geographic unit (rather than by country)</a:t>
            </a:r>
            <a:endParaRPr b="0" lang="en-US" sz="2800" spc="-1" strike="noStrike">
              <a:solidFill>
                <a:srgbClr val="000000"/>
              </a:solidFill>
              <a:latin typeface="Calibri"/>
            </a:endParaRPr>
          </a:p>
          <a:p>
            <a:pPr lvl="2" marL="994320" indent="-198720">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ea typeface="MS PGothic"/>
              </a:rPr>
              <a:t>Ex:</a:t>
            </a:r>
            <a:r>
              <a:rPr b="0" lang="en-US" sz="2800" spc="-1" strike="noStrike">
                <a:solidFill>
                  <a:srgbClr val="000000"/>
                </a:solidFill>
                <a:latin typeface="Calibri"/>
                <a:ea typeface="MS PGothic"/>
              </a:rPr>
              <a:t> The NAFTA or European Union market.</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 companies serve markets on a regional basis.</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European Union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NAFTA</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Gulf Cooperation Council (GCC)</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4784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6" name=""/>
          <p:cNvSpPr txBox="1"/>
          <p:nvPr/>
        </p:nvSpPr>
        <p:spPr>
          <a:xfrm>
            <a:off x="457200" y="1757520"/>
            <a:ext cx="8229600" cy="471456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4. </a:t>
            </a:r>
            <a:r>
              <a:rPr b="1" lang="en-US" sz="3200" spc="-1" strike="noStrike" u="sng">
                <a:solidFill>
                  <a:srgbClr val="ff0000"/>
                </a:solidFill>
                <a:uFillTx/>
                <a:latin typeface="Calibri"/>
                <a:ea typeface="MS PGothic"/>
              </a:rPr>
              <a:t>Geocentric Orientation:</a:t>
            </a:r>
            <a:endParaRPr b="0" lang="en-US" sz="3200" spc="-1" strike="noStrike">
              <a:solidFill>
                <a:srgbClr val="000000"/>
              </a:solidFill>
              <a:latin typeface="Calibri"/>
            </a:endParaRPr>
          </a:p>
          <a:p>
            <a:pPr>
              <a:lnSpc>
                <a:spcPct val="90000"/>
              </a:lnSpc>
              <a:spcBef>
                <a:spcPts val="3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Entire world is a potential market</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Also known as a </a:t>
            </a:r>
            <a:r>
              <a:rPr b="1" i="1" lang="en-US" sz="3000" spc="-1" strike="noStrike">
                <a:solidFill>
                  <a:srgbClr val="000000"/>
                </a:solidFill>
                <a:latin typeface="Calibri"/>
                <a:ea typeface="MS PGothic"/>
              </a:rPr>
              <a:t>global compan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Retains an relationship with the headquarters countr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Leads to a combination of </a:t>
            </a:r>
            <a:r>
              <a:rPr b="1" i="1" lang="en-US" sz="3000" spc="-1" strike="noStrike">
                <a:solidFill>
                  <a:srgbClr val="000000"/>
                </a:solidFill>
                <a:latin typeface="Calibri"/>
                <a:ea typeface="MS PGothic"/>
              </a:rPr>
              <a:t>extension and adaptation elements.</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812520" y="392040"/>
            <a:ext cx="7475400" cy="7984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1. Products </a:t>
            </a:r>
            <a:endParaRPr b="0" lang="en-US" sz="3600" spc="-1" strike="noStrike">
              <a:solidFill>
                <a:srgbClr val="000000"/>
              </a:solidFill>
              <a:latin typeface="Calibri"/>
            </a:endParaRPr>
          </a:p>
        </p:txBody>
      </p:sp>
      <p:sp>
        <p:nvSpPr>
          <p:cNvPr id="1318" name=""/>
          <p:cNvSpPr txBox="1"/>
          <p:nvPr/>
        </p:nvSpPr>
        <p:spPr>
          <a:xfrm>
            <a:off x="456840" y="1422360"/>
            <a:ext cx="8304120" cy="4950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1" i="1" lang="en-US" sz="2800" spc="-1" strike="noStrike" u="sng">
                <a:solidFill>
                  <a:srgbClr val="000000"/>
                </a:solidFill>
                <a:uFillTx/>
                <a:latin typeface="Calibri"/>
              </a:rPr>
              <a:t>Globalization </a:t>
            </a:r>
            <a:r>
              <a:rPr b="1" i="1" lang="en-US" sz="2800" spc="-1" strike="noStrike" u="sng">
                <a:solidFill>
                  <a:srgbClr val="ff0000"/>
                </a:solidFill>
                <a:uFillTx/>
                <a:latin typeface="Calibri"/>
              </a:rPr>
              <a:t>or</a:t>
            </a:r>
            <a:r>
              <a:rPr b="1" i="1" lang="en-US" sz="2800" spc="-1" strike="noStrike" u="sng">
                <a:solidFill>
                  <a:srgbClr val="000000"/>
                </a:solidFill>
                <a:uFillTx/>
                <a:latin typeface="Calibri"/>
              </a:rPr>
              <a:t>  Global Localization: </a:t>
            </a:r>
            <a:endParaRPr b="0" lang="en-US" sz="2800" spc="-1" strike="noStrike">
              <a:solidFill>
                <a:srgbClr val="000000"/>
              </a:solidFill>
              <a:latin typeface="Calibri"/>
            </a:endParaRPr>
          </a:p>
          <a:p>
            <a:pPr marL="343080" indent="-343080">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ization (Standardiz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Developing standardized products marketed worldwide with a standardized marketing mix</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Principle of mass marketing.</a:t>
            </a:r>
            <a:endParaRPr b="0" lang="en-US" sz="26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 localization (Adapt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Mixing standardization and customization in a way that minimizes costs while maximizing satisfac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ea typeface="MS PGothic"/>
              </a:rPr>
              <a:t>Think globally, act loc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962AE432-AAAB-47E4-A9A8-ED1EE7E7CB7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1" name="PlaceHolder 1"/>
          <p:cNvSpPr>
            <a:spLocks noGrp="1"/>
          </p:cNvSpPr>
          <p:nvPr>
            <p:ph type="title"/>
          </p:nvPr>
        </p:nvSpPr>
        <p:spPr>
          <a:xfrm>
            <a:off x="457200" y="479520"/>
            <a:ext cx="8229600" cy="93816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Why Firms Modify Products</a:t>
            </a:r>
            <a:endParaRPr b="0" lang="en-US" sz="3600" spc="-1" strike="noStrike">
              <a:solidFill>
                <a:srgbClr val="000000"/>
              </a:solidFill>
              <a:latin typeface="Calibri"/>
            </a:endParaRPr>
          </a:p>
        </p:txBody>
      </p:sp>
      <p:sp>
        <p:nvSpPr>
          <p:cNvPr id="1322" name="PlaceHolder 2"/>
          <p:cNvSpPr>
            <a:spLocks noGrp="1"/>
          </p:cNvSpPr>
          <p:nvPr>
            <p:ph/>
          </p:nvPr>
        </p:nvSpPr>
        <p:spPr>
          <a:xfrm>
            <a:off x="457200" y="1726920"/>
            <a:ext cx="8229600" cy="4762440"/>
          </a:xfrm>
          <a:prstGeom prst="rect">
            <a:avLst/>
          </a:prstGeom>
          <a:solidFill>
            <a:srgbClr val="ffffff"/>
          </a:solidFill>
          <a:ln w="0">
            <a:noFill/>
          </a:ln>
        </p:spPr>
        <p:txBody>
          <a:bodyPr anchor="t">
            <a:normAutofit/>
          </a:bodyPr>
          <a:p>
            <a:pPr marL="507960" indent="0">
              <a:lnSpc>
                <a:spcPct val="100000"/>
              </a:lnSpc>
              <a:spcBef>
                <a:spcPts val="799"/>
              </a:spcBef>
              <a:buNone/>
              <a:tabLst>
                <a:tab algn="l" pos="0"/>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00"/>
                </a:solidFill>
                <a:latin typeface="Arial"/>
              </a:rPr>
              <a:t>  </a:t>
            </a:r>
            <a:r>
              <a:rPr b="0" i="1" lang="en-US" sz="3200" spc="-1" strike="noStrike">
                <a:solidFill>
                  <a:srgbClr val="ff0000"/>
                </a:solidFill>
                <a:latin typeface="Arial"/>
              </a:rPr>
              <a:t>Firms modify products for the following reasons ? </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Legal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egal factors are usually related to safety or health protection.</a:t>
            </a:r>
            <a:endParaRPr b="0" lang="en-US" sz="24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ltural Considerations</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conomic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ersonal incomes and infrastructures affect product demand.</a:t>
            </a:r>
            <a:endParaRPr b="0" lang="en-US" sz="2400" spc="-1" strike="noStrike">
              <a:solidFill>
                <a:srgbClr val="000000"/>
              </a:solidFill>
              <a:latin typeface="Calibri"/>
            </a:endParaRPr>
          </a:p>
          <a:p>
            <a:pPr marL="507960" indent="0">
              <a:lnSpc>
                <a:spcPct val="100000"/>
              </a:lnSpc>
              <a:spcBef>
                <a:spcPts val="601"/>
              </a:spcBef>
              <a:buNone/>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78000"/>
            <a:ext cx="8229600" cy="10396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2. Prices </a:t>
            </a:r>
            <a:endParaRPr b="0" lang="en-US" sz="4400" spc="-1" strike="noStrike">
              <a:solidFill>
                <a:srgbClr val="000000"/>
              </a:solidFill>
              <a:latin typeface="Calibri"/>
            </a:endParaRPr>
          </a:p>
        </p:txBody>
      </p:sp>
      <p:sp>
        <p:nvSpPr>
          <p:cNvPr id="1324" name=""/>
          <p:cNvSpPr txBox="1"/>
          <p:nvPr/>
        </p:nvSpPr>
        <p:spPr>
          <a:xfrm>
            <a:off x="457200" y="1600200"/>
            <a:ext cx="8354880" cy="4751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i="1" lang="en-US" sz="3200" spc="-1" strike="noStrike" u="sng">
                <a:solidFill>
                  <a:srgbClr val="ff0000"/>
                </a:solidFill>
                <a:uFillTx/>
                <a:latin typeface="Calibri"/>
              </a:rPr>
              <a:t>Potential Problems in International Pri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overnment inter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rket divers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xport price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xed versus variable pric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lations with supplier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420840"/>
            <a:ext cx="8229600" cy="88560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3. Distribution</a:t>
            </a:r>
            <a:endParaRPr b="0" lang="en-US" sz="3600" spc="-1" strike="noStrike">
              <a:solidFill>
                <a:srgbClr val="000000"/>
              </a:solidFill>
              <a:latin typeface="Calibri"/>
            </a:endParaRPr>
          </a:p>
        </p:txBody>
      </p:sp>
      <p:sp>
        <p:nvSpPr>
          <p:cNvPr id="1326" name=""/>
          <p:cNvSpPr txBox="1"/>
          <p:nvPr/>
        </p:nvSpPr>
        <p:spPr>
          <a:xfrm>
            <a:off x="457200" y="1480680"/>
            <a:ext cx="8229600" cy="5079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international marketing, a company must decide on the method of distribution </a:t>
            </a:r>
            <a:r>
              <a:rPr b="0" lang="en-US" sz="2800" spc="-1" strike="noStrike" u="sng">
                <a:solidFill>
                  <a:srgbClr val="ff0000"/>
                </a:solidFill>
                <a:uFillTx/>
                <a:latin typeface="Calibri"/>
              </a:rPr>
              <a:t>among countries </a:t>
            </a:r>
            <a:r>
              <a:rPr b="0" lang="en-US" sz="2800" spc="-1" strike="noStrike">
                <a:solidFill>
                  <a:srgbClr val="000000"/>
                </a:solidFill>
                <a:latin typeface="Calibri"/>
              </a:rPr>
              <a:t>as well as the method </a:t>
            </a:r>
            <a:r>
              <a:rPr b="0" lang="en-US" sz="2800" spc="-1" strike="noStrike" u="sng">
                <a:solidFill>
                  <a:srgbClr val="ff0000"/>
                </a:solidFill>
                <a:uFillTx/>
                <a:latin typeface="Calibri"/>
              </a:rPr>
              <a:t>within the country</a:t>
            </a:r>
            <a:r>
              <a:rPr b="0" lang="en-US" sz="2800" spc="-1" strike="noStrike" u="sng">
                <a:solidFill>
                  <a:srgbClr val="000000"/>
                </a:solidFill>
                <a:uFillTx/>
                <a:latin typeface="Calibri"/>
              </a:rPr>
              <a:t> </a:t>
            </a:r>
            <a:r>
              <a:rPr b="0" lang="en-US" sz="2800" spc="-1" strike="noStrike">
                <a:solidFill>
                  <a:srgbClr val="000000"/>
                </a:solidFill>
                <a:latin typeface="Calibri"/>
              </a:rPr>
              <a:t>where final sale occ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in the marketing mix, International companies  find distribution one of the most difficult functions to standardize internationally for several reasons. Each country has its own distribution system, which an International company  finds difficult to modify because it is interlinked with the country’s cultural, economic, and legal environ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DE113540-C020-4296-B161-F3C5E1FBBFF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9" name="PlaceHolder 1"/>
          <p:cNvSpPr>
            <a:spLocks noGrp="1"/>
          </p:cNvSpPr>
          <p:nvPr>
            <p:ph type="title"/>
          </p:nvPr>
        </p:nvSpPr>
        <p:spPr>
          <a:xfrm>
            <a:off x="457200" y="493560"/>
            <a:ext cx="8229600" cy="82728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Qualifying Distributors</a:t>
            </a:r>
            <a:endParaRPr b="0" lang="en-US" sz="3600" spc="-1" strike="noStrike">
              <a:solidFill>
                <a:srgbClr val="000000"/>
              </a:solidFill>
              <a:latin typeface="Calibri"/>
            </a:endParaRPr>
          </a:p>
        </p:txBody>
      </p:sp>
      <p:sp>
        <p:nvSpPr>
          <p:cNvPr id="1330" name="PlaceHolder 2"/>
          <p:cNvSpPr>
            <a:spLocks noGrp="1"/>
          </p:cNvSpPr>
          <p:nvPr>
            <p:ph/>
          </p:nvPr>
        </p:nvSpPr>
        <p:spPr>
          <a:xfrm>
            <a:off x="457200" y="1600200"/>
            <a:ext cx="8229600" cy="4756320"/>
          </a:xfrm>
          <a:prstGeom prst="rect">
            <a:avLst/>
          </a:prstGeom>
          <a:noFill/>
          <a:ln w="0">
            <a:noFill/>
          </a:ln>
        </p:spPr>
        <p:txBody>
          <a:bodyPr anchor="t">
            <a:normAutofit/>
          </a:bodyPr>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0000"/>
                </a:solidFill>
                <a:latin typeface="Arial"/>
              </a:rPr>
              <a:t>Some evaluation criteria for distributors include the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nancial capa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nnections with custom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t with a company’s produc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ther resour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rustworthi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mpatibility with product image</a:t>
            </a:r>
            <a:endParaRPr b="0" lang="en-US" sz="2800" spc="-1" strike="noStrike">
              <a:solidFill>
                <a:srgbClr val="000000"/>
              </a:solidFill>
              <a:latin typeface="Calibri"/>
            </a:endParaRPr>
          </a:p>
          <a:p>
            <a:pPr marL="34308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401760"/>
            <a:ext cx="8229600" cy="1009440"/>
          </a:xfrm>
          <a:prstGeom prst="rect">
            <a:avLst/>
          </a:prstGeom>
          <a:solidFill>
            <a:srgbClr val="f2f2f2"/>
          </a:solid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t>
            </a:r>
            <a:endParaRPr b="0" lang="en-US" sz="4400" spc="-1" strike="noStrike">
              <a:solidFill>
                <a:srgbClr val="000000"/>
              </a:solidFill>
              <a:latin typeface="Calibri"/>
            </a:endParaRPr>
          </a:p>
        </p:txBody>
      </p:sp>
      <p:pic>
        <p:nvPicPr>
          <p:cNvPr id="1284" name="Picture 2" descr=""/>
          <p:cNvPicPr/>
          <p:nvPr/>
        </p:nvPicPr>
        <p:blipFill>
          <a:blip r:embed="rId1"/>
          <a:stretch/>
        </p:blipFill>
        <p:spPr>
          <a:xfrm>
            <a:off x="438120" y="1859040"/>
            <a:ext cx="3848040" cy="8370720"/>
          </a:xfrm>
          <a:prstGeom prst="rect">
            <a:avLst/>
          </a:prstGeom>
          <a:ln w="0">
            <a:noFill/>
          </a:ln>
        </p:spPr>
      </p:pic>
      <p:pic>
        <p:nvPicPr>
          <p:cNvPr id="1285" name="Picture 3" descr=""/>
          <p:cNvPicPr/>
          <p:nvPr/>
        </p:nvPicPr>
        <p:blipFill>
          <a:blip r:embed="rId2"/>
          <a:stretch/>
        </p:blipFill>
        <p:spPr>
          <a:xfrm>
            <a:off x="4572000" y="1917720"/>
            <a:ext cx="3451320" cy="33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544320" y="422280"/>
            <a:ext cx="8032680" cy="1014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4. Promotional Mix</a:t>
            </a:r>
            <a:endParaRPr b="0" lang="en-US" sz="3600" spc="-1" strike="noStrike">
              <a:solidFill>
                <a:srgbClr val="000000"/>
              </a:solidFill>
              <a:latin typeface="Calibri"/>
            </a:endParaRPr>
          </a:p>
        </p:txBody>
      </p:sp>
      <p:sp>
        <p:nvSpPr>
          <p:cNvPr id="1332" name="PlaceHolder 2"/>
          <p:cNvSpPr>
            <a:spLocks noGrp="1"/>
          </p:cNvSpPr>
          <p:nvPr>
            <p:ph/>
          </p:nvPr>
        </p:nvSpPr>
        <p:spPr>
          <a:xfrm>
            <a:off x="668160" y="1785960"/>
            <a:ext cx="7445520" cy="400536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 </a:t>
            </a:r>
            <a:r>
              <a:rPr b="1" i="1" lang="en-US" sz="3200" spc="-1" strike="noStrike">
                <a:solidFill>
                  <a:srgbClr val="ff0000"/>
                </a:solidFill>
                <a:latin typeface="Calibri"/>
              </a:rPr>
              <a:t>I</a:t>
            </a:r>
            <a:r>
              <a:rPr b="1" i="1" lang="en-US" sz="3200" spc="-1" strike="noStrike" u="sng">
                <a:solidFill>
                  <a:srgbClr val="ff0000"/>
                </a:solidFill>
                <a:uFillTx/>
                <a:latin typeface="Calibri"/>
              </a:rPr>
              <a:t>nternational Promotional Mi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erti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les Promo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c Relations</a:t>
            </a:r>
            <a:endParaRPr b="0" lang="en-US" sz="3200" spc="-1" strike="noStrike">
              <a:solidFill>
                <a:srgbClr val="000000"/>
              </a:solidFill>
              <a:latin typeface="Calibri"/>
            </a:endParaRPr>
          </a:p>
        </p:txBody>
      </p:sp>
      <p:sp>
        <p:nvSpPr>
          <p:cNvPr id="1333" name="Freeform 4"/>
          <p:cNvSpPr/>
          <p:nvPr/>
        </p:nvSpPr>
        <p:spPr>
          <a:xfrm>
            <a:off x="1670040" y="3290760"/>
            <a:ext cx="1014480" cy="1157400"/>
          </a:xfrm>
          <a:custGeom>
            <a:avLst/>
            <a:gdLst/>
            <a:ahLst/>
            <a:rect l="l" t="t" r="r" b="b"/>
            <a:pathLst>
              <a:path w="1597" h="1822">
                <a:moveTo>
                  <a:pt x="439" y="1737"/>
                </a:moveTo>
                <a:lnTo>
                  <a:pt x="332" y="1308"/>
                </a:lnTo>
                <a:lnTo>
                  <a:pt x="363" y="1050"/>
                </a:lnTo>
                <a:lnTo>
                  <a:pt x="0" y="794"/>
                </a:lnTo>
                <a:lnTo>
                  <a:pt x="52" y="536"/>
                </a:lnTo>
                <a:lnTo>
                  <a:pt x="116" y="320"/>
                </a:lnTo>
                <a:lnTo>
                  <a:pt x="493" y="138"/>
                </a:lnTo>
                <a:lnTo>
                  <a:pt x="932" y="0"/>
                </a:lnTo>
                <a:lnTo>
                  <a:pt x="1212" y="22"/>
                </a:lnTo>
                <a:lnTo>
                  <a:pt x="1575" y="161"/>
                </a:lnTo>
                <a:lnTo>
                  <a:pt x="1597" y="472"/>
                </a:lnTo>
                <a:lnTo>
                  <a:pt x="1523" y="998"/>
                </a:lnTo>
                <a:lnTo>
                  <a:pt x="1264" y="1083"/>
                </a:lnTo>
                <a:lnTo>
                  <a:pt x="1146" y="1083"/>
                </a:lnTo>
                <a:lnTo>
                  <a:pt x="868" y="1223"/>
                </a:lnTo>
                <a:lnTo>
                  <a:pt x="761" y="1436"/>
                </a:lnTo>
                <a:lnTo>
                  <a:pt x="719" y="1609"/>
                </a:lnTo>
                <a:lnTo>
                  <a:pt x="472" y="1822"/>
                </a:lnTo>
                <a:lnTo>
                  <a:pt x="439" y="173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5"/>
          <p:cNvSpPr/>
          <p:nvPr/>
        </p:nvSpPr>
        <p:spPr>
          <a:xfrm>
            <a:off x="1519200" y="2139840"/>
            <a:ext cx="333360" cy="108000"/>
          </a:xfrm>
          <a:custGeom>
            <a:avLst/>
            <a:gdLst/>
            <a:ahLst/>
            <a:rect l="l" t="t" r="r" b="b"/>
            <a:pathLst>
              <a:path w="526" h="171">
                <a:moveTo>
                  <a:pt x="0" y="31"/>
                </a:moveTo>
                <a:lnTo>
                  <a:pt x="374" y="0"/>
                </a:lnTo>
                <a:lnTo>
                  <a:pt x="526" y="31"/>
                </a:lnTo>
                <a:lnTo>
                  <a:pt x="450" y="171"/>
                </a:lnTo>
                <a:lnTo>
                  <a:pt x="225" y="107"/>
                </a:lnTo>
                <a:lnTo>
                  <a:pt x="76" y="116"/>
                </a:lnTo>
                <a:lnTo>
                  <a:pt x="0" y="3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Rectangle 6"/>
          <p:cNvSpPr/>
          <p:nvPr/>
        </p:nvSpPr>
        <p:spPr>
          <a:xfrm>
            <a:off x="0" y="159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6" name="Rectangle 7"/>
          <p:cNvSpPr/>
          <p:nvPr/>
        </p:nvSpPr>
        <p:spPr>
          <a:xfrm>
            <a:off x="0" y="1593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32">
                                            <p:txEl>
                                              <p:pRg st="0" end="0"/>
                                            </p:txEl>
                                          </p:spTgt>
                                        </p:tgtEl>
                                        <p:attrNameLst>
                                          <p:attrName>style.visibility</p:attrName>
                                        </p:attrNameLst>
                                      </p:cBhvr>
                                      <p:to>
                                        <p:strVal val="visible"/>
                                      </p:to>
                                    </p:set>
                                    <p:anim calcmode="lin" valueType="num">
                                      <p:cBhvr additive="base">
                                        <p:cTn id="7" dur="500" fill="hold"/>
                                        <p:tgtEl>
                                          <p:spTgt spid="13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32">
                                            <p:txEl>
                                              <p:pRg st="1" end="1"/>
                                            </p:txEl>
                                          </p:spTgt>
                                        </p:tgtEl>
                                        <p:attrNameLst>
                                          <p:attrName>style.visibility</p:attrName>
                                        </p:attrNameLst>
                                      </p:cBhvr>
                                      <p:to>
                                        <p:strVal val="visible"/>
                                      </p:to>
                                    </p:set>
                                    <p:anim calcmode="lin" valueType="num">
                                      <p:cBhvr additive="base">
                                        <p:cTn id="13" dur="500" fill="hold"/>
                                        <p:tgtEl>
                                          <p:spTgt spid="13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32">
                                            <p:txEl>
                                              <p:pRg st="2" end="2"/>
                                            </p:txEl>
                                          </p:spTgt>
                                        </p:tgtEl>
                                        <p:attrNameLst>
                                          <p:attrName>style.visibility</p:attrName>
                                        </p:attrNameLst>
                                      </p:cBhvr>
                                      <p:to>
                                        <p:strVal val="visible"/>
                                      </p:to>
                                    </p:set>
                                    <p:anim calcmode="lin" valueType="num">
                                      <p:cBhvr additive="base">
                                        <p:cTn id="19" dur="500" fill="hold"/>
                                        <p:tgtEl>
                                          <p:spTgt spid="13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32">
                                            <p:txEl>
                                              <p:pRg st="3" end="3"/>
                                            </p:txEl>
                                          </p:spTgt>
                                        </p:tgtEl>
                                        <p:attrNameLst>
                                          <p:attrName>style.visibility</p:attrName>
                                        </p:attrNameLst>
                                      </p:cBhvr>
                                      <p:to>
                                        <p:strVal val="visible"/>
                                      </p:to>
                                    </p:set>
                                    <p:anim calcmode="lin" valueType="num">
                                      <p:cBhvr additive="base">
                                        <p:cTn id="25" dur="500" fill="hold"/>
                                        <p:tgtEl>
                                          <p:spTgt spid="13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32">
                                            <p:txEl>
                                              <p:pRg st="4" end="4"/>
                                            </p:txEl>
                                          </p:spTgt>
                                        </p:tgtEl>
                                        <p:attrNameLst>
                                          <p:attrName>style.visibility</p:attrName>
                                        </p:attrNameLst>
                                      </p:cBhvr>
                                      <p:to>
                                        <p:strVal val="visible"/>
                                      </p:to>
                                    </p:set>
                                    <p:anim calcmode="lin" valueType="num">
                                      <p:cBhvr additive="base">
                                        <p:cTn id="31" dur="500" fill="hold"/>
                                        <p:tgtEl>
                                          <p:spTgt spid="133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33660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What is  Marketing ? </a:t>
            </a:r>
            <a:endParaRPr b="0" lang="en-US" sz="3600" spc="-1" strike="noStrike">
              <a:solidFill>
                <a:srgbClr val="000000"/>
              </a:solidFill>
              <a:latin typeface="Calibri"/>
            </a:endParaRPr>
          </a:p>
        </p:txBody>
      </p:sp>
      <p:sp>
        <p:nvSpPr>
          <p:cNvPr id="1287" name=""/>
          <p:cNvSpPr txBox="1"/>
          <p:nvPr/>
        </p:nvSpPr>
        <p:spPr>
          <a:xfrm>
            <a:off x="457200" y="1539720"/>
            <a:ext cx="8229600" cy="4973760"/>
          </a:xfrm>
          <a:prstGeom prst="rect">
            <a:avLst/>
          </a:prstGeom>
          <a:noFill/>
          <a:ln w="0">
            <a:noFill/>
          </a:ln>
        </p:spPr>
        <p:txBody>
          <a:bodyPr lIns="90000" rIns="90000" tIns="46800" bIns="46800" anchor="t">
            <a:normAutofit fontScale="88000"/>
          </a:bodyPr>
          <a:p>
            <a:pPr marL="301680" indent="-301680">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Marketing  :</a:t>
            </a:r>
            <a:r>
              <a:rPr b="0" lang="en-US" sz="2800" spc="-1" strike="noStrike">
                <a:solidFill>
                  <a:srgbClr val="000000"/>
                </a:solidFill>
                <a:latin typeface="Calibri"/>
              </a:rPr>
              <a:t> </a:t>
            </a:r>
            <a:r>
              <a:rPr b="0" lang="en-US" sz="2700" spc="-1" strike="noStrike">
                <a:solidFill>
                  <a:srgbClr val="000000"/>
                </a:solidFill>
                <a:latin typeface="Calibri"/>
              </a:rPr>
              <a:t>The management process through which goods and services move from producer or seller  to the customer. </a:t>
            </a:r>
            <a:r>
              <a:rPr b="1" i="1" lang="en-US" sz="2700" spc="-1" strike="noStrike">
                <a:solidFill>
                  <a:srgbClr val="000000"/>
                </a:solidFill>
                <a:latin typeface="Calibri"/>
              </a:rPr>
              <a:t>It includes the coordination of four elements called the </a:t>
            </a:r>
            <a:r>
              <a:rPr b="1" i="1" lang="en-US" sz="2700" spc="-1" strike="noStrike">
                <a:solidFill>
                  <a:srgbClr val="ff0000"/>
                </a:solidFill>
                <a:latin typeface="Calibri"/>
              </a:rPr>
              <a:t>4 P's </a:t>
            </a:r>
            <a:r>
              <a:rPr b="1" i="1" lang="en-US" sz="2700" spc="-1" strike="noStrike">
                <a:solidFill>
                  <a:srgbClr val="000000"/>
                </a:solidFill>
                <a:latin typeface="Calibri"/>
              </a:rPr>
              <a:t>of marketing:</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identification, selection and development of a </a:t>
            </a:r>
            <a:r>
              <a:rPr b="1" lang="en-US" sz="2700" spc="-1" strike="noStrike">
                <a:solidFill>
                  <a:srgbClr val="000000"/>
                </a:solidFill>
                <a:latin typeface="Calibri"/>
              </a:rPr>
              <a:t>product</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determination of its </a:t>
            </a:r>
            <a:r>
              <a:rPr b="1" lang="en-US" sz="2700" spc="-1" strike="noStrike">
                <a:solidFill>
                  <a:srgbClr val="000000"/>
                </a:solidFill>
                <a:latin typeface="Calibri"/>
              </a:rPr>
              <a:t>price</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3) selection of a distribution channel to reach the customer's </a:t>
            </a:r>
            <a:r>
              <a:rPr b="1" lang="en-US" sz="2700" spc="-1" strike="noStrike">
                <a:solidFill>
                  <a:srgbClr val="000000"/>
                </a:solidFill>
                <a:latin typeface="Calibri"/>
              </a:rPr>
              <a:t>place</a:t>
            </a:r>
            <a:r>
              <a:rPr b="0" lang="en-US" sz="2700" spc="-1" strike="noStrike">
                <a:solidFill>
                  <a:srgbClr val="000000"/>
                </a:solidFill>
                <a:latin typeface="Calibri"/>
              </a:rPr>
              <a:t>, and</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4) development and implementation of a </a:t>
            </a:r>
            <a:r>
              <a:rPr b="1" lang="en-US" sz="2700" spc="-1" strike="noStrike">
                <a:solidFill>
                  <a:srgbClr val="000000"/>
                </a:solidFill>
                <a:latin typeface="Calibri"/>
              </a:rPr>
              <a:t>promotional strategy</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352440"/>
            <a:ext cx="8229600" cy="88272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Global Marketing ? </a:t>
            </a:r>
            <a:endParaRPr b="0" lang="en-US" sz="3600" spc="-1" strike="noStrike">
              <a:solidFill>
                <a:srgbClr val="000000"/>
              </a:solidFill>
              <a:latin typeface="Calibri"/>
            </a:endParaRPr>
          </a:p>
        </p:txBody>
      </p:sp>
      <p:sp>
        <p:nvSpPr>
          <p:cNvPr id="1289" name=""/>
          <p:cNvSpPr txBox="1"/>
          <p:nvPr/>
        </p:nvSpPr>
        <p:spPr>
          <a:xfrm>
            <a:off x="336600" y="1410840"/>
            <a:ext cx="8502480" cy="5102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Global marketing refers to marketing activities coordinated and integrated across multiple country markets  in order to meet global objectives".</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lobal marketing focuses on global market opportunities and threa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the main difference between the regular marketing and global marketing  </a:t>
            </a:r>
            <a:r>
              <a:rPr b="0" lang="en-US" sz="2800" spc="-1" strike="noStrike">
                <a:solidFill>
                  <a:srgbClr val="ff0000"/>
                </a:solidFill>
                <a:latin typeface="Times New Roman"/>
              </a:rPr>
              <a:t>is the scope of activities </a:t>
            </a:r>
            <a:r>
              <a:rPr b="0" lang="en-US" sz="2800" spc="-1" strike="noStrike">
                <a:solidFill>
                  <a:srgbClr val="000000"/>
                </a:solidFill>
                <a:latin typeface="Times New Roman"/>
              </a:rPr>
              <a:t>because global marketing occurs in markets outside the organization’s home countr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40176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ere in the World?</a:t>
            </a:r>
            <a:endParaRPr b="0" lang="en-US" sz="4000" spc="-1" strike="noStrike">
              <a:solidFill>
                <a:srgbClr val="000000"/>
              </a:solidFill>
              <a:latin typeface="Calibri"/>
            </a:endParaRPr>
          </a:p>
        </p:txBody>
      </p:sp>
      <p:sp>
        <p:nvSpPr>
          <p:cNvPr id="1291" name="PlaceHolder 2"/>
          <p:cNvSpPr>
            <a:spLocks noGrp="1"/>
          </p:cNvSpPr>
          <p:nvPr>
            <p:ph/>
          </p:nvPr>
        </p:nvSpPr>
        <p:spPr>
          <a:xfrm>
            <a:off x="457200" y="1676520"/>
            <a:ext cx="8229600" cy="4449600"/>
          </a:xfrm>
          <a:prstGeom prst="rect">
            <a:avLst/>
          </a:prstGeom>
          <a:solidFill>
            <a:srgbClr val="ffffff"/>
          </a:solid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How does a company decide which markets to enter?</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Company resources.</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anagerial mind-set.</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Nature of opportunities and threats in that market.</a:t>
            </a:r>
            <a:endParaRPr b="0" lang="en-US" sz="32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 2005 Prentice Hall</a:t>
            </a:r>
            <a:endParaRPr b="0" lang="en-US" sz="1200" spc="-1" strike="noStrike">
              <a:solidFill>
                <a:srgbClr val="000000"/>
              </a:solidFill>
              <a:latin typeface="Arial"/>
            </a:endParaRPr>
          </a:p>
        </p:txBody>
      </p:sp>
      <p:sp>
        <p:nvSpPr>
          <p:cNvPr id="12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1-</a:t>
            </a:r>
            <a:fld id="{5D3B75A9-F06E-430B-BA17-1DAE76D4D41C}" type="slidenum">
              <a:rPr b="0" lang="en-US" sz="1200" spc="-1" strike="noStrike">
                <a:solidFill>
                  <a:srgbClr val="eeece1"/>
                </a:solidFill>
                <a:latin typeface="Times New Roman"/>
              </a:rPr>
              <a:t>&lt;number&gt;</a:t>
            </a:fld>
            <a:endParaRPr b="0" lang="en-US" sz="1200" spc="-1" strike="noStrike">
              <a:solidFill>
                <a:srgbClr val="000000"/>
              </a:solidFill>
              <a:latin typeface="Arial"/>
            </a:endParaRPr>
          </a:p>
        </p:txBody>
      </p:sp>
      <p:sp>
        <p:nvSpPr>
          <p:cNvPr id="1294" name="PlaceHolder 1"/>
          <p:cNvSpPr>
            <a:spLocks noGrp="1"/>
          </p:cNvSpPr>
          <p:nvPr>
            <p:ph type="title"/>
          </p:nvPr>
        </p:nvSpPr>
        <p:spPr>
          <a:xfrm>
            <a:off x="457200" y="385560"/>
            <a:ext cx="8229600" cy="89676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sons for Global Marketing</a:t>
            </a:r>
            <a:endParaRPr b="0" lang="en-US" sz="3600" spc="-1" strike="noStrike">
              <a:solidFill>
                <a:srgbClr val="000000"/>
              </a:solidFill>
              <a:latin typeface="Calibri"/>
            </a:endParaRPr>
          </a:p>
        </p:txBody>
      </p:sp>
      <p:sp>
        <p:nvSpPr>
          <p:cNvPr id="1295" name="PlaceHolder 2"/>
          <p:cNvSpPr>
            <a:spLocks noGrp="1"/>
          </p:cNvSpPr>
          <p:nvPr>
            <p:ph/>
          </p:nvPr>
        </p:nvSpPr>
        <p:spPr>
          <a:xfrm>
            <a:off x="457200" y="1492200"/>
            <a:ext cx="8229600" cy="52293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Growth</a:t>
            </a:r>
            <a:r>
              <a:rPr b="1" lang="en-US" sz="3200" spc="-1" strike="noStrike" u="sng">
                <a:solidFill>
                  <a:srgbClr val="ff0000"/>
                </a:solidFill>
                <a:uFillTx/>
                <a:latin typeface="Calibri"/>
              </a:rPr>
              <a:t> </a:t>
            </a:r>
            <a:endParaRPr b="0" lang="en-US" sz="32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new markets </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Survival</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gainst competitors with lower costs (due to increased 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Create value for customers:</a:t>
            </a:r>
            <a:r>
              <a:rPr b="1" i="1" lang="en-US" sz="2800" spc="-1" strike="noStrike">
                <a:solidFill>
                  <a:srgbClr val="ff0000"/>
                </a:solidFill>
                <a:latin typeface="Calibri"/>
                <a:ea typeface="MS PGothic"/>
              </a:rPr>
              <a:t> </a:t>
            </a:r>
            <a:endParaRPr b="0" lang="en-US" sz="28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Improve the product</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Find new distribution channels</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Create better communications</a:t>
            </a:r>
            <a:endParaRPr b="0" lang="en-US" sz="2500" spc="-1" strike="noStrike">
              <a:solidFill>
                <a:srgbClr val="000000"/>
              </a:solidFill>
              <a:latin typeface="Calibri"/>
            </a:endParaRPr>
          </a:p>
          <a:p>
            <a:pPr lvl="1" marL="914400" indent="0">
              <a:spcBef>
                <a:spcPts val="624"/>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90240"/>
            <a:ext cx="8229600" cy="10270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ow Big Is The Global Market?</a:t>
            </a:r>
            <a:endParaRPr b="0" lang="en-US" sz="3600" spc="-1" strike="noStrike">
              <a:solidFill>
                <a:srgbClr val="000000"/>
              </a:solidFill>
              <a:latin typeface="Calibri"/>
            </a:endParaRPr>
          </a:p>
        </p:txBody>
      </p:sp>
      <p:pic>
        <p:nvPicPr>
          <p:cNvPr id="1297" name="Content Placeholder 4" descr="Table1-4.jpg"/>
          <p:cNvPicPr/>
          <p:nvPr/>
        </p:nvPicPr>
        <p:blipFill>
          <a:blip r:embed="rId1"/>
          <a:srcRect l="0" t="-27872" r="0" b="-27872"/>
          <a:stretch/>
        </p:blipFill>
        <p:spPr>
          <a:xfrm>
            <a:off x="355680" y="1708200"/>
            <a:ext cx="8229600" cy="4646520"/>
          </a:xfrm>
          <a:prstGeom prst="rect">
            <a:avLst/>
          </a:prstGeom>
          <a:ln w="9360">
            <a:solidFill>
              <a:srgbClr val="c4bd97"/>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380880"/>
            <a:ext cx="7772400" cy="9352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amples of Global Marketers</a:t>
            </a:r>
            <a:endParaRPr b="0" lang="en-US" sz="3600" spc="-1" strike="noStrike">
              <a:solidFill>
                <a:srgbClr val="000000"/>
              </a:solidFill>
              <a:latin typeface="Calibri"/>
            </a:endParaRPr>
          </a:p>
        </p:txBody>
      </p:sp>
      <p:sp>
        <p:nvSpPr>
          <p:cNvPr id="1299" name="PlaceHolder 2"/>
          <p:cNvSpPr>
            <a:spLocks noGrp="1"/>
          </p:cNvSpPr>
          <p:nvPr>
            <p:ph/>
          </p:nvPr>
        </p:nvSpPr>
        <p:spPr>
          <a:xfrm>
            <a:off x="685440" y="1599840"/>
            <a:ext cx="3809880" cy="478476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ca-Col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hilip Morr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cDonal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oyo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or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le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illet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BM</a:t>
            </a:r>
            <a:endParaRPr b="0" lang="en-US" sz="2800" spc="-1" strike="noStrike">
              <a:solidFill>
                <a:srgbClr val="000000"/>
              </a:solidFill>
              <a:latin typeface="Calibri"/>
            </a:endParaRPr>
          </a:p>
        </p:txBody>
      </p:sp>
      <p:sp>
        <p:nvSpPr>
          <p:cNvPr id="1300" name="PlaceHolder 3"/>
          <p:cNvSpPr>
            <a:spLocks noGrp="1"/>
          </p:cNvSpPr>
          <p:nvPr>
            <p:ph/>
          </p:nvPr>
        </p:nvSpPr>
        <p:spPr>
          <a:xfrm>
            <a:off x="4647960" y="1600200"/>
            <a:ext cx="3809880" cy="467208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Jap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K/ Netherla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680"/>
            <a:ext cx="8229600" cy="101592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ernational Marketing Orientations</a:t>
            </a:r>
            <a:endParaRPr b="0" lang="en-US" sz="4000" spc="-1" strike="noStrike">
              <a:solidFill>
                <a:srgbClr val="000000"/>
              </a:solidFill>
              <a:latin typeface="Calibri"/>
            </a:endParaRPr>
          </a:p>
        </p:txBody>
      </p:sp>
      <p:sp>
        <p:nvSpPr>
          <p:cNvPr id="1302" name="AutoShape 7"/>
          <p:cNvSpPr/>
          <p:nvPr/>
        </p:nvSpPr>
        <p:spPr>
          <a:xfrm>
            <a:off x="1219320" y="1752480"/>
            <a:ext cx="3124080" cy="213372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Ethn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Home country 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uperior,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in foreig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Countries</a:t>
            </a:r>
            <a:endParaRPr b="0" lang="en-US" sz="1800" spc="-1" strike="noStrike">
              <a:solidFill>
                <a:srgbClr val="000000"/>
              </a:solidFill>
              <a:latin typeface="Arial"/>
            </a:endParaRPr>
          </a:p>
        </p:txBody>
      </p:sp>
      <p:sp>
        <p:nvSpPr>
          <p:cNvPr id="1303" name="Rectangle 9"/>
          <p:cNvSpPr/>
          <p:nvPr/>
        </p:nvSpPr>
        <p:spPr>
          <a:xfrm>
            <a:off x="1219320" y="4483080"/>
            <a:ext cx="3124080" cy="2043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Regi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ees similarities and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a worl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Region; is ethnocentric o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ycentric in its view of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the rest of the world</a:t>
            </a:r>
            <a:endParaRPr b="0" lang="en-US" sz="1800" spc="-1" strike="noStrike">
              <a:solidFill>
                <a:srgbClr val="000000"/>
              </a:solidFill>
              <a:latin typeface="Arial"/>
            </a:endParaRPr>
          </a:p>
        </p:txBody>
      </p:sp>
      <p:sp>
        <p:nvSpPr>
          <p:cNvPr id="1304" name="Oval 10"/>
          <p:cNvSpPr/>
          <p:nvPr/>
        </p:nvSpPr>
        <p:spPr>
          <a:xfrm>
            <a:off x="5257800" y="4343400"/>
            <a:ext cx="3200400" cy="20131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Ge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World view,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an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hom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And host countries</a:t>
            </a:r>
            <a:endParaRPr b="0" lang="en-US" sz="1800" spc="-1" strike="noStrike">
              <a:solidFill>
                <a:srgbClr val="000000"/>
              </a:solidFill>
              <a:latin typeface="Arial"/>
            </a:endParaRPr>
          </a:p>
        </p:txBody>
      </p:sp>
      <p:sp>
        <p:nvSpPr>
          <p:cNvPr id="1305" name="AutoShape 13"/>
          <p:cNvSpPr/>
          <p:nvPr/>
        </p:nvSpPr>
        <p:spPr>
          <a:xfrm>
            <a:off x="4788000" y="1752480"/>
            <a:ext cx="3441600" cy="2133720"/>
          </a:xfrm>
          <a:prstGeom prst="pi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Polycentric: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Each host country I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Unique, sees differenc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In foreign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5:29:12Z</dcterms:created>
  <dc:creator>Jill Solomon</dc:creator>
  <dc:description/>
  <dc:language>en-US</dc:language>
  <cp:lastModifiedBy>User</cp:lastModifiedBy>
  <dcterms:modified xsi:type="dcterms:W3CDTF">2016-11-21T18:09:26Z</dcterms:modified>
  <cp:revision>85</cp:revision>
  <dc:subject/>
  <dc:title>PowerPoint Presentation</dc:title>
</cp:coreProperties>
</file>