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Lst>
  <p:sldSz cx="9144000" cy="6858000"/>
  <p:notesSz cx="6858000" cy="9144000"/>
</p:presentation>
</file>

<file path=ppt/commentAuthors.xml><?xml version="1.0" encoding="utf-8"?>
<p:cmAuthorLst xmlns:p="http://schemas.openxmlformats.org/presentationml/2006/main">
  <p:cmAuthor id="0" name="Kate Stephenson" initials="K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presProps" Target="presProps.xml"/><Relationship Id="rId49" Type="http://schemas.openxmlformats.org/officeDocument/2006/relationships/commentAuthors" Target="commentAuthors.xml"/>
</Relationships>
</file>

<file path=ppt/comments/comment12.xml><?xml version="1.0" encoding="utf-8"?>
<p:cmLst xmlns:p="http://schemas.openxmlformats.org/presentationml/2006/main">
  <p:cm authorId="0" dt="2012-04-05T11:56:44.598000000" idx="1">
    <p:pos x="10" y="10"/>
    <p:text>The note does not seem to belong with the slide. Please review.</p:text>
  </p:cm>
</p:cmLst>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7" name="PlaceHolder 2"/>
          <p:cNvSpPr>
            <a:spLocks noGrp="1"/>
          </p:cNvSpPr>
          <p:nvPr>
            <p:ph type="dt" idx="6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0" name="PlaceHolder 5"/>
          <p:cNvSpPr>
            <a:spLocks noGrp="1"/>
          </p:cNvSpPr>
          <p:nvPr>
            <p:ph type="ftr" idx="6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1" name="PlaceHolder 6"/>
          <p:cNvSpPr>
            <a:spLocks noGrp="1"/>
          </p:cNvSpPr>
          <p:nvPr>
            <p:ph type="sldNum" idx="6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8A0446-3CA8-40E4-9A16-39D9C5B1EE1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9B55F-09E1-4569-931A-F1C4ADA2E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61913-9E5E-41BE-8319-B5788222FC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C05AD-A599-4BAF-894A-D66D2059D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2F919-78F9-41DE-94C5-C5B38D7A1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3D9DD-BF97-42D0-8AE9-A84D9B0D7B6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AC700-48C6-467B-A1D5-325E0D448EB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EF5AB1-FF41-4842-A6BD-B25718B3A4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1309E-0C1A-4D66-B572-8DF8A5A55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F7122-8C1F-4EC7-9A4B-B6C9B2234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57EE7-3D2B-4EBF-AD4A-3C24F271C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6CDE20-7931-4E37-95A0-024A187A4F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14035-7036-4BFF-92FD-FF665C27F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BF9CB1-2B9C-43CC-855B-16FF32CFCA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39A4E8-B80D-4D54-BD0A-911C6FD412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7BB780-B37B-4B14-82E1-40132319C7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9714A4-42BE-4881-90F2-6ECDC2F650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481E4E-BD52-4411-8964-7F71CF68C5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6F963E-17F0-48DC-85CE-C8432D5454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F4F697-386B-412C-A610-7F121CFC38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80699F-9AFE-4246-BB7D-EF1EBA3655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CFD059-ED69-41CF-AFE2-F0F279B8FB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A054F1-9157-4043-B4FE-476DEE4056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30048-C42C-4B51-B8F5-71C82D45B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129E64-8BD1-47EC-8966-01DB78AD05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15F50BEC-4AC7-4AEC-9EB7-1CE9459B3B29}"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13E16B8A-E481-4FA7-BF52-33F91AF42C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01508EBA-6723-40D5-908D-80B481547F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26F3BBA1-E491-4FFE-B96F-D4C92FDBD1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55D6247A-17F8-4F51-AF15-CEA286C855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970AEF61-84A6-4CF4-AA70-470F4CF79A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DC262747-91FF-4D64-8BB1-88435376D3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DAA48478-E8C6-415A-9100-8E789A5959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48F49585-5B9A-4AE8-9891-C0F49B575D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D6CAD-9193-4BA4-BD49-DEFF7B946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1193606F-99F2-4BF5-9703-87D0ADC467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E81FCC80-4DFE-4478-8E27-2BE72E4E37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4ECDDC3D-841D-4817-A404-35F8FF2B09AC}"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B324635-75F4-4C0B-8FA5-E1E946359D1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91E6019-9A18-4E30-9F13-A48C0DBA23F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369157F-9B54-4223-A885-7F2EADE3BA8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E4C3622-9BA9-4159-820A-D940018BC26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32B33E0-A055-45F3-B0BB-705989CF309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C949C37-27D5-428C-8F0C-0DD80C3F246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F4482E2-0120-46AE-B722-50CC460EAFA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06CDB-EA04-4B60-8C83-6A1C6369B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31C0FED-E456-4D21-9840-575D58B610B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BE50E3D-3689-4DFA-933A-8A63C4153B9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3705B77-1675-42DD-9782-87365A072AA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ADFDD4B-0219-45F4-836A-854EFF8D48D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617B3A8-F67C-483C-BF99-30A9C800361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000AA7B-ED44-4291-A322-237C6529B54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CEB209F-7E62-4B80-AD5A-A3AC14C5ADC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9D4531E-2F65-49AA-BB95-E8C078E4316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B3E9296-510D-4373-9EC4-DBD4861E17F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C21A6E4-1F00-495D-8629-5F3B4EF9BA2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A012E-ED36-4CE7-9761-F8302BCAB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CBFC3F2-92CA-4BAC-993A-FD24BDF14AA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B177499-3676-4824-BD4D-F7F15C3E15B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43BC8C5-16DD-4E7D-844A-2FD71B92F08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E761495-907E-4D83-B75D-46D60593B7A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44BCB28-60FD-4F2E-B477-4D9BE7F34BA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7DB2C60-25B1-4DFE-98D5-CDEB37433199}"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32CCD58-06BA-4756-A604-919594D6D55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6BA93837-9371-4734-92CF-005C52D7008C}"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A563A670-B4CA-445C-9EE1-991321B1C3F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EEFE518E-DA0B-4799-94A0-E268181E68F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66526-A309-416B-BAD8-46E39A9F1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846EBAF2-5784-4236-B5B6-4B17EF6EF41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486C0873-5472-4838-80A8-12999BBC7646}"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9C1209AF-8566-4055-A9C9-5D03737FD6C5}"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B5550225-9C4E-4001-B7CD-D5DD14C49787}"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3B70992E-712B-4EB1-A4FF-0CA59F68065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447EC7CD-2927-43A8-B394-CE8B011673C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CA793DC5-733A-4882-8D5A-79BC198E9BC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BFCDBD09-66DE-49D6-8D54-A0FE2BB23BF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12D64ACE-B289-4379-AC13-ADC68F86F721}"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2F847DF8-A50E-46F9-8D07-D2960FC3C2C7}"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A352D-FDEA-4389-B8A9-067DBA554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EB7326D1-483E-4499-837A-09D9F40540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2E0E42C8-76A4-4292-9988-48F83B6895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F01A6247-DCF6-447A-98AC-39BDA2F113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BC80E70C-5D56-4CC5-8A49-AAE7E6D360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D2DDA1F0-EE48-40F8-8D3A-0018212E42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8CED2647-194E-449B-A3F3-97608A5B75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18C4F6EB-1425-436A-9C2F-864008CB6D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3DEC8BDD-68B9-4F3F-8B9A-E92CDFF8AA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FCB5B752-8E46-4AA9-AB8D-1C05A8EE92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E675866C-3CEF-453F-BC1F-DF575BDE08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57829-30FC-40A6-92D1-B98CD2CA6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F361B2C3-15DB-46AD-8191-EABB84E54A06}"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A19908B-754E-450D-AAA9-74FBA7A86B5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CE79A35-C1F8-4C05-8A84-765AFCC3897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4B794BD-E0E8-4CAF-BA91-9E81EC332A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0050FB3-6D4B-45DC-A2E9-A00B3E2FA2A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566BD68-480E-4FE9-B33E-C726E4A4FFC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EE3C24F-A9A7-4D1B-BC47-8ED30E2538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D9FB6A-CEA4-4038-9E2B-8E14C6CAE9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00F2E4-FF5E-490A-9813-370C643985C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7AFEDE-2064-4074-9FCD-9E87956285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F94A2-CF7F-4530-8D2A-EE7A54BAB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B5336C-7311-4C85-8610-B19AF6F7E6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44EF428-132A-401D-88E3-2CEEB9DEC67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7B9D8A2-4B23-45C5-B501-6329FAB21D7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A440211-A012-42D0-8522-63C3FDD7080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67E068D-D518-4C99-A2EF-815F6126CCC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A7470C1-BBBA-402A-80B8-1D026BF6C5D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880791C-9C1C-41AD-A93D-D64BB004F8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F893E9D-A5D7-4F72-AD8D-979F9B3B131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673CB2A-6E17-4FF7-B34E-22530672EDA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3C94DF-75D0-4CE4-9097-814B6A7F18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8161E-9939-4031-9A92-7A2F70103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31048-3727-449A-B95F-D9F623EE2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4F718C1-A58B-4593-ABEF-4CE77EBE26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3064DAB-CFEC-4A07-B832-1D2E6C5F1D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B95DD95-FEEC-473D-9A83-4AB2318EB5B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183E85A-9EF2-4BB2-B6E0-2A467DBCB5C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CC9A4F4-06DD-4459-93DB-C5D9F729D6E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A37B7E8-1E1D-4C40-A3DD-8AAA36894E9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B72A6C2-89A5-4875-B44F-2F2D07FF191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DA756B0-9D68-4131-B31A-E1C6B2D383F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5DA860B-4CDF-4A90-9081-EE4CC6F555F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EF87484-D72B-4DC0-A6EA-D2CE735F596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09F81-38FB-44F4-8E84-D40FD7BAA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480CE1E-B3B3-42BE-8EB8-3C00115B7B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01F826B-0519-4612-87FA-E88E682A08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8842F3E-1A30-478F-9FCF-15ECCED40F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7C5A2FE-7127-4BC0-BF1C-215CCB4363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3AAF5DD-5B5B-4BB8-AC11-9EF93892943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7D25179-3740-40FB-A9B4-666141FBEE5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0DE3099-04C0-4B0E-BEDF-56EF9F9F638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5763B67-950D-48BA-8191-73E22723C76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9CEE03D-3C18-4A1A-A9B4-2A5633C50C0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4762C95-2479-4FDB-9343-E9C627A6F67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2D80F-8271-411E-BC9E-3EEA9A2B0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88C89F5-6032-4F02-8630-93D1BE18ED0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3BACB89-4BCA-44E7-985B-594E3EB2C2A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5636463-A6FB-4715-8BC4-C15F864B9B4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61EF356-EA07-41D7-9FBF-60F799B2835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32CCA8B-C428-416F-8DD1-D9781177C04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AAA268C-C986-4224-8C5A-13473884B3F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6196BBC-6D47-42B7-AB1A-F5C81F10FF8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413F5D8-4547-45A1-81D6-FA154497C8A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F8EBF98-16D4-41B4-AC23-DB38484B4A2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FF37D32-7989-4DD7-A5D6-77AF542F8B8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7DA56C-8C88-446E-813A-2A33D5D96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E92C58A-84BC-4B4C-9DCD-038D0A03C65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0AFA79B-A714-44E1-9590-3D5C2D04C74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F876C83-09EA-40AB-ADB0-4BEF321A13B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091D410-C513-412D-BF0A-16E4593FC63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C96C6FA-8047-49D4-9AAB-FAFE47D536F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3BDD381-4415-4020-B252-86EAACA6996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128E037-DEAD-4854-AE05-9F9F5A9988F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5F202F0-627B-40E1-80A9-FCB204E7F8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776A990-FD09-426C-AE23-73508C15869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9C3DA4F-CF7C-4531-979F-1366747E4D6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04D40D-E074-47A1-91AD-1AE257ED0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5CE932C-0A37-46E5-8365-24B8ED031BF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2289ECF-8B4C-4E10-A936-CFD14586FA4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8369F72-E7E4-4CC9-9AFB-FD2701EA96A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10D748B-5789-444C-B2EB-8A3F3CE1497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D296AF5-7C0B-4A1D-8A2F-209AC54BD76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BD57C00-7B2B-46AF-A934-458D38251A7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0E271E2-7B5D-4661-BFCE-389984E2267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BD2C812-62E2-470C-89A6-22E22F1ADF5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AECD1FB-F67E-4F08-B6C0-A00C0109800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169894F-2BF2-49CB-937C-499FD0D24AD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47ABEE-085C-4DB8-ACE2-5593393AEB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849EDC7-13EB-41BA-B6EE-C90546B47B1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96370DF-6984-4C5D-A280-85060F24617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6257201-0AC1-4B51-B77B-2C153C4E39F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5F11929-41B4-49D6-B780-F87789C83E0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217031A-D351-4996-AAB0-C6E7A9A3791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28E52E6-BD7C-4044-AF47-D69391B9651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A2EA32D-B30C-46F5-B426-2CECCB79F98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FAB2314-3E1C-4681-AB17-230F5ED8B24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03474A1-F159-49C6-9867-9741029B57E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F5217B8-6B9D-44A5-B257-DA01DE6A5E5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4F951-386E-48B1-ACED-DED8A30C79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569248C-BE7B-4503-BD82-3DC07A1EAE8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4B6B3D0-EBCF-4CFC-BC76-B9C5E40A09B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9121531-9839-4BB6-A223-CA9B23B6906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525822B-2B77-428A-A8ED-A660403E600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4452F2C-2C96-4D40-B6E8-4F307535D35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6293BC4-EE23-4C78-A73D-4AAE7911D8D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FA4A04E-BDB6-4DB9-B776-32DB9A42FC2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0F55590-1785-4034-B169-7E7225DCD7D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9B4E37D-BC0C-42D3-AE10-B84382522B8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EFA885C-E00F-4632-9A40-EE46EF28B57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1E404A-B5E5-401A-B7BC-053D6A1779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AC0514F-7A19-416A-ADB0-BCAD5577299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E665C11-FFD3-4E21-8F81-8422553E8A1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0014888-A23B-432D-BE80-E90D7C5AE6E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B3FF182-9257-4195-A467-AE630FC77A1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C627DD2-B9AA-46AC-866D-E9F7249ED00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E208D30-E246-4863-967A-3DF6928065D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628CEF5-746F-4E8D-8B41-6DD9478E8D4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EFDD2D7-E824-4693-ADFF-6C7A800745F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2CF6008-095D-48A0-8A7A-15C5879D45F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99B3717-1187-425E-B9CD-026D7E60D4D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68E719-F7F1-4046-99C2-6FDC785A52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A0EA920-5F13-493B-8E50-E6558B6FFA4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F568F8D-7964-4191-A667-0EFF66A0154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13AD6A2-AAA2-40F8-B50D-329F10984D2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B21CC14-9397-4606-BE56-BE202DDAC15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E64AD44-3BCF-4029-8732-DDE89CEA1FF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9A47EF3-43B8-411D-8F21-F576125D8FF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04BBB8D-22F7-4335-8006-95E8D72467C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64DF91D-DB4D-41E0-BE6F-E4590EC9986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DC626D7-B0F3-4C26-9F13-2BFF716F376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91BFD-0B29-4D89-8913-297B2133E9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D7B6F-8501-4FA8-8CD8-1877866DD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1DF5B-B3C4-4D15-A159-95FC6E153A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8C2A6-B3EC-446E-B17C-743BD6B5F4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4630F-20D7-4F5D-A936-7AA8BBE1F8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85D93D-5BD3-4FEC-ABB6-CCB83EC17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FC1796-5BEB-483E-A864-F9CABAA23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D6EEEF-5810-4462-A25F-547CCBA9E5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A6F776-7B59-4C38-8E66-69DAC7D0B5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21C232-2CA7-455C-9563-3A69991746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B78881-CEC1-432A-9459-D8EE90E066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0A4813-525C-4FBF-A464-40A153D996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37CC1-70FE-4F06-9CA0-DD07CED4B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E0DDF3-7AF6-4F66-9DC4-4B955846E0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5E0A01-216A-418A-BE26-01D2CA4593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1BFC76-0D12-47BA-ADEB-B03AFA806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9A517-39B6-4045-911F-F31B24A7F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806747-C990-4046-87AE-8F84C03DA8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D9FC78-BC10-4FB4-9EAA-BA4A586BE4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90BDE7-4001-4E26-A4C9-43F5E748FF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1E1261-E36D-42C4-99A8-AFE36323D9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0E2BB4-95DB-4139-BB61-585A743BB1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F16F25-136C-4BB0-B72E-40CB8832E2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B7AE1-9897-430A-882C-150145B15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333D06-D1CE-4830-8948-9B285DC5C9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322467-8F72-4EC6-B04C-27A7E06239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8168AA-8F38-453B-A7B1-1EC57C8997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BD872F-AF7D-42AF-8F81-58BF0B7A54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D5A91D-B229-404C-BD91-17178FA411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14D5E-2F20-41C6-9F6E-1C9A9F278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A5EEC-EDB3-4038-82F4-A0185042DA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CA2424-9430-40C8-AC88-3302DF0887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9A137C-C931-48ED-A226-5874375EAF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F37938-98B8-4D2E-92F6-D41795D79F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F5669-8E50-4DAE-885D-CDD11FDDE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810B94-89E6-443D-A270-5ADE88955A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3D75A3-B7D5-4425-B5A5-601EBB9BD7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069098-2B83-499C-9C50-49E4195D9D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FE9916-01A9-4E77-9298-71C6FE9943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12BD0A-5BD2-4056-9B3D-A6CE749D1C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677F59-6640-402D-8284-313DD73C70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3962DB-E0BE-494E-86F7-153132064A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01DC3-D4D1-4B96-95A0-A27AF8B1E6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200135-A452-40F4-8B1A-59300B3A24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BBB392-F1AC-42D5-820A-6A24516586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F5B93-E8D1-40A7-94A9-0A3306B27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D5596B-4CA8-4643-B2FE-25FDF53CE7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18CE34-ABCF-41BF-B666-53D932D2FE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63B53A-73C2-4B17-967F-93138C9F1C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A4B588-9E02-4299-AEF5-10950A667E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6AD691-7687-48D8-AA1B-2BDA7059F2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6517E6-1BA0-4464-AD07-711C7F9029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C3A1F2-C2A8-483B-8444-11A9D9EFFD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97E4B5-759D-44A0-A3E6-4275A04396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FAD205-12B3-4E24-B601-A9AFBCB391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1CD862-EFBB-4E42-B0A8-E7996DA0E2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C5881-1808-4FB2-BF28-F3DFE6AC1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4A1588-C493-4552-8D8F-65D1FE6BB9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AF0E76-6D35-4533-BF0A-227C7B1854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F7B1DF-8E2E-41A0-AE17-B62E87FA1F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D2AAD9-733B-4777-8932-B2985B5CCD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982CE7-6936-4BC4-B440-1C0E80A048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EBA385-C0A2-40EE-A5FB-AE55106C3C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69BBDE-8A4F-4194-8CDF-A758749039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B342A7-8B01-4922-AA88-4365B5DEB3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4DF367-DD03-4A61-AFD1-D8344D2A89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59B92C-B611-4803-9339-FFF61EE2AB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A064B-3054-4D9A-84A1-F4AFA8CB6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6E27E1-A1BE-4E6C-9545-3EBE1A7C13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B5595C-C775-48CF-A9EA-7E4BF32493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EC7605-AA84-4956-B423-FBE4841F01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04AC7E-52DC-479B-BFCE-83ABC04B7F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1E2616-1102-4FC8-AFE9-10592D0ADE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248165-BCBD-4ED2-B79C-9DB634DBA2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9F46C4-4AFD-4C96-BD1E-46CA7E4179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1F1AE-E02C-45C3-AE16-38EEBC8842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grpSp>
        <p:nvGrpSpPr>
          <p:cNvPr id="3" name="Group 6"/>
          <p:cNvGrpSpPr/>
          <p:nvPr/>
        </p:nvGrpSpPr>
        <p:grpSpPr>
          <a:xfrm>
            <a:off x="227160" y="601560"/>
            <a:ext cx="4130640" cy="5883480"/>
            <a:chOff x="227160" y="601560"/>
            <a:chExt cx="4130640" cy="5883480"/>
          </a:xfrm>
        </p:grpSpPr>
        <p:grpSp>
          <p:nvGrpSpPr>
            <p:cNvPr id="4" name="Group 7"/>
            <p:cNvGrpSpPr/>
            <p:nvPr/>
          </p:nvGrpSpPr>
          <p:grpSpPr>
            <a:xfrm>
              <a:off x="2430360" y="830160"/>
              <a:ext cx="1494360" cy="1276200"/>
              <a:chOff x="2430360" y="830160"/>
              <a:chExt cx="1494360" cy="1276200"/>
            </a:xfrm>
          </p:grpSpPr>
          <p:sp>
            <p:nvSpPr>
              <p:cNvPr id="5" name="Freeform 141"/>
              <p:cNvSpPr/>
              <p:nvPr/>
            </p:nvSpPr>
            <p:spPr>
              <a:xfrm>
                <a:off x="2430360" y="830160"/>
                <a:ext cx="1494360" cy="1276200"/>
              </a:xfrm>
              <a:custGeom>
                <a:avLst/>
                <a:gdLst/>
                <a:ahLst/>
                <a:rect l="l" t="t" r="r" b="b"/>
                <a:pathLst>
                  <a:path w="3128" h="3128">
                    <a:moveTo>
                      <a:pt x="1550" y="0"/>
                    </a:moveTo>
                    <a:lnTo>
                      <a:pt x="1429" y="6"/>
                    </a:lnTo>
                    <a:lnTo>
                      <a:pt x="1308" y="21"/>
                    </a:lnTo>
                    <a:lnTo>
                      <a:pt x="1188" y="46"/>
                    </a:lnTo>
                    <a:lnTo>
                      <a:pt x="1070" y="80"/>
                    </a:lnTo>
                    <a:lnTo>
                      <a:pt x="953" y="124"/>
                    </a:lnTo>
                    <a:lnTo>
                      <a:pt x="839" y="179"/>
                    </a:lnTo>
                    <a:lnTo>
                      <a:pt x="728" y="243"/>
                    </a:lnTo>
                    <a:lnTo>
                      <a:pt x="622" y="316"/>
                    </a:lnTo>
                    <a:lnTo>
                      <a:pt x="525" y="396"/>
                    </a:lnTo>
                    <a:lnTo>
                      <a:pt x="435" y="482"/>
                    </a:lnTo>
                    <a:lnTo>
                      <a:pt x="353" y="574"/>
                    </a:lnTo>
                    <a:lnTo>
                      <a:pt x="279" y="672"/>
                    </a:lnTo>
                    <a:lnTo>
                      <a:pt x="214" y="774"/>
                    </a:lnTo>
                    <a:lnTo>
                      <a:pt x="157" y="881"/>
                    </a:lnTo>
                    <a:lnTo>
                      <a:pt x="109" y="992"/>
                    </a:lnTo>
                    <a:lnTo>
                      <a:pt x="69" y="1105"/>
                    </a:lnTo>
                    <a:lnTo>
                      <a:pt x="38" y="1221"/>
                    </a:lnTo>
                    <a:lnTo>
                      <a:pt x="16" y="1339"/>
                    </a:lnTo>
                    <a:lnTo>
                      <a:pt x="4" y="1459"/>
                    </a:lnTo>
                    <a:lnTo>
                      <a:pt x="0" y="1579"/>
                    </a:lnTo>
                    <a:lnTo>
                      <a:pt x="6" y="1700"/>
                    </a:lnTo>
                    <a:lnTo>
                      <a:pt x="21" y="1820"/>
                    </a:lnTo>
                    <a:lnTo>
                      <a:pt x="45" y="1940"/>
                    </a:lnTo>
                    <a:lnTo>
                      <a:pt x="80" y="2059"/>
                    </a:lnTo>
                    <a:lnTo>
                      <a:pt x="124" y="2175"/>
                    </a:lnTo>
                    <a:lnTo>
                      <a:pt x="178" y="2289"/>
                    </a:lnTo>
                    <a:lnTo>
                      <a:pt x="242" y="2401"/>
                    </a:lnTo>
                    <a:lnTo>
                      <a:pt x="315" y="2506"/>
                    </a:lnTo>
                    <a:lnTo>
                      <a:pt x="395" y="2604"/>
                    </a:lnTo>
                    <a:lnTo>
                      <a:pt x="482" y="2694"/>
                    </a:lnTo>
                    <a:lnTo>
                      <a:pt x="574" y="2776"/>
                    </a:lnTo>
                    <a:lnTo>
                      <a:pt x="672" y="2849"/>
                    </a:lnTo>
                    <a:lnTo>
                      <a:pt x="774" y="2915"/>
                    </a:lnTo>
                    <a:lnTo>
                      <a:pt x="881" y="2972"/>
                    </a:lnTo>
                    <a:lnTo>
                      <a:pt x="991" y="3020"/>
                    </a:lnTo>
                    <a:lnTo>
                      <a:pt x="1105" y="3060"/>
                    </a:lnTo>
                    <a:lnTo>
                      <a:pt x="1221" y="3090"/>
                    </a:lnTo>
                    <a:lnTo>
                      <a:pt x="1339" y="3112"/>
                    </a:lnTo>
                    <a:lnTo>
                      <a:pt x="1458" y="3125"/>
                    </a:lnTo>
                    <a:lnTo>
                      <a:pt x="1579" y="3129"/>
                    </a:lnTo>
                    <a:lnTo>
                      <a:pt x="1699" y="3123"/>
                    </a:lnTo>
                    <a:lnTo>
                      <a:pt x="1820" y="3108"/>
                    </a:lnTo>
                    <a:lnTo>
                      <a:pt x="1940" y="3083"/>
                    </a:lnTo>
                    <a:lnTo>
                      <a:pt x="2058" y="3049"/>
                    </a:lnTo>
                    <a:lnTo>
                      <a:pt x="2175" y="3005"/>
                    </a:lnTo>
                    <a:lnTo>
                      <a:pt x="2289" y="2951"/>
                    </a:lnTo>
                    <a:lnTo>
                      <a:pt x="2400" y="2886"/>
                    </a:lnTo>
                    <a:lnTo>
                      <a:pt x="2506" y="2813"/>
                    </a:lnTo>
                    <a:lnTo>
                      <a:pt x="2604" y="2733"/>
                    </a:lnTo>
                    <a:lnTo>
                      <a:pt x="2694" y="2647"/>
                    </a:lnTo>
                    <a:lnTo>
                      <a:pt x="2775" y="2555"/>
                    </a:lnTo>
                    <a:lnTo>
                      <a:pt x="2849" y="2457"/>
                    </a:lnTo>
                    <a:lnTo>
                      <a:pt x="2914" y="2355"/>
                    </a:lnTo>
                    <a:lnTo>
                      <a:pt x="2971" y="2248"/>
                    </a:lnTo>
                    <a:lnTo>
                      <a:pt x="3020" y="2138"/>
                    </a:lnTo>
                    <a:lnTo>
                      <a:pt x="3059" y="2024"/>
                    </a:lnTo>
                    <a:lnTo>
                      <a:pt x="3090" y="1908"/>
                    </a:lnTo>
                    <a:lnTo>
                      <a:pt x="3112" y="1790"/>
                    </a:lnTo>
                    <a:lnTo>
                      <a:pt x="3125" y="1670"/>
                    </a:lnTo>
                    <a:lnTo>
                      <a:pt x="3128" y="1550"/>
                    </a:lnTo>
                    <a:lnTo>
                      <a:pt x="3123" y="1429"/>
                    </a:lnTo>
                    <a:lnTo>
                      <a:pt x="3108" y="1309"/>
                    </a:lnTo>
                    <a:lnTo>
                      <a:pt x="3083" y="1189"/>
                    </a:lnTo>
                    <a:lnTo>
                      <a:pt x="3048" y="1070"/>
                    </a:lnTo>
                    <a:lnTo>
                      <a:pt x="3004" y="954"/>
                    </a:lnTo>
                    <a:lnTo>
                      <a:pt x="2950" y="840"/>
                    </a:lnTo>
                    <a:lnTo>
                      <a:pt x="2886" y="728"/>
                    </a:lnTo>
                    <a:lnTo>
                      <a:pt x="2813" y="623"/>
                    </a:lnTo>
                    <a:lnTo>
                      <a:pt x="2733" y="525"/>
                    </a:lnTo>
                    <a:lnTo>
                      <a:pt x="2647" y="435"/>
                    </a:lnTo>
                    <a:lnTo>
                      <a:pt x="2554" y="353"/>
                    </a:lnTo>
                    <a:lnTo>
                      <a:pt x="2457" y="280"/>
                    </a:lnTo>
                    <a:lnTo>
                      <a:pt x="2354" y="214"/>
                    </a:lnTo>
                    <a:lnTo>
                      <a:pt x="2248" y="157"/>
                    </a:lnTo>
                    <a:lnTo>
                      <a:pt x="2137" y="109"/>
                    </a:lnTo>
                    <a:lnTo>
                      <a:pt x="2024" y="69"/>
                    </a:lnTo>
                    <a:lnTo>
                      <a:pt x="1908" y="39"/>
                    </a:lnTo>
                    <a:lnTo>
                      <a:pt x="1790" y="17"/>
                    </a:lnTo>
                    <a:lnTo>
                      <a:pt x="1670" y="4"/>
                    </a:lnTo>
                    <a:lnTo>
                      <a:pt x="155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 name="Group 8"/>
            <p:cNvGrpSpPr/>
            <p:nvPr/>
          </p:nvGrpSpPr>
          <p:grpSpPr>
            <a:xfrm>
              <a:off x="3094560" y="2134080"/>
              <a:ext cx="1263240" cy="1078920"/>
              <a:chOff x="3094560" y="2134080"/>
              <a:chExt cx="1263240" cy="1078920"/>
            </a:xfrm>
          </p:grpSpPr>
          <p:sp>
            <p:nvSpPr>
              <p:cNvPr id="7" name="Freeform 140"/>
              <p:cNvSpPr/>
              <p:nvPr/>
            </p:nvSpPr>
            <p:spPr>
              <a:xfrm>
                <a:off x="3094560" y="2134080"/>
                <a:ext cx="1263240" cy="1078920"/>
              </a:xfrm>
              <a:custGeom>
                <a:avLst/>
                <a:gdLst/>
                <a:ahLst/>
                <a:rect l="l" t="t" r="r" b="b"/>
                <a:pathLst>
                  <a:path w="2644" h="2644">
                    <a:moveTo>
                      <a:pt x="1311" y="0"/>
                    </a:moveTo>
                    <a:lnTo>
                      <a:pt x="1205" y="5"/>
                    </a:lnTo>
                    <a:lnTo>
                      <a:pt x="1097" y="19"/>
                    </a:lnTo>
                    <a:lnTo>
                      <a:pt x="991" y="42"/>
                    </a:lnTo>
                    <a:lnTo>
                      <a:pt x="889" y="73"/>
                    </a:lnTo>
                    <a:lnTo>
                      <a:pt x="791" y="111"/>
                    </a:lnTo>
                    <a:lnTo>
                      <a:pt x="697" y="157"/>
                    </a:lnTo>
                    <a:lnTo>
                      <a:pt x="608" y="209"/>
                    </a:lnTo>
                    <a:lnTo>
                      <a:pt x="524" y="268"/>
                    </a:lnTo>
                    <a:lnTo>
                      <a:pt x="445" y="333"/>
                    </a:lnTo>
                    <a:lnTo>
                      <a:pt x="371" y="403"/>
                    </a:lnTo>
                    <a:lnTo>
                      <a:pt x="304" y="479"/>
                    </a:lnTo>
                    <a:lnTo>
                      <a:pt x="242" y="560"/>
                    </a:lnTo>
                    <a:lnTo>
                      <a:pt x="187" y="645"/>
                    </a:lnTo>
                    <a:lnTo>
                      <a:pt x="138" y="734"/>
                    </a:lnTo>
                    <a:lnTo>
                      <a:pt x="96" y="827"/>
                    </a:lnTo>
                    <a:lnTo>
                      <a:pt x="62" y="923"/>
                    </a:lnTo>
                    <a:lnTo>
                      <a:pt x="34" y="1022"/>
                    </a:lnTo>
                    <a:lnTo>
                      <a:pt x="15" y="1124"/>
                    </a:lnTo>
                    <a:lnTo>
                      <a:pt x="3" y="1227"/>
                    </a:lnTo>
                    <a:lnTo>
                      <a:pt x="0" y="1332"/>
                    </a:lnTo>
                    <a:lnTo>
                      <a:pt x="6" y="1439"/>
                    </a:lnTo>
                    <a:lnTo>
                      <a:pt x="20" y="1547"/>
                    </a:lnTo>
                    <a:lnTo>
                      <a:pt x="42" y="1653"/>
                    </a:lnTo>
                    <a:lnTo>
                      <a:pt x="73" y="1755"/>
                    </a:lnTo>
                    <a:lnTo>
                      <a:pt x="112" y="1853"/>
                    </a:lnTo>
                    <a:lnTo>
                      <a:pt x="157" y="1947"/>
                    </a:lnTo>
                    <a:lnTo>
                      <a:pt x="210" y="2036"/>
                    </a:lnTo>
                    <a:lnTo>
                      <a:pt x="268" y="2120"/>
                    </a:lnTo>
                    <a:lnTo>
                      <a:pt x="333" y="2199"/>
                    </a:lnTo>
                    <a:lnTo>
                      <a:pt x="404" y="2273"/>
                    </a:lnTo>
                    <a:lnTo>
                      <a:pt x="480" y="2340"/>
                    </a:lnTo>
                    <a:lnTo>
                      <a:pt x="560" y="2402"/>
                    </a:lnTo>
                    <a:lnTo>
                      <a:pt x="645" y="2457"/>
                    </a:lnTo>
                    <a:lnTo>
                      <a:pt x="735" y="2506"/>
                    </a:lnTo>
                    <a:lnTo>
                      <a:pt x="827" y="2548"/>
                    </a:lnTo>
                    <a:lnTo>
                      <a:pt x="924" y="2582"/>
                    </a:lnTo>
                    <a:lnTo>
                      <a:pt x="1023" y="2609"/>
                    </a:lnTo>
                    <a:lnTo>
                      <a:pt x="1124" y="2629"/>
                    </a:lnTo>
                    <a:lnTo>
                      <a:pt x="1228" y="2640"/>
                    </a:lnTo>
                    <a:lnTo>
                      <a:pt x="1333" y="2644"/>
                    </a:lnTo>
                    <a:lnTo>
                      <a:pt x="1440" y="2638"/>
                    </a:lnTo>
                    <a:lnTo>
                      <a:pt x="1547" y="2624"/>
                    </a:lnTo>
                    <a:lnTo>
                      <a:pt x="1653" y="2601"/>
                    </a:lnTo>
                    <a:lnTo>
                      <a:pt x="1756" y="2571"/>
                    </a:lnTo>
                    <a:lnTo>
                      <a:pt x="1854" y="2532"/>
                    </a:lnTo>
                    <a:lnTo>
                      <a:pt x="1947" y="2487"/>
                    </a:lnTo>
                    <a:lnTo>
                      <a:pt x="2037" y="2434"/>
                    </a:lnTo>
                    <a:lnTo>
                      <a:pt x="2121" y="2375"/>
                    </a:lnTo>
                    <a:lnTo>
                      <a:pt x="2200" y="2311"/>
                    </a:lnTo>
                    <a:lnTo>
                      <a:pt x="2273" y="2240"/>
                    </a:lnTo>
                    <a:lnTo>
                      <a:pt x="2341" y="2164"/>
                    </a:lnTo>
                    <a:lnTo>
                      <a:pt x="2402" y="2084"/>
                    </a:lnTo>
                    <a:lnTo>
                      <a:pt x="2458" y="1999"/>
                    </a:lnTo>
                    <a:lnTo>
                      <a:pt x="2506" y="1909"/>
                    </a:lnTo>
                    <a:lnTo>
                      <a:pt x="2548" y="1816"/>
                    </a:lnTo>
                    <a:lnTo>
                      <a:pt x="2583" y="1720"/>
                    </a:lnTo>
                    <a:lnTo>
                      <a:pt x="2610" y="1621"/>
                    </a:lnTo>
                    <a:lnTo>
                      <a:pt x="2629" y="1520"/>
                    </a:lnTo>
                    <a:lnTo>
                      <a:pt x="2641" y="1416"/>
                    </a:lnTo>
                    <a:lnTo>
                      <a:pt x="2644" y="1311"/>
                    </a:lnTo>
                    <a:lnTo>
                      <a:pt x="2639" y="1204"/>
                    </a:lnTo>
                    <a:lnTo>
                      <a:pt x="2625" y="1097"/>
                    </a:lnTo>
                    <a:lnTo>
                      <a:pt x="2602" y="991"/>
                    </a:lnTo>
                    <a:lnTo>
                      <a:pt x="2571" y="888"/>
                    </a:lnTo>
                    <a:lnTo>
                      <a:pt x="2533" y="790"/>
                    </a:lnTo>
                    <a:lnTo>
                      <a:pt x="2487" y="696"/>
                    </a:lnTo>
                    <a:lnTo>
                      <a:pt x="2435" y="607"/>
                    </a:lnTo>
                    <a:lnTo>
                      <a:pt x="2376" y="523"/>
                    </a:lnTo>
                    <a:lnTo>
                      <a:pt x="2311" y="444"/>
                    </a:lnTo>
                    <a:lnTo>
                      <a:pt x="2241" y="371"/>
                    </a:lnTo>
                    <a:lnTo>
                      <a:pt x="2165" y="303"/>
                    </a:lnTo>
                    <a:lnTo>
                      <a:pt x="2084" y="241"/>
                    </a:lnTo>
                    <a:lnTo>
                      <a:pt x="1999" y="186"/>
                    </a:lnTo>
                    <a:lnTo>
                      <a:pt x="1910" y="138"/>
                    </a:lnTo>
                    <a:lnTo>
                      <a:pt x="1817" y="96"/>
                    </a:lnTo>
                    <a:lnTo>
                      <a:pt x="1721" y="61"/>
                    </a:lnTo>
                    <a:lnTo>
                      <a:pt x="1622" y="34"/>
                    </a:lnTo>
                    <a:lnTo>
                      <a:pt x="1520" y="14"/>
                    </a:lnTo>
                    <a:lnTo>
                      <a:pt x="1417" y="3"/>
                    </a:lnTo>
                    <a:lnTo>
                      <a:pt x="131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 name="Group 9"/>
            <p:cNvGrpSpPr/>
            <p:nvPr/>
          </p:nvGrpSpPr>
          <p:grpSpPr>
            <a:xfrm>
              <a:off x="3316320" y="3307320"/>
              <a:ext cx="850320" cy="726120"/>
              <a:chOff x="3316320" y="3307320"/>
              <a:chExt cx="850320" cy="726120"/>
            </a:xfrm>
          </p:grpSpPr>
          <p:sp>
            <p:nvSpPr>
              <p:cNvPr id="9" name="Freeform 139"/>
              <p:cNvSpPr/>
              <p:nvPr/>
            </p:nvSpPr>
            <p:spPr>
              <a:xfrm>
                <a:off x="3316320" y="3307320"/>
                <a:ext cx="850320" cy="726120"/>
              </a:xfrm>
              <a:custGeom>
                <a:avLst/>
                <a:gdLst/>
                <a:ahLst/>
                <a:rect l="l" t="t" r="r" b="b"/>
                <a:pathLst>
                  <a:path w="1780" h="1780">
                    <a:moveTo>
                      <a:pt x="864" y="0"/>
                    </a:moveTo>
                    <a:lnTo>
                      <a:pt x="794" y="5"/>
                    </a:lnTo>
                    <a:lnTo>
                      <a:pt x="724" y="15"/>
                    </a:lnTo>
                    <a:lnTo>
                      <a:pt x="656" y="31"/>
                    </a:lnTo>
                    <a:lnTo>
                      <a:pt x="590" y="52"/>
                    </a:lnTo>
                    <a:lnTo>
                      <a:pt x="527" y="77"/>
                    </a:lnTo>
                    <a:lnTo>
                      <a:pt x="465" y="108"/>
                    </a:lnTo>
                    <a:lnTo>
                      <a:pt x="406" y="143"/>
                    </a:lnTo>
                    <a:lnTo>
                      <a:pt x="350" y="182"/>
                    </a:lnTo>
                    <a:lnTo>
                      <a:pt x="298" y="226"/>
                    </a:lnTo>
                    <a:lnTo>
                      <a:pt x="248" y="273"/>
                    </a:lnTo>
                    <a:lnTo>
                      <a:pt x="203" y="324"/>
                    </a:lnTo>
                    <a:lnTo>
                      <a:pt x="161" y="379"/>
                    </a:lnTo>
                    <a:lnTo>
                      <a:pt x="123" y="437"/>
                    </a:lnTo>
                    <a:lnTo>
                      <a:pt x="90" y="498"/>
                    </a:lnTo>
                    <a:lnTo>
                      <a:pt x="62" y="563"/>
                    </a:lnTo>
                    <a:lnTo>
                      <a:pt x="39" y="630"/>
                    </a:lnTo>
                    <a:lnTo>
                      <a:pt x="20" y="699"/>
                    </a:lnTo>
                    <a:lnTo>
                      <a:pt x="8" y="771"/>
                    </a:lnTo>
                    <a:lnTo>
                      <a:pt x="1" y="844"/>
                    </a:lnTo>
                    <a:lnTo>
                      <a:pt x="0" y="916"/>
                    </a:lnTo>
                    <a:lnTo>
                      <a:pt x="5" y="987"/>
                    </a:lnTo>
                    <a:lnTo>
                      <a:pt x="15" y="1056"/>
                    </a:lnTo>
                    <a:lnTo>
                      <a:pt x="31" y="1124"/>
                    </a:lnTo>
                    <a:lnTo>
                      <a:pt x="52" y="1190"/>
                    </a:lnTo>
                    <a:lnTo>
                      <a:pt x="77" y="1254"/>
                    </a:lnTo>
                    <a:lnTo>
                      <a:pt x="108" y="1315"/>
                    </a:lnTo>
                    <a:lnTo>
                      <a:pt x="143" y="1374"/>
                    </a:lnTo>
                    <a:lnTo>
                      <a:pt x="182" y="1430"/>
                    </a:lnTo>
                    <a:lnTo>
                      <a:pt x="226" y="1483"/>
                    </a:lnTo>
                    <a:lnTo>
                      <a:pt x="273" y="1532"/>
                    </a:lnTo>
                    <a:lnTo>
                      <a:pt x="324" y="1578"/>
                    </a:lnTo>
                    <a:lnTo>
                      <a:pt x="379" y="1619"/>
                    </a:lnTo>
                    <a:lnTo>
                      <a:pt x="437" y="1657"/>
                    </a:lnTo>
                    <a:lnTo>
                      <a:pt x="498" y="1690"/>
                    </a:lnTo>
                    <a:lnTo>
                      <a:pt x="563" y="1718"/>
                    </a:lnTo>
                    <a:lnTo>
                      <a:pt x="630" y="1742"/>
                    </a:lnTo>
                    <a:lnTo>
                      <a:pt x="699" y="1760"/>
                    </a:lnTo>
                    <a:lnTo>
                      <a:pt x="771" y="1772"/>
                    </a:lnTo>
                    <a:lnTo>
                      <a:pt x="844" y="1779"/>
                    </a:lnTo>
                    <a:lnTo>
                      <a:pt x="916" y="1780"/>
                    </a:lnTo>
                    <a:lnTo>
                      <a:pt x="987" y="1775"/>
                    </a:lnTo>
                    <a:lnTo>
                      <a:pt x="1056" y="1765"/>
                    </a:lnTo>
                    <a:lnTo>
                      <a:pt x="1124" y="1749"/>
                    </a:lnTo>
                    <a:lnTo>
                      <a:pt x="1190" y="1729"/>
                    </a:lnTo>
                    <a:lnTo>
                      <a:pt x="1254" y="1703"/>
                    </a:lnTo>
                    <a:lnTo>
                      <a:pt x="1315" y="1672"/>
                    </a:lnTo>
                    <a:lnTo>
                      <a:pt x="1374" y="1638"/>
                    </a:lnTo>
                    <a:lnTo>
                      <a:pt x="1430" y="1598"/>
                    </a:lnTo>
                    <a:lnTo>
                      <a:pt x="1483" y="1555"/>
                    </a:lnTo>
                    <a:lnTo>
                      <a:pt x="1532" y="1507"/>
                    </a:lnTo>
                    <a:lnTo>
                      <a:pt x="1578" y="1456"/>
                    </a:lnTo>
                    <a:lnTo>
                      <a:pt x="1619" y="1401"/>
                    </a:lnTo>
                    <a:lnTo>
                      <a:pt x="1657" y="1343"/>
                    </a:lnTo>
                    <a:lnTo>
                      <a:pt x="1690" y="1282"/>
                    </a:lnTo>
                    <a:lnTo>
                      <a:pt x="1718" y="1218"/>
                    </a:lnTo>
                    <a:lnTo>
                      <a:pt x="1742" y="1151"/>
                    </a:lnTo>
                    <a:lnTo>
                      <a:pt x="1760" y="1081"/>
                    </a:lnTo>
                    <a:lnTo>
                      <a:pt x="1772" y="1009"/>
                    </a:lnTo>
                    <a:lnTo>
                      <a:pt x="1779" y="936"/>
                    </a:lnTo>
                    <a:lnTo>
                      <a:pt x="1780" y="864"/>
                    </a:lnTo>
                    <a:lnTo>
                      <a:pt x="1775" y="794"/>
                    </a:lnTo>
                    <a:lnTo>
                      <a:pt x="1765" y="724"/>
                    </a:lnTo>
                    <a:lnTo>
                      <a:pt x="1749" y="656"/>
                    </a:lnTo>
                    <a:lnTo>
                      <a:pt x="1729" y="590"/>
                    </a:lnTo>
                    <a:lnTo>
                      <a:pt x="1703" y="527"/>
                    </a:lnTo>
                    <a:lnTo>
                      <a:pt x="1672" y="465"/>
                    </a:lnTo>
                    <a:lnTo>
                      <a:pt x="1637" y="406"/>
                    </a:lnTo>
                    <a:lnTo>
                      <a:pt x="1598" y="350"/>
                    </a:lnTo>
                    <a:lnTo>
                      <a:pt x="1555" y="298"/>
                    </a:lnTo>
                    <a:lnTo>
                      <a:pt x="1507" y="248"/>
                    </a:lnTo>
                    <a:lnTo>
                      <a:pt x="1456" y="203"/>
                    </a:lnTo>
                    <a:lnTo>
                      <a:pt x="1401" y="161"/>
                    </a:lnTo>
                    <a:lnTo>
                      <a:pt x="1343" y="123"/>
                    </a:lnTo>
                    <a:lnTo>
                      <a:pt x="1282" y="90"/>
                    </a:lnTo>
                    <a:lnTo>
                      <a:pt x="1218" y="62"/>
                    </a:lnTo>
                    <a:lnTo>
                      <a:pt x="1151" y="39"/>
                    </a:lnTo>
                    <a:lnTo>
                      <a:pt x="1081" y="20"/>
                    </a:lnTo>
                    <a:lnTo>
                      <a:pt x="1009" y="8"/>
                    </a:lnTo>
                    <a:lnTo>
                      <a:pt x="936" y="1"/>
                    </a:lnTo>
                    <a:lnTo>
                      <a:pt x="864"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 name="Group 10"/>
            <p:cNvGrpSpPr/>
            <p:nvPr/>
          </p:nvGrpSpPr>
          <p:grpSpPr>
            <a:xfrm>
              <a:off x="3285720" y="4097880"/>
              <a:ext cx="538920" cy="460080"/>
              <a:chOff x="3285720" y="4097880"/>
              <a:chExt cx="538920" cy="460080"/>
            </a:xfrm>
          </p:grpSpPr>
          <p:sp>
            <p:nvSpPr>
              <p:cNvPr id="11" name="Freeform 138"/>
              <p:cNvSpPr/>
              <p:nvPr/>
            </p:nvSpPr>
            <p:spPr>
              <a:xfrm>
                <a:off x="3285720" y="4097880"/>
                <a:ext cx="538920" cy="460080"/>
              </a:xfrm>
              <a:custGeom>
                <a:avLst/>
                <a:gdLst/>
                <a:ahLst/>
                <a:rect l="l" t="t" r="r" b="b"/>
                <a:pathLst>
                  <a:path w="1128" h="1128">
                    <a:moveTo>
                      <a:pt x="575" y="0"/>
                    </a:moveTo>
                    <a:lnTo>
                      <a:pt x="487" y="5"/>
                    </a:lnTo>
                    <a:lnTo>
                      <a:pt x="402" y="23"/>
                    </a:lnTo>
                    <a:lnTo>
                      <a:pt x="321" y="54"/>
                    </a:lnTo>
                    <a:lnTo>
                      <a:pt x="246" y="97"/>
                    </a:lnTo>
                    <a:lnTo>
                      <a:pt x="178" y="152"/>
                    </a:lnTo>
                    <a:lnTo>
                      <a:pt x="119" y="216"/>
                    </a:lnTo>
                    <a:lnTo>
                      <a:pt x="70" y="291"/>
                    </a:lnTo>
                    <a:lnTo>
                      <a:pt x="32" y="374"/>
                    </a:lnTo>
                    <a:lnTo>
                      <a:pt x="9" y="463"/>
                    </a:lnTo>
                    <a:lnTo>
                      <a:pt x="0" y="552"/>
                    </a:lnTo>
                    <a:lnTo>
                      <a:pt x="0" y="596"/>
                    </a:lnTo>
                    <a:lnTo>
                      <a:pt x="12" y="683"/>
                    </a:lnTo>
                    <a:lnTo>
                      <a:pt x="37" y="766"/>
                    </a:lnTo>
                    <a:lnTo>
                      <a:pt x="74" y="844"/>
                    </a:lnTo>
                    <a:lnTo>
                      <a:pt x="123" y="916"/>
                    </a:lnTo>
                    <a:lnTo>
                      <a:pt x="182" y="979"/>
                    </a:lnTo>
                    <a:lnTo>
                      <a:pt x="252" y="1034"/>
                    </a:lnTo>
                    <a:lnTo>
                      <a:pt x="331" y="1077"/>
                    </a:lnTo>
                    <a:lnTo>
                      <a:pt x="418" y="1108"/>
                    </a:lnTo>
                    <a:lnTo>
                      <a:pt x="507" y="1125"/>
                    </a:lnTo>
                    <a:lnTo>
                      <a:pt x="552" y="1127"/>
                    </a:lnTo>
                    <a:lnTo>
                      <a:pt x="596" y="1127"/>
                    </a:lnTo>
                    <a:lnTo>
                      <a:pt x="682" y="1115"/>
                    </a:lnTo>
                    <a:lnTo>
                      <a:pt x="765" y="1090"/>
                    </a:lnTo>
                    <a:lnTo>
                      <a:pt x="844" y="1053"/>
                    </a:lnTo>
                    <a:lnTo>
                      <a:pt x="915" y="1004"/>
                    </a:lnTo>
                    <a:lnTo>
                      <a:pt x="979" y="945"/>
                    </a:lnTo>
                    <a:lnTo>
                      <a:pt x="1034" y="875"/>
                    </a:lnTo>
                    <a:lnTo>
                      <a:pt x="1077" y="796"/>
                    </a:lnTo>
                    <a:lnTo>
                      <a:pt x="1108" y="708"/>
                    </a:lnTo>
                    <a:lnTo>
                      <a:pt x="1124" y="620"/>
                    </a:lnTo>
                    <a:lnTo>
                      <a:pt x="1127" y="575"/>
                    </a:lnTo>
                    <a:lnTo>
                      <a:pt x="1126" y="531"/>
                    </a:lnTo>
                    <a:lnTo>
                      <a:pt x="1114" y="445"/>
                    </a:lnTo>
                    <a:lnTo>
                      <a:pt x="1090" y="362"/>
                    </a:lnTo>
                    <a:lnTo>
                      <a:pt x="1053" y="283"/>
                    </a:lnTo>
                    <a:lnTo>
                      <a:pt x="1004" y="212"/>
                    </a:lnTo>
                    <a:lnTo>
                      <a:pt x="944" y="148"/>
                    </a:lnTo>
                    <a:lnTo>
                      <a:pt x="875" y="93"/>
                    </a:lnTo>
                    <a:lnTo>
                      <a:pt x="795" y="50"/>
                    </a:lnTo>
                    <a:lnTo>
                      <a:pt x="708" y="19"/>
                    </a:lnTo>
                    <a:lnTo>
                      <a:pt x="619" y="3"/>
                    </a:lnTo>
                    <a:lnTo>
                      <a:pt x="575"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 name="Group 11"/>
            <p:cNvGrpSpPr/>
            <p:nvPr/>
          </p:nvGrpSpPr>
          <p:grpSpPr>
            <a:xfrm>
              <a:off x="3090240" y="4593600"/>
              <a:ext cx="450360" cy="384840"/>
              <a:chOff x="3090240" y="4593600"/>
              <a:chExt cx="450360" cy="384840"/>
            </a:xfrm>
          </p:grpSpPr>
          <p:sp>
            <p:nvSpPr>
              <p:cNvPr id="13" name="Freeform 137"/>
              <p:cNvSpPr/>
              <p:nvPr/>
            </p:nvSpPr>
            <p:spPr>
              <a:xfrm>
                <a:off x="3090240" y="4593600"/>
                <a:ext cx="450360" cy="384840"/>
              </a:xfrm>
              <a:custGeom>
                <a:avLst/>
                <a:gdLst/>
                <a:ahLst/>
                <a:rect l="l" t="t" r="r" b="b"/>
                <a:pathLst>
                  <a:path w="943" h="943">
                    <a:moveTo>
                      <a:pt x="481" y="0"/>
                    </a:moveTo>
                    <a:lnTo>
                      <a:pt x="408" y="5"/>
                    </a:lnTo>
                    <a:lnTo>
                      <a:pt x="337" y="20"/>
                    </a:lnTo>
                    <a:lnTo>
                      <a:pt x="270" y="46"/>
                    </a:lnTo>
                    <a:lnTo>
                      <a:pt x="207" y="82"/>
                    </a:lnTo>
                    <a:lnTo>
                      <a:pt x="149" y="128"/>
                    </a:lnTo>
                    <a:lnTo>
                      <a:pt x="99" y="183"/>
                    </a:lnTo>
                    <a:lnTo>
                      <a:pt x="57" y="247"/>
                    </a:lnTo>
                    <a:lnTo>
                      <a:pt x="26" y="318"/>
                    </a:lnTo>
                    <a:lnTo>
                      <a:pt x="8" y="390"/>
                    </a:lnTo>
                    <a:lnTo>
                      <a:pt x="0" y="463"/>
                    </a:lnTo>
                    <a:lnTo>
                      <a:pt x="1" y="499"/>
                    </a:lnTo>
                    <a:lnTo>
                      <a:pt x="11" y="571"/>
                    </a:lnTo>
                    <a:lnTo>
                      <a:pt x="32" y="640"/>
                    </a:lnTo>
                    <a:lnTo>
                      <a:pt x="63" y="706"/>
                    </a:lnTo>
                    <a:lnTo>
                      <a:pt x="104" y="766"/>
                    </a:lnTo>
                    <a:lnTo>
                      <a:pt x="154" y="820"/>
                    </a:lnTo>
                    <a:lnTo>
                      <a:pt x="214" y="867"/>
                    </a:lnTo>
                    <a:lnTo>
                      <a:pt x="282" y="903"/>
                    </a:lnTo>
                    <a:lnTo>
                      <a:pt x="354" y="928"/>
                    </a:lnTo>
                    <a:lnTo>
                      <a:pt x="426" y="941"/>
                    </a:lnTo>
                    <a:lnTo>
                      <a:pt x="463" y="943"/>
                    </a:lnTo>
                    <a:lnTo>
                      <a:pt x="499" y="942"/>
                    </a:lnTo>
                    <a:lnTo>
                      <a:pt x="571" y="933"/>
                    </a:lnTo>
                    <a:lnTo>
                      <a:pt x="641" y="912"/>
                    </a:lnTo>
                    <a:lnTo>
                      <a:pt x="706" y="881"/>
                    </a:lnTo>
                    <a:lnTo>
                      <a:pt x="766" y="840"/>
                    </a:lnTo>
                    <a:lnTo>
                      <a:pt x="820" y="789"/>
                    </a:lnTo>
                    <a:lnTo>
                      <a:pt x="867" y="729"/>
                    </a:lnTo>
                    <a:lnTo>
                      <a:pt x="903" y="661"/>
                    </a:lnTo>
                    <a:lnTo>
                      <a:pt x="928" y="590"/>
                    </a:lnTo>
                    <a:lnTo>
                      <a:pt x="941" y="517"/>
                    </a:lnTo>
                    <a:lnTo>
                      <a:pt x="943" y="481"/>
                    </a:lnTo>
                    <a:lnTo>
                      <a:pt x="942" y="444"/>
                    </a:lnTo>
                    <a:lnTo>
                      <a:pt x="933" y="372"/>
                    </a:lnTo>
                    <a:lnTo>
                      <a:pt x="912" y="303"/>
                    </a:lnTo>
                    <a:lnTo>
                      <a:pt x="881" y="238"/>
                    </a:lnTo>
                    <a:lnTo>
                      <a:pt x="840" y="177"/>
                    </a:lnTo>
                    <a:lnTo>
                      <a:pt x="789" y="123"/>
                    </a:lnTo>
                    <a:lnTo>
                      <a:pt x="730" y="77"/>
                    </a:lnTo>
                    <a:lnTo>
                      <a:pt x="662" y="40"/>
                    </a:lnTo>
                    <a:lnTo>
                      <a:pt x="590" y="15"/>
                    </a:lnTo>
                    <a:lnTo>
                      <a:pt x="517" y="3"/>
                    </a:lnTo>
                    <a:lnTo>
                      <a:pt x="481"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 name="Group 12"/>
            <p:cNvGrpSpPr/>
            <p:nvPr/>
          </p:nvGrpSpPr>
          <p:grpSpPr>
            <a:xfrm>
              <a:off x="2809080" y="4977360"/>
              <a:ext cx="445680" cy="380520"/>
              <a:chOff x="2809080" y="4977360"/>
              <a:chExt cx="445680" cy="380520"/>
            </a:xfrm>
          </p:grpSpPr>
          <p:sp>
            <p:nvSpPr>
              <p:cNvPr id="15" name="Freeform 136"/>
              <p:cNvSpPr/>
              <p:nvPr/>
            </p:nvSpPr>
            <p:spPr>
              <a:xfrm>
                <a:off x="2809080" y="4977360"/>
                <a:ext cx="445680" cy="380520"/>
              </a:xfrm>
              <a:custGeom>
                <a:avLst/>
                <a:gdLst/>
                <a:ahLst/>
                <a:rect l="l" t="t" r="r" b="b"/>
                <a:pathLst>
                  <a:path w="933" h="933">
                    <a:moveTo>
                      <a:pt x="468" y="0"/>
                    </a:moveTo>
                    <a:lnTo>
                      <a:pt x="396" y="6"/>
                    </a:lnTo>
                    <a:lnTo>
                      <a:pt x="327" y="22"/>
                    </a:lnTo>
                    <a:lnTo>
                      <a:pt x="260" y="48"/>
                    </a:lnTo>
                    <a:lnTo>
                      <a:pt x="197" y="86"/>
                    </a:lnTo>
                    <a:lnTo>
                      <a:pt x="141" y="133"/>
                    </a:lnTo>
                    <a:lnTo>
                      <a:pt x="91" y="190"/>
                    </a:lnTo>
                    <a:lnTo>
                      <a:pt x="51" y="255"/>
                    </a:lnTo>
                    <a:lnTo>
                      <a:pt x="22" y="323"/>
                    </a:lnTo>
                    <a:lnTo>
                      <a:pt x="6" y="394"/>
                    </a:lnTo>
                    <a:lnTo>
                      <a:pt x="0" y="465"/>
                    </a:lnTo>
                    <a:lnTo>
                      <a:pt x="1" y="501"/>
                    </a:lnTo>
                    <a:lnTo>
                      <a:pt x="12" y="572"/>
                    </a:lnTo>
                    <a:lnTo>
                      <a:pt x="33" y="640"/>
                    </a:lnTo>
                    <a:lnTo>
                      <a:pt x="65" y="705"/>
                    </a:lnTo>
                    <a:lnTo>
                      <a:pt x="107" y="765"/>
                    </a:lnTo>
                    <a:lnTo>
                      <a:pt x="160" y="818"/>
                    </a:lnTo>
                    <a:lnTo>
                      <a:pt x="221" y="864"/>
                    </a:lnTo>
                    <a:lnTo>
                      <a:pt x="288" y="898"/>
                    </a:lnTo>
                    <a:lnTo>
                      <a:pt x="357" y="920"/>
                    </a:lnTo>
                    <a:lnTo>
                      <a:pt x="429" y="932"/>
                    </a:lnTo>
                    <a:lnTo>
                      <a:pt x="465" y="933"/>
                    </a:lnTo>
                    <a:lnTo>
                      <a:pt x="500" y="932"/>
                    </a:lnTo>
                    <a:lnTo>
                      <a:pt x="571" y="921"/>
                    </a:lnTo>
                    <a:lnTo>
                      <a:pt x="640" y="900"/>
                    </a:lnTo>
                    <a:lnTo>
                      <a:pt x="704" y="868"/>
                    </a:lnTo>
                    <a:lnTo>
                      <a:pt x="764" y="826"/>
                    </a:lnTo>
                    <a:lnTo>
                      <a:pt x="818" y="773"/>
                    </a:lnTo>
                    <a:lnTo>
                      <a:pt x="863" y="712"/>
                    </a:lnTo>
                    <a:lnTo>
                      <a:pt x="897" y="645"/>
                    </a:lnTo>
                    <a:lnTo>
                      <a:pt x="920" y="576"/>
                    </a:lnTo>
                    <a:lnTo>
                      <a:pt x="931" y="504"/>
                    </a:lnTo>
                    <a:lnTo>
                      <a:pt x="933" y="468"/>
                    </a:lnTo>
                    <a:lnTo>
                      <a:pt x="931" y="433"/>
                    </a:lnTo>
                    <a:lnTo>
                      <a:pt x="921" y="362"/>
                    </a:lnTo>
                    <a:lnTo>
                      <a:pt x="899" y="293"/>
                    </a:lnTo>
                    <a:lnTo>
                      <a:pt x="867" y="229"/>
                    </a:lnTo>
                    <a:lnTo>
                      <a:pt x="825" y="169"/>
                    </a:lnTo>
                    <a:lnTo>
                      <a:pt x="773" y="115"/>
                    </a:lnTo>
                    <a:lnTo>
                      <a:pt x="711" y="70"/>
                    </a:lnTo>
                    <a:lnTo>
                      <a:pt x="645" y="36"/>
                    </a:lnTo>
                    <a:lnTo>
                      <a:pt x="575" y="13"/>
                    </a:lnTo>
                    <a:lnTo>
                      <a:pt x="504" y="2"/>
                    </a:lnTo>
                    <a:lnTo>
                      <a:pt x="468"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 name="Group 13"/>
            <p:cNvGrpSpPr/>
            <p:nvPr/>
          </p:nvGrpSpPr>
          <p:grpSpPr>
            <a:xfrm>
              <a:off x="2490840" y="5333040"/>
              <a:ext cx="407520" cy="347760"/>
              <a:chOff x="2490840" y="5333040"/>
              <a:chExt cx="407520" cy="347760"/>
            </a:xfrm>
          </p:grpSpPr>
          <p:sp>
            <p:nvSpPr>
              <p:cNvPr id="17" name="Freeform 135"/>
              <p:cNvSpPr/>
              <p:nvPr/>
            </p:nvSpPr>
            <p:spPr>
              <a:xfrm>
                <a:off x="2490840" y="5333040"/>
                <a:ext cx="407520" cy="347760"/>
              </a:xfrm>
              <a:custGeom>
                <a:avLst/>
                <a:gdLst/>
                <a:ahLst/>
                <a:rect l="l" t="t" r="r" b="b"/>
                <a:pathLst>
                  <a:path w="853" h="853">
                    <a:moveTo>
                      <a:pt x="421" y="0"/>
                    </a:moveTo>
                    <a:lnTo>
                      <a:pt x="356" y="6"/>
                    </a:lnTo>
                    <a:lnTo>
                      <a:pt x="292" y="22"/>
                    </a:lnTo>
                    <a:lnTo>
                      <a:pt x="230" y="48"/>
                    </a:lnTo>
                    <a:lnTo>
                      <a:pt x="173" y="84"/>
                    </a:lnTo>
                    <a:lnTo>
                      <a:pt x="121" y="129"/>
                    </a:lnTo>
                    <a:lnTo>
                      <a:pt x="77" y="183"/>
                    </a:lnTo>
                    <a:lnTo>
                      <a:pt x="42" y="241"/>
                    </a:lnTo>
                    <a:lnTo>
                      <a:pt x="18" y="303"/>
                    </a:lnTo>
                    <a:lnTo>
                      <a:pt x="4" y="367"/>
                    </a:lnTo>
                    <a:lnTo>
                      <a:pt x="0" y="433"/>
                    </a:lnTo>
                    <a:lnTo>
                      <a:pt x="2" y="465"/>
                    </a:lnTo>
                    <a:lnTo>
                      <a:pt x="13" y="530"/>
                    </a:lnTo>
                    <a:lnTo>
                      <a:pt x="33" y="593"/>
                    </a:lnTo>
                    <a:lnTo>
                      <a:pt x="64" y="652"/>
                    </a:lnTo>
                    <a:lnTo>
                      <a:pt x="105" y="707"/>
                    </a:lnTo>
                    <a:lnTo>
                      <a:pt x="155" y="756"/>
                    </a:lnTo>
                    <a:lnTo>
                      <a:pt x="211" y="795"/>
                    </a:lnTo>
                    <a:lnTo>
                      <a:pt x="271" y="824"/>
                    </a:lnTo>
                    <a:lnTo>
                      <a:pt x="335" y="843"/>
                    </a:lnTo>
                    <a:lnTo>
                      <a:pt x="400" y="852"/>
                    </a:lnTo>
                    <a:lnTo>
                      <a:pt x="432" y="853"/>
                    </a:lnTo>
                    <a:lnTo>
                      <a:pt x="465" y="852"/>
                    </a:lnTo>
                    <a:lnTo>
                      <a:pt x="530" y="841"/>
                    </a:lnTo>
                    <a:lnTo>
                      <a:pt x="592" y="820"/>
                    </a:lnTo>
                    <a:lnTo>
                      <a:pt x="652" y="789"/>
                    </a:lnTo>
                    <a:lnTo>
                      <a:pt x="707" y="748"/>
                    </a:lnTo>
                    <a:lnTo>
                      <a:pt x="756" y="698"/>
                    </a:lnTo>
                    <a:lnTo>
                      <a:pt x="795" y="642"/>
                    </a:lnTo>
                    <a:lnTo>
                      <a:pt x="824" y="582"/>
                    </a:lnTo>
                    <a:lnTo>
                      <a:pt x="843" y="519"/>
                    </a:lnTo>
                    <a:lnTo>
                      <a:pt x="852" y="454"/>
                    </a:lnTo>
                    <a:lnTo>
                      <a:pt x="853" y="421"/>
                    </a:lnTo>
                    <a:lnTo>
                      <a:pt x="851" y="388"/>
                    </a:lnTo>
                    <a:lnTo>
                      <a:pt x="840" y="324"/>
                    </a:lnTo>
                    <a:lnTo>
                      <a:pt x="820" y="261"/>
                    </a:lnTo>
                    <a:lnTo>
                      <a:pt x="789" y="201"/>
                    </a:lnTo>
                    <a:lnTo>
                      <a:pt x="748" y="147"/>
                    </a:lnTo>
                    <a:lnTo>
                      <a:pt x="698" y="98"/>
                    </a:lnTo>
                    <a:lnTo>
                      <a:pt x="642" y="58"/>
                    </a:lnTo>
                    <a:lnTo>
                      <a:pt x="582" y="29"/>
                    </a:lnTo>
                    <a:lnTo>
                      <a:pt x="518" y="10"/>
                    </a:lnTo>
                    <a:lnTo>
                      <a:pt x="453" y="1"/>
                    </a:lnTo>
                    <a:lnTo>
                      <a:pt x="421"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 name="Group 14"/>
            <p:cNvGrpSpPr/>
            <p:nvPr/>
          </p:nvGrpSpPr>
          <p:grpSpPr>
            <a:xfrm>
              <a:off x="231840" y="3613320"/>
              <a:ext cx="2466000" cy="1896120"/>
              <a:chOff x="231840" y="3613320"/>
              <a:chExt cx="2466000" cy="1896120"/>
            </a:xfrm>
          </p:grpSpPr>
          <p:sp>
            <p:nvSpPr>
              <p:cNvPr id="19" name="Freeform 134"/>
              <p:cNvSpPr/>
              <p:nvPr/>
            </p:nvSpPr>
            <p:spPr>
              <a:xfrm>
                <a:off x="231840" y="3613320"/>
                <a:ext cx="2466000" cy="1896120"/>
              </a:xfrm>
              <a:custGeom>
                <a:avLst/>
                <a:gdLst/>
                <a:ahLst/>
                <a:rect l="l" t="t" r="r" b="b"/>
                <a:pathLst>
                  <a:path w="5161" h="4647">
                    <a:moveTo>
                      <a:pt x="0" y="0"/>
                    </a:moveTo>
                    <a:lnTo>
                      <a:pt x="0" y="23"/>
                    </a:lnTo>
                    <a:lnTo>
                      <a:pt x="358" y="314"/>
                    </a:lnTo>
                    <a:lnTo>
                      <a:pt x="937" y="796"/>
                    </a:lnTo>
                    <a:lnTo>
                      <a:pt x="1517" y="1292"/>
                    </a:lnTo>
                    <a:lnTo>
                      <a:pt x="2100" y="1803"/>
                    </a:lnTo>
                    <a:lnTo>
                      <a:pt x="2689" y="2331"/>
                    </a:lnTo>
                    <a:lnTo>
                      <a:pt x="3286" y="2877"/>
                    </a:lnTo>
                    <a:lnTo>
                      <a:pt x="3893" y="3444"/>
                    </a:lnTo>
                    <a:lnTo>
                      <a:pt x="4513" y="4034"/>
                    </a:lnTo>
                    <a:lnTo>
                      <a:pt x="5148" y="4647"/>
                    </a:lnTo>
                    <a:lnTo>
                      <a:pt x="5161" y="4634"/>
                    </a:lnTo>
                    <a:lnTo>
                      <a:pt x="4525" y="4021"/>
                    </a:lnTo>
                    <a:lnTo>
                      <a:pt x="3905" y="3431"/>
                    </a:lnTo>
                    <a:lnTo>
                      <a:pt x="3298" y="2864"/>
                    </a:lnTo>
                    <a:lnTo>
                      <a:pt x="2701" y="2318"/>
                    </a:lnTo>
                    <a:lnTo>
                      <a:pt x="2112" y="1790"/>
                    </a:lnTo>
                    <a:lnTo>
                      <a:pt x="1528" y="1279"/>
                    </a:lnTo>
                    <a:lnTo>
                      <a:pt x="948" y="783"/>
                    </a:lnTo>
                    <a:lnTo>
                      <a:pt x="369" y="300"/>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 name="Group 15"/>
            <p:cNvGrpSpPr/>
            <p:nvPr/>
          </p:nvGrpSpPr>
          <p:grpSpPr>
            <a:xfrm>
              <a:off x="231840" y="3841200"/>
              <a:ext cx="2464560" cy="1667160"/>
              <a:chOff x="231840" y="3841200"/>
              <a:chExt cx="2464560" cy="1667160"/>
            </a:xfrm>
          </p:grpSpPr>
          <p:sp>
            <p:nvSpPr>
              <p:cNvPr id="21" name="Freeform 133"/>
              <p:cNvSpPr/>
              <p:nvPr/>
            </p:nvSpPr>
            <p:spPr>
              <a:xfrm>
                <a:off x="231840" y="3841200"/>
                <a:ext cx="2464560" cy="1667160"/>
              </a:xfrm>
              <a:custGeom>
                <a:avLst/>
                <a:gdLst/>
                <a:ahLst/>
                <a:rect l="l" t="t" r="r" b="b"/>
                <a:pathLst>
                  <a:path w="5158" h="4086">
                    <a:moveTo>
                      <a:pt x="0" y="0"/>
                    </a:moveTo>
                    <a:lnTo>
                      <a:pt x="0" y="10"/>
                    </a:lnTo>
                    <a:lnTo>
                      <a:pt x="216" y="136"/>
                    </a:lnTo>
                    <a:lnTo>
                      <a:pt x="831" y="524"/>
                    </a:lnTo>
                    <a:lnTo>
                      <a:pt x="1441" y="940"/>
                    </a:lnTo>
                    <a:lnTo>
                      <a:pt x="2049" y="1385"/>
                    </a:lnTo>
                    <a:lnTo>
                      <a:pt x="2658" y="1860"/>
                    </a:lnTo>
                    <a:lnTo>
                      <a:pt x="3270" y="2366"/>
                    </a:lnTo>
                    <a:lnTo>
                      <a:pt x="3888" y="2905"/>
                    </a:lnTo>
                    <a:lnTo>
                      <a:pt x="4514" y="3478"/>
                    </a:lnTo>
                    <a:lnTo>
                      <a:pt x="5151" y="4086"/>
                    </a:lnTo>
                    <a:lnTo>
                      <a:pt x="5158" y="4080"/>
                    </a:lnTo>
                    <a:lnTo>
                      <a:pt x="4520" y="3471"/>
                    </a:lnTo>
                    <a:lnTo>
                      <a:pt x="3894" y="2898"/>
                    </a:lnTo>
                    <a:lnTo>
                      <a:pt x="3276" y="2359"/>
                    </a:lnTo>
                    <a:lnTo>
                      <a:pt x="2663" y="1853"/>
                    </a:lnTo>
                    <a:lnTo>
                      <a:pt x="2054" y="1378"/>
                    </a:lnTo>
                    <a:lnTo>
                      <a:pt x="1446" y="933"/>
                    </a:lnTo>
                    <a:lnTo>
                      <a:pt x="835" y="517"/>
                    </a:lnTo>
                    <a:lnTo>
                      <a:pt x="221" y="128"/>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 name="Group 16"/>
            <p:cNvGrpSpPr/>
            <p:nvPr/>
          </p:nvGrpSpPr>
          <p:grpSpPr>
            <a:xfrm>
              <a:off x="231840" y="3991320"/>
              <a:ext cx="2464560" cy="1517040"/>
              <a:chOff x="231840" y="3991320"/>
              <a:chExt cx="2464560" cy="1517040"/>
            </a:xfrm>
          </p:grpSpPr>
          <p:sp>
            <p:nvSpPr>
              <p:cNvPr id="23" name="Freeform 132"/>
              <p:cNvSpPr/>
              <p:nvPr/>
            </p:nvSpPr>
            <p:spPr>
              <a:xfrm>
                <a:off x="231840" y="3991320"/>
                <a:ext cx="2464560" cy="1517040"/>
              </a:xfrm>
              <a:custGeom>
                <a:avLst/>
                <a:gdLst/>
                <a:ahLst/>
                <a:rect l="l" t="t" r="r" b="b"/>
                <a:pathLst>
                  <a:path w="5158" h="3718">
                    <a:moveTo>
                      <a:pt x="0" y="0"/>
                    </a:moveTo>
                    <a:lnTo>
                      <a:pt x="0" y="10"/>
                    </a:lnTo>
                    <a:lnTo>
                      <a:pt x="196" y="95"/>
                    </a:lnTo>
                    <a:lnTo>
                      <a:pt x="691" y="337"/>
                    </a:lnTo>
                    <a:lnTo>
                      <a:pt x="1182" y="605"/>
                    </a:lnTo>
                    <a:lnTo>
                      <a:pt x="1672" y="898"/>
                    </a:lnTo>
                    <a:lnTo>
                      <a:pt x="2160" y="1218"/>
                    </a:lnTo>
                    <a:lnTo>
                      <a:pt x="2650" y="1565"/>
                    </a:lnTo>
                    <a:lnTo>
                      <a:pt x="3141" y="1939"/>
                    </a:lnTo>
                    <a:lnTo>
                      <a:pt x="3635" y="2341"/>
                    </a:lnTo>
                    <a:lnTo>
                      <a:pt x="4134" y="2771"/>
                    </a:lnTo>
                    <a:lnTo>
                      <a:pt x="4639" y="3230"/>
                    </a:lnTo>
                    <a:lnTo>
                      <a:pt x="5151" y="3718"/>
                    </a:lnTo>
                    <a:lnTo>
                      <a:pt x="5158" y="3712"/>
                    </a:lnTo>
                    <a:lnTo>
                      <a:pt x="4645" y="3224"/>
                    </a:lnTo>
                    <a:lnTo>
                      <a:pt x="4140" y="2765"/>
                    </a:lnTo>
                    <a:lnTo>
                      <a:pt x="3641" y="2335"/>
                    </a:lnTo>
                    <a:lnTo>
                      <a:pt x="3146" y="1932"/>
                    </a:lnTo>
                    <a:lnTo>
                      <a:pt x="2655" y="1558"/>
                    </a:lnTo>
                    <a:lnTo>
                      <a:pt x="2165" y="1211"/>
                    </a:lnTo>
                    <a:lnTo>
                      <a:pt x="1676" y="891"/>
                    </a:lnTo>
                    <a:lnTo>
                      <a:pt x="1187" y="597"/>
                    </a:lnTo>
                    <a:lnTo>
                      <a:pt x="695" y="329"/>
                    </a:lnTo>
                    <a:lnTo>
                      <a:pt x="200" y="8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 name="Group 17"/>
            <p:cNvGrpSpPr/>
            <p:nvPr/>
          </p:nvGrpSpPr>
          <p:grpSpPr>
            <a:xfrm>
              <a:off x="231840" y="4080600"/>
              <a:ext cx="2464560" cy="1427760"/>
              <a:chOff x="231840" y="4080600"/>
              <a:chExt cx="2464560" cy="1427760"/>
            </a:xfrm>
          </p:grpSpPr>
          <p:sp>
            <p:nvSpPr>
              <p:cNvPr id="25" name="Freeform 131"/>
              <p:cNvSpPr/>
              <p:nvPr/>
            </p:nvSpPr>
            <p:spPr>
              <a:xfrm>
                <a:off x="231840" y="4080600"/>
                <a:ext cx="2464560" cy="1427760"/>
              </a:xfrm>
              <a:custGeom>
                <a:avLst/>
                <a:gdLst/>
                <a:ahLst/>
                <a:rect l="l" t="t" r="r" b="b"/>
                <a:pathLst>
                  <a:path w="5158" h="3499">
                    <a:moveTo>
                      <a:pt x="0" y="0"/>
                    </a:moveTo>
                    <a:lnTo>
                      <a:pt x="0" y="10"/>
                    </a:lnTo>
                    <a:lnTo>
                      <a:pt x="19" y="16"/>
                    </a:lnTo>
                    <a:lnTo>
                      <a:pt x="410" y="161"/>
                    </a:lnTo>
                    <a:lnTo>
                      <a:pt x="800" y="326"/>
                    </a:lnTo>
                    <a:lnTo>
                      <a:pt x="1188" y="511"/>
                    </a:lnTo>
                    <a:lnTo>
                      <a:pt x="1576" y="716"/>
                    </a:lnTo>
                    <a:lnTo>
                      <a:pt x="1964" y="942"/>
                    </a:lnTo>
                    <a:lnTo>
                      <a:pt x="2352" y="1188"/>
                    </a:lnTo>
                    <a:lnTo>
                      <a:pt x="2742" y="1455"/>
                    </a:lnTo>
                    <a:lnTo>
                      <a:pt x="3134" y="1743"/>
                    </a:lnTo>
                    <a:lnTo>
                      <a:pt x="3530" y="2051"/>
                    </a:lnTo>
                    <a:lnTo>
                      <a:pt x="3928" y="2381"/>
                    </a:lnTo>
                    <a:lnTo>
                      <a:pt x="4331" y="2732"/>
                    </a:lnTo>
                    <a:lnTo>
                      <a:pt x="4738" y="3105"/>
                    </a:lnTo>
                    <a:lnTo>
                      <a:pt x="5151" y="3499"/>
                    </a:lnTo>
                    <a:lnTo>
                      <a:pt x="5158" y="3493"/>
                    </a:lnTo>
                    <a:lnTo>
                      <a:pt x="4744" y="3098"/>
                    </a:lnTo>
                    <a:lnTo>
                      <a:pt x="4337" y="2726"/>
                    </a:lnTo>
                    <a:lnTo>
                      <a:pt x="3934" y="2374"/>
                    </a:lnTo>
                    <a:lnTo>
                      <a:pt x="3535" y="2044"/>
                    </a:lnTo>
                    <a:lnTo>
                      <a:pt x="3140" y="1736"/>
                    </a:lnTo>
                    <a:lnTo>
                      <a:pt x="2747" y="1448"/>
                    </a:lnTo>
                    <a:lnTo>
                      <a:pt x="2357" y="1181"/>
                    </a:lnTo>
                    <a:lnTo>
                      <a:pt x="1968" y="934"/>
                    </a:lnTo>
                    <a:lnTo>
                      <a:pt x="1580" y="708"/>
                    </a:lnTo>
                    <a:lnTo>
                      <a:pt x="1192" y="503"/>
                    </a:lnTo>
                    <a:lnTo>
                      <a:pt x="803" y="318"/>
                    </a:lnTo>
                    <a:lnTo>
                      <a:pt x="414" y="152"/>
                    </a:lnTo>
                    <a:lnTo>
                      <a:pt x="22" y="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 name="Group 18"/>
            <p:cNvGrpSpPr/>
            <p:nvPr/>
          </p:nvGrpSpPr>
          <p:grpSpPr>
            <a:xfrm>
              <a:off x="231840" y="4136760"/>
              <a:ext cx="2464560" cy="1371960"/>
              <a:chOff x="231840" y="4136760"/>
              <a:chExt cx="2464560" cy="1371960"/>
            </a:xfrm>
          </p:grpSpPr>
          <p:sp>
            <p:nvSpPr>
              <p:cNvPr id="27" name="Freeform 130"/>
              <p:cNvSpPr/>
              <p:nvPr/>
            </p:nvSpPr>
            <p:spPr>
              <a:xfrm>
                <a:off x="231840" y="4136760"/>
                <a:ext cx="2464560" cy="1371960"/>
              </a:xfrm>
              <a:custGeom>
                <a:avLst/>
                <a:gdLst/>
                <a:ahLst/>
                <a:rect l="l" t="t" r="r" b="b"/>
                <a:pathLst>
                  <a:path w="5158" h="3362">
                    <a:moveTo>
                      <a:pt x="0" y="0"/>
                    </a:moveTo>
                    <a:lnTo>
                      <a:pt x="0" y="9"/>
                    </a:lnTo>
                    <a:lnTo>
                      <a:pt x="225" y="72"/>
                    </a:lnTo>
                    <a:lnTo>
                      <a:pt x="568" y="188"/>
                    </a:lnTo>
                    <a:lnTo>
                      <a:pt x="911" y="322"/>
                    </a:lnTo>
                    <a:lnTo>
                      <a:pt x="1254" y="474"/>
                    </a:lnTo>
                    <a:lnTo>
                      <a:pt x="1597" y="644"/>
                    </a:lnTo>
                    <a:lnTo>
                      <a:pt x="1941" y="832"/>
                    </a:lnTo>
                    <a:lnTo>
                      <a:pt x="2286" y="1039"/>
                    </a:lnTo>
                    <a:lnTo>
                      <a:pt x="2633" y="1264"/>
                    </a:lnTo>
                    <a:lnTo>
                      <a:pt x="2982" y="1508"/>
                    </a:lnTo>
                    <a:lnTo>
                      <a:pt x="3334" y="1770"/>
                    </a:lnTo>
                    <a:lnTo>
                      <a:pt x="3689" y="2051"/>
                    </a:lnTo>
                    <a:lnTo>
                      <a:pt x="4048" y="2350"/>
                    </a:lnTo>
                    <a:lnTo>
                      <a:pt x="4411" y="2669"/>
                    </a:lnTo>
                    <a:lnTo>
                      <a:pt x="4779" y="3006"/>
                    </a:lnTo>
                    <a:lnTo>
                      <a:pt x="5151" y="3362"/>
                    </a:lnTo>
                    <a:lnTo>
                      <a:pt x="5158" y="3356"/>
                    </a:lnTo>
                    <a:lnTo>
                      <a:pt x="4785" y="2999"/>
                    </a:lnTo>
                    <a:lnTo>
                      <a:pt x="4417" y="2662"/>
                    </a:lnTo>
                    <a:lnTo>
                      <a:pt x="4054" y="2344"/>
                    </a:lnTo>
                    <a:lnTo>
                      <a:pt x="3695" y="2044"/>
                    </a:lnTo>
                    <a:lnTo>
                      <a:pt x="3339" y="1763"/>
                    </a:lnTo>
                    <a:lnTo>
                      <a:pt x="2987" y="1501"/>
                    </a:lnTo>
                    <a:lnTo>
                      <a:pt x="2638" y="1257"/>
                    </a:lnTo>
                    <a:lnTo>
                      <a:pt x="2290" y="1032"/>
                    </a:lnTo>
                    <a:lnTo>
                      <a:pt x="1945" y="825"/>
                    </a:lnTo>
                    <a:lnTo>
                      <a:pt x="1601" y="636"/>
                    </a:lnTo>
                    <a:lnTo>
                      <a:pt x="1257" y="466"/>
                    </a:lnTo>
                    <a:lnTo>
                      <a:pt x="914" y="314"/>
                    </a:lnTo>
                    <a:lnTo>
                      <a:pt x="571" y="180"/>
                    </a:lnTo>
                    <a:lnTo>
                      <a:pt x="227" y="64"/>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 name="Group 19"/>
            <p:cNvGrpSpPr/>
            <p:nvPr/>
          </p:nvGrpSpPr>
          <p:grpSpPr>
            <a:xfrm>
              <a:off x="231840" y="4183200"/>
              <a:ext cx="2464560" cy="1325160"/>
              <a:chOff x="231840" y="4183200"/>
              <a:chExt cx="2464560" cy="1325160"/>
            </a:xfrm>
          </p:grpSpPr>
          <p:sp>
            <p:nvSpPr>
              <p:cNvPr id="29" name="Freeform 129"/>
              <p:cNvSpPr/>
              <p:nvPr/>
            </p:nvSpPr>
            <p:spPr>
              <a:xfrm>
                <a:off x="231840" y="4183200"/>
                <a:ext cx="2464560" cy="1325160"/>
              </a:xfrm>
              <a:custGeom>
                <a:avLst/>
                <a:gdLst/>
                <a:ahLst/>
                <a:rect l="l" t="t" r="r" b="b"/>
                <a:pathLst>
                  <a:path w="5158" h="3248">
                    <a:moveTo>
                      <a:pt x="0" y="0"/>
                    </a:moveTo>
                    <a:lnTo>
                      <a:pt x="0" y="9"/>
                    </a:lnTo>
                    <a:lnTo>
                      <a:pt x="22" y="13"/>
                    </a:lnTo>
                    <a:lnTo>
                      <a:pt x="330" y="89"/>
                    </a:lnTo>
                    <a:lnTo>
                      <a:pt x="639" y="181"/>
                    </a:lnTo>
                    <a:lnTo>
                      <a:pt x="947" y="289"/>
                    </a:lnTo>
                    <a:lnTo>
                      <a:pt x="1257" y="415"/>
                    </a:lnTo>
                    <a:lnTo>
                      <a:pt x="1567" y="557"/>
                    </a:lnTo>
                    <a:lnTo>
                      <a:pt x="1879" y="717"/>
                    </a:lnTo>
                    <a:lnTo>
                      <a:pt x="2192" y="893"/>
                    </a:lnTo>
                    <a:lnTo>
                      <a:pt x="2508" y="1087"/>
                    </a:lnTo>
                    <a:lnTo>
                      <a:pt x="2826" y="1297"/>
                    </a:lnTo>
                    <a:lnTo>
                      <a:pt x="3146" y="1524"/>
                    </a:lnTo>
                    <a:lnTo>
                      <a:pt x="3471" y="1769"/>
                    </a:lnTo>
                    <a:lnTo>
                      <a:pt x="3798" y="2030"/>
                    </a:lnTo>
                    <a:lnTo>
                      <a:pt x="4130" y="2309"/>
                    </a:lnTo>
                    <a:lnTo>
                      <a:pt x="4465" y="2605"/>
                    </a:lnTo>
                    <a:lnTo>
                      <a:pt x="4806" y="2918"/>
                    </a:lnTo>
                    <a:lnTo>
                      <a:pt x="5151" y="3248"/>
                    </a:lnTo>
                    <a:lnTo>
                      <a:pt x="5158" y="3242"/>
                    </a:lnTo>
                    <a:lnTo>
                      <a:pt x="4812" y="2911"/>
                    </a:lnTo>
                    <a:lnTo>
                      <a:pt x="4471" y="2598"/>
                    </a:lnTo>
                    <a:lnTo>
                      <a:pt x="4135" y="2302"/>
                    </a:lnTo>
                    <a:lnTo>
                      <a:pt x="3804" y="2023"/>
                    </a:lnTo>
                    <a:lnTo>
                      <a:pt x="3476" y="1762"/>
                    </a:lnTo>
                    <a:lnTo>
                      <a:pt x="3152" y="1517"/>
                    </a:lnTo>
                    <a:lnTo>
                      <a:pt x="2831" y="1290"/>
                    </a:lnTo>
                    <a:lnTo>
                      <a:pt x="2512" y="1079"/>
                    </a:lnTo>
                    <a:lnTo>
                      <a:pt x="2197" y="886"/>
                    </a:lnTo>
                    <a:lnTo>
                      <a:pt x="1883" y="709"/>
                    </a:lnTo>
                    <a:lnTo>
                      <a:pt x="1571" y="550"/>
                    </a:lnTo>
                    <a:lnTo>
                      <a:pt x="1260" y="407"/>
                    </a:lnTo>
                    <a:lnTo>
                      <a:pt x="951" y="281"/>
                    </a:lnTo>
                    <a:lnTo>
                      <a:pt x="642" y="172"/>
                    </a:lnTo>
                    <a:lnTo>
                      <a:pt x="333" y="80"/>
                    </a:lnTo>
                    <a:lnTo>
                      <a:pt x="24" y="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 name="Group 20"/>
            <p:cNvGrpSpPr/>
            <p:nvPr/>
          </p:nvGrpSpPr>
          <p:grpSpPr>
            <a:xfrm>
              <a:off x="231840" y="4226040"/>
              <a:ext cx="2464560" cy="1282320"/>
              <a:chOff x="231840" y="4226040"/>
              <a:chExt cx="2464560" cy="1282320"/>
            </a:xfrm>
          </p:grpSpPr>
          <p:sp>
            <p:nvSpPr>
              <p:cNvPr id="31" name="Freeform 128"/>
              <p:cNvSpPr/>
              <p:nvPr/>
            </p:nvSpPr>
            <p:spPr>
              <a:xfrm>
                <a:off x="231840" y="4226040"/>
                <a:ext cx="2464560" cy="1282320"/>
              </a:xfrm>
              <a:custGeom>
                <a:avLst/>
                <a:gdLst/>
                <a:ahLst/>
                <a:rect l="l" t="t" r="r" b="b"/>
                <a:pathLst>
                  <a:path w="5158" h="3143">
                    <a:moveTo>
                      <a:pt x="0" y="0"/>
                    </a:moveTo>
                    <a:lnTo>
                      <a:pt x="0" y="9"/>
                    </a:lnTo>
                    <a:lnTo>
                      <a:pt x="105" y="24"/>
                    </a:lnTo>
                    <a:lnTo>
                      <a:pt x="385" y="80"/>
                    </a:lnTo>
                    <a:lnTo>
                      <a:pt x="665" y="151"/>
                    </a:lnTo>
                    <a:lnTo>
                      <a:pt x="946" y="239"/>
                    </a:lnTo>
                    <a:lnTo>
                      <a:pt x="1229" y="342"/>
                    </a:lnTo>
                    <a:lnTo>
                      <a:pt x="1513" y="462"/>
                    </a:lnTo>
                    <a:lnTo>
                      <a:pt x="1799" y="597"/>
                    </a:lnTo>
                    <a:lnTo>
                      <a:pt x="2087" y="749"/>
                    </a:lnTo>
                    <a:lnTo>
                      <a:pt x="2378" y="916"/>
                    </a:lnTo>
                    <a:lnTo>
                      <a:pt x="2671" y="1100"/>
                    </a:lnTo>
                    <a:lnTo>
                      <a:pt x="2968" y="1299"/>
                    </a:lnTo>
                    <a:lnTo>
                      <a:pt x="3267" y="1514"/>
                    </a:lnTo>
                    <a:lnTo>
                      <a:pt x="3571" y="1746"/>
                    </a:lnTo>
                    <a:lnTo>
                      <a:pt x="3878" y="1993"/>
                    </a:lnTo>
                    <a:lnTo>
                      <a:pt x="4189" y="2256"/>
                    </a:lnTo>
                    <a:lnTo>
                      <a:pt x="4505" y="2536"/>
                    </a:lnTo>
                    <a:lnTo>
                      <a:pt x="4826" y="2831"/>
                    </a:lnTo>
                    <a:lnTo>
                      <a:pt x="5151" y="3143"/>
                    </a:lnTo>
                    <a:lnTo>
                      <a:pt x="5158" y="3137"/>
                    </a:lnTo>
                    <a:lnTo>
                      <a:pt x="4832" y="2825"/>
                    </a:lnTo>
                    <a:lnTo>
                      <a:pt x="4511" y="2529"/>
                    </a:lnTo>
                    <a:lnTo>
                      <a:pt x="4195" y="2250"/>
                    </a:lnTo>
                    <a:lnTo>
                      <a:pt x="3883" y="1986"/>
                    </a:lnTo>
                    <a:lnTo>
                      <a:pt x="3576" y="1739"/>
                    </a:lnTo>
                    <a:lnTo>
                      <a:pt x="3273" y="1507"/>
                    </a:lnTo>
                    <a:lnTo>
                      <a:pt x="2973" y="1292"/>
                    </a:lnTo>
                    <a:lnTo>
                      <a:pt x="2676" y="1092"/>
                    </a:lnTo>
                    <a:lnTo>
                      <a:pt x="2382" y="909"/>
                    </a:lnTo>
                    <a:lnTo>
                      <a:pt x="2091" y="741"/>
                    </a:lnTo>
                    <a:lnTo>
                      <a:pt x="1803" y="589"/>
                    </a:lnTo>
                    <a:lnTo>
                      <a:pt x="1517" y="454"/>
                    </a:lnTo>
                    <a:lnTo>
                      <a:pt x="1232" y="334"/>
                    </a:lnTo>
                    <a:lnTo>
                      <a:pt x="949" y="231"/>
                    </a:lnTo>
                    <a:lnTo>
                      <a:pt x="667" y="143"/>
                    </a:lnTo>
                    <a:lnTo>
                      <a:pt x="386" y="71"/>
                    </a:lnTo>
                    <a:lnTo>
                      <a:pt x="106" y="1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 name="Group 21"/>
            <p:cNvGrpSpPr/>
            <p:nvPr/>
          </p:nvGrpSpPr>
          <p:grpSpPr>
            <a:xfrm>
              <a:off x="231840" y="3458880"/>
              <a:ext cx="2802240" cy="1711800"/>
              <a:chOff x="231840" y="3458880"/>
              <a:chExt cx="2802240" cy="1711800"/>
            </a:xfrm>
          </p:grpSpPr>
          <p:sp>
            <p:nvSpPr>
              <p:cNvPr id="33" name="Freeform 127"/>
              <p:cNvSpPr/>
              <p:nvPr/>
            </p:nvSpPr>
            <p:spPr>
              <a:xfrm>
                <a:off x="231840" y="3458880"/>
                <a:ext cx="2802240" cy="1711800"/>
              </a:xfrm>
              <a:custGeom>
                <a:avLst/>
                <a:gdLst/>
                <a:ahLst/>
                <a:rect l="l" t="t" r="r" b="b"/>
                <a:pathLst>
                  <a:path w="5865" h="4195">
                    <a:moveTo>
                      <a:pt x="0" y="0"/>
                    </a:moveTo>
                    <a:lnTo>
                      <a:pt x="0" y="21"/>
                    </a:lnTo>
                    <a:lnTo>
                      <a:pt x="587" y="424"/>
                    </a:lnTo>
                    <a:lnTo>
                      <a:pt x="1837" y="1295"/>
                    </a:lnTo>
                    <a:lnTo>
                      <a:pt x="3777" y="2678"/>
                    </a:lnTo>
                    <a:lnTo>
                      <a:pt x="5855" y="4195"/>
                    </a:lnTo>
                    <a:lnTo>
                      <a:pt x="5865" y="4181"/>
                    </a:lnTo>
                    <a:lnTo>
                      <a:pt x="3788" y="2664"/>
                    </a:lnTo>
                    <a:lnTo>
                      <a:pt x="1848" y="1280"/>
                    </a:lnTo>
                    <a:lnTo>
                      <a:pt x="597" y="409"/>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Group 22"/>
            <p:cNvGrpSpPr/>
            <p:nvPr/>
          </p:nvGrpSpPr>
          <p:grpSpPr>
            <a:xfrm>
              <a:off x="231840" y="3695760"/>
              <a:ext cx="2801520" cy="1473120"/>
              <a:chOff x="231840" y="3695760"/>
              <a:chExt cx="2801520" cy="1473120"/>
            </a:xfrm>
          </p:grpSpPr>
          <p:sp>
            <p:nvSpPr>
              <p:cNvPr id="35" name="Freeform 126"/>
              <p:cNvSpPr/>
              <p:nvPr/>
            </p:nvSpPr>
            <p:spPr>
              <a:xfrm>
                <a:off x="231840" y="3695760"/>
                <a:ext cx="2801520" cy="1473120"/>
              </a:xfrm>
              <a:custGeom>
                <a:avLst/>
                <a:gdLst/>
                <a:ahLst/>
                <a:rect l="l" t="t" r="r" b="b"/>
                <a:pathLst>
                  <a:path w="5863" h="3610">
                    <a:moveTo>
                      <a:pt x="0" y="0"/>
                    </a:moveTo>
                    <a:lnTo>
                      <a:pt x="0" y="10"/>
                    </a:lnTo>
                    <a:lnTo>
                      <a:pt x="445" y="223"/>
                    </a:lnTo>
                    <a:lnTo>
                      <a:pt x="1103" y="560"/>
                    </a:lnTo>
                    <a:lnTo>
                      <a:pt x="1761" y="919"/>
                    </a:lnTo>
                    <a:lnTo>
                      <a:pt x="2422" y="1302"/>
                    </a:lnTo>
                    <a:lnTo>
                      <a:pt x="3087" y="1710"/>
                    </a:lnTo>
                    <a:lnTo>
                      <a:pt x="3761" y="2144"/>
                    </a:lnTo>
                    <a:lnTo>
                      <a:pt x="4446" y="2604"/>
                    </a:lnTo>
                    <a:lnTo>
                      <a:pt x="5144" y="3093"/>
                    </a:lnTo>
                    <a:lnTo>
                      <a:pt x="5858" y="3610"/>
                    </a:lnTo>
                    <a:lnTo>
                      <a:pt x="5863" y="3603"/>
                    </a:lnTo>
                    <a:lnTo>
                      <a:pt x="5149" y="3085"/>
                    </a:lnTo>
                    <a:lnTo>
                      <a:pt x="4451" y="2597"/>
                    </a:lnTo>
                    <a:lnTo>
                      <a:pt x="3766" y="2136"/>
                    </a:lnTo>
                    <a:lnTo>
                      <a:pt x="3092" y="1703"/>
                    </a:lnTo>
                    <a:lnTo>
                      <a:pt x="2426" y="1295"/>
                    </a:lnTo>
                    <a:lnTo>
                      <a:pt x="1765" y="912"/>
                    </a:lnTo>
                    <a:lnTo>
                      <a:pt x="1107" y="552"/>
                    </a:lnTo>
                    <a:lnTo>
                      <a:pt x="449" y="215"/>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 name="Group 23"/>
            <p:cNvGrpSpPr/>
            <p:nvPr/>
          </p:nvGrpSpPr>
          <p:grpSpPr>
            <a:xfrm>
              <a:off x="231840" y="3858120"/>
              <a:ext cx="2801520" cy="1311120"/>
              <a:chOff x="231840" y="3858120"/>
              <a:chExt cx="2801520" cy="1311120"/>
            </a:xfrm>
          </p:grpSpPr>
          <p:sp>
            <p:nvSpPr>
              <p:cNvPr id="37" name="Freeform 125"/>
              <p:cNvSpPr/>
              <p:nvPr/>
            </p:nvSpPr>
            <p:spPr>
              <a:xfrm>
                <a:off x="231840" y="3858120"/>
                <a:ext cx="2801520" cy="1311120"/>
              </a:xfrm>
              <a:custGeom>
                <a:avLst/>
                <a:gdLst/>
                <a:ahLst/>
                <a:rect l="l" t="t" r="r" b="b"/>
                <a:pathLst>
                  <a:path w="5863" h="3213">
                    <a:moveTo>
                      <a:pt x="0" y="0"/>
                    </a:moveTo>
                    <a:lnTo>
                      <a:pt x="0" y="10"/>
                    </a:lnTo>
                    <a:lnTo>
                      <a:pt x="66" y="30"/>
                    </a:lnTo>
                    <a:lnTo>
                      <a:pt x="580" y="211"/>
                    </a:lnTo>
                    <a:lnTo>
                      <a:pt x="1094" y="412"/>
                    </a:lnTo>
                    <a:lnTo>
                      <a:pt x="1607" y="635"/>
                    </a:lnTo>
                    <a:lnTo>
                      <a:pt x="2121" y="879"/>
                    </a:lnTo>
                    <a:lnTo>
                      <a:pt x="2637" y="1145"/>
                    </a:lnTo>
                    <a:lnTo>
                      <a:pt x="3158" y="1433"/>
                    </a:lnTo>
                    <a:lnTo>
                      <a:pt x="3683" y="1743"/>
                    </a:lnTo>
                    <a:lnTo>
                      <a:pt x="4214" y="2076"/>
                    </a:lnTo>
                    <a:lnTo>
                      <a:pt x="4753" y="2431"/>
                    </a:lnTo>
                    <a:lnTo>
                      <a:pt x="5300" y="2811"/>
                    </a:lnTo>
                    <a:lnTo>
                      <a:pt x="5858" y="3213"/>
                    </a:lnTo>
                    <a:lnTo>
                      <a:pt x="5863" y="3206"/>
                    </a:lnTo>
                    <a:lnTo>
                      <a:pt x="5305" y="2803"/>
                    </a:lnTo>
                    <a:lnTo>
                      <a:pt x="4758" y="2424"/>
                    </a:lnTo>
                    <a:lnTo>
                      <a:pt x="4219" y="2068"/>
                    </a:lnTo>
                    <a:lnTo>
                      <a:pt x="3687" y="1735"/>
                    </a:lnTo>
                    <a:lnTo>
                      <a:pt x="3162" y="1425"/>
                    </a:lnTo>
                    <a:lnTo>
                      <a:pt x="2642" y="1137"/>
                    </a:lnTo>
                    <a:lnTo>
                      <a:pt x="2125" y="871"/>
                    </a:lnTo>
                    <a:lnTo>
                      <a:pt x="1610" y="627"/>
                    </a:lnTo>
                    <a:lnTo>
                      <a:pt x="1097" y="404"/>
                    </a:lnTo>
                    <a:lnTo>
                      <a:pt x="583" y="202"/>
                    </a:lnTo>
                    <a:lnTo>
                      <a:pt x="68"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Group 24"/>
            <p:cNvGrpSpPr/>
            <p:nvPr/>
          </p:nvGrpSpPr>
          <p:grpSpPr>
            <a:xfrm>
              <a:off x="231840" y="3959640"/>
              <a:ext cx="2801520" cy="1209600"/>
              <a:chOff x="231840" y="3959640"/>
              <a:chExt cx="2801520" cy="1209600"/>
            </a:xfrm>
          </p:grpSpPr>
          <p:sp>
            <p:nvSpPr>
              <p:cNvPr id="39" name="Freeform 124"/>
              <p:cNvSpPr/>
              <p:nvPr/>
            </p:nvSpPr>
            <p:spPr>
              <a:xfrm>
                <a:off x="231840" y="3959640"/>
                <a:ext cx="2801520" cy="1209600"/>
              </a:xfrm>
              <a:custGeom>
                <a:avLst/>
                <a:gdLst/>
                <a:ahLst/>
                <a:rect l="l" t="t" r="r" b="b"/>
                <a:pathLst>
                  <a:path w="5863" h="2965">
                    <a:moveTo>
                      <a:pt x="0" y="0"/>
                    </a:moveTo>
                    <a:lnTo>
                      <a:pt x="0" y="9"/>
                    </a:lnTo>
                    <a:lnTo>
                      <a:pt x="101" y="31"/>
                    </a:lnTo>
                    <a:lnTo>
                      <a:pt x="498" y="133"/>
                    </a:lnTo>
                    <a:lnTo>
                      <a:pt x="896" y="252"/>
                    </a:lnTo>
                    <a:lnTo>
                      <a:pt x="1293" y="387"/>
                    </a:lnTo>
                    <a:lnTo>
                      <a:pt x="1691" y="538"/>
                    </a:lnTo>
                    <a:lnTo>
                      <a:pt x="2091" y="705"/>
                    </a:lnTo>
                    <a:lnTo>
                      <a:pt x="2493" y="889"/>
                    </a:lnTo>
                    <a:lnTo>
                      <a:pt x="2898" y="1090"/>
                    </a:lnTo>
                    <a:lnTo>
                      <a:pt x="3306" y="1307"/>
                    </a:lnTo>
                    <a:lnTo>
                      <a:pt x="3718" y="1541"/>
                    </a:lnTo>
                    <a:lnTo>
                      <a:pt x="4134" y="1791"/>
                    </a:lnTo>
                    <a:lnTo>
                      <a:pt x="4556" y="2059"/>
                    </a:lnTo>
                    <a:lnTo>
                      <a:pt x="4983" y="2344"/>
                    </a:lnTo>
                    <a:lnTo>
                      <a:pt x="5417" y="2645"/>
                    </a:lnTo>
                    <a:lnTo>
                      <a:pt x="5858" y="2964"/>
                    </a:lnTo>
                    <a:lnTo>
                      <a:pt x="5863" y="2957"/>
                    </a:lnTo>
                    <a:lnTo>
                      <a:pt x="5422" y="2638"/>
                    </a:lnTo>
                    <a:lnTo>
                      <a:pt x="4988" y="2336"/>
                    </a:lnTo>
                    <a:lnTo>
                      <a:pt x="4561" y="2052"/>
                    </a:lnTo>
                    <a:lnTo>
                      <a:pt x="4139" y="1784"/>
                    </a:lnTo>
                    <a:lnTo>
                      <a:pt x="3722" y="1533"/>
                    </a:lnTo>
                    <a:lnTo>
                      <a:pt x="3310" y="1299"/>
                    </a:lnTo>
                    <a:lnTo>
                      <a:pt x="2902" y="1082"/>
                    </a:lnTo>
                    <a:lnTo>
                      <a:pt x="2497" y="881"/>
                    </a:lnTo>
                    <a:lnTo>
                      <a:pt x="2095" y="697"/>
                    </a:lnTo>
                    <a:lnTo>
                      <a:pt x="1695" y="530"/>
                    </a:lnTo>
                    <a:lnTo>
                      <a:pt x="1296" y="378"/>
                    </a:lnTo>
                    <a:lnTo>
                      <a:pt x="898" y="243"/>
                    </a:lnTo>
                    <a:lnTo>
                      <a:pt x="501" y="125"/>
                    </a:lnTo>
                    <a:lnTo>
                      <a:pt x="103"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 name="Group 25"/>
            <p:cNvGrpSpPr/>
            <p:nvPr/>
          </p:nvGrpSpPr>
          <p:grpSpPr>
            <a:xfrm>
              <a:off x="231840" y="4021920"/>
              <a:ext cx="2801520" cy="1146960"/>
              <a:chOff x="231840" y="4021920"/>
              <a:chExt cx="2801520" cy="1146960"/>
            </a:xfrm>
          </p:grpSpPr>
          <p:sp>
            <p:nvSpPr>
              <p:cNvPr id="41" name="Freeform 123"/>
              <p:cNvSpPr/>
              <p:nvPr/>
            </p:nvSpPr>
            <p:spPr>
              <a:xfrm>
                <a:off x="231840" y="4021920"/>
                <a:ext cx="2801520" cy="1146960"/>
              </a:xfrm>
              <a:custGeom>
                <a:avLst/>
                <a:gdLst/>
                <a:ahLst/>
                <a:rect l="l" t="t" r="r" b="b"/>
                <a:pathLst>
                  <a:path w="5863" h="2811">
                    <a:moveTo>
                      <a:pt x="0" y="0"/>
                    </a:moveTo>
                    <a:lnTo>
                      <a:pt x="0" y="9"/>
                    </a:lnTo>
                    <a:lnTo>
                      <a:pt x="46" y="16"/>
                    </a:lnTo>
                    <a:lnTo>
                      <a:pt x="393" y="81"/>
                    </a:lnTo>
                    <a:lnTo>
                      <a:pt x="740" y="160"/>
                    </a:lnTo>
                    <a:lnTo>
                      <a:pt x="1087" y="254"/>
                    </a:lnTo>
                    <a:lnTo>
                      <a:pt x="1436" y="362"/>
                    </a:lnTo>
                    <a:lnTo>
                      <a:pt x="1786" y="485"/>
                    </a:lnTo>
                    <a:lnTo>
                      <a:pt x="2138" y="623"/>
                    </a:lnTo>
                    <a:lnTo>
                      <a:pt x="2492" y="775"/>
                    </a:lnTo>
                    <a:lnTo>
                      <a:pt x="2849" y="942"/>
                    </a:lnTo>
                    <a:lnTo>
                      <a:pt x="3210" y="1124"/>
                    </a:lnTo>
                    <a:lnTo>
                      <a:pt x="3574" y="1321"/>
                    </a:lnTo>
                    <a:lnTo>
                      <a:pt x="3942" y="1532"/>
                    </a:lnTo>
                    <a:lnTo>
                      <a:pt x="4314" y="1758"/>
                    </a:lnTo>
                    <a:lnTo>
                      <a:pt x="4692" y="1999"/>
                    </a:lnTo>
                    <a:lnTo>
                      <a:pt x="5075" y="2255"/>
                    </a:lnTo>
                    <a:lnTo>
                      <a:pt x="5463" y="2526"/>
                    </a:lnTo>
                    <a:lnTo>
                      <a:pt x="5858" y="2811"/>
                    </a:lnTo>
                    <a:lnTo>
                      <a:pt x="5863" y="2804"/>
                    </a:lnTo>
                    <a:lnTo>
                      <a:pt x="5468" y="2518"/>
                    </a:lnTo>
                    <a:lnTo>
                      <a:pt x="5080" y="2248"/>
                    </a:lnTo>
                    <a:lnTo>
                      <a:pt x="4697" y="1992"/>
                    </a:lnTo>
                    <a:lnTo>
                      <a:pt x="4319" y="1751"/>
                    </a:lnTo>
                    <a:lnTo>
                      <a:pt x="3946" y="1524"/>
                    </a:lnTo>
                    <a:lnTo>
                      <a:pt x="3578" y="1313"/>
                    </a:lnTo>
                    <a:lnTo>
                      <a:pt x="3214" y="1116"/>
                    </a:lnTo>
                    <a:lnTo>
                      <a:pt x="2853" y="935"/>
                    </a:lnTo>
                    <a:lnTo>
                      <a:pt x="2496" y="767"/>
                    </a:lnTo>
                    <a:lnTo>
                      <a:pt x="2141" y="615"/>
                    </a:lnTo>
                    <a:lnTo>
                      <a:pt x="1789" y="477"/>
                    </a:lnTo>
                    <a:lnTo>
                      <a:pt x="1438" y="354"/>
                    </a:lnTo>
                    <a:lnTo>
                      <a:pt x="1090" y="246"/>
                    </a:lnTo>
                    <a:lnTo>
                      <a:pt x="742" y="152"/>
                    </a:lnTo>
                    <a:lnTo>
                      <a:pt x="395" y="72"/>
                    </a:lnTo>
                    <a:lnTo>
                      <a:pt x="48" y="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 name="Group 26"/>
            <p:cNvGrpSpPr/>
            <p:nvPr/>
          </p:nvGrpSpPr>
          <p:grpSpPr>
            <a:xfrm>
              <a:off x="231840" y="4077720"/>
              <a:ext cx="2801520" cy="1091520"/>
              <a:chOff x="231840" y="4077720"/>
              <a:chExt cx="2801520" cy="1091520"/>
            </a:xfrm>
          </p:grpSpPr>
          <p:sp>
            <p:nvSpPr>
              <p:cNvPr id="43" name="Freeform 122"/>
              <p:cNvSpPr/>
              <p:nvPr/>
            </p:nvSpPr>
            <p:spPr>
              <a:xfrm>
                <a:off x="231840" y="4077720"/>
                <a:ext cx="2801520" cy="1091520"/>
              </a:xfrm>
              <a:custGeom>
                <a:avLst/>
                <a:gdLst/>
                <a:ahLst/>
                <a:rect l="l" t="t" r="r" b="b"/>
                <a:pathLst>
                  <a:path w="5863" h="2675">
                    <a:moveTo>
                      <a:pt x="0" y="0"/>
                    </a:moveTo>
                    <a:lnTo>
                      <a:pt x="0" y="9"/>
                    </a:lnTo>
                    <a:lnTo>
                      <a:pt x="244" y="35"/>
                    </a:lnTo>
                    <a:lnTo>
                      <a:pt x="553" y="82"/>
                    </a:lnTo>
                    <a:lnTo>
                      <a:pt x="863" y="143"/>
                    </a:lnTo>
                    <a:lnTo>
                      <a:pt x="1175" y="217"/>
                    </a:lnTo>
                    <a:lnTo>
                      <a:pt x="1489" y="305"/>
                    </a:lnTo>
                    <a:lnTo>
                      <a:pt x="1804" y="406"/>
                    </a:lnTo>
                    <a:lnTo>
                      <a:pt x="2122" y="521"/>
                    </a:lnTo>
                    <a:lnTo>
                      <a:pt x="2442" y="649"/>
                    </a:lnTo>
                    <a:lnTo>
                      <a:pt x="2765" y="790"/>
                    </a:lnTo>
                    <a:lnTo>
                      <a:pt x="3092" y="946"/>
                    </a:lnTo>
                    <a:lnTo>
                      <a:pt x="3422" y="1114"/>
                    </a:lnTo>
                    <a:lnTo>
                      <a:pt x="3755" y="1297"/>
                    </a:lnTo>
                    <a:lnTo>
                      <a:pt x="4093" y="1492"/>
                    </a:lnTo>
                    <a:lnTo>
                      <a:pt x="4436" y="1702"/>
                    </a:lnTo>
                    <a:lnTo>
                      <a:pt x="4783" y="1925"/>
                    </a:lnTo>
                    <a:lnTo>
                      <a:pt x="5136" y="2161"/>
                    </a:lnTo>
                    <a:lnTo>
                      <a:pt x="5494" y="2411"/>
                    </a:lnTo>
                    <a:lnTo>
                      <a:pt x="5858" y="2674"/>
                    </a:lnTo>
                    <a:lnTo>
                      <a:pt x="5863" y="2667"/>
                    </a:lnTo>
                    <a:lnTo>
                      <a:pt x="5499" y="2404"/>
                    </a:lnTo>
                    <a:lnTo>
                      <a:pt x="5141" y="2154"/>
                    </a:lnTo>
                    <a:lnTo>
                      <a:pt x="4788" y="1917"/>
                    </a:lnTo>
                    <a:lnTo>
                      <a:pt x="4441" y="1694"/>
                    </a:lnTo>
                    <a:lnTo>
                      <a:pt x="4098" y="1485"/>
                    </a:lnTo>
                    <a:lnTo>
                      <a:pt x="3760" y="1289"/>
                    </a:lnTo>
                    <a:lnTo>
                      <a:pt x="3426" y="1107"/>
                    </a:lnTo>
                    <a:lnTo>
                      <a:pt x="3095" y="938"/>
                    </a:lnTo>
                    <a:lnTo>
                      <a:pt x="2769" y="782"/>
                    </a:lnTo>
                    <a:lnTo>
                      <a:pt x="2445" y="641"/>
                    </a:lnTo>
                    <a:lnTo>
                      <a:pt x="2125" y="512"/>
                    </a:lnTo>
                    <a:lnTo>
                      <a:pt x="1807" y="398"/>
                    </a:lnTo>
                    <a:lnTo>
                      <a:pt x="1491" y="296"/>
                    </a:lnTo>
                    <a:lnTo>
                      <a:pt x="1177" y="209"/>
                    </a:lnTo>
                    <a:lnTo>
                      <a:pt x="865" y="135"/>
                    </a:lnTo>
                    <a:lnTo>
                      <a:pt x="555" y="74"/>
                    </a:lnTo>
                    <a:lnTo>
                      <a:pt x="245" y="2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 name="Group 27"/>
            <p:cNvGrpSpPr/>
            <p:nvPr/>
          </p:nvGrpSpPr>
          <p:grpSpPr>
            <a:xfrm>
              <a:off x="231840" y="4128480"/>
              <a:ext cx="2801520" cy="1040400"/>
              <a:chOff x="231840" y="4128480"/>
              <a:chExt cx="2801520" cy="1040400"/>
            </a:xfrm>
          </p:grpSpPr>
          <p:sp>
            <p:nvSpPr>
              <p:cNvPr id="45" name="Freeform 121"/>
              <p:cNvSpPr/>
              <p:nvPr/>
            </p:nvSpPr>
            <p:spPr>
              <a:xfrm>
                <a:off x="231840" y="4128480"/>
                <a:ext cx="2801520" cy="1040400"/>
              </a:xfrm>
              <a:custGeom>
                <a:avLst/>
                <a:gdLst/>
                <a:ahLst/>
                <a:rect l="l" t="t" r="r" b="b"/>
                <a:pathLst>
                  <a:path w="5863" h="2550">
                    <a:moveTo>
                      <a:pt x="0" y="0"/>
                    </a:moveTo>
                    <a:lnTo>
                      <a:pt x="0" y="9"/>
                    </a:lnTo>
                    <a:lnTo>
                      <a:pt x="85" y="11"/>
                    </a:lnTo>
                    <a:lnTo>
                      <a:pt x="364" y="30"/>
                    </a:lnTo>
                    <a:lnTo>
                      <a:pt x="644" y="62"/>
                    </a:lnTo>
                    <a:lnTo>
                      <a:pt x="926" y="107"/>
                    </a:lnTo>
                    <a:lnTo>
                      <a:pt x="1209" y="164"/>
                    </a:lnTo>
                    <a:lnTo>
                      <a:pt x="1495" y="235"/>
                    </a:lnTo>
                    <a:lnTo>
                      <a:pt x="1783" y="318"/>
                    </a:lnTo>
                    <a:lnTo>
                      <a:pt x="2074" y="413"/>
                    </a:lnTo>
                    <a:lnTo>
                      <a:pt x="2368" y="522"/>
                    </a:lnTo>
                    <a:lnTo>
                      <a:pt x="2665" y="643"/>
                    </a:lnTo>
                    <a:lnTo>
                      <a:pt x="2965" y="777"/>
                    </a:lnTo>
                    <a:lnTo>
                      <a:pt x="3268" y="923"/>
                    </a:lnTo>
                    <a:lnTo>
                      <a:pt x="3576" y="1082"/>
                    </a:lnTo>
                    <a:lnTo>
                      <a:pt x="3887" y="1254"/>
                    </a:lnTo>
                    <a:lnTo>
                      <a:pt x="4203" y="1439"/>
                    </a:lnTo>
                    <a:lnTo>
                      <a:pt x="4524" y="1636"/>
                    </a:lnTo>
                    <a:lnTo>
                      <a:pt x="4850" y="1845"/>
                    </a:lnTo>
                    <a:lnTo>
                      <a:pt x="5180" y="2068"/>
                    </a:lnTo>
                    <a:lnTo>
                      <a:pt x="5516" y="2303"/>
                    </a:lnTo>
                    <a:lnTo>
                      <a:pt x="5858" y="2550"/>
                    </a:lnTo>
                    <a:lnTo>
                      <a:pt x="5863" y="2543"/>
                    </a:lnTo>
                    <a:lnTo>
                      <a:pt x="5521" y="2296"/>
                    </a:lnTo>
                    <a:lnTo>
                      <a:pt x="5185" y="2061"/>
                    </a:lnTo>
                    <a:lnTo>
                      <a:pt x="4854" y="1838"/>
                    </a:lnTo>
                    <a:lnTo>
                      <a:pt x="4529" y="1628"/>
                    </a:lnTo>
                    <a:lnTo>
                      <a:pt x="4208" y="1431"/>
                    </a:lnTo>
                    <a:lnTo>
                      <a:pt x="3892" y="1246"/>
                    </a:lnTo>
                    <a:lnTo>
                      <a:pt x="3580" y="1075"/>
                    </a:lnTo>
                    <a:lnTo>
                      <a:pt x="3272" y="915"/>
                    </a:lnTo>
                    <a:lnTo>
                      <a:pt x="2968" y="769"/>
                    </a:lnTo>
                    <a:lnTo>
                      <a:pt x="2668" y="635"/>
                    </a:lnTo>
                    <a:lnTo>
                      <a:pt x="2371" y="514"/>
                    </a:lnTo>
                    <a:lnTo>
                      <a:pt x="2077" y="405"/>
                    </a:lnTo>
                    <a:lnTo>
                      <a:pt x="1786" y="309"/>
                    </a:lnTo>
                    <a:lnTo>
                      <a:pt x="1498" y="226"/>
                    </a:lnTo>
                    <a:lnTo>
                      <a:pt x="1211" y="156"/>
                    </a:lnTo>
                    <a:lnTo>
                      <a:pt x="927" y="98"/>
                    </a:lnTo>
                    <a:lnTo>
                      <a:pt x="645" y="53"/>
                    </a:lnTo>
                    <a:lnTo>
                      <a:pt x="364" y="21"/>
                    </a:lnTo>
                    <a:lnTo>
                      <a:pt x="85" y="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Group 28"/>
            <p:cNvGrpSpPr/>
            <p:nvPr/>
          </p:nvGrpSpPr>
          <p:grpSpPr>
            <a:xfrm>
              <a:off x="231840" y="3319560"/>
              <a:ext cx="3084840" cy="1467720"/>
              <a:chOff x="231840" y="3319560"/>
              <a:chExt cx="3084840" cy="1467720"/>
            </a:xfrm>
          </p:grpSpPr>
          <p:sp>
            <p:nvSpPr>
              <p:cNvPr id="47" name="Freeform 120"/>
              <p:cNvSpPr/>
              <p:nvPr/>
            </p:nvSpPr>
            <p:spPr>
              <a:xfrm>
                <a:off x="231840" y="3319560"/>
                <a:ext cx="3084840" cy="1467720"/>
              </a:xfrm>
              <a:custGeom>
                <a:avLst/>
                <a:gdLst/>
                <a:ahLst/>
                <a:rect l="l" t="t" r="r" b="b"/>
                <a:pathLst>
                  <a:path w="6456" h="3597">
                    <a:moveTo>
                      <a:pt x="0" y="0"/>
                    </a:moveTo>
                    <a:lnTo>
                      <a:pt x="0" y="10"/>
                    </a:lnTo>
                    <a:lnTo>
                      <a:pt x="130" y="85"/>
                    </a:lnTo>
                    <a:lnTo>
                      <a:pt x="2789" y="1588"/>
                    </a:lnTo>
                    <a:lnTo>
                      <a:pt x="6452" y="3598"/>
                    </a:lnTo>
                    <a:lnTo>
                      <a:pt x="6456" y="3590"/>
                    </a:lnTo>
                    <a:lnTo>
                      <a:pt x="2793" y="1581"/>
                    </a:lnTo>
                    <a:lnTo>
                      <a:pt x="135" y="78"/>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 name="Group 29"/>
            <p:cNvGrpSpPr/>
            <p:nvPr/>
          </p:nvGrpSpPr>
          <p:grpSpPr>
            <a:xfrm>
              <a:off x="231840" y="3560400"/>
              <a:ext cx="3084840" cy="1227240"/>
              <a:chOff x="231840" y="3560400"/>
              <a:chExt cx="3084840" cy="1227240"/>
            </a:xfrm>
          </p:grpSpPr>
          <p:sp>
            <p:nvSpPr>
              <p:cNvPr id="49" name="Freeform 119"/>
              <p:cNvSpPr/>
              <p:nvPr/>
            </p:nvSpPr>
            <p:spPr>
              <a:xfrm>
                <a:off x="231840" y="3560400"/>
                <a:ext cx="3084840" cy="1227240"/>
              </a:xfrm>
              <a:custGeom>
                <a:avLst/>
                <a:gdLst/>
                <a:ahLst/>
                <a:rect l="l" t="t" r="r" b="b"/>
                <a:pathLst>
                  <a:path w="6456" h="3008">
                    <a:moveTo>
                      <a:pt x="0" y="0"/>
                    </a:moveTo>
                    <a:lnTo>
                      <a:pt x="0" y="9"/>
                    </a:lnTo>
                    <a:lnTo>
                      <a:pt x="638" y="252"/>
                    </a:lnTo>
                    <a:lnTo>
                      <a:pt x="1332" y="532"/>
                    </a:lnTo>
                    <a:lnTo>
                      <a:pt x="2030" y="828"/>
                    </a:lnTo>
                    <a:lnTo>
                      <a:pt x="2735" y="1142"/>
                    </a:lnTo>
                    <a:lnTo>
                      <a:pt x="3449" y="1474"/>
                    </a:lnTo>
                    <a:lnTo>
                      <a:pt x="4175" y="1826"/>
                    </a:lnTo>
                    <a:lnTo>
                      <a:pt x="4915" y="2198"/>
                    </a:lnTo>
                    <a:lnTo>
                      <a:pt x="5673" y="2592"/>
                    </a:lnTo>
                    <a:lnTo>
                      <a:pt x="6452" y="3008"/>
                    </a:lnTo>
                    <a:lnTo>
                      <a:pt x="6456" y="3000"/>
                    </a:lnTo>
                    <a:lnTo>
                      <a:pt x="5677" y="2584"/>
                    </a:lnTo>
                    <a:lnTo>
                      <a:pt x="4919" y="2190"/>
                    </a:lnTo>
                    <a:lnTo>
                      <a:pt x="4178" y="1818"/>
                    </a:lnTo>
                    <a:lnTo>
                      <a:pt x="3453" y="1466"/>
                    </a:lnTo>
                    <a:lnTo>
                      <a:pt x="2739" y="1134"/>
                    </a:lnTo>
                    <a:lnTo>
                      <a:pt x="2034" y="820"/>
                    </a:lnTo>
                    <a:lnTo>
                      <a:pt x="1336" y="523"/>
                    </a:lnTo>
                    <a:lnTo>
                      <a:pt x="641" y="244"/>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 name="Group 30"/>
            <p:cNvGrpSpPr/>
            <p:nvPr/>
          </p:nvGrpSpPr>
          <p:grpSpPr>
            <a:xfrm>
              <a:off x="231840" y="3730680"/>
              <a:ext cx="3085560" cy="1058760"/>
              <a:chOff x="231840" y="3730680"/>
              <a:chExt cx="3085560" cy="1058760"/>
            </a:xfrm>
          </p:grpSpPr>
          <p:sp>
            <p:nvSpPr>
              <p:cNvPr id="51" name="Freeform 118"/>
              <p:cNvSpPr/>
              <p:nvPr/>
            </p:nvSpPr>
            <p:spPr>
              <a:xfrm>
                <a:off x="231840" y="3730680"/>
                <a:ext cx="3085560" cy="1058760"/>
              </a:xfrm>
              <a:custGeom>
                <a:avLst/>
                <a:gdLst/>
                <a:ahLst/>
                <a:rect l="l" t="t" r="r" b="b"/>
                <a:pathLst>
                  <a:path w="6458" h="2595">
                    <a:moveTo>
                      <a:pt x="0" y="0"/>
                    </a:moveTo>
                    <a:lnTo>
                      <a:pt x="0" y="18"/>
                    </a:lnTo>
                    <a:lnTo>
                      <a:pt x="504" y="140"/>
                    </a:lnTo>
                    <a:lnTo>
                      <a:pt x="1021" y="280"/>
                    </a:lnTo>
                    <a:lnTo>
                      <a:pt x="1540" y="437"/>
                    </a:lnTo>
                    <a:lnTo>
                      <a:pt x="2061" y="609"/>
                    </a:lnTo>
                    <a:lnTo>
                      <a:pt x="2585" y="798"/>
                    </a:lnTo>
                    <a:lnTo>
                      <a:pt x="3114" y="1003"/>
                    </a:lnTo>
                    <a:lnTo>
                      <a:pt x="3648" y="1225"/>
                    </a:lnTo>
                    <a:lnTo>
                      <a:pt x="4190" y="1464"/>
                    </a:lnTo>
                    <a:lnTo>
                      <a:pt x="4740" y="1721"/>
                    </a:lnTo>
                    <a:lnTo>
                      <a:pt x="5299" y="1994"/>
                    </a:lnTo>
                    <a:lnTo>
                      <a:pt x="5869" y="2286"/>
                    </a:lnTo>
                    <a:lnTo>
                      <a:pt x="6450" y="2595"/>
                    </a:lnTo>
                    <a:lnTo>
                      <a:pt x="6458" y="2579"/>
                    </a:lnTo>
                    <a:lnTo>
                      <a:pt x="5877" y="2270"/>
                    </a:lnTo>
                    <a:lnTo>
                      <a:pt x="5307" y="1979"/>
                    </a:lnTo>
                    <a:lnTo>
                      <a:pt x="4748" y="1705"/>
                    </a:lnTo>
                    <a:lnTo>
                      <a:pt x="4197" y="1448"/>
                    </a:lnTo>
                    <a:lnTo>
                      <a:pt x="3655" y="1209"/>
                    </a:lnTo>
                    <a:lnTo>
                      <a:pt x="3120" y="987"/>
                    </a:lnTo>
                    <a:lnTo>
                      <a:pt x="2591" y="781"/>
                    </a:lnTo>
                    <a:lnTo>
                      <a:pt x="2066" y="592"/>
                    </a:lnTo>
                    <a:lnTo>
                      <a:pt x="1545" y="420"/>
                    </a:lnTo>
                    <a:lnTo>
                      <a:pt x="1026" y="263"/>
                    </a:lnTo>
                    <a:lnTo>
                      <a:pt x="509" y="12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 name="Group 31"/>
            <p:cNvGrpSpPr/>
            <p:nvPr/>
          </p:nvGrpSpPr>
          <p:grpSpPr>
            <a:xfrm>
              <a:off x="231840" y="3842640"/>
              <a:ext cx="3084840" cy="945000"/>
              <a:chOff x="231840" y="3842640"/>
              <a:chExt cx="3084840" cy="945000"/>
            </a:xfrm>
          </p:grpSpPr>
          <p:sp>
            <p:nvSpPr>
              <p:cNvPr id="53" name="Freeform 117"/>
              <p:cNvSpPr/>
              <p:nvPr/>
            </p:nvSpPr>
            <p:spPr>
              <a:xfrm>
                <a:off x="231840" y="3842640"/>
                <a:ext cx="3084840" cy="945000"/>
              </a:xfrm>
              <a:custGeom>
                <a:avLst/>
                <a:gdLst/>
                <a:ahLst/>
                <a:rect l="l" t="t" r="r" b="b"/>
                <a:pathLst>
                  <a:path w="6456" h="2316">
                    <a:moveTo>
                      <a:pt x="0" y="0"/>
                    </a:moveTo>
                    <a:lnTo>
                      <a:pt x="0" y="9"/>
                    </a:lnTo>
                    <a:lnTo>
                      <a:pt x="309" y="51"/>
                    </a:lnTo>
                    <a:lnTo>
                      <a:pt x="697" y="117"/>
                    </a:lnTo>
                    <a:lnTo>
                      <a:pt x="1086" y="194"/>
                    </a:lnTo>
                    <a:lnTo>
                      <a:pt x="1476" y="284"/>
                    </a:lnTo>
                    <a:lnTo>
                      <a:pt x="1868" y="386"/>
                    </a:lnTo>
                    <a:lnTo>
                      <a:pt x="2262" y="500"/>
                    </a:lnTo>
                    <a:lnTo>
                      <a:pt x="2660" y="626"/>
                    </a:lnTo>
                    <a:lnTo>
                      <a:pt x="3061" y="764"/>
                    </a:lnTo>
                    <a:lnTo>
                      <a:pt x="3466" y="915"/>
                    </a:lnTo>
                    <a:lnTo>
                      <a:pt x="3875" y="1078"/>
                    </a:lnTo>
                    <a:lnTo>
                      <a:pt x="4289" y="1253"/>
                    </a:lnTo>
                    <a:lnTo>
                      <a:pt x="4709" y="1441"/>
                    </a:lnTo>
                    <a:lnTo>
                      <a:pt x="5134" y="1641"/>
                    </a:lnTo>
                    <a:lnTo>
                      <a:pt x="5566" y="1853"/>
                    </a:lnTo>
                    <a:lnTo>
                      <a:pt x="6005" y="2078"/>
                    </a:lnTo>
                    <a:lnTo>
                      <a:pt x="6452" y="2316"/>
                    </a:lnTo>
                    <a:lnTo>
                      <a:pt x="6456" y="2308"/>
                    </a:lnTo>
                    <a:lnTo>
                      <a:pt x="6009" y="2070"/>
                    </a:lnTo>
                    <a:lnTo>
                      <a:pt x="5570" y="1845"/>
                    </a:lnTo>
                    <a:lnTo>
                      <a:pt x="5138" y="1633"/>
                    </a:lnTo>
                    <a:lnTo>
                      <a:pt x="4712" y="1433"/>
                    </a:lnTo>
                    <a:lnTo>
                      <a:pt x="4293" y="1245"/>
                    </a:lnTo>
                    <a:lnTo>
                      <a:pt x="3878" y="1069"/>
                    </a:lnTo>
                    <a:lnTo>
                      <a:pt x="3469" y="907"/>
                    </a:lnTo>
                    <a:lnTo>
                      <a:pt x="3064" y="756"/>
                    </a:lnTo>
                    <a:lnTo>
                      <a:pt x="2663" y="617"/>
                    </a:lnTo>
                    <a:lnTo>
                      <a:pt x="2265" y="491"/>
                    </a:lnTo>
                    <a:lnTo>
                      <a:pt x="1870" y="377"/>
                    </a:lnTo>
                    <a:lnTo>
                      <a:pt x="1478" y="275"/>
                    </a:lnTo>
                    <a:lnTo>
                      <a:pt x="1087" y="186"/>
                    </a:lnTo>
                    <a:lnTo>
                      <a:pt x="698" y="108"/>
                    </a:lnTo>
                    <a:lnTo>
                      <a:pt x="310" y="4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32"/>
            <p:cNvGrpSpPr/>
            <p:nvPr/>
          </p:nvGrpSpPr>
          <p:grpSpPr>
            <a:xfrm>
              <a:off x="231840" y="3910680"/>
              <a:ext cx="3085560" cy="878400"/>
              <a:chOff x="231840" y="3910680"/>
              <a:chExt cx="3085560" cy="878400"/>
            </a:xfrm>
          </p:grpSpPr>
          <p:sp>
            <p:nvSpPr>
              <p:cNvPr id="55" name="Freeform 116"/>
              <p:cNvSpPr/>
              <p:nvPr/>
            </p:nvSpPr>
            <p:spPr>
              <a:xfrm>
                <a:off x="231840" y="3910680"/>
                <a:ext cx="3085560" cy="878400"/>
              </a:xfrm>
              <a:custGeom>
                <a:avLst/>
                <a:gdLst/>
                <a:ahLst/>
                <a:rect l="l" t="t" r="r" b="b"/>
                <a:pathLst>
                  <a:path w="6458" h="2153">
                    <a:moveTo>
                      <a:pt x="0" y="0"/>
                    </a:moveTo>
                    <a:lnTo>
                      <a:pt x="0" y="18"/>
                    </a:lnTo>
                    <a:lnTo>
                      <a:pt x="27" y="19"/>
                    </a:lnTo>
                    <a:lnTo>
                      <a:pt x="361" y="46"/>
                    </a:lnTo>
                    <a:lnTo>
                      <a:pt x="696" y="84"/>
                    </a:lnTo>
                    <a:lnTo>
                      <a:pt x="1032" y="132"/>
                    </a:lnTo>
                    <a:lnTo>
                      <a:pt x="1369" y="192"/>
                    </a:lnTo>
                    <a:lnTo>
                      <a:pt x="1709" y="262"/>
                    </a:lnTo>
                    <a:lnTo>
                      <a:pt x="2050" y="342"/>
                    </a:lnTo>
                    <a:lnTo>
                      <a:pt x="2394" y="434"/>
                    </a:lnTo>
                    <a:lnTo>
                      <a:pt x="2742" y="536"/>
                    </a:lnTo>
                    <a:lnTo>
                      <a:pt x="3092" y="649"/>
                    </a:lnTo>
                    <a:lnTo>
                      <a:pt x="3446" y="773"/>
                    </a:lnTo>
                    <a:lnTo>
                      <a:pt x="3804" y="908"/>
                    </a:lnTo>
                    <a:lnTo>
                      <a:pt x="4167" y="1054"/>
                    </a:lnTo>
                    <a:lnTo>
                      <a:pt x="4533" y="1210"/>
                    </a:lnTo>
                    <a:lnTo>
                      <a:pt x="4905" y="1377"/>
                    </a:lnTo>
                    <a:lnTo>
                      <a:pt x="5283" y="1555"/>
                    </a:lnTo>
                    <a:lnTo>
                      <a:pt x="5666" y="1744"/>
                    </a:lnTo>
                    <a:lnTo>
                      <a:pt x="6054" y="1943"/>
                    </a:lnTo>
                    <a:lnTo>
                      <a:pt x="6450" y="2154"/>
                    </a:lnTo>
                    <a:lnTo>
                      <a:pt x="6458" y="2138"/>
                    </a:lnTo>
                    <a:lnTo>
                      <a:pt x="6063" y="1928"/>
                    </a:lnTo>
                    <a:lnTo>
                      <a:pt x="5673" y="1728"/>
                    </a:lnTo>
                    <a:lnTo>
                      <a:pt x="5290" y="1539"/>
                    </a:lnTo>
                    <a:lnTo>
                      <a:pt x="4913" y="1361"/>
                    </a:lnTo>
                    <a:lnTo>
                      <a:pt x="4541" y="1194"/>
                    </a:lnTo>
                    <a:lnTo>
                      <a:pt x="4173" y="1037"/>
                    </a:lnTo>
                    <a:lnTo>
                      <a:pt x="3811" y="892"/>
                    </a:lnTo>
                    <a:lnTo>
                      <a:pt x="3452" y="757"/>
                    </a:lnTo>
                    <a:lnTo>
                      <a:pt x="3098" y="633"/>
                    </a:lnTo>
                    <a:lnTo>
                      <a:pt x="2747" y="519"/>
                    </a:lnTo>
                    <a:lnTo>
                      <a:pt x="2399" y="417"/>
                    </a:lnTo>
                    <a:lnTo>
                      <a:pt x="2055" y="325"/>
                    </a:lnTo>
                    <a:lnTo>
                      <a:pt x="1712" y="244"/>
                    </a:lnTo>
                    <a:lnTo>
                      <a:pt x="1373" y="174"/>
                    </a:lnTo>
                    <a:lnTo>
                      <a:pt x="1035" y="115"/>
                    </a:lnTo>
                    <a:lnTo>
                      <a:pt x="698" y="66"/>
                    </a:lnTo>
                    <a:lnTo>
                      <a:pt x="363" y="29"/>
                    </a:lnTo>
                    <a:lnTo>
                      <a:pt x="29" y="2"/>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Group 33"/>
            <p:cNvGrpSpPr/>
            <p:nvPr/>
          </p:nvGrpSpPr>
          <p:grpSpPr>
            <a:xfrm>
              <a:off x="231840" y="3975120"/>
              <a:ext cx="3084840" cy="812880"/>
              <a:chOff x="231840" y="3975120"/>
              <a:chExt cx="3084840" cy="812880"/>
            </a:xfrm>
          </p:grpSpPr>
          <p:sp>
            <p:nvSpPr>
              <p:cNvPr id="57" name="Freeform 114"/>
              <p:cNvSpPr/>
              <p:nvPr/>
            </p:nvSpPr>
            <p:spPr>
              <a:xfrm>
                <a:off x="231840" y="3975120"/>
                <a:ext cx="3084840" cy="812880"/>
              </a:xfrm>
              <a:custGeom>
                <a:avLst/>
                <a:gdLst/>
                <a:ahLst/>
                <a:rect l="l" t="t" r="r" b="b"/>
                <a:pathLst>
                  <a:path w="6456" h="1992">
                    <a:moveTo>
                      <a:pt x="397" y="9"/>
                    </a:moveTo>
                    <a:lnTo>
                      <a:pt x="27" y="9"/>
                    </a:lnTo>
                    <a:lnTo>
                      <a:pt x="322" y="14"/>
                    </a:lnTo>
                    <a:lnTo>
                      <a:pt x="619" y="29"/>
                    </a:lnTo>
                    <a:lnTo>
                      <a:pt x="916" y="54"/>
                    </a:lnTo>
                    <a:lnTo>
                      <a:pt x="1216" y="89"/>
                    </a:lnTo>
                    <a:lnTo>
                      <a:pt x="1518" y="134"/>
                    </a:lnTo>
                    <a:lnTo>
                      <a:pt x="1822" y="188"/>
                    </a:lnTo>
                    <a:lnTo>
                      <a:pt x="2128" y="253"/>
                    </a:lnTo>
                    <a:lnTo>
                      <a:pt x="2437" y="328"/>
                    </a:lnTo>
                    <a:lnTo>
                      <a:pt x="2749" y="412"/>
                    </a:lnTo>
                    <a:lnTo>
                      <a:pt x="3065" y="507"/>
                    </a:lnTo>
                    <a:lnTo>
                      <a:pt x="3384" y="611"/>
                    </a:lnTo>
                    <a:lnTo>
                      <a:pt x="3706" y="725"/>
                    </a:lnTo>
                    <a:lnTo>
                      <a:pt x="4033" y="849"/>
                    </a:lnTo>
                    <a:lnTo>
                      <a:pt x="4364" y="983"/>
                    </a:lnTo>
                    <a:lnTo>
                      <a:pt x="4699" y="1127"/>
                    </a:lnTo>
                    <a:lnTo>
                      <a:pt x="5039" y="1280"/>
                    </a:lnTo>
                    <a:lnTo>
                      <a:pt x="5384" y="1443"/>
                    </a:lnTo>
                    <a:lnTo>
                      <a:pt x="5734" y="1616"/>
                    </a:lnTo>
                    <a:lnTo>
                      <a:pt x="6090" y="1799"/>
                    </a:lnTo>
                    <a:lnTo>
                      <a:pt x="6452" y="1992"/>
                    </a:lnTo>
                    <a:lnTo>
                      <a:pt x="6456" y="1984"/>
                    </a:lnTo>
                    <a:lnTo>
                      <a:pt x="6094" y="1791"/>
                    </a:lnTo>
                    <a:lnTo>
                      <a:pt x="5738" y="1609"/>
                    </a:lnTo>
                    <a:lnTo>
                      <a:pt x="5388" y="1436"/>
                    </a:lnTo>
                    <a:lnTo>
                      <a:pt x="5043" y="1272"/>
                    </a:lnTo>
                    <a:lnTo>
                      <a:pt x="4703" y="1119"/>
                    </a:lnTo>
                    <a:lnTo>
                      <a:pt x="4367" y="975"/>
                    </a:lnTo>
                    <a:lnTo>
                      <a:pt x="4036" y="841"/>
                    </a:lnTo>
                    <a:lnTo>
                      <a:pt x="3709" y="717"/>
                    </a:lnTo>
                    <a:lnTo>
                      <a:pt x="3386" y="603"/>
                    </a:lnTo>
                    <a:lnTo>
                      <a:pt x="3067" y="498"/>
                    </a:lnTo>
                    <a:lnTo>
                      <a:pt x="2752" y="404"/>
                    </a:lnTo>
                    <a:lnTo>
                      <a:pt x="2439" y="319"/>
                    </a:lnTo>
                    <a:lnTo>
                      <a:pt x="2130" y="245"/>
                    </a:lnTo>
                    <a:lnTo>
                      <a:pt x="1823" y="180"/>
                    </a:lnTo>
                    <a:lnTo>
                      <a:pt x="1519" y="125"/>
                    </a:lnTo>
                    <a:lnTo>
                      <a:pt x="1217" y="80"/>
                    </a:lnTo>
                    <a:lnTo>
                      <a:pt x="917" y="45"/>
                    </a:lnTo>
                    <a:lnTo>
                      <a:pt x="619" y="20"/>
                    </a:lnTo>
                    <a:lnTo>
                      <a:pt x="397"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15"/>
              <p:cNvSpPr/>
              <p:nvPr/>
            </p:nvSpPr>
            <p:spPr>
              <a:xfrm>
                <a:off x="231840" y="3975120"/>
                <a:ext cx="3084840" cy="812880"/>
              </a:xfrm>
              <a:custGeom>
                <a:avLst/>
                <a:gdLst/>
                <a:ahLst/>
                <a:rect l="l" t="t" r="r" b="b"/>
                <a:pathLst>
                  <a:path w="6456" h="1992">
                    <a:moveTo>
                      <a:pt x="27" y="0"/>
                    </a:moveTo>
                    <a:lnTo>
                      <a:pt x="0" y="1"/>
                    </a:lnTo>
                    <a:lnTo>
                      <a:pt x="0" y="9"/>
                    </a:lnTo>
                    <a:lnTo>
                      <a:pt x="27" y="9"/>
                    </a:lnTo>
                    <a:lnTo>
                      <a:pt x="397" y="9"/>
                    </a:lnTo>
                    <a:lnTo>
                      <a:pt x="322" y="5"/>
                    </a:lnTo>
                    <a:lnTo>
                      <a:pt x="27"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Group 34"/>
            <p:cNvGrpSpPr/>
            <p:nvPr/>
          </p:nvGrpSpPr>
          <p:grpSpPr>
            <a:xfrm>
              <a:off x="231840" y="4025880"/>
              <a:ext cx="3084840" cy="761760"/>
              <a:chOff x="231840" y="4025880"/>
              <a:chExt cx="3084840" cy="761760"/>
            </a:xfrm>
          </p:grpSpPr>
          <p:sp>
            <p:nvSpPr>
              <p:cNvPr id="60" name="Freeform 112"/>
              <p:cNvSpPr/>
              <p:nvPr/>
            </p:nvSpPr>
            <p:spPr>
              <a:xfrm>
                <a:off x="231840" y="4025880"/>
                <a:ext cx="3084840" cy="761760"/>
              </a:xfrm>
              <a:custGeom>
                <a:avLst/>
                <a:gdLst/>
                <a:ahLst/>
                <a:rect l="l" t="t" r="r" b="b"/>
                <a:pathLst>
                  <a:path w="6456" h="1867">
                    <a:moveTo>
                      <a:pt x="856" y="9"/>
                    </a:moveTo>
                    <a:lnTo>
                      <a:pt x="510" y="9"/>
                    </a:lnTo>
                    <a:lnTo>
                      <a:pt x="777" y="14"/>
                    </a:lnTo>
                    <a:lnTo>
                      <a:pt x="1047" y="28"/>
                    </a:lnTo>
                    <a:lnTo>
                      <a:pt x="1319" y="51"/>
                    </a:lnTo>
                    <a:lnTo>
                      <a:pt x="1593" y="84"/>
                    </a:lnTo>
                    <a:lnTo>
                      <a:pt x="1869" y="126"/>
                    </a:lnTo>
                    <a:lnTo>
                      <a:pt x="2149" y="178"/>
                    </a:lnTo>
                    <a:lnTo>
                      <a:pt x="2431" y="239"/>
                    </a:lnTo>
                    <a:lnTo>
                      <a:pt x="2716" y="309"/>
                    </a:lnTo>
                    <a:lnTo>
                      <a:pt x="3005" y="388"/>
                    </a:lnTo>
                    <a:lnTo>
                      <a:pt x="3297" y="477"/>
                    </a:lnTo>
                    <a:lnTo>
                      <a:pt x="3593" y="575"/>
                    </a:lnTo>
                    <a:lnTo>
                      <a:pt x="3892" y="682"/>
                    </a:lnTo>
                    <a:lnTo>
                      <a:pt x="4196" y="798"/>
                    </a:lnTo>
                    <a:lnTo>
                      <a:pt x="4504" y="924"/>
                    </a:lnTo>
                    <a:lnTo>
                      <a:pt x="4816" y="1058"/>
                    </a:lnTo>
                    <a:lnTo>
                      <a:pt x="5133" y="1202"/>
                    </a:lnTo>
                    <a:lnTo>
                      <a:pt x="5455" y="1354"/>
                    </a:lnTo>
                    <a:lnTo>
                      <a:pt x="5782" y="1516"/>
                    </a:lnTo>
                    <a:lnTo>
                      <a:pt x="6114" y="1687"/>
                    </a:lnTo>
                    <a:lnTo>
                      <a:pt x="6452" y="1867"/>
                    </a:lnTo>
                    <a:lnTo>
                      <a:pt x="6456" y="1859"/>
                    </a:lnTo>
                    <a:lnTo>
                      <a:pt x="6118" y="1679"/>
                    </a:lnTo>
                    <a:lnTo>
                      <a:pt x="5786" y="1508"/>
                    </a:lnTo>
                    <a:lnTo>
                      <a:pt x="5459" y="1346"/>
                    </a:lnTo>
                    <a:lnTo>
                      <a:pt x="5137" y="1194"/>
                    </a:lnTo>
                    <a:lnTo>
                      <a:pt x="4820" y="1050"/>
                    </a:lnTo>
                    <a:lnTo>
                      <a:pt x="4507" y="915"/>
                    </a:lnTo>
                    <a:lnTo>
                      <a:pt x="4199" y="790"/>
                    </a:lnTo>
                    <a:lnTo>
                      <a:pt x="3895" y="674"/>
                    </a:lnTo>
                    <a:lnTo>
                      <a:pt x="3595" y="567"/>
                    </a:lnTo>
                    <a:lnTo>
                      <a:pt x="3299" y="469"/>
                    </a:lnTo>
                    <a:lnTo>
                      <a:pt x="3007" y="380"/>
                    </a:lnTo>
                    <a:lnTo>
                      <a:pt x="2718" y="300"/>
                    </a:lnTo>
                    <a:lnTo>
                      <a:pt x="2433" y="230"/>
                    </a:lnTo>
                    <a:lnTo>
                      <a:pt x="2150" y="169"/>
                    </a:lnTo>
                    <a:lnTo>
                      <a:pt x="1871" y="118"/>
                    </a:lnTo>
                    <a:lnTo>
                      <a:pt x="1594" y="75"/>
                    </a:lnTo>
                    <a:lnTo>
                      <a:pt x="1320" y="43"/>
                    </a:lnTo>
                    <a:lnTo>
                      <a:pt x="1048" y="19"/>
                    </a:lnTo>
                    <a:lnTo>
                      <a:pt x="856"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13"/>
              <p:cNvSpPr/>
              <p:nvPr/>
            </p:nvSpPr>
            <p:spPr>
              <a:xfrm>
                <a:off x="231840" y="4025880"/>
                <a:ext cx="3084840" cy="761760"/>
              </a:xfrm>
              <a:custGeom>
                <a:avLst/>
                <a:gdLst/>
                <a:ahLst/>
                <a:rect l="l" t="t" r="r" b="b"/>
                <a:pathLst>
                  <a:path w="6456" h="1867">
                    <a:moveTo>
                      <a:pt x="510" y="0"/>
                    </a:moveTo>
                    <a:lnTo>
                      <a:pt x="159" y="8"/>
                    </a:lnTo>
                    <a:lnTo>
                      <a:pt x="0" y="20"/>
                    </a:lnTo>
                    <a:lnTo>
                      <a:pt x="0" y="28"/>
                    </a:lnTo>
                    <a:lnTo>
                      <a:pt x="159" y="17"/>
                    </a:lnTo>
                    <a:lnTo>
                      <a:pt x="510" y="9"/>
                    </a:lnTo>
                    <a:lnTo>
                      <a:pt x="856" y="9"/>
                    </a:lnTo>
                    <a:lnTo>
                      <a:pt x="778" y="5"/>
                    </a:lnTo>
                    <a:lnTo>
                      <a:pt x="51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Group 35"/>
            <p:cNvGrpSpPr/>
            <p:nvPr/>
          </p:nvGrpSpPr>
          <p:grpSpPr>
            <a:xfrm>
              <a:off x="231840" y="3181320"/>
              <a:ext cx="3316320" cy="1164600"/>
              <a:chOff x="231840" y="3181320"/>
              <a:chExt cx="3316320" cy="1164600"/>
            </a:xfrm>
          </p:grpSpPr>
          <p:sp>
            <p:nvSpPr>
              <p:cNvPr id="63" name="Freeform 111"/>
              <p:cNvSpPr/>
              <p:nvPr/>
            </p:nvSpPr>
            <p:spPr>
              <a:xfrm>
                <a:off x="231840" y="3181320"/>
                <a:ext cx="3316320" cy="1164600"/>
              </a:xfrm>
              <a:custGeom>
                <a:avLst/>
                <a:gdLst/>
                <a:ahLst/>
                <a:rect l="l" t="t" r="r" b="b"/>
                <a:pathLst>
                  <a:path w="6941" h="2854">
                    <a:moveTo>
                      <a:pt x="0" y="0"/>
                    </a:moveTo>
                    <a:lnTo>
                      <a:pt x="0" y="10"/>
                    </a:lnTo>
                    <a:lnTo>
                      <a:pt x="261" y="134"/>
                    </a:lnTo>
                    <a:lnTo>
                      <a:pt x="940" y="447"/>
                    </a:lnTo>
                    <a:lnTo>
                      <a:pt x="1629" y="754"/>
                    </a:lnTo>
                    <a:lnTo>
                      <a:pt x="2330" y="1057"/>
                    </a:lnTo>
                    <a:lnTo>
                      <a:pt x="3046" y="1357"/>
                    </a:lnTo>
                    <a:lnTo>
                      <a:pt x="3779" y="1654"/>
                    </a:lnTo>
                    <a:lnTo>
                      <a:pt x="4532" y="1952"/>
                    </a:lnTo>
                    <a:lnTo>
                      <a:pt x="5308" y="2250"/>
                    </a:lnTo>
                    <a:lnTo>
                      <a:pt x="6938" y="2854"/>
                    </a:lnTo>
                    <a:lnTo>
                      <a:pt x="6941" y="2846"/>
                    </a:lnTo>
                    <a:lnTo>
                      <a:pt x="5311" y="2242"/>
                    </a:lnTo>
                    <a:lnTo>
                      <a:pt x="4535" y="1944"/>
                    </a:lnTo>
                    <a:lnTo>
                      <a:pt x="3782" y="1646"/>
                    </a:lnTo>
                    <a:lnTo>
                      <a:pt x="3049" y="1348"/>
                    </a:lnTo>
                    <a:lnTo>
                      <a:pt x="2334" y="1049"/>
                    </a:lnTo>
                    <a:lnTo>
                      <a:pt x="1633" y="746"/>
                    </a:lnTo>
                    <a:lnTo>
                      <a:pt x="944" y="439"/>
                    </a:lnTo>
                    <a:lnTo>
                      <a:pt x="265" y="126"/>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Group 36"/>
            <p:cNvGrpSpPr/>
            <p:nvPr/>
          </p:nvGrpSpPr>
          <p:grpSpPr>
            <a:xfrm>
              <a:off x="231840" y="3419280"/>
              <a:ext cx="3318840" cy="931680"/>
              <a:chOff x="231840" y="3419280"/>
              <a:chExt cx="3318840" cy="931680"/>
            </a:xfrm>
          </p:grpSpPr>
          <p:sp>
            <p:nvSpPr>
              <p:cNvPr id="65" name="Freeform 110"/>
              <p:cNvSpPr/>
              <p:nvPr/>
            </p:nvSpPr>
            <p:spPr>
              <a:xfrm>
                <a:off x="231840" y="3419280"/>
                <a:ext cx="3318840" cy="931680"/>
              </a:xfrm>
              <a:custGeom>
                <a:avLst/>
                <a:gdLst/>
                <a:ahLst/>
                <a:rect l="l" t="t" r="r" b="b"/>
                <a:pathLst>
                  <a:path w="6946" h="2283">
                    <a:moveTo>
                      <a:pt x="0" y="0"/>
                    </a:moveTo>
                    <a:lnTo>
                      <a:pt x="0" y="36"/>
                    </a:lnTo>
                    <a:lnTo>
                      <a:pt x="71" y="56"/>
                    </a:lnTo>
                    <a:lnTo>
                      <a:pt x="792" y="260"/>
                    </a:lnTo>
                    <a:lnTo>
                      <a:pt x="1516" y="473"/>
                    </a:lnTo>
                    <a:lnTo>
                      <a:pt x="2247" y="696"/>
                    </a:lnTo>
                    <a:lnTo>
                      <a:pt x="3741" y="1174"/>
                    </a:lnTo>
                    <a:lnTo>
                      <a:pt x="5295" y="1701"/>
                    </a:lnTo>
                    <a:lnTo>
                      <a:pt x="6934" y="2283"/>
                    </a:lnTo>
                    <a:lnTo>
                      <a:pt x="6946" y="2250"/>
                    </a:lnTo>
                    <a:lnTo>
                      <a:pt x="5307" y="1668"/>
                    </a:lnTo>
                    <a:lnTo>
                      <a:pt x="3752" y="1141"/>
                    </a:lnTo>
                    <a:lnTo>
                      <a:pt x="2258" y="662"/>
                    </a:lnTo>
                    <a:lnTo>
                      <a:pt x="1526" y="439"/>
                    </a:lnTo>
                    <a:lnTo>
                      <a:pt x="802" y="226"/>
                    </a:lnTo>
                    <a:lnTo>
                      <a:pt x="81" y="22"/>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37"/>
            <p:cNvGrpSpPr/>
            <p:nvPr/>
          </p:nvGrpSpPr>
          <p:grpSpPr>
            <a:xfrm>
              <a:off x="231840" y="3604320"/>
              <a:ext cx="3316320" cy="741240"/>
              <a:chOff x="231840" y="3604320"/>
              <a:chExt cx="3316320" cy="741240"/>
            </a:xfrm>
          </p:grpSpPr>
          <p:sp>
            <p:nvSpPr>
              <p:cNvPr id="67" name="Freeform 109"/>
              <p:cNvSpPr/>
              <p:nvPr/>
            </p:nvSpPr>
            <p:spPr>
              <a:xfrm>
                <a:off x="231840" y="3604320"/>
                <a:ext cx="3316320" cy="741240"/>
              </a:xfrm>
              <a:custGeom>
                <a:avLst/>
                <a:gdLst/>
                <a:ahLst/>
                <a:rect l="l" t="t" r="r" b="b"/>
                <a:pathLst>
                  <a:path w="6941" h="1817">
                    <a:moveTo>
                      <a:pt x="0" y="0"/>
                    </a:moveTo>
                    <a:lnTo>
                      <a:pt x="0" y="9"/>
                    </a:lnTo>
                    <a:lnTo>
                      <a:pt x="134" y="26"/>
                    </a:lnTo>
                    <a:lnTo>
                      <a:pt x="629" y="100"/>
                    </a:lnTo>
                    <a:lnTo>
                      <a:pt x="1125" y="184"/>
                    </a:lnTo>
                    <a:lnTo>
                      <a:pt x="1624" y="279"/>
                    </a:lnTo>
                    <a:lnTo>
                      <a:pt x="2125" y="384"/>
                    </a:lnTo>
                    <a:lnTo>
                      <a:pt x="2631" y="500"/>
                    </a:lnTo>
                    <a:lnTo>
                      <a:pt x="3142" y="626"/>
                    </a:lnTo>
                    <a:lnTo>
                      <a:pt x="3659" y="763"/>
                    </a:lnTo>
                    <a:lnTo>
                      <a:pt x="4183" y="911"/>
                    </a:lnTo>
                    <a:lnTo>
                      <a:pt x="4715" y="1070"/>
                    </a:lnTo>
                    <a:lnTo>
                      <a:pt x="5255" y="1240"/>
                    </a:lnTo>
                    <a:lnTo>
                      <a:pt x="5805" y="1421"/>
                    </a:lnTo>
                    <a:lnTo>
                      <a:pt x="6366" y="1613"/>
                    </a:lnTo>
                    <a:lnTo>
                      <a:pt x="6938" y="1817"/>
                    </a:lnTo>
                    <a:lnTo>
                      <a:pt x="6941" y="1809"/>
                    </a:lnTo>
                    <a:lnTo>
                      <a:pt x="6369" y="1605"/>
                    </a:lnTo>
                    <a:lnTo>
                      <a:pt x="5808" y="1412"/>
                    </a:lnTo>
                    <a:lnTo>
                      <a:pt x="5258" y="1231"/>
                    </a:lnTo>
                    <a:lnTo>
                      <a:pt x="4717" y="1061"/>
                    </a:lnTo>
                    <a:lnTo>
                      <a:pt x="4185" y="902"/>
                    </a:lnTo>
                    <a:lnTo>
                      <a:pt x="3661" y="754"/>
                    </a:lnTo>
                    <a:lnTo>
                      <a:pt x="3144" y="617"/>
                    </a:lnTo>
                    <a:lnTo>
                      <a:pt x="2633" y="491"/>
                    </a:lnTo>
                    <a:lnTo>
                      <a:pt x="2127" y="375"/>
                    </a:lnTo>
                    <a:lnTo>
                      <a:pt x="1625" y="270"/>
                    </a:lnTo>
                    <a:lnTo>
                      <a:pt x="1127" y="176"/>
                    </a:lnTo>
                    <a:lnTo>
                      <a:pt x="630" y="92"/>
                    </a:lnTo>
                    <a:lnTo>
                      <a:pt x="135" y="18"/>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Group 38"/>
            <p:cNvGrpSpPr/>
            <p:nvPr/>
          </p:nvGrpSpPr>
          <p:grpSpPr>
            <a:xfrm>
              <a:off x="231840" y="3720600"/>
              <a:ext cx="3317400" cy="627120"/>
              <a:chOff x="231840" y="3720600"/>
              <a:chExt cx="3317400" cy="627120"/>
            </a:xfrm>
          </p:grpSpPr>
          <p:sp>
            <p:nvSpPr>
              <p:cNvPr id="69" name="Freeform 108"/>
              <p:cNvSpPr/>
              <p:nvPr/>
            </p:nvSpPr>
            <p:spPr>
              <a:xfrm>
                <a:off x="231840" y="3720600"/>
                <a:ext cx="3317400" cy="627120"/>
              </a:xfrm>
              <a:custGeom>
                <a:avLst/>
                <a:gdLst/>
                <a:ahLst/>
                <a:rect l="l" t="t" r="r" b="b"/>
                <a:pathLst>
                  <a:path w="6943" h="1537">
                    <a:moveTo>
                      <a:pt x="0" y="0"/>
                    </a:moveTo>
                    <a:lnTo>
                      <a:pt x="0" y="18"/>
                    </a:lnTo>
                    <a:lnTo>
                      <a:pt x="126" y="22"/>
                    </a:lnTo>
                    <a:lnTo>
                      <a:pt x="479" y="41"/>
                    </a:lnTo>
                    <a:lnTo>
                      <a:pt x="834" y="68"/>
                    </a:lnTo>
                    <a:lnTo>
                      <a:pt x="1189" y="102"/>
                    </a:lnTo>
                    <a:lnTo>
                      <a:pt x="1547" y="144"/>
                    </a:lnTo>
                    <a:lnTo>
                      <a:pt x="1907" y="194"/>
                    </a:lnTo>
                    <a:lnTo>
                      <a:pt x="2269" y="251"/>
                    </a:lnTo>
                    <a:lnTo>
                      <a:pt x="2634" y="316"/>
                    </a:lnTo>
                    <a:lnTo>
                      <a:pt x="3002" y="389"/>
                    </a:lnTo>
                    <a:lnTo>
                      <a:pt x="3374" y="469"/>
                    </a:lnTo>
                    <a:lnTo>
                      <a:pt x="3750" y="557"/>
                    </a:lnTo>
                    <a:lnTo>
                      <a:pt x="4130" y="653"/>
                    </a:lnTo>
                    <a:lnTo>
                      <a:pt x="4514" y="756"/>
                    </a:lnTo>
                    <a:lnTo>
                      <a:pt x="4903" y="867"/>
                    </a:lnTo>
                    <a:lnTo>
                      <a:pt x="5298" y="986"/>
                    </a:lnTo>
                    <a:lnTo>
                      <a:pt x="5699" y="1112"/>
                    </a:lnTo>
                    <a:lnTo>
                      <a:pt x="6105" y="1246"/>
                    </a:lnTo>
                    <a:lnTo>
                      <a:pt x="6518" y="1388"/>
                    </a:lnTo>
                    <a:lnTo>
                      <a:pt x="6937" y="1537"/>
                    </a:lnTo>
                    <a:lnTo>
                      <a:pt x="6943" y="1520"/>
                    </a:lnTo>
                    <a:lnTo>
                      <a:pt x="6523" y="1371"/>
                    </a:lnTo>
                    <a:lnTo>
                      <a:pt x="6110" y="1229"/>
                    </a:lnTo>
                    <a:lnTo>
                      <a:pt x="5704" y="1095"/>
                    </a:lnTo>
                    <a:lnTo>
                      <a:pt x="5303" y="969"/>
                    </a:lnTo>
                    <a:lnTo>
                      <a:pt x="4908" y="850"/>
                    </a:lnTo>
                    <a:lnTo>
                      <a:pt x="4519" y="739"/>
                    </a:lnTo>
                    <a:lnTo>
                      <a:pt x="4134" y="636"/>
                    </a:lnTo>
                    <a:lnTo>
                      <a:pt x="3754" y="540"/>
                    </a:lnTo>
                    <a:lnTo>
                      <a:pt x="3378" y="452"/>
                    </a:lnTo>
                    <a:lnTo>
                      <a:pt x="3006" y="372"/>
                    </a:lnTo>
                    <a:lnTo>
                      <a:pt x="2637" y="299"/>
                    </a:lnTo>
                    <a:lnTo>
                      <a:pt x="2272" y="234"/>
                    </a:lnTo>
                    <a:lnTo>
                      <a:pt x="1909" y="176"/>
                    </a:lnTo>
                    <a:lnTo>
                      <a:pt x="1549" y="127"/>
                    </a:lnTo>
                    <a:lnTo>
                      <a:pt x="1191" y="85"/>
                    </a:lnTo>
                    <a:lnTo>
                      <a:pt x="835" y="50"/>
                    </a:lnTo>
                    <a:lnTo>
                      <a:pt x="480" y="23"/>
                    </a:lnTo>
                    <a:lnTo>
                      <a:pt x="126" y="4"/>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39"/>
            <p:cNvGrpSpPr/>
            <p:nvPr/>
          </p:nvGrpSpPr>
          <p:grpSpPr>
            <a:xfrm>
              <a:off x="231840" y="3795480"/>
              <a:ext cx="3316320" cy="550440"/>
              <a:chOff x="231840" y="3795480"/>
              <a:chExt cx="3316320" cy="550440"/>
            </a:xfrm>
          </p:grpSpPr>
          <p:sp>
            <p:nvSpPr>
              <p:cNvPr id="71" name="Freeform 106"/>
              <p:cNvSpPr/>
              <p:nvPr/>
            </p:nvSpPr>
            <p:spPr>
              <a:xfrm>
                <a:off x="231840" y="3795480"/>
                <a:ext cx="3316320" cy="550440"/>
              </a:xfrm>
              <a:custGeom>
                <a:avLst/>
                <a:gdLst/>
                <a:ahLst/>
                <a:rect l="l" t="t" r="r" b="b"/>
                <a:pathLst>
                  <a:path w="6941" h="1349">
                    <a:moveTo>
                      <a:pt x="879" y="8"/>
                    </a:moveTo>
                    <a:lnTo>
                      <a:pt x="419" y="8"/>
                    </a:lnTo>
                    <a:lnTo>
                      <a:pt x="719" y="12"/>
                    </a:lnTo>
                    <a:lnTo>
                      <a:pt x="1021" y="22"/>
                    </a:lnTo>
                    <a:lnTo>
                      <a:pt x="1324" y="39"/>
                    </a:lnTo>
                    <a:lnTo>
                      <a:pt x="1629" y="63"/>
                    </a:lnTo>
                    <a:lnTo>
                      <a:pt x="1936" y="93"/>
                    </a:lnTo>
                    <a:lnTo>
                      <a:pt x="2245" y="130"/>
                    </a:lnTo>
                    <a:lnTo>
                      <a:pt x="2557" y="174"/>
                    </a:lnTo>
                    <a:lnTo>
                      <a:pt x="2871" y="225"/>
                    </a:lnTo>
                    <a:lnTo>
                      <a:pt x="3189" y="282"/>
                    </a:lnTo>
                    <a:lnTo>
                      <a:pt x="3509" y="346"/>
                    </a:lnTo>
                    <a:lnTo>
                      <a:pt x="3833" y="417"/>
                    </a:lnTo>
                    <a:lnTo>
                      <a:pt x="4161" y="494"/>
                    </a:lnTo>
                    <a:lnTo>
                      <a:pt x="4492" y="578"/>
                    </a:lnTo>
                    <a:lnTo>
                      <a:pt x="4827" y="668"/>
                    </a:lnTo>
                    <a:lnTo>
                      <a:pt x="5167" y="765"/>
                    </a:lnTo>
                    <a:lnTo>
                      <a:pt x="5512" y="869"/>
                    </a:lnTo>
                    <a:lnTo>
                      <a:pt x="5861" y="979"/>
                    </a:lnTo>
                    <a:lnTo>
                      <a:pt x="6215" y="1096"/>
                    </a:lnTo>
                    <a:lnTo>
                      <a:pt x="6574" y="1219"/>
                    </a:lnTo>
                    <a:lnTo>
                      <a:pt x="6938" y="1349"/>
                    </a:lnTo>
                    <a:lnTo>
                      <a:pt x="6941" y="1341"/>
                    </a:lnTo>
                    <a:lnTo>
                      <a:pt x="6577" y="1211"/>
                    </a:lnTo>
                    <a:lnTo>
                      <a:pt x="6217" y="1087"/>
                    </a:lnTo>
                    <a:lnTo>
                      <a:pt x="5863" y="971"/>
                    </a:lnTo>
                    <a:lnTo>
                      <a:pt x="5514" y="860"/>
                    </a:lnTo>
                    <a:lnTo>
                      <a:pt x="5170" y="757"/>
                    </a:lnTo>
                    <a:lnTo>
                      <a:pt x="4830" y="660"/>
                    </a:lnTo>
                    <a:lnTo>
                      <a:pt x="4494" y="569"/>
                    </a:lnTo>
                    <a:lnTo>
                      <a:pt x="4163" y="485"/>
                    </a:lnTo>
                    <a:lnTo>
                      <a:pt x="3835" y="408"/>
                    </a:lnTo>
                    <a:lnTo>
                      <a:pt x="3511" y="337"/>
                    </a:lnTo>
                    <a:lnTo>
                      <a:pt x="3190" y="273"/>
                    </a:lnTo>
                    <a:lnTo>
                      <a:pt x="2873" y="216"/>
                    </a:lnTo>
                    <a:lnTo>
                      <a:pt x="2558" y="165"/>
                    </a:lnTo>
                    <a:lnTo>
                      <a:pt x="2246" y="122"/>
                    </a:lnTo>
                    <a:lnTo>
                      <a:pt x="1937" y="84"/>
                    </a:lnTo>
                    <a:lnTo>
                      <a:pt x="1630" y="54"/>
                    </a:lnTo>
                    <a:lnTo>
                      <a:pt x="1324" y="30"/>
                    </a:lnTo>
                    <a:lnTo>
                      <a:pt x="1021" y="13"/>
                    </a:lnTo>
                    <a:lnTo>
                      <a:pt x="879"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07"/>
              <p:cNvSpPr/>
              <p:nvPr/>
            </p:nvSpPr>
            <p:spPr>
              <a:xfrm>
                <a:off x="231840" y="3795480"/>
                <a:ext cx="3316320" cy="550440"/>
              </a:xfrm>
              <a:custGeom>
                <a:avLst/>
                <a:gdLst/>
                <a:ahLst/>
                <a:rect l="l" t="t" r="r" b="b"/>
                <a:pathLst>
                  <a:path w="6941" h="1349">
                    <a:moveTo>
                      <a:pt x="419" y="0"/>
                    </a:moveTo>
                    <a:lnTo>
                      <a:pt x="31" y="5"/>
                    </a:lnTo>
                    <a:lnTo>
                      <a:pt x="0" y="7"/>
                    </a:lnTo>
                    <a:lnTo>
                      <a:pt x="0" y="15"/>
                    </a:lnTo>
                    <a:lnTo>
                      <a:pt x="31" y="14"/>
                    </a:lnTo>
                    <a:lnTo>
                      <a:pt x="419" y="8"/>
                    </a:lnTo>
                    <a:lnTo>
                      <a:pt x="879" y="8"/>
                    </a:lnTo>
                    <a:lnTo>
                      <a:pt x="719" y="3"/>
                    </a:lnTo>
                    <a:lnTo>
                      <a:pt x="41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40"/>
            <p:cNvGrpSpPr/>
            <p:nvPr/>
          </p:nvGrpSpPr>
          <p:grpSpPr>
            <a:xfrm>
              <a:off x="231840" y="3846240"/>
              <a:ext cx="3316320" cy="499320"/>
              <a:chOff x="231840" y="3846240"/>
              <a:chExt cx="3316320" cy="499320"/>
            </a:xfrm>
          </p:grpSpPr>
          <p:sp>
            <p:nvSpPr>
              <p:cNvPr id="74" name="Freeform 104"/>
              <p:cNvSpPr/>
              <p:nvPr/>
            </p:nvSpPr>
            <p:spPr>
              <a:xfrm>
                <a:off x="231840" y="3846240"/>
                <a:ext cx="3316320" cy="499320"/>
              </a:xfrm>
              <a:custGeom>
                <a:avLst/>
                <a:gdLst/>
                <a:ahLst/>
                <a:rect l="l" t="t" r="r" b="b"/>
                <a:pathLst>
                  <a:path w="6941" h="1224">
                    <a:moveTo>
                      <a:pt x="1500" y="9"/>
                    </a:moveTo>
                    <a:lnTo>
                      <a:pt x="1069" y="9"/>
                    </a:lnTo>
                    <a:lnTo>
                      <a:pt x="1336" y="12"/>
                    </a:lnTo>
                    <a:lnTo>
                      <a:pt x="1604" y="22"/>
                    </a:lnTo>
                    <a:lnTo>
                      <a:pt x="1875" y="37"/>
                    </a:lnTo>
                    <a:lnTo>
                      <a:pt x="2147" y="59"/>
                    </a:lnTo>
                    <a:lnTo>
                      <a:pt x="2422" y="86"/>
                    </a:lnTo>
                    <a:lnTo>
                      <a:pt x="2700" y="120"/>
                    </a:lnTo>
                    <a:lnTo>
                      <a:pt x="2980" y="160"/>
                    </a:lnTo>
                    <a:lnTo>
                      <a:pt x="3263" y="206"/>
                    </a:lnTo>
                    <a:lnTo>
                      <a:pt x="3549" y="258"/>
                    </a:lnTo>
                    <a:lnTo>
                      <a:pt x="3838" y="317"/>
                    </a:lnTo>
                    <a:lnTo>
                      <a:pt x="4131" y="381"/>
                    </a:lnTo>
                    <a:lnTo>
                      <a:pt x="4427" y="451"/>
                    </a:lnTo>
                    <a:lnTo>
                      <a:pt x="4726" y="527"/>
                    </a:lnTo>
                    <a:lnTo>
                      <a:pt x="5030" y="609"/>
                    </a:lnTo>
                    <a:lnTo>
                      <a:pt x="5337" y="697"/>
                    </a:lnTo>
                    <a:lnTo>
                      <a:pt x="5649" y="791"/>
                    </a:lnTo>
                    <a:lnTo>
                      <a:pt x="5964" y="890"/>
                    </a:lnTo>
                    <a:lnTo>
                      <a:pt x="6284" y="996"/>
                    </a:lnTo>
                    <a:lnTo>
                      <a:pt x="6609" y="1108"/>
                    </a:lnTo>
                    <a:lnTo>
                      <a:pt x="6938" y="1225"/>
                    </a:lnTo>
                    <a:lnTo>
                      <a:pt x="6941" y="1217"/>
                    </a:lnTo>
                    <a:lnTo>
                      <a:pt x="6612" y="1099"/>
                    </a:lnTo>
                    <a:lnTo>
                      <a:pt x="6287" y="988"/>
                    </a:lnTo>
                    <a:lnTo>
                      <a:pt x="5967" y="882"/>
                    </a:lnTo>
                    <a:lnTo>
                      <a:pt x="5651" y="782"/>
                    </a:lnTo>
                    <a:lnTo>
                      <a:pt x="5340" y="688"/>
                    </a:lnTo>
                    <a:lnTo>
                      <a:pt x="5032" y="600"/>
                    </a:lnTo>
                    <a:lnTo>
                      <a:pt x="4729" y="518"/>
                    </a:lnTo>
                    <a:lnTo>
                      <a:pt x="4429" y="442"/>
                    </a:lnTo>
                    <a:lnTo>
                      <a:pt x="4133" y="372"/>
                    </a:lnTo>
                    <a:lnTo>
                      <a:pt x="3840" y="308"/>
                    </a:lnTo>
                    <a:lnTo>
                      <a:pt x="3551" y="250"/>
                    </a:lnTo>
                    <a:lnTo>
                      <a:pt x="3265" y="198"/>
                    </a:lnTo>
                    <a:lnTo>
                      <a:pt x="2982" y="152"/>
                    </a:lnTo>
                    <a:lnTo>
                      <a:pt x="2701" y="112"/>
                    </a:lnTo>
                    <a:lnTo>
                      <a:pt x="2423" y="78"/>
                    </a:lnTo>
                    <a:lnTo>
                      <a:pt x="2148" y="50"/>
                    </a:lnTo>
                    <a:lnTo>
                      <a:pt x="1875" y="28"/>
                    </a:lnTo>
                    <a:lnTo>
                      <a:pt x="1605" y="13"/>
                    </a:lnTo>
                    <a:lnTo>
                      <a:pt x="1500" y="9"/>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05"/>
              <p:cNvSpPr/>
              <p:nvPr/>
            </p:nvSpPr>
            <p:spPr>
              <a:xfrm>
                <a:off x="231840" y="3846240"/>
                <a:ext cx="3316320" cy="499320"/>
              </a:xfrm>
              <a:custGeom>
                <a:avLst/>
                <a:gdLst/>
                <a:ahLst/>
                <a:rect l="l" t="t" r="r" b="b"/>
                <a:pathLst>
                  <a:path w="6941" h="1224">
                    <a:moveTo>
                      <a:pt x="1069" y="0"/>
                    </a:moveTo>
                    <a:lnTo>
                      <a:pt x="661" y="8"/>
                    </a:lnTo>
                    <a:lnTo>
                      <a:pt x="256" y="30"/>
                    </a:lnTo>
                    <a:lnTo>
                      <a:pt x="0" y="54"/>
                    </a:lnTo>
                    <a:lnTo>
                      <a:pt x="0" y="63"/>
                    </a:lnTo>
                    <a:lnTo>
                      <a:pt x="256" y="39"/>
                    </a:lnTo>
                    <a:lnTo>
                      <a:pt x="661" y="17"/>
                    </a:lnTo>
                    <a:lnTo>
                      <a:pt x="1069" y="9"/>
                    </a:lnTo>
                    <a:lnTo>
                      <a:pt x="1500" y="9"/>
                    </a:lnTo>
                    <a:lnTo>
                      <a:pt x="1336" y="4"/>
                    </a:lnTo>
                    <a:lnTo>
                      <a:pt x="106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oup 41"/>
            <p:cNvGrpSpPr/>
            <p:nvPr/>
          </p:nvGrpSpPr>
          <p:grpSpPr>
            <a:xfrm>
              <a:off x="231840" y="3882240"/>
              <a:ext cx="3316320" cy="463320"/>
              <a:chOff x="231840" y="3882240"/>
              <a:chExt cx="3316320" cy="463320"/>
            </a:xfrm>
          </p:grpSpPr>
          <p:sp>
            <p:nvSpPr>
              <p:cNvPr id="77" name="Freeform 102"/>
              <p:cNvSpPr/>
              <p:nvPr/>
            </p:nvSpPr>
            <p:spPr>
              <a:xfrm>
                <a:off x="231840" y="3882240"/>
                <a:ext cx="3316320" cy="463320"/>
              </a:xfrm>
              <a:custGeom>
                <a:avLst/>
                <a:gdLst/>
                <a:ahLst/>
                <a:rect l="l" t="t" r="r" b="b"/>
                <a:pathLst>
                  <a:path w="6941" h="1136">
                    <a:moveTo>
                      <a:pt x="1941" y="8"/>
                    </a:moveTo>
                    <a:lnTo>
                      <a:pt x="1531" y="8"/>
                    </a:lnTo>
                    <a:lnTo>
                      <a:pt x="1774" y="11"/>
                    </a:lnTo>
                    <a:lnTo>
                      <a:pt x="2019" y="20"/>
                    </a:lnTo>
                    <a:lnTo>
                      <a:pt x="2266" y="34"/>
                    </a:lnTo>
                    <a:lnTo>
                      <a:pt x="2516" y="54"/>
                    </a:lnTo>
                    <a:lnTo>
                      <a:pt x="2768" y="80"/>
                    </a:lnTo>
                    <a:lnTo>
                      <a:pt x="3023" y="112"/>
                    </a:lnTo>
                    <a:lnTo>
                      <a:pt x="3280" y="149"/>
                    </a:lnTo>
                    <a:lnTo>
                      <a:pt x="3541" y="192"/>
                    </a:lnTo>
                    <a:lnTo>
                      <a:pt x="3805" y="240"/>
                    </a:lnTo>
                    <a:lnTo>
                      <a:pt x="4071" y="294"/>
                    </a:lnTo>
                    <a:lnTo>
                      <a:pt x="4341" y="354"/>
                    </a:lnTo>
                    <a:lnTo>
                      <a:pt x="4615" y="419"/>
                    </a:lnTo>
                    <a:lnTo>
                      <a:pt x="4892" y="489"/>
                    </a:lnTo>
                    <a:lnTo>
                      <a:pt x="5172" y="565"/>
                    </a:lnTo>
                    <a:lnTo>
                      <a:pt x="5456" y="647"/>
                    </a:lnTo>
                    <a:lnTo>
                      <a:pt x="5745" y="734"/>
                    </a:lnTo>
                    <a:lnTo>
                      <a:pt x="6037" y="826"/>
                    </a:lnTo>
                    <a:lnTo>
                      <a:pt x="6333" y="924"/>
                    </a:lnTo>
                    <a:lnTo>
                      <a:pt x="6634" y="1027"/>
                    </a:lnTo>
                    <a:lnTo>
                      <a:pt x="6938" y="1136"/>
                    </a:lnTo>
                    <a:lnTo>
                      <a:pt x="6941" y="1128"/>
                    </a:lnTo>
                    <a:lnTo>
                      <a:pt x="6636" y="1019"/>
                    </a:lnTo>
                    <a:lnTo>
                      <a:pt x="6336" y="916"/>
                    </a:lnTo>
                    <a:lnTo>
                      <a:pt x="6039" y="818"/>
                    </a:lnTo>
                    <a:lnTo>
                      <a:pt x="5747" y="725"/>
                    </a:lnTo>
                    <a:lnTo>
                      <a:pt x="5459" y="638"/>
                    </a:lnTo>
                    <a:lnTo>
                      <a:pt x="5174" y="557"/>
                    </a:lnTo>
                    <a:lnTo>
                      <a:pt x="4894" y="481"/>
                    </a:lnTo>
                    <a:lnTo>
                      <a:pt x="4617" y="410"/>
                    </a:lnTo>
                    <a:lnTo>
                      <a:pt x="4343" y="345"/>
                    </a:lnTo>
                    <a:lnTo>
                      <a:pt x="4073" y="285"/>
                    </a:lnTo>
                    <a:lnTo>
                      <a:pt x="3806" y="231"/>
                    </a:lnTo>
                    <a:lnTo>
                      <a:pt x="3543" y="183"/>
                    </a:lnTo>
                    <a:lnTo>
                      <a:pt x="3282" y="140"/>
                    </a:lnTo>
                    <a:lnTo>
                      <a:pt x="3024" y="103"/>
                    </a:lnTo>
                    <a:lnTo>
                      <a:pt x="2769" y="71"/>
                    </a:lnTo>
                    <a:lnTo>
                      <a:pt x="2517" y="46"/>
                    </a:lnTo>
                    <a:lnTo>
                      <a:pt x="2267" y="25"/>
                    </a:lnTo>
                    <a:lnTo>
                      <a:pt x="2019" y="11"/>
                    </a:lnTo>
                    <a:lnTo>
                      <a:pt x="1941"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03"/>
              <p:cNvSpPr/>
              <p:nvPr/>
            </p:nvSpPr>
            <p:spPr>
              <a:xfrm>
                <a:off x="231840" y="3882240"/>
                <a:ext cx="3316320" cy="463320"/>
              </a:xfrm>
              <a:custGeom>
                <a:avLst/>
                <a:gdLst/>
                <a:ahLst/>
                <a:rect l="l" t="t" r="r" b="b"/>
                <a:pathLst>
                  <a:path w="6941" h="1136">
                    <a:moveTo>
                      <a:pt x="1531" y="0"/>
                    </a:moveTo>
                    <a:lnTo>
                      <a:pt x="1112" y="8"/>
                    </a:lnTo>
                    <a:lnTo>
                      <a:pt x="697" y="35"/>
                    </a:lnTo>
                    <a:lnTo>
                      <a:pt x="288" y="80"/>
                    </a:lnTo>
                    <a:lnTo>
                      <a:pt x="0" y="124"/>
                    </a:lnTo>
                    <a:lnTo>
                      <a:pt x="0" y="133"/>
                    </a:lnTo>
                    <a:lnTo>
                      <a:pt x="289" y="89"/>
                    </a:lnTo>
                    <a:lnTo>
                      <a:pt x="698" y="44"/>
                    </a:lnTo>
                    <a:lnTo>
                      <a:pt x="1112" y="17"/>
                    </a:lnTo>
                    <a:lnTo>
                      <a:pt x="1531" y="8"/>
                    </a:lnTo>
                    <a:lnTo>
                      <a:pt x="1941" y="8"/>
                    </a:lnTo>
                    <a:lnTo>
                      <a:pt x="1774" y="2"/>
                    </a:lnTo>
                    <a:lnTo>
                      <a:pt x="1531"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oup 42"/>
            <p:cNvGrpSpPr/>
            <p:nvPr/>
          </p:nvGrpSpPr>
          <p:grpSpPr>
            <a:xfrm>
              <a:off x="231840" y="2994120"/>
              <a:ext cx="3510360" cy="683640"/>
              <a:chOff x="231840" y="2994120"/>
              <a:chExt cx="3510360" cy="683640"/>
            </a:xfrm>
          </p:grpSpPr>
          <p:sp>
            <p:nvSpPr>
              <p:cNvPr id="80" name="Freeform 101"/>
              <p:cNvSpPr/>
              <p:nvPr/>
            </p:nvSpPr>
            <p:spPr>
              <a:xfrm>
                <a:off x="231840" y="2994120"/>
                <a:ext cx="3510360" cy="683640"/>
              </a:xfrm>
              <a:custGeom>
                <a:avLst/>
                <a:gdLst/>
                <a:ahLst/>
                <a:rect l="l" t="t" r="r" b="b"/>
                <a:pathLst>
                  <a:path w="7347" h="1676">
                    <a:moveTo>
                      <a:pt x="0" y="0"/>
                    </a:moveTo>
                    <a:lnTo>
                      <a:pt x="0" y="37"/>
                    </a:lnTo>
                    <a:lnTo>
                      <a:pt x="366" y="162"/>
                    </a:lnTo>
                    <a:lnTo>
                      <a:pt x="1068" y="384"/>
                    </a:lnTo>
                    <a:lnTo>
                      <a:pt x="1783" y="590"/>
                    </a:lnTo>
                    <a:lnTo>
                      <a:pt x="2511" y="781"/>
                    </a:lnTo>
                    <a:lnTo>
                      <a:pt x="3257" y="958"/>
                    </a:lnTo>
                    <a:lnTo>
                      <a:pt x="4023" y="1123"/>
                    </a:lnTo>
                    <a:lnTo>
                      <a:pt x="4812" y="1276"/>
                    </a:lnTo>
                    <a:lnTo>
                      <a:pt x="5626" y="1419"/>
                    </a:lnTo>
                    <a:lnTo>
                      <a:pt x="6469" y="1551"/>
                    </a:lnTo>
                    <a:lnTo>
                      <a:pt x="7343" y="1676"/>
                    </a:lnTo>
                    <a:lnTo>
                      <a:pt x="7347" y="1641"/>
                    </a:lnTo>
                    <a:lnTo>
                      <a:pt x="6474" y="1517"/>
                    </a:lnTo>
                    <a:lnTo>
                      <a:pt x="5632" y="1384"/>
                    </a:lnTo>
                    <a:lnTo>
                      <a:pt x="4818" y="1242"/>
                    </a:lnTo>
                    <a:lnTo>
                      <a:pt x="4030" y="1089"/>
                    </a:lnTo>
                    <a:lnTo>
                      <a:pt x="3265" y="924"/>
                    </a:lnTo>
                    <a:lnTo>
                      <a:pt x="2520" y="747"/>
                    </a:lnTo>
                    <a:lnTo>
                      <a:pt x="1792" y="556"/>
                    </a:lnTo>
                    <a:lnTo>
                      <a:pt x="1079" y="350"/>
                    </a:lnTo>
                    <a:lnTo>
                      <a:pt x="377" y="1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43"/>
            <p:cNvGrpSpPr/>
            <p:nvPr/>
          </p:nvGrpSpPr>
          <p:grpSpPr>
            <a:xfrm>
              <a:off x="231840" y="3234960"/>
              <a:ext cx="3510360" cy="442080"/>
              <a:chOff x="231840" y="3234960"/>
              <a:chExt cx="3510360" cy="442080"/>
            </a:xfrm>
          </p:grpSpPr>
          <p:sp>
            <p:nvSpPr>
              <p:cNvPr id="82" name="Freeform 100"/>
              <p:cNvSpPr/>
              <p:nvPr/>
            </p:nvSpPr>
            <p:spPr>
              <a:xfrm>
                <a:off x="231840" y="3234960"/>
                <a:ext cx="3510360" cy="442080"/>
              </a:xfrm>
              <a:custGeom>
                <a:avLst/>
                <a:gdLst/>
                <a:ahLst/>
                <a:rect l="l" t="t" r="r" b="b"/>
                <a:pathLst>
                  <a:path w="7347" h="1084">
                    <a:moveTo>
                      <a:pt x="0" y="0"/>
                    </a:moveTo>
                    <a:lnTo>
                      <a:pt x="0" y="36"/>
                    </a:lnTo>
                    <a:lnTo>
                      <a:pt x="182" y="64"/>
                    </a:lnTo>
                    <a:lnTo>
                      <a:pt x="7343" y="1085"/>
                    </a:lnTo>
                    <a:lnTo>
                      <a:pt x="7347" y="1050"/>
                    </a:lnTo>
                    <a:lnTo>
                      <a:pt x="187" y="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Group 44"/>
            <p:cNvGrpSpPr/>
            <p:nvPr/>
          </p:nvGrpSpPr>
          <p:grpSpPr>
            <a:xfrm>
              <a:off x="231840" y="3417120"/>
              <a:ext cx="3511440" cy="263880"/>
              <a:chOff x="231840" y="3417120"/>
              <a:chExt cx="3511440" cy="263880"/>
            </a:xfrm>
          </p:grpSpPr>
          <p:sp>
            <p:nvSpPr>
              <p:cNvPr id="84" name="Freeform 99"/>
              <p:cNvSpPr/>
              <p:nvPr/>
            </p:nvSpPr>
            <p:spPr>
              <a:xfrm>
                <a:off x="231840" y="3417120"/>
                <a:ext cx="3511440" cy="263880"/>
              </a:xfrm>
              <a:custGeom>
                <a:avLst/>
                <a:gdLst/>
                <a:ahLst/>
                <a:rect l="l" t="t" r="r" b="b"/>
                <a:pathLst>
                  <a:path w="7349" h="647">
                    <a:moveTo>
                      <a:pt x="0" y="0"/>
                    </a:moveTo>
                    <a:lnTo>
                      <a:pt x="0" y="53"/>
                    </a:lnTo>
                    <a:lnTo>
                      <a:pt x="571" y="63"/>
                    </a:lnTo>
                    <a:lnTo>
                      <a:pt x="1316" y="87"/>
                    </a:lnTo>
                    <a:lnTo>
                      <a:pt x="2068" y="123"/>
                    </a:lnTo>
                    <a:lnTo>
                      <a:pt x="2831" y="171"/>
                    </a:lnTo>
                    <a:lnTo>
                      <a:pt x="3607" y="230"/>
                    </a:lnTo>
                    <a:lnTo>
                      <a:pt x="4802" y="342"/>
                    </a:lnTo>
                    <a:lnTo>
                      <a:pt x="6043" y="481"/>
                    </a:lnTo>
                    <a:lnTo>
                      <a:pt x="7342" y="647"/>
                    </a:lnTo>
                    <a:lnTo>
                      <a:pt x="7349" y="595"/>
                    </a:lnTo>
                    <a:lnTo>
                      <a:pt x="6050" y="429"/>
                    </a:lnTo>
                    <a:lnTo>
                      <a:pt x="4807" y="290"/>
                    </a:lnTo>
                    <a:lnTo>
                      <a:pt x="3611" y="178"/>
                    </a:lnTo>
                    <a:lnTo>
                      <a:pt x="2834" y="118"/>
                    </a:lnTo>
                    <a:lnTo>
                      <a:pt x="2071" y="70"/>
                    </a:lnTo>
                    <a:lnTo>
                      <a:pt x="1318" y="34"/>
                    </a:lnTo>
                    <a:lnTo>
                      <a:pt x="573" y="10"/>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Group 45"/>
            <p:cNvGrpSpPr/>
            <p:nvPr/>
          </p:nvGrpSpPr>
          <p:grpSpPr>
            <a:xfrm>
              <a:off x="231840" y="3512520"/>
              <a:ext cx="3510000" cy="159840"/>
              <a:chOff x="231840" y="3512520"/>
              <a:chExt cx="3510000" cy="159840"/>
            </a:xfrm>
          </p:grpSpPr>
          <p:sp>
            <p:nvSpPr>
              <p:cNvPr id="86" name="Freeform 97"/>
              <p:cNvSpPr/>
              <p:nvPr/>
            </p:nvSpPr>
            <p:spPr>
              <a:xfrm>
                <a:off x="231840" y="3512520"/>
                <a:ext cx="3510000" cy="159840"/>
              </a:xfrm>
              <a:custGeom>
                <a:avLst/>
                <a:gdLst/>
                <a:ahLst/>
                <a:rect l="l" t="t" r="r" b="b"/>
                <a:pathLst>
                  <a:path w="7346" h="392">
                    <a:moveTo>
                      <a:pt x="2963" y="8"/>
                    </a:moveTo>
                    <a:lnTo>
                      <a:pt x="2252" y="8"/>
                    </a:lnTo>
                    <a:lnTo>
                      <a:pt x="2488" y="9"/>
                    </a:lnTo>
                    <a:lnTo>
                      <a:pt x="2966" y="17"/>
                    </a:lnTo>
                    <a:lnTo>
                      <a:pt x="3449" y="33"/>
                    </a:lnTo>
                    <a:lnTo>
                      <a:pt x="3939" y="56"/>
                    </a:lnTo>
                    <a:lnTo>
                      <a:pt x="4437" y="87"/>
                    </a:lnTo>
                    <a:lnTo>
                      <a:pt x="4944" y="126"/>
                    </a:lnTo>
                    <a:lnTo>
                      <a:pt x="5720" y="198"/>
                    </a:lnTo>
                    <a:lnTo>
                      <a:pt x="6520" y="287"/>
                    </a:lnTo>
                    <a:lnTo>
                      <a:pt x="7345" y="391"/>
                    </a:lnTo>
                    <a:lnTo>
                      <a:pt x="7346" y="383"/>
                    </a:lnTo>
                    <a:lnTo>
                      <a:pt x="6521" y="278"/>
                    </a:lnTo>
                    <a:lnTo>
                      <a:pt x="5721" y="189"/>
                    </a:lnTo>
                    <a:lnTo>
                      <a:pt x="4944" y="117"/>
                    </a:lnTo>
                    <a:lnTo>
                      <a:pt x="4438" y="79"/>
                    </a:lnTo>
                    <a:lnTo>
                      <a:pt x="3940" y="47"/>
                    </a:lnTo>
                    <a:lnTo>
                      <a:pt x="3449" y="24"/>
                    </a:lnTo>
                    <a:lnTo>
                      <a:pt x="2966" y="8"/>
                    </a:lnTo>
                    <a:lnTo>
                      <a:pt x="2963" y="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98"/>
              <p:cNvSpPr/>
              <p:nvPr/>
            </p:nvSpPr>
            <p:spPr>
              <a:xfrm>
                <a:off x="231840" y="3512520"/>
                <a:ext cx="3510000" cy="159840"/>
              </a:xfrm>
              <a:custGeom>
                <a:avLst/>
                <a:gdLst/>
                <a:ahLst/>
                <a:rect l="l" t="t" r="r" b="b"/>
                <a:pathLst>
                  <a:path w="7346" h="392">
                    <a:moveTo>
                      <a:pt x="2252" y="0"/>
                    </a:moveTo>
                    <a:lnTo>
                      <a:pt x="1739" y="4"/>
                    </a:lnTo>
                    <a:lnTo>
                      <a:pt x="1232" y="19"/>
                    </a:lnTo>
                    <a:lnTo>
                      <a:pt x="729" y="42"/>
                    </a:lnTo>
                    <a:lnTo>
                      <a:pt x="229" y="76"/>
                    </a:lnTo>
                    <a:lnTo>
                      <a:pt x="0" y="96"/>
                    </a:lnTo>
                    <a:lnTo>
                      <a:pt x="0" y="105"/>
                    </a:lnTo>
                    <a:lnTo>
                      <a:pt x="230" y="85"/>
                    </a:lnTo>
                    <a:lnTo>
                      <a:pt x="729" y="51"/>
                    </a:lnTo>
                    <a:lnTo>
                      <a:pt x="1232" y="27"/>
                    </a:lnTo>
                    <a:lnTo>
                      <a:pt x="1740" y="13"/>
                    </a:lnTo>
                    <a:lnTo>
                      <a:pt x="2963" y="8"/>
                    </a:lnTo>
                    <a:lnTo>
                      <a:pt x="2488" y="1"/>
                    </a:lnTo>
                    <a:lnTo>
                      <a:pt x="2252"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oup 46"/>
            <p:cNvGrpSpPr/>
            <p:nvPr/>
          </p:nvGrpSpPr>
          <p:grpSpPr>
            <a:xfrm>
              <a:off x="231840" y="3538080"/>
              <a:ext cx="3510000" cy="136080"/>
              <a:chOff x="231840" y="3538080"/>
              <a:chExt cx="3510000" cy="136080"/>
            </a:xfrm>
          </p:grpSpPr>
          <p:sp>
            <p:nvSpPr>
              <p:cNvPr id="89" name="Freeform 95"/>
              <p:cNvSpPr/>
              <p:nvPr/>
            </p:nvSpPr>
            <p:spPr>
              <a:xfrm>
                <a:off x="231840" y="3538080"/>
                <a:ext cx="3510000" cy="136080"/>
              </a:xfrm>
              <a:custGeom>
                <a:avLst/>
                <a:gdLst/>
                <a:ahLst/>
                <a:rect l="l" t="t" r="r" b="b"/>
                <a:pathLst>
                  <a:path w="7346" h="334">
                    <a:moveTo>
                      <a:pt x="4039" y="18"/>
                    </a:moveTo>
                    <a:lnTo>
                      <a:pt x="3118" y="18"/>
                    </a:lnTo>
                    <a:lnTo>
                      <a:pt x="3314" y="19"/>
                    </a:lnTo>
                    <a:lnTo>
                      <a:pt x="3711" y="25"/>
                    </a:lnTo>
                    <a:lnTo>
                      <a:pt x="4113" y="38"/>
                    </a:lnTo>
                    <a:lnTo>
                      <a:pt x="4521" y="58"/>
                    </a:lnTo>
                    <a:lnTo>
                      <a:pt x="4936" y="83"/>
                    </a:lnTo>
                    <a:lnTo>
                      <a:pt x="5357" y="115"/>
                    </a:lnTo>
                    <a:lnTo>
                      <a:pt x="6002" y="174"/>
                    </a:lnTo>
                    <a:lnTo>
                      <a:pt x="6664" y="247"/>
                    </a:lnTo>
                    <a:lnTo>
                      <a:pt x="7344" y="334"/>
                    </a:lnTo>
                    <a:lnTo>
                      <a:pt x="7346" y="316"/>
                    </a:lnTo>
                    <a:lnTo>
                      <a:pt x="6666" y="230"/>
                    </a:lnTo>
                    <a:lnTo>
                      <a:pt x="6003" y="157"/>
                    </a:lnTo>
                    <a:lnTo>
                      <a:pt x="5358" y="97"/>
                    </a:lnTo>
                    <a:lnTo>
                      <a:pt x="4937" y="66"/>
                    </a:lnTo>
                    <a:lnTo>
                      <a:pt x="4522" y="40"/>
                    </a:lnTo>
                    <a:lnTo>
                      <a:pt x="4114" y="21"/>
                    </a:lnTo>
                    <a:lnTo>
                      <a:pt x="4039" y="1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6"/>
              <p:cNvSpPr/>
              <p:nvPr/>
            </p:nvSpPr>
            <p:spPr>
              <a:xfrm>
                <a:off x="231840" y="3538080"/>
                <a:ext cx="3510000" cy="136080"/>
              </a:xfrm>
              <a:custGeom>
                <a:avLst/>
                <a:gdLst/>
                <a:ahLst/>
                <a:rect l="l" t="t" r="r" b="b"/>
                <a:pathLst>
                  <a:path w="7346" h="334">
                    <a:moveTo>
                      <a:pt x="3118" y="0"/>
                    </a:moveTo>
                    <a:lnTo>
                      <a:pt x="2561" y="7"/>
                    </a:lnTo>
                    <a:lnTo>
                      <a:pt x="2013" y="28"/>
                    </a:lnTo>
                    <a:lnTo>
                      <a:pt x="1472" y="62"/>
                    </a:lnTo>
                    <a:lnTo>
                      <a:pt x="938" y="110"/>
                    </a:lnTo>
                    <a:lnTo>
                      <a:pt x="410" y="173"/>
                    </a:lnTo>
                    <a:lnTo>
                      <a:pt x="0" y="233"/>
                    </a:lnTo>
                    <a:lnTo>
                      <a:pt x="0" y="251"/>
                    </a:lnTo>
                    <a:lnTo>
                      <a:pt x="412" y="190"/>
                    </a:lnTo>
                    <a:lnTo>
                      <a:pt x="940" y="128"/>
                    </a:lnTo>
                    <a:lnTo>
                      <a:pt x="1473" y="79"/>
                    </a:lnTo>
                    <a:lnTo>
                      <a:pt x="2013" y="45"/>
                    </a:lnTo>
                    <a:lnTo>
                      <a:pt x="2561" y="25"/>
                    </a:lnTo>
                    <a:lnTo>
                      <a:pt x="3118" y="18"/>
                    </a:lnTo>
                    <a:lnTo>
                      <a:pt x="4039" y="18"/>
                    </a:lnTo>
                    <a:lnTo>
                      <a:pt x="3712" y="8"/>
                    </a:lnTo>
                    <a:lnTo>
                      <a:pt x="3315" y="1"/>
                    </a:lnTo>
                    <a:lnTo>
                      <a:pt x="3118"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Group 47"/>
            <p:cNvGrpSpPr/>
            <p:nvPr/>
          </p:nvGrpSpPr>
          <p:grpSpPr>
            <a:xfrm>
              <a:off x="231840" y="3556440"/>
              <a:ext cx="3510000" cy="159480"/>
              <a:chOff x="231840" y="3556440"/>
              <a:chExt cx="3510000" cy="159480"/>
            </a:xfrm>
          </p:grpSpPr>
          <p:sp>
            <p:nvSpPr>
              <p:cNvPr id="92" name="Freeform 93"/>
              <p:cNvSpPr/>
              <p:nvPr/>
            </p:nvSpPr>
            <p:spPr>
              <a:xfrm>
                <a:off x="231840" y="3556440"/>
                <a:ext cx="3510000" cy="159480"/>
              </a:xfrm>
              <a:custGeom>
                <a:avLst/>
                <a:gdLst/>
                <a:ahLst/>
                <a:rect l="l" t="t" r="r" b="b"/>
                <a:pathLst>
                  <a:path w="7346" h="391">
                    <a:moveTo>
                      <a:pt x="3645" y="0"/>
                    </a:moveTo>
                    <a:lnTo>
                      <a:pt x="3062" y="9"/>
                    </a:lnTo>
                    <a:lnTo>
                      <a:pt x="2491" y="34"/>
                    </a:lnTo>
                    <a:lnTo>
                      <a:pt x="1932" y="77"/>
                    </a:lnTo>
                    <a:lnTo>
                      <a:pt x="1382" y="138"/>
                    </a:lnTo>
                    <a:lnTo>
                      <a:pt x="841" y="217"/>
                    </a:lnTo>
                    <a:lnTo>
                      <a:pt x="307" y="315"/>
                    </a:lnTo>
                    <a:lnTo>
                      <a:pt x="0" y="382"/>
                    </a:lnTo>
                    <a:lnTo>
                      <a:pt x="0" y="391"/>
                    </a:lnTo>
                    <a:lnTo>
                      <a:pt x="309" y="323"/>
                    </a:lnTo>
                    <a:lnTo>
                      <a:pt x="843" y="226"/>
                    </a:lnTo>
                    <a:lnTo>
                      <a:pt x="1383" y="147"/>
                    </a:lnTo>
                    <a:lnTo>
                      <a:pt x="1933" y="86"/>
                    </a:lnTo>
                    <a:lnTo>
                      <a:pt x="2492" y="43"/>
                    </a:lnTo>
                    <a:lnTo>
                      <a:pt x="3062" y="17"/>
                    </a:lnTo>
                    <a:lnTo>
                      <a:pt x="3645" y="9"/>
                    </a:lnTo>
                    <a:lnTo>
                      <a:pt x="4250" y="9"/>
                    </a:lnTo>
                    <a:lnTo>
                      <a:pt x="3990" y="3"/>
                    </a:lnTo>
                    <a:lnTo>
                      <a:pt x="3645"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94"/>
              <p:cNvSpPr/>
              <p:nvPr/>
            </p:nvSpPr>
            <p:spPr>
              <a:xfrm>
                <a:off x="231840" y="3556440"/>
                <a:ext cx="3510000" cy="159480"/>
              </a:xfrm>
              <a:custGeom>
                <a:avLst/>
                <a:gdLst/>
                <a:ahLst/>
                <a:rect l="l" t="t" r="r" b="b"/>
                <a:pathLst>
                  <a:path w="7346" h="391">
                    <a:moveTo>
                      <a:pt x="4250" y="9"/>
                    </a:moveTo>
                    <a:lnTo>
                      <a:pt x="3645" y="9"/>
                    </a:lnTo>
                    <a:lnTo>
                      <a:pt x="3817" y="10"/>
                    </a:lnTo>
                    <a:lnTo>
                      <a:pt x="4164" y="15"/>
                    </a:lnTo>
                    <a:lnTo>
                      <a:pt x="4517" y="27"/>
                    </a:lnTo>
                    <a:lnTo>
                      <a:pt x="4875" y="43"/>
                    </a:lnTo>
                    <a:lnTo>
                      <a:pt x="5238" y="66"/>
                    </a:lnTo>
                    <a:lnTo>
                      <a:pt x="5607" y="94"/>
                    </a:lnTo>
                    <a:lnTo>
                      <a:pt x="6172" y="145"/>
                    </a:lnTo>
                    <a:lnTo>
                      <a:pt x="6751" y="209"/>
                    </a:lnTo>
                    <a:lnTo>
                      <a:pt x="7345" y="284"/>
                    </a:lnTo>
                    <a:lnTo>
                      <a:pt x="7346" y="276"/>
                    </a:lnTo>
                    <a:lnTo>
                      <a:pt x="6752" y="200"/>
                    </a:lnTo>
                    <a:lnTo>
                      <a:pt x="6172" y="137"/>
                    </a:lnTo>
                    <a:lnTo>
                      <a:pt x="5608" y="85"/>
                    </a:lnTo>
                    <a:lnTo>
                      <a:pt x="5239" y="57"/>
                    </a:lnTo>
                    <a:lnTo>
                      <a:pt x="4875" y="35"/>
                    </a:lnTo>
                    <a:lnTo>
                      <a:pt x="4517" y="18"/>
                    </a:lnTo>
                    <a:lnTo>
                      <a:pt x="4250"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Group 48"/>
            <p:cNvGrpSpPr/>
            <p:nvPr/>
          </p:nvGrpSpPr>
          <p:grpSpPr>
            <a:xfrm>
              <a:off x="231840" y="3567240"/>
              <a:ext cx="3510000" cy="221400"/>
              <a:chOff x="231840" y="3567240"/>
              <a:chExt cx="3510000" cy="221400"/>
            </a:xfrm>
          </p:grpSpPr>
          <p:sp>
            <p:nvSpPr>
              <p:cNvPr id="95" name="Freeform 91"/>
              <p:cNvSpPr/>
              <p:nvPr/>
            </p:nvSpPr>
            <p:spPr>
              <a:xfrm>
                <a:off x="231840" y="3567240"/>
                <a:ext cx="3510000" cy="221400"/>
              </a:xfrm>
              <a:custGeom>
                <a:avLst/>
                <a:gdLst/>
                <a:ahLst/>
                <a:rect l="l" t="t" r="r" b="b"/>
                <a:pathLst>
                  <a:path w="7346" h="543">
                    <a:moveTo>
                      <a:pt x="4000" y="0"/>
                    </a:moveTo>
                    <a:lnTo>
                      <a:pt x="3401" y="10"/>
                    </a:lnTo>
                    <a:lnTo>
                      <a:pt x="2819" y="40"/>
                    </a:lnTo>
                    <a:lnTo>
                      <a:pt x="2250" y="91"/>
                    </a:lnTo>
                    <a:lnTo>
                      <a:pt x="1694" y="162"/>
                    </a:lnTo>
                    <a:lnTo>
                      <a:pt x="1149" y="255"/>
                    </a:lnTo>
                    <a:lnTo>
                      <a:pt x="615" y="370"/>
                    </a:lnTo>
                    <a:lnTo>
                      <a:pt x="89" y="507"/>
                    </a:lnTo>
                    <a:lnTo>
                      <a:pt x="0" y="534"/>
                    </a:lnTo>
                    <a:lnTo>
                      <a:pt x="0" y="543"/>
                    </a:lnTo>
                    <a:lnTo>
                      <a:pt x="92" y="515"/>
                    </a:lnTo>
                    <a:lnTo>
                      <a:pt x="617" y="378"/>
                    </a:lnTo>
                    <a:lnTo>
                      <a:pt x="1151" y="264"/>
                    </a:lnTo>
                    <a:lnTo>
                      <a:pt x="1695" y="171"/>
                    </a:lnTo>
                    <a:lnTo>
                      <a:pt x="2251" y="99"/>
                    </a:lnTo>
                    <a:lnTo>
                      <a:pt x="2819" y="49"/>
                    </a:lnTo>
                    <a:lnTo>
                      <a:pt x="3402" y="19"/>
                    </a:lnTo>
                    <a:lnTo>
                      <a:pt x="4000" y="9"/>
                    </a:lnTo>
                    <a:lnTo>
                      <a:pt x="4577" y="9"/>
                    </a:lnTo>
                    <a:lnTo>
                      <a:pt x="4312" y="3"/>
                    </a:lnTo>
                    <a:lnTo>
                      <a:pt x="400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92"/>
              <p:cNvSpPr/>
              <p:nvPr/>
            </p:nvSpPr>
            <p:spPr>
              <a:xfrm>
                <a:off x="231840" y="3567240"/>
                <a:ext cx="3510000" cy="221400"/>
              </a:xfrm>
              <a:custGeom>
                <a:avLst/>
                <a:gdLst/>
                <a:ahLst/>
                <a:rect l="l" t="t" r="r" b="b"/>
                <a:pathLst>
                  <a:path w="7346" h="543">
                    <a:moveTo>
                      <a:pt x="4577" y="9"/>
                    </a:moveTo>
                    <a:lnTo>
                      <a:pt x="4000" y="9"/>
                    </a:lnTo>
                    <a:lnTo>
                      <a:pt x="4155" y="9"/>
                    </a:lnTo>
                    <a:lnTo>
                      <a:pt x="4469" y="15"/>
                    </a:lnTo>
                    <a:lnTo>
                      <a:pt x="4788" y="25"/>
                    </a:lnTo>
                    <a:lnTo>
                      <a:pt x="5112" y="40"/>
                    </a:lnTo>
                    <a:lnTo>
                      <a:pt x="5440" y="60"/>
                    </a:lnTo>
                    <a:lnTo>
                      <a:pt x="5774" y="85"/>
                    </a:lnTo>
                    <a:lnTo>
                      <a:pt x="6285" y="132"/>
                    </a:lnTo>
                    <a:lnTo>
                      <a:pt x="6808" y="189"/>
                    </a:lnTo>
                    <a:lnTo>
                      <a:pt x="7345" y="257"/>
                    </a:lnTo>
                    <a:lnTo>
                      <a:pt x="7346" y="249"/>
                    </a:lnTo>
                    <a:lnTo>
                      <a:pt x="6809" y="181"/>
                    </a:lnTo>
                    <a:lnTo>
                      <a:pt x="6286" y="123"/>
                    </a:lnTo>
                    <a:lnTo>
                      <a:pt x="5775" y="76"/>
                    </a:lnTo>
                    <a:lnTo>
                      <a:pt x="5441" y="51"/>
                    </a:lnTo>
                    <a:lnTo>
                      <a:pt x="5112" y="31"/>
                    </a:lnTo>
                    <a:lnTo>
                      <a:pt x="4788" y="16"/>
                    </a:lnTo>
                    <a:lnTo>
                      <a:pt x="4577"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Group 49"/>
            <p:cNvGrpSpPr/>
            <p:nvPr/>
          </p:nvGrpSpPr>
          <p:grpSpPr>
            <a:xfrm>
              <a:off x="231840" y="2679840"/>
              <a:ext cx="3492360" cy="193320"/>
              <a:chOff x="231840" y="2679840"/>
              <a:chExt cx="3492360" cy="193320"/>
            </a:xfrm>
          </p:grpSpPr>
          <p:sp>
            <p:nvSpPr>
              <p:cNvPr id="98" name="Freeform 89"/>
              <p:cNvSpPr/>
              <p:nvPr/>
            </p:nvSpPr>
            <p:spPr>
              <a:xfrm>
                <a:off x="231840" y="2679840"/>
                <a:ext cx="3492360" cy="193320"/>
              </a:xfrm>
              <a:custGeom>
                <a:avLst/>
                <a:gdLst/>
                <a:ahLst/>
                <a:rect l="l" t="t" r="r" b="b"/>
                <a:pathLst>
                  <a:path w="7309" h="474">
                    <a:moveTo>
                      <a:pt x="0" y="184"/>
                    </a:moveTo>
                    <a:lnTo>
                      <a:pt x="0" y="240"/>
                    </a:lnTo>
                    <a:lnTo>
                      <a:pt x="8" y="241"/>
                    </a:lnTo>
                    <a:lnTo>
                      <a:pt x="259" y="282"/>
                    </a:lnTo>
                    <a:lnTo>
                      <a:pt x="511" y="319"/>
                    </a:lnTo>
                    <a:lnTo>
                      <a:pt x="765" y="352"/>
                    </a:lnTo>
                    <a:lnTo>
                      <a:pt x="1019" y="381"/>
                    </a:lnTo>
                    <a:lnTo>
                      <a:pt x="1276" y="406"/>
                    </a:lnTo>
                    <a:lnTo>
                      <a:pt x="1533" y="427"/>
                    </a:lnTo>
                    <a:lnTo>
                      <a:pt x="1793" y="444"/>
                    </a:lnTo>
                    <a:lnTo>
                      <a:pt x="2054" y="458"/>
                    </a:lnTo>
                    <a:lnTo>
                      <a:pt x="2318" y="467"/>
                    </a:lnTo>
                    <a:lnTo>
                      <a:pt x="2583" y="473"/>
                    </a:lnTo>
                    <a:lnTo>
                      <a:pt x="2851" y="475"/>
                    </a:lnTo>
                    <a:lnTo>
                      <a:pt x="3057" y="474"/>
                    </a:lnTo>
                    <a:lnTo>
                      <a:pt x="3264" y="470"/>
                    </a:lnTo>
                    <a:lnTo>
                      <a:pt x="3473" y="465"/>
                    </a:lnTo>
                    <a:lnTo>
                      <a:pt x="3895" y="448"/>
                    </a:lnTo>
                    <a:lnTo>
                      <a:pt x="4322" y="422"/>
                    </a:lnTo>
                    <a:lnTo>
                      <a:pt x="2851" y="422"/>
                    </a:lnTo>
                    <a:lnTo>
                      <a:pt x="2319" y="414"/>
                    </a:lnTo>
                    <a:lnTo>
                      <a:pt x="1796" y="392"/>
                    </a:lnTo>
                    <a:lnTo>
                      <a:pt x="1280" y="353"/>
                    </a:lnTo>
                    <a:lnTo>
                      <a:pt x="771" y="300"/>
                    </a:lnTo>
                    <a:lnTo>
                      <a:pt x="268" y="230"/>
                    </a:lnTo>
                    <a:lnTo>
                      <a:pt x="0" y="184"/>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90"/>
              <p:cNvSpPr/>
              <p:nvPr/>
            </p:nvSpPr>
            <p:spPr>
              <a:xfrm>
                <a:off x="231840" y="2679840"/>
                <a:ext cx="3492360" cy="193320"/>
              </a:xfrm>
              <a:custGeom>
                <a:avLst/>
                <a:gdLst/>
                <a:ahLst/>
                <a:rect l="l" t="t" r="r" b="b"/>
                <a:pathLst>
                  <a:path w="7309" h="474">
                    <a:moveTo>
                      <a:pt x="7300" y="0"/>
                    </a:moveTo>
                    <a:lnTo>
                      <a:pt x="6579" y="116"/>
                    </a:lnTo>
                    <a:lnTo>
                      <a:pt x="6110" y="183"/>
                    </a:lnTo>
                    <a:lnTo>
                      <a:pt x="5650" y="242"/>
                    </a:lnTo>
                    <a:lnTo>
                      <a:pt x="5199" y="292"/>
                    </a:lnTo>
                    <a:lnTo>
                      <a:pt x="4756" y="335"/>
                    </a:lnTo>
                    <a:lnTo>
                      <a:pt x="4321" y="369"/>
                    </a:lnTo>
                    <a:lnTo>
                      <a:pt x="3893" y="395"/>
                    </a:lnTo>
                    <a:lnTo>
                      <a:pt x="3471" y="412"/>
                    </a:lnTo>
                    <a:lnTo>
                      <a:pt x="3263" y="418"/>
                    </a:lnTo>
                    <a:lnTo>
                      <a:pt x="3056" y="421"/>
                    </a:lnTo>
                    <a:lnTo>
                      <a:pt x="2851" y="422"/>
                    </a:lnTo>
                    <a:lnTo>
                      <a:pt x="4322" y="422"/>
                    </a:lnTo>
                    <a:lnTo>
                      <a:pt x="4760" y="388"/>
                    </a:lnTo>
                    <a:lnTo>
                      <a:pt x="5204" y="345"/>
                    </a:lnTo>
                    <a:lnTo>
                      <a:pt x="5656" y="294"/>
                    </a:lnTo>
                    <a:lnTo>
                      <a:pt x="6117" y="235"/>
                    </a:lnTo>
                    <a:lnTo>
                      <a:pt x="6586" y="168"/>
                    </a:lnTo>
                    <a:lnTo>
                      <a:pt x="7309" y="52"/>
                    </a:lnTo>
                    <a:lnTo>
                      <a:pt x="7300"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Group 50"/>
            <p:cNvGrpSpPr/>
            <p:nvPr/>
          </p:nvGrpSpPr>
          <p:grpSpPr>
            <a:xfrm>
              <a:off x="231840" y="2673000"/>
              <a:ext cx="3493800" cy="336960"/>
              <a:chOff x="231840" y="2673000"/>
              <a:chExt cx="3493800" cy="336960"/>
            </a:xfrm>
          </p:grpSpPr>
          <p:sp>
            <p:nvSpPr>
              <p:cNvPr id="101" name="Freeform 88"/>
              <p:cNvSpPr/>
              <p:nvPr/>
            </p:nvSpPr>
            <p:spPr>
              <a:xfrm>
                <a:off x="231840" y="2673000"/>
                <a:ext cx="3493800" cy="336960"/>
              </a:xfrm>
              <a:custGeom>
                <a:avLst/>
                <a:gdLst/>
                <a:ahLst/>
                <a:rect l="l" t="t" r="r" b="b"/>
                <a:pathLst>
                  <a:path w="7312" h="826">
                    <a:moveTo>
                      <a:pt x="7297" y="0"/>
                    </a:moveTo>
                    <a:lnTo>
                      <a:pt x="6017" y="206"/>
                    </a:lnTo>
                    <a:lnTo>
                      <a:pt x="5195" y="324"/>
                    </a:lnTo>
                    <a:lnTo>
                      <a:pt x="4394" y="428"/>
                    </a:lnTo>
                    <a:lnTo>
                      <a:pt x="3613" y="517"/>
                    </a:lnTo>
                    <a:lnTo>
                      <a:pt x="2847" y="591"/>
                    </a:lnTo>
                    <a:lnTo>
                      <a:pt x="2095" y="651"/>
                    </a:lnTo>
                    <a:lnTo>
                      <a:pt x="1354" y="695"/>
                    </a:lnTo>
                    <a:lnTo>
                      <a:pt x="619" y="725"/>
                    </a:lnTo>
                    <a:lnTo>
                      <a:pt x="254" y="734"/>
                    </a:lnTo>
                    <a:lnTo>
                      <a:pt x="0" y="738"/>
                    </a:lnTo>
                    <a:lnTo>
                      <a:pt x="0" y="826"/>
                    </a:lnTo>
                    <a:lnTo>
                      <a:pt x="256" y="822"/>
                    </a:lnTo>
                    <a:lnTo>
                      <a:pt x="622" y="813"/>
                    </a:lnTo>
                    <a:lnTo>
                      <a:pt x="1358" y="783"/>
                    </a:lnTo>
                    <a:lnTo>
                      <a:pt x="2101" y="739"/>
                    </a:lnTo>
                    <a:lnTo>
                      <a:pt x="2855" y="679"/>
                    </a:lnTo>
                    <a:lnTo>
                      <a:pt x="3622" y="605"/>
                    </a:lnTo>
                    <a:lnTo>
                      <a:pt x="4405" y="516"/>
                    </a:lnTo>
                    <a:lnTo>
                      <a:pt x="5207" y="412"/>
                    </a:lnTo>
                    <a:lnTo>
                      <a:pt x="6030" y="293"/>
                    </a:lnTo>
                    <a:lnTo>
                      <a:pt x="7312" y="87"/>
                    </a:lnTo>
                    <a:lnTo>
                      <a:pt x="7297"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Group 51"/>
            <p:cNvGrpSpPr/>
            <p:nvPr/>
          </p:nvGrpSpPr>
          <p:grpSpPr>
            <a:xfrm>
              <a:off x="231840" y="2683440"/>
              <a:ext cx="3491280" cy="499680"/>
              <a:chOff x="231840" y="2683440"/>
              <a:chExt cx="3491280" cy="499680"/>
            </a:xfrm>
          </p:grpSpPr>
          <p:sp>
            <p:nvSpPr>
              <p:cNvPr id="103" name="Freeform 87"/>
              <p:cNvSpPr/>
              <p:nvPr/>
            </p:nvSpPr>
            <p:spPr>
              <a:xfrm>
                <a:off x="231840" y="2683440"/>
                <a:ext cx="3491280" cy="499680"/>
              </a:xfrm>
              <a:custGeom>
                <a:avLst/>
                <a:gdLst/>
                <a:ahLst/>
                <a:rect l="l" t="t" r="r" b="b"/>
                <a:pathLst>
                  <a:path w="7307" h="1225">
                    <a:moveTo>
                      <a:pt x="7301" y="0"/>
                    </a:moveTo>
                    <a:lnTo>
                      <a:pt x="0" y="1190"/>
                    </a:lnTo>
                    <a:lnTo>
                      <a:pt x="0" y="1225"/>
                    </a:lnTo>
                    <a:lnTo>
                      <a:pt x="7307" y="35"/>
                    </a:lnTo>
                    <a:lnTo>
                      <a:pt x="730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52"/>
            <p:cNvGrpSpPr/>
            <p:nvPr/>
          </p:nvGrpSpPr>
          <p:grpSpPr>
            <a:xfrm>
              <a:off x="231840" y="2687040"/>
              <a:ext cx="3490920" cy="623160"/>
              <a:chOff x="231840" y="2687040"/>
              <a:chExt cx="3490920" cy="623160"/>
            </a:xfrm>
          </p:grpSpPr>
          <p:sp>
            <p:nvSpPr>
              <p:cNvPr id="105" name="Freeform 86"/>
              <p:cNvSpPr/>
              <p:nvPr/>
            </p:nvSpPr>
            <p:spPr>
              <a:xfrm>
                <a:off x="231840" y="2687040"/>
                <a:ext cx="3490920" cy="623160"/>
              </a:xfrm>
              <a:custGeom>
                <a:avLst/>
                <a:gdLst/>
                <a:ahLst/>
                <a:rect l="l" t="t" r="r" b="b"/>
                <a:pathLst>
                  <a:path w="7306" h="1527">
                    <a:moveTo>
                      <a:pt x="7303" y="0"/>
                    </a:moveTo>
                    <a:lnTo>
                      <a:pt x="5590" y="301"/>
                    </a:lnTo>
                    <a:lnTo>
                      <a:pt x="3977" y="610"/>
                    </a:lnTo>
                    <a:lnTo>
                      <a:pt x="2442" y="931"/>
                    </a:lnTo>
                    <a:lnTo>
                      <a:pt x="1696" y="1098"/>
                    </a:lnTo>
                    <a:lnTo>
                      <a:pt x="961" y="1270"/>
                    </a:lnTo>
                    <a:lnTo>
                      <a:pt x="233" y="1449"/>
                    </a:lnTo>
                    <a:lnTo>
                      <a:pt x="0" y="1509"/>
                    </a:lnTo>
                    <a:lnTo>
                      <a:pt x="0" y="1527"/>
                    </a:lnTo>
                    <a:lnTo>
                      <a:pt x="238" y="1466"/>
                    </a:lnTo>
                    <a:lnTo>
                      <a:pt x="965" y="1287"/>
                    </a:lnTo>
                    <a:lnTo>
                      <a:pt x="1700" y="1115"/>
                    </a:lnTo>
                    <a:lnTo>
                      <a:pt x="2446" y="948"/>
                    </a:lnTo>
                    <a:lnTo>
                      <a:pt x="3981" y="627"/>
                    </a:lnTo>
                    <a:lnTo>
                      <a:pt x="5593" y="319"/>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Group 53"/>
            <p:cNvGrpSpPr/>
            <p:nvPr/>
          </p:nvGrpSpPr>
          <p:grpSpPr>
            <a:xfrm>
              <a:off x="231840" y="2688840"/>
              <a:ext cx="3490560" cy="708480"/>
              <a:chOff x="231840" y="2688840"/>
              <a:chExt cx="3490560" cy="708480"/>
            </a:xfrm>
          </p:grpSpPr>
          <p:sp>
            <p:nvSpPr>
              <p:cNvPr id="107" name="Freeform 85"/>
              <p:cNvSpPr/>
              <p:nvPr/>
            </p:nvSpPr>
            <p:spPr>
              <a:xfrm>
                <a:off x="231840" y="2688840"/>
                <a:ext cx="3490560" cy="708480"/>
              </a:xfrm>
              <a:custGeom>
                <a:avLst/>
                <a:gdLst/>
                <a:ahLst/>
                <a:rect l="l" t="t" r="r" b="b"/>
                <a:pathLst>
                  <a:path w="7305" h="1737">
                    <a:moveTo>
                      <a:pt x="7304" y="0"/>
                    </a:moveTo>
                    <a:lnTo>
                      <a:pt x="6434" y="152"/>
                    </a:lnTo>
                    <a:lnTo>
                      <a:pt x="5594" y="309"/>
                    </a:lnTo>
                    <a:lnTo>
                      <a:pt x="4781" y="472"/>
                    </a:lnTo>
                    <a:lnTo>
                      <a:pt x="3992" y="642"/>
                    </a:lnTo>
                    <a:lnTo>
                      <a:pt x="3225" y="820"/>
                    </a:lnTo>
                    <a:lnTo>
                      <a:pt x="2476" y="1006"/>
                    </a:lnTo>
                    <a:lnTo>
                      <a:pt x="1742" y="1201"/>
                    </a:lnTo>
                    <a:lnTo>
                      <a:pt x="1022" y="1408"/>
                    </a:lnTo>
                    <a:lnTo>
                      <a:pt x="312" y="1625"/>
                    </a:lnTo>
                    <a:lnTo>
                      <a:pt x="0" y="1728"/>
                    </a:lnTo>
                    <a:lnTo>
                      <a:pt x="0" y="1737"/>
                    </a:lnTo>
                    <a:lnTo>
                      <a:pt x="315" y="1634"/>
                    </a:lnTo>
                    <a:lnTo>
                      <a:pt x="1025" y="1416"/>
                    </a:lnTo>
                    <a:lnTo>
                      <a:pt x="1745" y="1210"/>
                    </a:lnTo>
                    <a:lnTo>
                      <a:pt x="2478" y="1014"/>
                    </a:lnTo>
                    <a:lnTo>
                      <a:pt x="3227" y="828"/>
                    </a:lnTo>
                    <a:lnTo>
                      <a:pt x="3994" y="651"/>
                    </a:lnTo>
                    <a:lnTo>
                      <a:pt x="4783" y="481"/>
                    </a:lnTo>
                    <a:lnTo>
                      <a:pt x="5596" y="318"/>
                    </a:lnTo>
                    <a:lnTo>
                      <a:pt x="6436" y="161"/>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Group 54"/>
            <p:cNvGrpSpPr/>
            <p:nvPr/>
          </p:nvGrpSpPr>
          <p:grpSpPr>
            <a:xfrm>
              <a:off x="231840" y="2688840"/>
              <a:ext cx="3490560" cy="874440"/>
              <a:chOff x="231840" y="2688840"/>
              <a:chExt cx="3490560" cy="874440"/>
            </a:xfrm>
          </p:grpSpPr>
          <p:sp>
            <p:nvSpPr>
              <p:cNvPr id="109" name="Freeform 84"/>
              <p:cNvSpPr/>
              <p:nvPr/>
            </p:nvSpPr>
            <p:spPr>
              <a:xfrm>
                <a:off x="231840" y="2688840"/>
                <a:ext cx="3490560" cy="874440"/>
              </a:xfrm>
              <a:custGeom>
                <a:avLst/>
                <a:gdLst/>
                <a:ahLst/>
                <a:rect l="l" t="t" r="r" b="b"/>
                <a:pathLst>
                  <a:path w="7305" h="2143">
                    <a:moveTo>
                      <a:pt x="7304" y="0"/>
                    </a:moveTo>
                    <a:lnTo>
                      <a:pt x="6436" y="155"/>
                    </a:lnTo>
                    <a:lnTo>
                      <a:pt x="5603" y="322"/>
                    </a:lnTo>
                    <a:lnTo>
                      <a:pt x="4800" y="501"/>
                    </a:lnTo>
                    <a:lnTo>
                      <a:pt x="4027" y="693"/>
                    </a:lnTo>
                    <a:lnTo>
                      <a:pt x="3280" y="900"/>
                    </a:lnTo>
                    <a:lnTo>
                      <a:pt x="2557" y="1123"/>
                    </a:lnTo>
                    <a:lnTo>
                      <a:pt x="1855" y="1364"/>
                    </a:lnTo>
                    <a:lnTo>
                      <a:pt x="1171" y="1623"/>
                    </a:lnTo>
                    <a:lnTo>
                      <a:pt x="503" y="1902"/>
                    </a:lnTo>
                    <a:lnTo>
                      <a:pt x="0" y="2133"/>
                    </a:lnTo>
                    <a:lnTo>
                      <a:pt x="0" y="2143"/>
                    </a:lnTo>
                    <a:lnTo>
                      <a:pt x="506" y="1910"/>
                    </a:lnTo>
                    <a:lnTo>
                      <a:pt x="1174" y="1632"/>
                    </a:lnTo>
                    <a:lnTo>
                      <a:pt x="1858" y="1372"/>
                    </a:lnTo>
                    <a:lnTo>
                      <a:pt x="2560" y="1132"/>
                    </a:lnTo>
                    <a:lnTo>
                      <a:pt x="3283" y="909"/>
                    </a:lnTo>
                    <a:lnTo>
                      <a:pt x="4029" y="701"/>
                    </a:lnTo>
                    <a:lnTo>
                      <a:pt x="4802" y="509"/>
                    </a:lnTo>
                    <a:lnTo>
                      <a:pt x="5604" y="330"/>
                    </a:lnTo>
                    <a:lnTo>
                      <a:pt x="6438" y="164"/>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oup 55"/>
            <p:cNvGrpSpPr/>
            <p:nvPr/>
          </p:nvGrpSpPr>
          <p:grpSpPr>
            <a:xfrm>
              <a:off x="231840" y="2687040"/>
              <a:ext cx="3490920" cy="796320"/>
              <a:chOff x="231840" y="2687040"/>
              <a:chExt cx="3490920" cy="796320"/>
            </a:xfrm>
          </p:grpSpPr>
          <p:sp>
            <p:nvSpPr>
              <p:cNvPr id="111" name="Freeform 83"/>
              <p:cNvSpPr/>
              <p:nvPr/>
            </p:nvSpPr>
            <p:spPr>
              <a:xfrm>
                <a:off x="231840" y="2687040"/>
                <a:ext cx="3490920" cy="796320"/>
              </a:xfrm>
              <a:custGeom>
                <a:avLst/>
                <a:gdLst/>
                <a:ahLst/>
                <a:rect l="l" t="t" r="r" b="b"/>
                <a:pathLst>
                  <a:path w="7306" h="1952">
                    <a:moveTo>
                      <a:pt x="7303" y="0"/>
                    </a:moveTo>
                    <a:lnTo>
                      <a:pt x="6434" y="154"/>
                    </a:lnTo>
                    <a:lnTo>
                      <a:pt x="5597" y="316"/>
                    </a:lnTo>
                    <a:lnTo>
                      <a:pt x="4789" y="487"/>
                    </a:lnTo>
                    <a:lnTo>
                      <a:pt x="4008" y="669"/>
                    </a:lnTo>
                    <a:lnTo>
                      <a:pt x="3250" y="863"/>
                    </a:lnTo>
                    <a:lnTo>
                      <a:pt x="2513" y="1069"/>
                    </a:lnTo>
                    <a:lnTo>
                      <a:pt x="1794" y="1289"/>
                    </a:lnTo>
                    <a:lnTo>
                      <a:pt x="1091" y="1524"/>
                    </a:lnTo>
                    <a:lnTo>
                      <a:pt x="401" y="1775"/>
                    </a:lnTo>
                    <a:lnTo>
                      <a:pt x="0" y="1933"/>
                    </a:lnTo>
                    <a:lnTo>
                      <a:pt x="0" y="1952"/>
                    </a:lnTo>
                    <a:lnTo>
                      <a:pt x="407" y="1791"/>
                    </a:lnTo>
                    <a:lnTo>
                      <a:pt x="1097" y="1541"/>
                    </a:lnTo>
                    <a:lnTo>
                      <a:pt x="1800" y="1306"/>
                    </a:lnTo>
                    <a:lnTo>
                      <a:pt x="2518" y="1086"/>
                    </a:lnTo>
                    <a:lnTo>
                      <a:pt x="3254" y="880"/>
                    </a:lnTo>
                    <a:lnTo>
                      <a:pt x="4012" y="686"/>
                    </a:lnTo>
                    <a:lnTo>
                      <a:pt x="4793" y="505"/>
                    </a:lnTo>
                    <a:lnTo>
                      <a:pt x="5601" y="333"/>
                    </a:lnTo>
                    <a:lnTo>
                      <a:pt x="6437" y="171"/>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Group 56"/>
            <p:cNvGrpSpPr/>
            <p:nvPr/>
          </p:nvGrpSpPr>
          <p:grpSpPr>
            <a:xfrm>
              <a:off x="231840" y="1468440"/>
              <a:ext cx="2956680" cy="1017000"/>
              <a:chOff x="231840" y="1468440"/>
              <a:chExt cx="2956680" cy="1017000"/>
            </a:xfrm>
          </p:grpSpPr>
          <p:sp>
            <p:nvSpPr>
              <p:cNvPr id="113" name="Freeform 82"/>
              <p:cNvSpPr/>
              <p:nvPr/>
            </p:nvSpPr>
            <p:spPr>
              <a:xfrm>
                <a:off x="231840" y="1468440"/>
                <a:ext cx="2956680" cy="1017000"/>
              </a:xfrm>
              <a:custGeom>
                <a:avLst/>
                <a:gdLst/>
                <a:ahLst/>
                <a:rect l="l" t="t" r="r" b="b"/>
                <a:pathLst>
                  <a:path w="6188" h="2493">
                    <a:moveTo>
                      <a:pt x="6141" y="0"/>
                    </a:moveTo>
                    <a:lnTo>
                      <a:pt x="5951" y="121"/>
                    </a:lnTo>
                    <a:lnTo>
                      <a:pt x="5763" y="238"/>
                    </a:lnTo>
                    <a:lnTo>
                      <a:pt x="5576" y="352"/>
                    </a:lnTo>
                    <a:lnTo>
                      <a:pt x="5390" y="463"/>
                    </a:lnTo>
                    <a:lnTo>
                      <a:pt x="5206" y="571"/>
                    </a:lnTo>
                    <a:lnTo>
                      <a:pt x="5023" y="676"/>
                    </a:lnTo>
                    <a:lnTo>
                      <a:pt x="4842" y="778"/>
                    </a:lnTo>
                    <a:lnTo>
                      <a:pt x="4662" y="876"/>
                    </a:lnTo>
                    <a:lnTo>
                      <a:pt x="4483" y="972"/>
                    </a:lnTo>
                    <a:lnTo>
                      <a:pt x="4306" y="1065"/>
                    </a:lnTo>
                    <a:lnTo>
                      <a:pt x="4130" y="1154"/>
                    </a:lnTo>
                    <a:lnTo>
                      <a:pt x="3954" y="1241"/>
                    </a:lnTo>
                    <a:lnTo>
                      <a:pt x="3780" y="1324"/>
                    </a:lnTo>
                    <a:lnTo>
                      <a:pt x="3608" y="1405"/>
                    </a:lnTo>
                    <a:lnTo>
                      <a:pt x="3436" y="1482"/>
                    </a:lnTo>
                    <a:lnTo>
                      <a:pt x="3265" y="1557"/>
                    </a:lnTo>
                    <a:lnTo>
                      <a:pt x="3095" y="1628"/>
                    </a:lnTo>
                    <a:lnTo>
                      <a:pt x="2926" y="1696"/>
                    </a:lnTo>
                    <a:lnTo>
                      <a:pt x="2758" y="1762"/>
                    </a:lnTo>
                    <a:lnTo>
                      <a:pt x="2591" y="1824"/>
                    </a:lnTo>
                    <a:lnTo>
                      <a:pt x="2424" y="1883"/>
                    </a:lnTo>
                    <a:lnTo>
                      <a:pt x="2258" y="1939"/>
                    </a:lnTo>
                    <a:lnTo>
                      <a:pt x="2093" y="1992"/>
                    </a:lnTo>
                    <a:lnTo>
                      <a:pt x="1929" y="2042"/>
                    </a:lnTo>
                    <a:lnTo>
                      <a:pt x="1765" y="2089"/>
                    </a:lnTo>
                    <a:lnTo>
                      <a:pt x="1602" y="2133"/>
                    </a:lnTo>
                    <a:lnTo>
                      <a:pt x="1440" y="2174"/>
                    </a:lnTo>
                    <a:lnTo>
                      <a:pt x="1278" y="2212"/>
                    </a:lnTo>
                    <a:lnTo>
                      <a:pt x="1116" y="2247"/>
                    </a:lnTo>
                    <a:lnTo>
                      <a:pt x="955" y="2279"/>
                    </a:lnTo>
                    <a:lnTo>
                      <a:pt x="794" y="2307"/>
                    </a:lnTo>
                    <a:lnTo>
                      <a:pt x="634" y="2333"/>
                    </a:lnTo>
                    <a:lnTo>
                      <a:pt x="474" y="2356"/>
                    </a:lnTo>
                    <a:lnTo>
                      <a:pt x="314" y="2375"/>
                    </a:lnTo>
                    <a:lnTo>
                      <a:pt x="154" y="2392"/>
                    </a:lnTo>
                    <a:lnTo>
                      <a:pt x="0" y="2405"/>
                    </a:lnTo>
                    <a:lnTo>
                      <a:pt x="0" y="2494"/>
                    </a:lnTo>
                    <a:lnTo>
                      <a:pt x="162" y="2480"/>
                    </a:lnTo>
                    <a:lnTo>
                      <a:pt x="324" y="2463"/>
                    </a:lnTo>
                    <a:lnTo>
                      <a:pt x="485" y="2443"/>
                    </a:lnTo>
                    <a:lnTo>
                      <a:pt x="647" y="2420"/>
                    </a:lnTo>
                    <a:lnTo>
                      <a:pt x="809" y="2394"/>
                    </a:lnTo>
                    <a:lnTo>
                      <a:pt x="971" y="2365"/>
                    </a:lnTo>
                    <a:lnTo>
                      <a:pt x="1134" y="2333"/>
                    </a:lnTo>
                    <a:lnTo>
                      <a:pt x="1297" y="2298"/>
                    </a:lnTo>
                    <a:lnTo>
                      <a:pt x="1461" y="2260"/>
                    </a:lnTo>
                    <a:lnTo>
                      <a:pt x="1624" y="2218"/>
                    </a:lnTo>
                    <a:lnTo>
                      <a:pt x="1789" y="2174"/>
                    </a:lnTo>
                    <a:lnTo>
                      <a:pt x="1954" y="2127"/>
                    </a:lnTo>
                    <a:lnTo>
                      <a:pt x="2120" y="2076"/>
                    </a:lnTo>
                    <a:lnTo>
                      <a:pt x="2286" y="2023"/>
                    </a:lnTo>
                    <a:lnTo>
                      <a:pt x="2453" y="1966"/>
                    </a:lnTo>
                    <a:lnTo>
                      <a:pt x="2621" y="1907"/>
                    </a:lnTo>
                    <a:lnTo>
                      <a:pt x="2789" y="1844"/>
                    </a:lnTo>
                    <a:lnTo>
                      <a:pt x="2958" y="1778"/>
                    </a:lnTo>
                    <a:lnTo>
                      <a:pt x="3128" y="1709"/>
                    </a:lnTo>
                    <a:lnTo>
                      <a:pt x="3299" y="1638"/>
                    </a:lnTo>
                    <a:lnTo>
                      <a:pt x="3471" y="1563"/>
                    </a:lnTo>
                    <a:lnTo>
                      <a:pt x="3644" y="1485"/>
                    </a:lnTo>
                    <a:lnTo>
                      <a:pt x="3818" y="1404"/>
                    </a:lnTo>
                    <a:lnTo>
                      <a:pt x="3993" y="1320"/>
                    </a:lnTo>
                    <a:lnTo>
                      <a:pt x="4169" y="1233"/>
                    </a:lnTo>
                    <a:lnTo>
                      <a:pt x="4346" y="1143"/>
                    </a:lnTo>
                    <a:lnTo>
                      <a:pt x="4524" y="1050"/>
                    </a:lnTo>
                    <a:lnTo>
                      <a:pt x="4704" y="954"/>
                    </a:lnTo>
                    <a:lnTo>
                      <a:pt x="4885" y="854"/>
                    </a:lnTo>
                    <a:lnTo>
                      <a:pt x="5067" y="752"/>
                    </a:lnTo>
                    <a:lnTo>
                      <a:pt x="5250" y="647"/>
                    </a:lnTo>
                    <a:lnTo>
                      <a:pt x="5435" y="538"/>
                    </a:lnTo>
                    <a:lnTo>
                      <a:pt x="5621" y="427"/>
                    </a:lnTo>
                    <a:lnTo>
                      <a:pt x="5809" y="313"/>
                    </a:lnTo>
                    <a:lnTo>
                      <a:pt x="5998" y="195"/>
                    </a:lnTo>
                    <a:lnTo>
                      <a:pt x="6188" y="75"/>
                    </a:lnTo>
                    <a:lnTo>
                      <a:pt x="6141"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 name="Group 57"/>
            <p:cNvGrpSpPr/>
            <p:nvPr/>
          </p:nvGrpSpPr>
          <p:grpSpPr>
            <a:xfrm>
              <a:off x="231840" y="1477800"/>
              <a:ext cx="2950200" cy="1182240"/>
              <a:chOff x="231840" y="1477800"/>
              <a:chExt cx="2950200" cy="1182240"/>
            </a:xfrm>
          </p:grpSpPr>
          <p:sp>
            <p:nvSpPr>
              <p:cNvPr id="115" name="Freeform 81"/>
              <p:cNvSpPr/>
              <p:nvPr/>
            </p:nvSpPr>
            <p:spPr>
              <a:xfrm>
                <a:off x="231840" y="1477800"/>
                <a:ext cx="2950200" cy="1182240"/>
              </a:xfrm>
              <a:custGeom>
                <a:avLst/>
                <a:gdLst/>
                <a:ahLst/>
                <a:rect l="l" t="t" r="r" b="b"/>
                <a:pathLst>
                  <a:path w="6174" h="2898">
                    <a:moveTo>
                      <a:pt x="6155" y="0"/>
                    </a:moveTo>
                    <a:lnTo>
                      <a:pt x="5613" y="339"/>
                    </a:lnTo>
                    <a:lnTo>
                      <a:pt x="5081" y="659"/>
                    </a:lnTo>
                    <a:lnTo>
                      <a:pt x="4558" y="959"/>
                    </a:lnTo>
                    <a:lnTo>
                      <a:pt x="4043" y="1241"/>
                    </a:lnTo>
                    <a:lnTo>
                      <a:pt x="3535" y="1505"/>
                    </a:lnTo>
                    <a:lnTo>
                      <a:pt x="3033" y="1749"/>
                    </a:lnTo>
                    <a:lnTo>
                      <a:pt x="2535" y="1976"/>
                    </a:lnTo>
                    <a:lnTo>
                      <a:pt x="2041" y="2184"/>
                    </a:lnTo>
                    <a:lnTo>
                      <a:pt x="1550" y="2374"/>
                    </a:lnTo>
                    <a:lnTo>
                      <a:pt x="1061" y="2547"/>
                    </a:lnTo>
                    <a:lnTo>
                      <a:pt x="572" y="2703"/>
                    </a:lnTo>
                    <a:lnTo>
                      <a:pt x="83" y="2841"/>
                    </a:lnTo>
                    <a:lnTo>
                      <a:pt x="0" y="2861"/>
                    </a:lnTo>
                    <a:lnTo>
                      <a:pt x="0" y="2897"/>
                    </a:lnTo>
                    <a:lnTo>
                      <a:pt x="92" y="2875"/>
                    </a:lnTo>
                    <a:lnTo>
                      <a:pt x="582" y="2736"/>
                    </a:lnTo>
                    <a:lnTo>
                      <a:pt x="1072" y="2581"/>
                    </a:lnTo>
                    <a:lnTo>
                      <a:pt x="1562" y="2407"/>
                    </a:lnTo>
                    <a:lnTo>
                      <a:pt x="2054" y="2217"/>
                    </a:lnTo>
                    <a:lnTo>
                      <a:pt x="2549" y="2008"/>
                    </a:lnTo>
                    <a:lnTo>
                      <a:pt x="3048" y="1781"/>
                    </a:lnTo>
                    <a:lnTo>
                      <a:pt x="3551" y="1536"/>
                    </a:lnTo>
                    <a:lnTo>
                      <a:pt x="4060" y="1272"/>
                    </a:lnTo>
                    <a:lnTo>
                      <a:pt x="4576" y="990"/>
                    </a:lnTo>
                    <a:lnTo>
                      <a:pt x="5099" y="689"/>
                    </a:lnTo>
                    <a:lnTo>
                      <a:pt x="5632" y="369"/>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58"/>
            <p:cNvGrpSpPr/>
            <p:nvPr/>
          </p:nvGrpSpPr>
          <p:grpSpPr>
            <a:xfrm>
              <a:off x="231840" y="1477800"/>
              <a:ext cx="2950200" cy="1348200"/>
              <a:chOff x="231840" y="1477800"/>
              <a:chExt cx="2950200" cy="1348200"/>
            </a:xfrm>
          </p:grpSpPr>
          <p:sp>
            <p:nvSpPr>
              <p:cNvPr id="117" name="Freeform 80"/>
              <p:cNvSpPr/>
              <p:nvPr/>
            </p:nvSpPr>
            <p:spPr>
              <a:xfrm>
                <a:off x="231840" y="1477800"/>
                <a:ext cx="2950200" cy="1348200"/>
              </a:xfrm>
              <a:custGeom>
                <a:avLst/>
                <a:gdLst/>
                <a:ahLst/>
                <a:rect l="l" t="t" r="r" b="b"/>
                <a:pathLst>
                  <a:path w="6174" h="3304">
                    <a:moveTo>
                      <a:pt x="6155" y="0"/>
                    </a:moveTo>
                    <a:lnTo>
                      <a:pt x="5408" y="468"/>
                    </a:lnTo>
                    <a:lnTo>
                      <a:pt x="4679" y="910"/>
                    </a:lnTo>
                    <a:lnTo>
                      <a:pt x="3966" y="1325"/>
                    </a:lnTo>
                    <a:lnTo>
                      <a:pt x="3265" y="1716"/>
                    </a:lnTo>
                    <a:lnTo>
                      <a:pt x="2574" y="2082"/>
                    </a:lnTo>
                    <a:lnTo>
                      <a:pt x="1890" y="2425"/>
                    </a:lnTo>
                    <a:lnTo>
                      <a:pt x="1210" y="2746"/>
                    </a:lnTo>
                    <a:lnTo>
                      <a:pt x="532" y="3046"/>
                    </a:lnTo>
                    <a:lnTo>
                      <a:pt x="0" y="3265"/>
                    </a:lnTo>
                    <a:lnTo>
                      <a:pt x="0" y="3303"/>
                    </a:lnTo>
                    <a:lnTo>
                      <a:pt x="546" y="3078"/>
                    </a:lnTo>
                    <a:lnTo>
                      <a:pt x="1225" y="2778"/>
                    </a:lnTo>
                    <a:lnTo>
                      <a:pt x="1905" y="2457"/>
                    </a:lnTo>
                    <a:lnTo>
                      <a:pt x="2590" y="2113"/>
                    </a:lnTo>
                    <a:lnTo>
                      <a:pt x="3282" y="1747"/>
                    </a:lnTo>
                    <a:lnTo>
                      <a:pt x="3983" y="1356"/>
                    </a:lnTo>
                    <a:lnTo>
                      <a:pt x="4697" y="940"/>
                    </a:lnTo>
                    <a:lnTo>
                      <a:pt x="5427" y="498"/>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Group 59"/>
            <p:cNvGrpSpPr/>
            <p:nvPr/>
          </p:nvGrpSpPr>
          <p:grpSpPr>
            <a:xfrm>
              <a:off x="231840" y="1480680"/>
              <a:ext cx="2948040" cy="1465920"/>
              <a:chOff x="231840" y="1480680"/>
              <a:chExt cx="2948040" cy="1465920"/>
            </a:xfrm>
          </p:grpSpPr>
          <p:sp>
            <p:nvSpPr>
              <p:cNvPr id="119" name="Freeform 79"/>
              <p:cNvSpPr/>
              <p:nvPr/>
            </p:nvSpPr>
            <p:spPr>
              <a:xfrm>
                <a:off x="231840" y="1480680"/>
                <a:ext cx="2948040" cy="1465920"/>
              </a:xfrm>
              <a:custGeom>
                <a:avLst/>
                <a:gdLst/>
                <a:ahLst/>
                <a:rect l="l" t="t" r="r" b="b"/>
                <a:pathLst>
                  <a:path w="6170" h="3593">
                    <a:moveTo>
                      <a:pt x="6160" y="0"/>
                    </a:moveTo>
                    <a:lnTo>
                      <a:pt x="5414" y="472"/>
                    </a:lnTo>
                    <a:lnTo>
                      <a:pt x="4687" y="923"/>
                    </a:lnTo>
                    <a:lnTo>
                      <a:pt x="3977" y="1355"/>
                    </a:lnTo>
                    <a:lnTo>
                      <a:pt x="3282" y="1769"/>
                    </a:lnTo>
                    <a:lnTo>
                      <a:pt x="2598" y="2166"/>
                    </a:lnTo>
                    <a:lnTo>
                      <a:pt x="1923" y="2547"/>
                    </a:lnTo>
                    <a:lnTo>
                      <a:pt x="1255" y="2914"/>
                    </a:lnTo>
                    <a:lnTo>
                      <a:pt x="590" y="3269"/>
                    </a:lnTo>
                    <a:lnTo>
                      <a:pt x="0" y="3573"/>
                    </a:lnTo>
                    <a:lnTo>
                      <a:pt x="0" y="3593"/>
                    </a:lnTo>
                    <a:lnTo>
                      <a:pt x="598" y="3284"/>
                    </a:lnTo>
                    <a:lnTo>
                      <a:pt x="1263" y="2930"/>
                    </a:lnTo>
                    <a:lnTo>
                      <a:pt x="1932" y="2563"/>
                    </a:lnTo>
                    <a:lnTo>
                      <a:pt x="2607" y="2181"/>
                    </a:lnTo>
                    <a:lnTo>
                      <a:pt x="3291" y="1784"/>
                    </a:lnTo>
                    <a:lnTo>
                      <a:pt x="3986" y="1370"/>
                    </a:lnTo>
                    <a:lnTo>
                      <a:pt x="4696" y="938"/>
                    </a:lnTo>
                    <a:lnTo>
                      <a:pt x="5423" y="487"/>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Group 60"/>
            <p:cNvGrpSpPr/>
            <p:nvPr/>
          </p:nvGrpSpPr>
          <p:grpSpPr>
            <a:xfrm>
              <a:off x="231840" y="1482480"/>
              <a:ext cx="2946600" cy="1550880"/>
              <a:chOff x="231840" y="1482480"/>
              <a:chExt cx="2946600" cy="1550880"/>
            </a:xfrm>
          </p:grpSpPr>
          <p:sp>
            <p:nvSpPr>
              <p:cNvPr id="121" name="Freeform 78"/>
              <p:cNvSpPr/>
              <p:nvPr/>
            </p:nvSpPr>
            <p:spPr>
              <a:xfrm>
                <a:off x="231840" y="1482480"/>
                <a:ext cx="2946600" cy="1550880"/>
              </a:xfrm>
              <a:custGeom>
                <a:avLst/>
                <a:gdLst/>
                <a:ahLst/>
                <a:rect l="l" t="t" r="r" b="b"/>
                <a:pathLst>
                  <a:path w="6167" h="3801">
                    <a:moveTo>
                      <a:pt x="6162" y="0"/>
                    </a:moveTo>
                    <a:lnTo>
                      <a:pt x="3987" y="1373"/>
                    </a:lnTo>
                    <a:lnTo>
                      <a:pt x="1958" y="2622"/>
                    </a:lnTo>
                    <a:lnTo>
                      <a:pt x="0" y="3791"/>
                    </a:lnTo>
                    <a:lnTo>
                      <a:pt x="0" y="3801"/>
                    </a:lnTo>
                    <a:lnTo>
                      <a:pt x="1963" y="2630"/>
                    </a:lnTo>
                    <a:lnTo>
                      <a:pt x="3992" y="1380"/>
                    </a:lnTo>
                    <a:lnTo>
                      <a:pt x="6167" y="7"/>
                    </a:lnTo>
                    <a:lnTo>
                      <a:pt x="6162"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oup 61"/>
            <p:cNvGrpSpPr/>
            <p:nvPr/>
          </p:nvGrpSpPr>
          <p:grpSpPr>
            <a:xfrm>
              <a:off x="231840" y="1480680"/>
              <a:ext cx="2948040" cy="1640520"/>
              <a:chOff x="231840" y="1480680"/>
              <a:chExt cx="2948040" cy="1640520"/>
            </a:xfrm>
          </p:grpSpPr>
          <p:sp>
            <p:nvSpPr>
              <p:cNvPr id="123" name="Freeform 77"/>
              <p:cNvSpPr/>
              <p:nvPr/>
            </p:nvSpPr>
            <p:spPr>
              <a:xfrm>
                <a:off x="231840" y="1480680"/>
                <a:ext cx="2948040" cy="1640520"/>
              </a:xfrm>
              <a:custGeom>
                <a:avLst/>
                <a:gdLst/>
                <a:ahLst/>
                <a:rect l="l" t="t" r="r" b="b"/>
                <a:pathLst>
                  <a:path w="6170" h="4021">
                    <a:moveTo>
                      <a:pt x="6160" y="0"/>
                    </a:moveTo>
                    <a:lnTo>
                      <a:pt x="3994" y="1388"/>
                    </a:lnTo>
                    <a:lnTo>
                      <a:pt x="0" y="4000"/>
                    </a:lnTo>
                    <a:lnTo>
                      <a:pt x="0" y="4021"/>
                    </a:lnTo>
                    <a:lnTo>
                      <a:pt x="4004" y="1403"/>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Group 62"/>
            <p:cNvGrpSpPr/>
            <p:nvPr/>
          </p:nvGrpSpPr>
          <p:grpSpPr>
            <a:xfrm>
              <a:off x="231840" y="1480680"/>
              <a:ext cx="2948040" cy="1726920"/>
              <a:chOff x="231840" y="1480680"/>
              <a:chExt cx="2948040" cy="1726920"/>
            </a:xfrm>
          </p:grpSpPr>
          <p:sp>
            <p:nvSpPr>
              <p:cNvPr id="125" name="Freeform 76"/>
              <p:cNvSpPr/>
              <p:nvPr/>
            </p:nvSpPr>
            <p:spPr>
              <a:xfrm>
                <a:off x="231840" y="1480680"/>
                <a:ext cx="2948040" cy="1726920"/>
              </a:xfrm>
              <a:custGeom>
                <a:avLst/>
                <a:gdLst/>
                <a:ahLst/>
                <a:rect l="l" t="t" r="r" b="b"/>
                <a:pathLst>
                  <a:path w="6170" h="4232">
                    <a:moveTo>
                      <a:pt x="6160" y="0"/>
                    </a:moveTo>
                    <a:lnTo>
                      <a:pt x="5417" y="477"/>
                    </a:lnTo>
                    <a:lnTo>
                      <a:pt x="4004" y="1401"/>
                    </a:lnTo>
                    <a:lnTo>
                      <a:pt x="3331" y="1852"/>
                    </a:lnTo>
                    <a:lnTo>
                      <a:pt x="2676" y="2298"/>
                    </a:lnTo>
                    <a:lnTo>
                      <a:pt x="2037" y="2740"/>
                    </a:lnTo>
                    <a:lnTo>
                      <a:pt x="1412" y="3181"/>
                    </a:lnTo>
                    <a:lnTo>
                      <a:pt x="798" y="3622"/>
                    </a:lnTo>
                    <a:lnTo>
                      <a:pt x="193" y="4066"/>
                    </a:lnTo>
                    <a:lnTo>
                      <a:pt x="0" y="4210"/>
                    </a:lnTo>
                    <a:lnTo>
                      <a:pt x="0" y="4232"/>
                    </a:lnTo>
                    <a:lnTo>
                      <a:pt x="204" y="4080"/>
                    </a:lnTo>
                    <a:lnTo>
                      <a:pt x="808" y="3637"/>
                    </a:lnTo>
                    <a:lnTo>
                      <a:pt x="1422" y="3195"/>
                    </a:lnTo>
                    <a:lnTo>
                      <a:pt x="2047" y="2755"/>
                    </a:lnTo>
                    <a:lnTo>
                      <a:pt x="2686" y="2312"/>
                    </a:lnTo>
                    <a:lnTo>
                      <a:pt x="3340" y="1867"/>
                    </a:lnTo>
                    <a:lnTo>
                      <a:pt x="4014" y="1416"/>
                    </a:lnTo>
                    <a:lnTo>
                      <a:pt x="5426" y="492"/>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63"/>
            <p:cNvGrpSpPr/>
            <p:nvPr/>
          </p:nvGrpSpPr>
          <p:grpSpPr>
            <a:xfrm>
              <a:off x="2219040" y="601560"/>
              <a:ext cx="9000" cy="4320"/>
              <a:chOff x="2219040" y="601560"/>
              <a:chExt cx="9000" cy="4320"/>
            </a:xfrm>
          </p:grpSpPr>
          <p:sp>
            <p:nvSpPr>
              <p:cNvPr id="127" name="Freeform 75"/>
              <p:cNvSpPr/>
              <p:nvPr/>
            </p:nvSpPr>
            <p:spPr>
              <a:xfrm>
                <a:off x="2219040" y="601560"/>
                <a:ext cx="9000" cy="4320"/>
              </a:xfrm>
              <a:custGeom>
                <a:avLst/>
                <a:gdLst/>
                <a:ahLst/>
                <a:rect l="l" t="t" r="r" b="b"/>
                <a:pathLst>
                  <a:path w="19" h="11">
                    <a:moveTo>
                      <a:pt x="18" y="0"/>
                    </a:moveTo>
                    <a:lnTo>
                      <a:pt x="1" y="0"/>
                    </a:lnTo>
                    <a:lnTo>
                      <a:pt x="0" y="3"/>
                    </a:lnTo>
                    <a:lnTo>
                      <a:pt x="1" y="7"/>
                    </a:lnTo>
                    <a:lnTo>
                      <a:pt x="6" y="11"/>
                    </a:lnTo>
                    <a:lnTo>
                      <a:pt x="8" y="11"/>
                    </a:lnTo>
                    <a:lnTo>
                      <a:pt x="12" y="11"/>
                    </a:lnTo>
                    <a:lnTo>
                      <a:pt x="15" y="10"/>
                    </a:lnTo>
                    <a:lnTo>
                      <a:pt x="18" y="5"/>
                    </a:lnTo>
                    <a:lnTo>
                      <a:pt x="19" y="3"/>
                    </a:lnTo>
                    <a:lnTo>
                      <a:pt x="18" y="0"/>
                    </a:lnTo>
                  </a:path>
                </a:pathLst>
              </a:custGeom>
              <a:solidFill>
                <a:srgbClr val="6d6e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128" name="Group 64"/>
            <p:cNvGrpSpPr/>
            <p:nvPr/>
          </p:nvGrpSpPr>
          <p:grpSpPr>
            <a:xfrm>
              <a:off x="2232360" y="607320"/>
              <a:ext cx="9360" cy="7200"/>
              <a:chOff x="2232360" y="607320"/>
              <a:chExt cx="9360" cy="7200"/>
            </a:xfrm>
          </p:grpSpPr>
          <p:sp>
            <p:nvSpPr>
              <p:cNvPr id="129" name="Freeform 74"/>
              <p:cNvSpPr/>
              <p:nvPr/>
            </p:nvSpPr>
            <p:spPr>
              <a:xfrm>
                <a:off x="2232360" y="607320"/>
                <a:ext cx="9360" cy="7200"/>
              </a:xfrm>
              <a:custGeom>
                <a:avLst/>
                <a:gdLst/>
                <a:ahLst/>
                <a:rect l="l" t="t" r="r" b="b"/>
                <a:pathLst>
                  <a:path w="20" h="18">
                    <a:moveTo>
                      <a:pt x="12" y="0"/>
                    </a:moveTo>
                    <a:lnTo>
                      <a:pt x="7" y="0"/>
                    </a:lnTo>
                    <a:lnTo>
                      <a:pt x="4" y="1"/>
                    </a:lnTo>
                    <a:lnTo>
                      <a:pt x="0" y="7"/>
                    </a:lnTo>
                    <a:lnTo>
                      <a:pt x="1" y="13"/>
                    </a:lnTo>
                    <a:lnTo>
                      <a:pt x="6" y="17"/>
                    </a:lnTo>
                    <a:lnTo>
                      <a:pt x="8" y="17"/>
                    </a:lnTo>
                    <a:lnTo>
                      <a:pt x="12" y="17"/>
                    </a:lnTo>
                    <a:lnTo>
                      <a:pt x="15" y="16"/>
                    </a:lnTo>
                    <a:lnTo>
                      <a:pt x="20" y="10"/>
                    </a:lnTo>
                    <a:lnTo>
                      <a:pt x="19" y="4"/>
                    </a:lnTo>
                    <a:lnTo>
                      <a:pt x="13"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30" name="Group 65"/>
            <p:cNvGrpSpPr/>
            <p:nvPr/>
          </p:nvGrpSpPr>
          <p:grpSpPr>
            <a:xfrm>
              <a:off x="2248200" y="619200"/>
              <a:ext cx="6840" cy="3600"/>
              <a:chOff x="2248200" y="619200"/>
              <a:chExt cx="6840" cy="3600"/>
            </a:xfrm>
          </p:grpSpPr>
          <p:sp>
            <p:nvSpPr>
              <p:cNvPr id="131" name="Freeform 73"/>
              <p:cNvSpPr/>
              <p:nvPr/>
            </p:nvSpPr>
            <p:spPr>
              <a:xfrm>
                <a:off x="2248200" y="619200"/>
                <a:ext cx="6840" cy="3600"/>
              </a:xfrm>
              <a:custGeom>
                <a:avLst/>
                <a:gdLst/>
                <a:ahLst/>
                <a:rect l="l" t="t" r="r" b="b"/>
                <a:pathLst>
                  <a:path w="15" h="9">
                    <a:moveTo>
                      <a:pt x="15" y="0"/>
                    </a:moveTo>
                    <a:lnTo>
                      <a:pt x="5" y="0"/>
                    </a:lnTo>
                    <a:lnTo>
                      <a:pt x="0" y="7"/>
                    </a:lnTo>
                    <a:lnTo>
                      <a:pt x="1" y="9"/>
                    </a:lnTo>
                    <a:lnTo>
                      <a:pt x="3" y="9"/>
                    </a:lnTo>
                    <a:lnTo>
                      <a:pt x="8" y="9"/>
                    </a:lnTo>
                    <a:lnTo>
                      <a:pt x="10" y="8"/>
                    </a:lnTo>
                    <a:lnTo>
                      <a:pt x="15" y="2"/>
                    </a:lnTo>
                    <a:lnTo>
                      <a:pt x="15" y="0"/>
                    </a:lnTo>
                  </a:path>
                </a:pathLst>
              </a:custGeom>
              <a:solidFill>
                <a:srgbClr val="6d6e71"/>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132" name="Group 66"/>
            <p:cNvGrpSpPr/>
            <p:nvPr/>
          </p:nvGrpSpPr>
          <p:grpSpPr>
            <a:xfrm>
              <a:off x="2245680" y="615960"/>
              <a:ext cx="9360" cy="6120"/>
              <a:chOff x="2245680" y="615960"/>
              <a:chExt cx="9360" cy="6120"/>
            </a:xfrm>
          </p:grpSpPr>
          <p:sp>
            <p:nvSpPr>
              <p:cNvPr id="133" name="Freeform 72"/>
              <p:cNvSpPr/>
              <p:nvPr/>
            </p:nvSpPr>
            <p:spPr>
              <a:xfrm>
                <a:off x="2245680" y="615960"/>
                <a:ext cx="9360" cy="6120"/>
              </a:xfrm>
              <a:custGeom>
                <a:avLst/>
                <a:gdLst/>
                <a:ahLst/>
                <a:rect l="l" t="t" r="r" b="b"/>
                <a:pathLst>
                  <a:path w="20" h="16">
                    <a:moveTo>
                      <a:pt x="12" y="0"/>
                    </a:moveTo>
                    <a:lnTo>
                      <a:pt x="7" y="0"/>
                    </a:lnTo>
                    <a:lnTo>
                      <a:pt x="5" y="1"/>
                    </a:lnTo>
                    <a:lnTo>
                      <a:pt x="0" y="7"/>
                    </a:lnTo>
                    <a:lnTo>
                      <a:pt x="1" y="13"/>
                    </a:lnTo>
                    <a:lnTo>
                      <a:pt x="5" y="15"/>
                    </a:lnTo>
                    <a:lnTo>
                      <a:pt x="10" y="8"/>
                    </a:lnTo>
                    <a:lnTo>
                      <a:pt x="20" y="8"/>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134" name="Group 67"/>
            <p:cNvGrpSpPr/>
            <p:nvPr/>
          </p:nvGrpSpPr>
          <p:grpSpPr>
            <a:xfrm>
              <a:off x="2259000" y="624600"/>
              <a:ext cx="9360" cy="7200"/>
              <a:chOff x="2259000" y="624600"/>
              <a:chExt cx="9360" cy="7200"/>
            </a:xfrm>
          </p:grpSpPr>
          <p:sp>
            <p:nvSpPr>
              <p:cNvPr id="135" name="Freeform 71"/>
              <p:cNvSpPr/>
              <p:nvPr/>
            </p:nvSpPr>
            <p:spPr>
              <a:xfrm>
                <a:off x="2259000" y="624600"/>
                <a:ext cx="9360" cy="7200"/>
              </a:xfrm>
              <a:custGeom>
                <a:avLst/>
                <a:gdLst/>
                <a:ahLst/>
                <a:rect l="l" t="t" r="r" b="b"/>
                <a:pathLst>
                  <a:path w="20" h="18">
                    <a:moveTo>
                      <a:pt x="12" y="0"/>
                    </a:moveTo>
                    <a:lnTo>
                      <a:pt x="7" y="0"/>
                    </a:lnTo>
                    <a:lnTo>
                      <a:pt x="5" y="1"/>
                    </a:lnTo>
                    <a:lnTo>
                      <a:pt x="0" y="7"/>
                    </a:lnTo>
                    <a:lnTo>
                      <a:pt x="1" y="13"/>
                    </a:lnTo>
                    <a:lnTo>
                      <a:pt x="6" y="17"/>
                    </a:lnTo>
                    <a:lnTo>
                      <a:pt x="8" y="17"/>
                    </a:lnTo>
                    <a:lnTo>
                      <a:pt x="13" y="17"/>
                    </a:lnTo>
                    <a:lnTo>
                      <a:pt x="15" y="16"/>
                    </a:lnTo>
                    <a:lnTo>
                      <a:pt x="20" y="10"/>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36" name="Group 68"/>
            <p:cNvGrpSpPr/>
            <p:nvPr/>
          </p:nvGrpSpPr>
          <p:grpSpPr>
            <a:xfrm>
              <a:off x="227160" y="633240"/>
              <a:ext cx="3561480" cy="5851800"/>
              <a:chOff x="227160" y="633240"/>
              <a:chExt cx="3561480" cy="5851800"/>
            </a:xfrm>
          </p:grpSpPr>
          <p:sp>
            <p:nvSpPr>
              <p:cNvPr id="137" name="Freeform 69"/>
              <p:cNvSpPr/>
              <p:nvPr/>
            </p:nvSpPr>
            <p:spPr>
              <a:xfrm>
                <a:off x="2273400" y="633240"/>
                <a:ext cx="9360" cy="7560"/>
              </a:xfrm>
              <a:custGeom>
                <a:avLst/>
                <a:gdLst/>
                <a:ahLst/>
                <a:rect l="l" t="t" r="r" b="b"/>
                <a:pathLst>
                  <a:path w="20" h="18">
                    <a:moveTo>
                      <a:pt x="12" y="0"/>
                    </a:moveTo>
                    <a:lnTo>
                      <a:pt x="7" y="0"/>
                    </a:lnTo>
                    <a:lnTo>
                      <a:pt x="5" y="1"/>
                    </a:lnTo>
                    <a:lnTo>
                      <a:pt x="0" y="7"/>
                    </a:lnTo>
                    <a:lnTo>
                      <a:pt x="1" y="13"/>
                    </a:lnTo>
                    <a:lnTo>
                      <a:pt x="6" y="17"/>
                    </a:lnTo>
                    <a:lnTo>
                      <a:pt x="8" y="18"/>
                    </a:lnTo>
                    <a:lnTo>
                      <a:pt x="13" y="18"/>
                    </a:lnTo>
                    <a:lnTo>
                      <a:pt x="15" y="16"/>
                    </a:lnTo>
                    <a:lnTo>
                      <a:pt x="20" y="10"/>
                    </a:lnTo>
                    <a:lnTo>
                      <a:pt x="19" y="5"/>
                    </a:lnTo>
                    <a:lnTo>
                      <a:pt x="14" y="1"/>
                    </a:lnTo>
                    <a:lnTo>
                      <a:pt x="12" y="0"/>
                    </a:lnTo>
                  </a:path>
                </a:pathLst>
              </a:custGeom>
              <a:solidFill>
                <a:srgbClr val="6d6e7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pic>
            <p:nvPicPr>
              <p:cNvPr id="138" name="Picture 70" descr=""/>
              <p:cNvPicPr/>
              <p:nvPr/>
            </p:nvPicPr>
            <p:blipFill>
              <a:blip r:embed="rId2"/>
              <a:stretch/>
            </p:blipFill>
            <p:spPr>
              <a:xfrm>
                <a:off x="227160" y="637560"/>
                <a:ext cx="3561480" cy="5847480"/>
              </a:xfrm>
              <a:prstGeom prst="rect">
                <a:avLst/>
              </a:prstGeom>
              <a:ln w="0">
                <a:noFill/>
              </a:ln>
            </p:spPr>
          </p:pic>
        </p:grpSp>
      </p:grpSp>
      <p:sp>
        <p:nvSpPr>
          <p:cNvPr id="139" name="TextBox 142"/>
          <p:cNvSpPr/>
          <p:nvPr/>
        </p:nvSpPr>
        <p:spPr>
          <a:xfrm>
            <a:off x="5006880" y="919080"/>
            <a:ext cx="349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Arial"/>
              </a:rPr>
              <a:t>Global Marketing</a:t>
            </a:r>
            <a:endParaRPr b="0" lang="en-US" sz="5400" spc="-1" strike="noStrike">
              <a:solidFill>
                <a:srgbClr val="000000"/>
              </a:solidFill>
              <a:latin typeface="Arial"/>
            </a:endParaRPr>
          </a:p>
        </p:txBody>
      </p:sp>
      <p:sp>
        <p:nvSpPr>
          <p:cNvPr id="140" name="TextBox 143"/>
          <p:cNvSpPr/>
          <p:nvPr/>
        </p:nvSpPr>
        <p:spPr>
          <a:xfrm>
            <a:off x="5192640" y="3114720"/>
            <a:ext cx="349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6600"/>
                </a:solidFill>
                <a:latin typeface="Arial"/>
              </a:rPr>
              <a:t>Warren J. Keegan   Mark C. Green</a:t>
            </a:r>
            <a:endParaRPr b="0" lang="en-US" sz="1600" spc="-1" strike="noStrike">
              <a:solidFill>
                <a:srgbClr val="000000"/>
              </a:solidFill>
              <a:latin typeface="Arial"/>
            </a:endParaRPr>
          </a:p>
        </p:txBody>
      </p:sp>
      <p:sp>
        <p:nvSpPr>
          <p:cNvPr id="141" name="TextBox 144"/>
          <p:cNvSpPr/>
          <p:nvPr/>
        </p:nvSpPr>
        <p:spPr>
          <a:xfrm>
            <a:off x="5192640" y="4351320"/>
            <a:ext cx="3272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Introduction to Global Marketin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00"/>
                </a:solidFill>
                <a:latin typeface="Arial"/>
              </a:rPr>
              <a:t>Chapter 1</a:t>
            </a:r>
            <a:endParaRPr b="0" lang="en-US" sz="2800" spc="-1" strike="noStrike">
              <a:solidFill>
                <a:srgbClr val="000000"/>
              </a:solidFill>
              <a:latin typeface="Arial"/>
            </a:endParaRPr>
          </a:p>
        </p:txBody>
      </p:sp>
      <p:sp>
        <p:nvSpPr>
          <p:cNvPr id="142" name="Rectangle 144"/>
          <p:cNvSpPr/>
          <p:nvPr/>
        </p:nvSpPr>
        <p:spPr>
          <a:xfrm>
            <a:off x="2798280" y="6301080"/>
            <a:ext cx="365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h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2"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3"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A5577-CD1B-4611-8648-04400269C1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Rectangle 5"/>
          <p:cNvSpPr/>
          <p:nvPr/>
        </p:nvSpPr>
        <p:spPr>
          <a:xfrm>
            <a:off x="2798280" y="6301080"/>
            <a:ext cx="365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h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
        <p:nvSpPr>
          <p:cNvPr id="671"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2" name="PlaceHolder 2"/>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C10C0-A537-410B-8BCE-656280E037D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0" name="PlaceHolder 2"/>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3"/>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BEBB20-F26D-4A4A-BADE-E6243C0B230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49" name="PlaceHolder 2"/>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0" name="PlaceHolder 3"/>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DA248-847B-48FC-8CCA-B332A44401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9" name="PlaceHolder 3"/>
          <p:cNvSpPr>
            <a:spLocks noGrp="1"/>
          </p:cNvSpPr>
          <p:nvPr>
            <p:ph type="dt" idx="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90"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75C9F-BD73-4DCF-A430-BE8FC8E305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9"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0" name="PlaceHolder 4"/>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06C50-C198-4BE5-B07E-0EB8F41BD3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6FDC6-C504-4530-9564-AFFA6DA2D0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60C1A-0DCB-418C-858B-E05130BBE4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5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E462F-DC65-4850-B673-F1AB72F2FF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2"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93"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4"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F1C55D-E1E9-46E9-8D1C-B08C18B5E1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180" name="Picture 6" descr="Untitled.png"/>
          <p:cNvPicPr/>
          <p:nvPr/>
        </p:nvPicPr>
        <p:blipFill>
          <a:blip r:embed="rId2"/>
          <a:stretch/>
        </p:blipFill>
        <p:spPr>
          <a:xfrm>
            <a:off x="2687760" y="1490760"/>
            <a:ext cx="3539880" cy="5322960"/>
          </a:xfrm>
          <a:prstGeom prst="rect">
            <a:avLst/>
          </a:prstGeom>
          <a:ln w="0">
            <a:noFill/>
          </a:ln>
        </p:spPr>
      </p:pic>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FB709-0FBC-4584-958C-51EA02DC60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3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5"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48C13-E058-46AF-8ABC-31905631FC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75"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6"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077851-C3F5-4365-A131-E7BE4B33B2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5"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16"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7"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7B9EB-569B-4419-B8D7-79BEAA62DC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6"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57"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8"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C6A798-281F-4CFB-991E-6023AD345C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7"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98"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9"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70B33-EA78-43C3-8AD3-6C0080E873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6" name="Picture 6" descr="Untitled.png"/>
          <p:cNvPicPr/>
          <p:nvPr/>
        </p:nvPicPr>
        <p:blipFill>
          <a:blip r:embed="rId2"/>
          <a:stretch/>
        </p:blipFill>
        <p:spPr>
          <a:xfrm>
            <a:off x="2687760" y="1490760"/>
            <a:ext cx="3539880" cy="5322960"/>
          </a:xfrm>
          <a:prstGeom prst="rect">
            <a:avLst/>
          </a:prstGeom>
          <a:ln w="0">
            <a:noFill/>
          </a:ln>
        </p:spPr>
      </p:pic>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2"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E9838-56CB-44FA-B88C-EEE29DAA47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A6B242-52BC-4875-988B-1CD22C4D66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00"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4569AF-16D2-4A55-8127-F3225C38E9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FFF1EF-0CE9-4A45-BE78-55B0B176DC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8"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FCD67C-F827-426B-8E27-F05B23BB3E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7"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8"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518B56-EF26-4246-9A81-27EE778B52B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Group 6"/>
          <p:cNvGrpSpPr/>
          <p:nvPr/>
        </p:nvGrpSpPr>
        <p:grpSpPr>
          <a:xfrm>
            <a:off x="227160" y="601560"/>
            <a:ext cx="4130640" cy="5883480"/>
            <a:chOff x="227160" y="601560"/>
            <a:chExt cx="4130640" cy="5883480"/>
          </a:xfrm>
        </p:grpSpPr>
        <p:grpSp>
          <p:nvGrpSpPr>
            <p:cNvPr id="456" name="Group 7"/>
            <p:cNvGrpSpPr/>
            <p:nvPr/>
          </p:nvGrpSpPr>
          <p:grpSpPr>
            <a:xfrm>
              <a:off x="2430360" y="830160"/>
              <a:ext cx="1494360" cy="1276200"/>
              <a:chOff x="2430360" y="830160"/>
              <a:chExt cx="1494360" cy="1276200"/>
            </a:xfrm>
          </p:grpSpPr>
          <p:sp>
            <p:nvSpPr>
              <p:cNvPr id="457" name="Freeform 141"/>
              <p:cNvSpPr/>
              <p:nvPr/>
            </p:nvSpPr>
            <p:spPr>
              <a:xfrm>
                <a:off x="2430360" y="830160"/>
                <a:ext cx="1494360" cy="1276200"/>
              </a:xfrm>
              <a:custGeom>
                <a:avLst/>
                <a:gdLst/>
                <a:ahLst/>
                <a:rect l="l" t="t" r="r" b="b"/>
                <a:pathLst>
                  <a:path w="3128" h="3128">
                    <a:moveTo>
                      <a:pt x="1550" y="0"/>
                    </a:moveTo>
                    <a:lnTo>
                      <a:pt x="1429" y="6"/>
                    </a:lnTo>
                    <a:lnTo>
                      <a:pt x="1308" y="21"/>
                    </a:lnTo>
                    <a:lnTo>
                      <a:pt x="1188" y="46"/>
                    </a:lnTo>
                    <a:lnTo>
                      <a:pt x="1070" y="80"/>
                    </a:lnTo>
                    <a:lnTo>
                      <a:pt x="953" y="124"/>
                    </a:lnTo>
                    <a:lnTo>
                      <a:pt x="839" y="179"/>
                    </a:lnTo>
                    <a:lnTo>
                      <a:pt x="728" y="243"/>
                    </a:lnTo>
                    <a:lnTo>
                      <a:pt x="622" y="316"/>
                    </a:lnTo>
                    <a:lnTo>
                      <a:pt x="525" y="396"/>
                    </a:lnTo>
                    <a:lnTo>
                      <a:pt x="435" y="482"/>
                    </a:lnTo>
                    <a:lnTo>
                      <a:pt x="353" y="574"/>
                    </a:lnTo>
                    <a:lnTo>
                      <a:pt x="279" y="672"/>
                    </a:lnTo>
                    <a:lnTo>
                      <a:pt x="214" y="774"/>
                    </a:lnTo>
                    <a:lnTo>
                      <a:pt x="157" y="881"/>
                    </a:lnTo>
                    <a:lnTo>
                      <a:pt x="109" y="992"/>
                    </a:lnTo>
                    <a:lnTo>
                      <a:pt x="69" y="1105"/>
                    </a:lnTo>
                    <a:lnTo>
                      <a:pt x="38" y="1221"/>
                    </a:lnTo>
                    <a:lnTo>
                      <a:pt x="16" y="1339"/>
                    </a:lnTo>
                    <a:lnTo>
                      <a:pt x="4" y="1459"/>
                    </a:lnTo>
                    <a:lnTo>
                      <a:pt x="0" y="1579"/>
                    </a:lnTo>
                    <a:lnTo>
                      <a:pt x="6" y="1700"/>
                    </a:lnTo>
                    <a:lnTo>
                      <a:pt x="21" y="1820"/>
                    </a:lnTo>
                    <a:lnTo>
                      <a:pt x="45" y="1940"/>
                    </a:lnTo>
                    <a:lnTo>
                      <a:pt x="80" y="2059"/>
                    </a:lnTo>
                    <a:lnTo>
                      <a:pt x="124" y="2175"/>
                    </a:lnTo>
                    <a:lnTo>
                      <a:pt x="178" y="2289"/>
                    </a:lnTo>
                    <a:lnTo>
                      <a:pt x="242" y="2401"/>
                    </a:lnTo>
                    <a:lnTo>
                      <a:pt x="315" y="2506"/>
                    </a:lnTo>
                    <a:lnTo>
                      <a:pt x="395" y="2604"/>
                    </a:lnTo>
                    <a:lnTo>
                      <a:pt x="482" y="2694"/>
                    </a:lnTo>
                    <a:lnTo>
                      <a:pt x="574" y="2776"/>
                    </a:lnTo>
                    <a:lnTo>
                      <a:pt x="672" y="2849"/>
                    </a:lnTo>
                    <a:lnTo>
                      <a:pt x="774" y="2915"/>
                    </a:lnTo>
                    <a:lnTo>
                      <a:pt x="881" y="2972"/>
                    </a:lnTo>
                    <a:lnTo>
                      <a:pt x="991" y="3020"/>
                    </a:lnTo>
                    <a:lnTo>
                      <a:pt x="1105" y="3060"/>
                    </a:lnTo>
                    <a:lnTo>
                      <a:pt x="1221" y="3090"/>
                    </a:lnTo>
                    <a:lnTo>
                      <a:pt x="1339" y="3112"/>
                    </a:lnTo>
                    <a:lnTo>
                      <a:pt x="1458" y="3125"/>
                    </a:lnTo>
                    <a:lnTo>
                      <a:pt x="1579" y="3129"/>
                    </a:lnTo>
                    <a:lnTo>
                      <a:pt x="1699" y="3123"/>
                    </a:lnTo>
                    <a:lnTo>
                      <a:pt x="1820" y="3108"/>
                    </a:lnTo>
                    <a:lnTo>
                      <a:pt x="1940" y="3083"/>
                    </a:lnTo>
                    <a:lnTo>
                      <a:pt x="2058" y="3049"/>
                    </a:lnTo>
                    <a:lnTo>
                      <a:pt x="2175" y="3005"/>
                    </a:lnTo>
                    <a:lnTo>
                      <a:pt x="2289" y="2951"/>
                    </a:lnTo>
                    <a:lnTo>
                      <a:pt x="2400" y="2886"/>
                    </a:lnTo>
                    <a:lnTo>
                      <a:pt x="2506" y="2813"/>
                    </a:lnTo>
                    <a:lnTo>
                      <a:pt x="2604" y="2733"/>
                    </a:lnTo>
                    <a:lnTo>
                      <a:pt x="2694" y="2647"/>
                    </a:lnTo>
                    <a:lnTo>
                      <a:pt x="2775" y="2555"/>
                    </a:lnTo>
                    <a:lnTo>
                      <a:pt x="2849" y="2457"/>
                    </a:lnTo>
                    <a:lnTo>
                      <a:pt x="2914" y="2355"/>
                    </a:lnTo>
                    <a:lnTo>
                      <a:pt x="2971" y="2248"/>
                    </a:lnTo>
                    <a:lnTo>
                      <a:pt x="3020" y="2138"/>
                    </a:lnTo>
                    <a:lnTo>
                      <a:pt x="3059" y="2024"/>
                    </a:lnTo>
                    <a:lnTo>
                      <a:pt x="3090" y="1908"/>
                    </a:lnTo>
                    <a:lnTo>
                      <a:pt x="3112" y="1790"/>
                    </a:lnTo>
                    <a:lnTo>
                      <a:pt x="3125" y="1670"/>
                    </a:lnTo>
                    <a:lnTo>
                      <a:pt x="3128" y="1550"/>
                    </a:lnTo>
                    <a:lnTo>
                      <a:pt x="3123" y="1429"/>
                    </a:lnTo>
                    <a:lnTo>
                      <a:pt x="3108" y="1309"/>
                    </a:lnTo>
                    <a:lnTo>
                      <a:pt x="3083" y="1189"/>
                    </a:lnTo>
                    <a:lnTo>
                      <a:pt x="3048" y="1070"/>
                    </a:lnTo>
                    <a:lnTo>
                      <a:pt x="3004" y="954"/>
                    </a:lnTo>
                    <a:lnTo>
                      <a:pt x="2950" y="840"/>
                    </a:lnTo>
                    <a:lnTo>
                      <a:pt x="2886" y="728"/>
                    </a:lnTo>
                    <a:lnTo>
                      <a:pt x="2813" y="623"/>
                    </a:lnTo>
                    <a:lnTo>
                      <a:pt x="2733" y="525"/>
                    </a:lnTo>
                    <a:lnTo>
                      <a:pt x="2647" y="435"/>
                    </a:lnTo>
                    <a:lnTo>
                      <a:pt x="2554" y="353"/>
                    </a:lnTo>
                    <a:lnTo>
                      <a:pt x="2457" y="280"/>
                    </a:lnTo>
                    <a:lnTo>
                      <a:pt x="2354" y="214"/>
                    </a:lnTo>
                    <a:lnTo>
                      <a:pt x="2248" y="157"/>
                    </a:lnTo>
                    <a:lnTo>
                      <a:pt x="2137" y="109"/>
                    </a:lnTo>
                    <a:lnTo>
                      <a:pt x="2024" y="69"/>
                    </a:lnTo>
                    <a:lnTo>
                      <a:pt x="1908" y="39"/>
                    </a:lnTo>
                    <a:lnTo>
                      <a:pt x="1790" y="17"/>
                    </a:lnTo>
                    <a:lnTo>
                      <a:pt x="1670" y="4"/>
                    </a:lnTo>
                    <a:lnTo>
                      <a:pt x="155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8" name="Group 8"/>
            <p:cNvGrpSpPr/>
            <p:nvPr/>
          </p:nvGrpSpPr>
          <p:grpSpPr>
            <a:xfrm>
              <a:off x="3094560" y="2134080"/>
              <a:ext cx="1263240" cy="1078920"/>
              <a:chOff x="3094560" y="2134080"/>
              <a:chExt cx="1263240" cy="1078920"/>
            </a:xfrm>
          </p:grpSpPr>
          <p:sp>
            <p:nvSpPr>
              <p:cNvPr id="459" name="Freeform 140"/>
              <p:cNvSpPr/>
              <p:nvPr/>
            </p:nvSpPr>
            <p:spPr>
              <a:xfrm>
                <a:off x="3094560" y="2134080"/>
                <a:ext cx="1263240" cy="1078920"/>
              </a:xfrm>
              <a:custGeom>
                <a:avLst/>
                <a:gdLst/>
                <a:ahLst/>
                <a:rect l="l" t="t" r="r" b="b"/>
                <a:pathLst>
                  <a:path w="2644" h="2644">
                    <a:moveTo>
                      <a:pt x="1311" y="0"/>
                    </a:moveTo>
                    <a:lnTo>
                      <a:pt x="1205" y="5"/>
                    </a:lnTo>
                    <a:lnTo>
                      <a:pt x="1097" y="19"/>
                    </a:lnTo>
                    <a:lnTo>
                      <a:pt x="991" y="42"/>
                    </a:lnTo>
                    <a:lnTo>
                      <a:pt x="889" y="73"/>
                    </a:lnTo>
                    <a:lnTo>
                      <a:pt x="791" y="111"/>
                    </a:lnTo>
                    <a:lnTo>
                      <a:pt x="697" y="157"/>
                    </a:lnTo>
                    <a:lnTo>
                      <a:pt x="608" y="209"/>
                    </a:lnTo>
                    <a:lnTo>
                      <a:pt x="524" y="268"/>
                    </a:lnTo>
                    <a:lnTo>
                      <a:pt x="445" y="333"/>
                    </a:lnTo>
                    <a:lnTo>
                      <a:pt x="371" y="403"/>
                    </a:lnTo>
                    <a:lnTo>
                      <a:pt x="304" y="479"/>
                    </a:lnTo>
                    <a:lnTo>
                      <a:pt x="242" y="560"/>
                    </a:lnTo>
                    <a:lnTo>
                      <a:pt x="187" y="645"/>
                    </a:lnTo>
                    <a:lnTo>
                      <a:pt x="138" y="734"/>
                    </a:lnTo>
                    <a:lnTo>
                      <a:pt x="96" y="827"/>
                    </a:lnTo>
                    <a:lnTo>
                      <a:pt x="62" y="923"/>
                    </a:lnTo>
                    <a:lnTo>
                      <a:pt x="34" y="1022"/>
                    </a:lnTo>
                    <a:lnTo>
                      <a:pt x="15" y="1124"/>
                    </a:lnTo>
                    <a:lnTo>
                      <a:pt x="3" y="1227"/>
                    </a:lnTo>
                    <a:lnTo>
                      <a:pt x="0" y="1332"/>
                    </a:lnTo>
                    <a:lnTo>
                      <a:pt x="6" y="1439"/>
                    </a:lnTo>
                    <a:lnTo>
                      <a:pt x="20" y="1547"/>
                    </a:lnTo>
                    <a:lnTo>
                      <a:pt x="42" y="1653"/>
                    </a:lnTo>
                    <a:lnTo>
                      <a:pt x="73" y="1755"/>
                    </a:lnTo>
                    <a:lnTo>
                      <a:pt x="112" y="1853"/>
                    </a:lnTo>
                    <a:lnTo>
                      <a:pt x="157" y="1947"/>
                    </a:lnTo>
                    <a:lnTo>
                      <a:pt x="210" y="2036"/>
                    </a:lnTo>
                    <a:lnTo>
                      <a:pt x="268" y="2120"/>
                    </a:lnTo>
                    <a:lnTo>
                      <a:pt x="333" y="2199"/>
                    </a:lnTo>
                    <a:lnTo>
                      <a:pt x="404" y="2273"/>
                    </a:lnTo>
                    <a:lnTo>
                      <a:pt x="480" y="2340"/>
                    </a:lnTo>
                    <a:lnTo>
                      <a:pt x="560" y="2402"/>
                    </a:lnTo>
                    <a:lnTo>
                      <a:pt x="645" y="2457"/>
                    </a:lnTo>
                    <a:lnTo>
                      <a:pt x="735" y="2506"/>
                    </a:lnTo>
                    <a:lnTo>
                      <a:pt x="827" y="2548"/>
                    </a:lnTo>
                    <a:lnTo>
                      <a:pt x="924" y="2582"/>
                    </a:lnTo>
                    <a:lnTo>
                      <a:pt x="1023" y="2609"/>
                    </a:lnTo>
                    <a:lnTo>
                      <a:pt x="1124" y="2629"/>
                    </a:lnTo>
                    <a:lnTo>
                      <a:pt x="1228" y="2640"/>
                    </a:lnTo>
                    <a:lnTo>
                      <a:pt x="1333" y="2644"/>
                    </a:lnTo>
                    <a:lnTo>
                      <a:pt x="1440" y="2638"/>
                    </a:lnTo>
                    <a:lnTo>
                      <a:pt x="1547" y="2624"/>
                    </a:lnTo>
                    <a:lnTo>
                      <a:pt x="1653" y="2601"/>
                    </a:lnTo>
                    <a:lnTo>
                      <a:pt x="1756" y="2571"/>
                    </a:lnTo>
                    <a:lnTo>
                      <a:pt x="1854" y="2532"/>
                    </a:lnTo>
                    <a:lnTo>
                      <a:pt x="1947" y="2487"/>
                    </a:lnTo>
                    <a:lnTo>
                      <a:pt x="2037" y="2434"/>
                    </a:lnTo>
                    <a:lnTo>
                      <a:pt x="2121" y="2375"/>
                    </a:lnTo>
                    <a:lnTo>
                      <a:pt x="2200" y="2311"/>
                    </a:lnTo>
                    <a:lnTo>
                      <a:pt x="2273" y="2240"/>
                    </a:lnTo>
                    <a:lnTo>
                      <a:pt x="2341" y="2164"/>
                    </a:lnTo>
                    <a:lnTo>
                      <a:pt x="2402" y="2084"/>
                    </a:lnTo>
                    <a:lnTo>
                      <a:pt x="2458" y="1999"/>
                    </a:lnTo>
                    <a:lnTo>
                      <a:pt x="2506" y="1909"/>
                    </a:lnTo>
                    <a:lnTo>
                      <a:pt x="2548" y="1816"/>
                    </a:lnTo>
                    <a:lnTo>
                      <a:pt x="2583" y="1720"/>
                    </a:lnTo>
                    <a:lnTo>
                      <a:pt x="2610" y="1621"/>
                    </a:lnTo>
                    <a:lnTo>
                      <a:pt x="2629" y="1520"/>
                    </a:lnTo>
                    <a:lnTo>
                      <a:pt x="2641" y="1416"/>
                    </a:lnTo>
                    <a:lnTo>
                      <a:pt x="2644" y="1311"/>
                    </a:lnTo>
                    <a:lnTo>
                      <a:pt x="2639" y="1204"/>
                    </a:lnTo>
                    <a:lnTo>
                      <a:pt x="2625" y="1097"/>
                    </a:lnTo>
                    <a:lnTo>
                      <a:pt x="2602" y="991"/>
                    </a:lnTo>
                    <a:lnTo>
                      <a:pt x="2571" y="888"/>
                    </a:lnTo>
                    <a:lnTo>
                      <a:pt x="2533" y="790"/>
                    </a:lnTo>
                    <a:lnTo>
                      <a:pt x="2487" y="696"/>
                    </a:lnTo>
                    <a:lnTo>
                      <a:pt x="2435" y="607"/>
                    </a:lnTo>
                    <a:lnTo>
                      <a:pt x="2376" y="523"/>
                    </a:lnTo>
                    <a:lnTo>
                      <a:pt x="2311" y="444"/>
                    </a:lnTo>
                    <a:lnTo>
                      <a:pt x="2241" y="371"/>
                    </a:lnTo>
                    <a:lnTo>
                      <a:pt x="2165" y="303"/>
                    </a:lnTo>
                    <a:lnTo>
                      <a:pt x="2084" y="241"/>
                    </a:lnTo>
                    <a:lnTo>
                      <a:pt x="1999" y="186"/>
                    </a:lnTo>
                    <a:lnTo>
                      <a:pt x="1910" y="138"/>
                    </a:lnTo>
                    <a:lnTo>
                      <a:pt x="1817" y="96"/>
                    </a:lnTo>
                    <a:lnTo>
                      <a:pt x="1721" y="61"/>
                    </a:lnTo>
                    <a:lnTo>
                      <a:pt x="1622" y="34"/>
                    </a:lnTo>
                    <a:lnTo>
                      <a:pt x="1520" y="14"/>
                    </a:lnTo>
                    <a:lnTo>
                      <a:pt x="1417" y="3"/>
                    </a:lnTo>
                    <a:lnTo>
                      <a:pt x="131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Group 9"/>
            <p:cNvGrpSpPr/>
            <p:nvPr/>
          </p:nvGrpSpPr>
          <p:grpSpPr>
            <a:xfrm>
              <a:off x="3316320" y="3307320"/>
              <a:ext cx="850320" cy="726120"/>
              <a:chOff x="3316320" y="3307320"/>
              <a:chExt cx="850320" cy="726120"/>
            </a:xfrm>
          </p:grpSpPr>
          <p:sp>
            <p:nvSpPr>
              <p:cNvPr id="461" name="Freeform 139"/>
              <p:cNvSpPr/>
              <p:nvPr/>
            </p:nvSpPr>
            <p:spPr>
              <a:xfrm>
                <a:off x="3316320" y="3307320"/>
                <a:ext cx="850320" cy="726120"/>
              </a:xfrm>
              <a:custGeom>
                <a:avLst/>
                <a:gdLst/>
                <a:ahLst/>
                <a:rect l="l" t="t" r="r" b="b"/>
                <a:pathLst>
                  <a:path w="1780" h="1780">
                    <a:moveTo>
                      <a:pt x="864" y="0"/>
                    </a:moveTo>
                    <a:lnTo>
                      <a:pt x="794" y="5"/>
                    </a:lnTo>
                    <a:lnTo>
                      <a:pt x="724" y="15"/>
                    </a:lnTo>
                    <a:lnTo>
                      <a:pt x="656" y="31"/>
                    </a:lnTo>
                    <a:lnTo>
                      <a:pt x="590" y="52"/>
                    </a:lnTo>
                    <a:lnTo>
                      <a:pt x="527" y="77"/>
                    </a:lnTo>
                    <a:lnTo>
                      <a:pt x="465" y="108"/>
                    </a:lnTo>
                    <a:lnTo>
                      <a:pt x="406" y="143"/>
                    </a:lnTo>
                    <a:lnTo>
                      <a:pt x="350" y="182"/>
                    </a:lnTo>
                    <a:lnTo>
                      <a:pt x="298" y="226"/>
                    </a:lnTo>
                    <a:lnTo>
                      <a:pt x="248" y="273"/>
                    </a:lnTo>
                    <a:lnTo>
                      <a:pt x="203" y="324"/>
                    </a:lnTo>
                    <a:lnTo>
                      <a:pt x="161" y="379"/>
                    </a:lnTo>
                    <a:lnTo>
                      <a:pt x="123" y="437"/>
                    </a:lnTo>
                    <a:lnTo>
                      <a:pt x="90" y="498"/>
                    </a:lnTo>
                    <a:lnTo>
                      <a:pt x="62" y="563"/>
                    </a:lnTo>
                    <a:lnTo>
                      <a:pt x="39" y="630"/>
                    </a:lnTo>
                    <a:lnTo>
                      <a:pt x="20" y="699"/>
                    </a:lnTo>
                    <a:lnTo>
                      <a:pt x="8" y="771"/>
                    </a:lnTo>
                    <a:lnTo>
                      <a:pt x="1" y="844"/>
                    </a:lnTo>
                    <a:lnTo>
                      <a:pt x="0" y="916"/>
                    </a:lnTo>
                    <a:lnTo>
                      <a:pt x="5" y="987"/>
                    </a:lnTo>
                    <a:lnTo>
                      <a:pt x="15" y="1056"/>
                    </a:lnTo>
                    <a:lnTo>
                      <a:pt x="31" y="1124"/>
                    </a:lnTo>
                    <a:lnTo>
                      <a:pt x="52" y="1190"/>
                    </a:lnTo>
                    <a:lnTo>
                      <a:pt x="77" y="1254"/>
                    </a:lnTo>
                    <a:lnTo>
                      <a:pt x="108" y="1315"/>
                    </a:lnTo>
                    <a:lnTo>
                      <a:pt x="143" y="1374"/>
                    </a:lnTo>
                    <a:lnTo>
                      <a:pt x="182" y="1430"/>
                    </a:lnTo>
                    <a:lnTo>
                      <a:pt x="226" y="1483"/>
                    </a:lnTo>
                    <a:lnTo>
                      <a:pt x="273" y="1532"/>
                    </a:lnTo>
                    <a:lnTo>
                      <a:pt x="324" y="1578"/>
                    </a:lnTo>
                    <a:lnTo>
                      <a:pt x="379" y="1619"/>
                    </a:lnTo>
                    <a:lnTo>
                      <a:pt x="437" y="1657"/>
                    </a:lnTo>
                    <a:lnTo>
                      <a:pt x="498" y="1690"/>
                    </a:lnTo>
                    <a:lnTo>
                      <a:pt x="563" y="1718"/>
                    </a:lnTo>
                    <a:lnTo>
                      <a:pt x="630" y="1742"/>
                    </a:lnTo>
                    <a:lnTo>
                      <a:pt x="699" y="1760"/>
                    </a:lnTo>
                    <a:lnTo>
                      <a:pt x="771" y="1772"/>
                    </a:lnTo>
                    <a:lnTo>
                      <a:pt x="844" y="1779"/>
                    </a:lnTo>
                    <a:lnTo>
                      <a:pt x="916" y="1780"/>
                    </a:lnTo>
                    <a:lnTo>
                      <a:pt x="987" y="1775"/>
                    </a:lnTo>
                    <a:lnTo>
                      <a:pt x="1056" y="1765"/>
                    </a:lnTo>
                    <a:lnTo>
                      <a:pt x="1124" y="1749"/>
                    </a:lnTo>
                    <a:lnTo>
                      <a:pt x="1190" y="1729"/>
                    </a:lnTo>
                    <a:lnTo>
                      <a:pt x="1254" y="1703"/>
                    </a:lnTo>
                    <a:lnTo>
                      <a:pt x="1315" y="1672"/>
                    </a:lnTo>
                    <a:lnTo>
                      <a:pt x="1374" y="1638"/>
                    </a:lnTo>
                    <a:lnTo>
                      <a:pt x="1430" y="1598"/>
                    </a:lnTo>
                    <a:lnTo>
                      <a:pt x="1483" y="1555"/>
                    </a:lnTo>
                    <a:lnTo>
                      <a:pt x="1532" y="1507"/>
                    </a:lnTo>
                    <a:lnTo>
                      <a:pt x="1578" y="1456"/>
                    </a:lnTo>
                    <a:lnTo>
                      <a:pt x="1619" y="1401"/>
                    </a:lnTo>
                    <a:lnTo>
                      <a:pt x="1657" y="1343"/>
                    </a:lnTo>
                    <a:lnTo>
                      <a:pt x="1690" y="1282"/>
                    </a:lnTo>
                    <a:lnTo>
                      <a:pt x="1718" y="1218"/>
                    </a:lnTo>
                    <a:lnTo>
                      <a:pt x="1742" y="1151"/>
                    </a:lnTo>
                    <a:lnTo>
                      <a:pt x="1760" y="1081"/>
                    </a:lnTo>
                    <a:lnTo>
                      <a:pt x="1772" y="1009"/>
                    </a:lnTo>
                    <a:lnTo>
                      <a:pt x="1779" y="936"/>
                    </a:lnTo>
                    <a:lnTo>
                      <a:pt x="1780" y="864"/>
                    </a:lnTo>
                    <a:lnTo>
                      <a:pt x="1775" y="794"/>
                    </a:lnTo>
                    <a:lnTo>
                      <a:pt x="1765" y="724"/>
                    </a:lnTo>
                    <a:lnTo>
                      <a:pt x="1749" y="656"/>
                    </a:lnTo>
                    <a:lnTo>
                      <a:pt x="1729" y="590"/>
                    </a:lnTo>
                    <a:lnTo>
                      <a:pt x="1703" y="527"/>
                    </a:lnTo>
                    <a:lnTo>
                      <a:pt x="1672" y="465"/>
                    </a:lnTo>
                    <a:lnTo>
                      <a:pt x="1637" y="406"/>
                    </a:lnTo>
                    <a:lnTo>
                      <a:pt x="1598" y="350"/>
                    </a:lnTo>
                    <a:lnTo>
                      <a:pt x="1555" y="298"/>
                    </a:lnTo>
                    <a:lnTo>
                      <a:pt x="1507" y="248"/>
                    </a:lnTo>
                    <a:lnTo>
                      <a:pt x="1456" y="203"/>
                    </a:lnTo>
                    <a:lnTo>
                      <a:pt x="1401" y="161"/>
                    </a:lnTo>
                    <a:lnTo>
                      <a:pt x="1343" y="123"/>
                    </a:lnTo>
                    <a:lnTo>
                      <a:pt x="1282" y="90"/>
                    </a:lnTo>
                    <a:lnTo>
                      <a:pt x="1218" y="62"/>
                    </a:lnTo>
                    <a:lnTo>
                      <a:pt x="1151" y="39"/>
                    </a:lnTo>
                    <a:lnTo>
                      <a:pt x="1081" y="20"/>
                    </a:lnTo>
                    <a:lnTo>
                      <a:pt x="1009" y="8"/>
                    </a:lnTo>
                    <a:lnTo>
                      <a:pt x="936" y="1"/>
                    </a:lnTo>
                    <a:lnTo>
                      <a:pt x="864"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10"/>
            <p:cNvGrpSpPr/>
            <p:nvPr/>
          </p:nvGrpSpPr>
          <p:grpSpPr>
            <a:xfrm>
              <a:off x="3285720" y="4097880"/>
              <a:ext cx="538920" cy="460080"/>
              <a:chOff x="3285720" y="4097880"/>
              <a:chExt cx="538920" cy="460080"/>
            </a:xfrm>
          </p:grpSpPr>
          <p:sp>
            <p:nvSpPr>
              <p:cNvPr id="463" name="Freeform 138"/>
              <p:cNvSpPr/>
              <p:nvPr/>
            </p:nvSpPr>
            <p:spPr>
              <a:xfrm>
                <a:off x="3285720" y="4097880"/>
                <a:ext cx="538920" cy="460080"/>
              </a:xfrm>
              <a:custGeom>
                <a:avLst/>
                <a:gdLst/>
                <a:ahLst/>
                <a:rect l="l" t="t" r="r" b="b"/>
                <a:pathLst>
                  <a:path w="1128" h="1128">
                    <a:moveTo>
                      <a:pt x="575" y="0"/>
                    </a:moveTo>
                    <a:lnTo>
                      <a:pt x="487" y="5"/>
                    </a:lnTo>
                    <a:lnTo>
                      <a:pt x="402" y="23"/>
                    </a:lnTo>
                    <a:lnTo>
                      <a:pt x="321" y="54"/>
                    </a:lnTo>
                    <a:lnTo>
                      <a:pt x="246" y="97"/>
                    </a:lnTo>
                    <a:lnTo>
                      <a:pt x="178" y="152"/>
                    </a:lnTo>
                    <a:lnTo>
                      <a:pt x="119" y="216"/>
                    </a:lnTo>
                    <a:lnTo>
                      <a:pt x="70" y="291"/>
                    </a:lnTo>
                    <a:lnTo>
                      <a:pt x="32" y="374"/>
                    </a:lnTo>
                    <a:lnTo>
                      <a:pt x="9" y="463"/>
                    </a:lnTo>
                    <a:lnTo>
                      <a:pt x="0" y="552"/>
                    </a:lnTo>
                    <a:lnTo>
                      <a:pt x="0" y="596"/>
                    </a:lnTo>
                    <a:lnTo>
                      <a:pt x="12" y="683"/>
                    </a:lnTo>
                    <a:lnTo>
                      <a:pt x="37" y="766"/>
                    </a:lnTo>
                    <a:lnTo>
                      <a:pt x="74" y="844"/>
                    </a:lnTo>
                    <a:lnTo>
                      <a:pt x="123" y="916"/>
                    </a:lnTo>
                    <a:lnTo>
                      <a:pt x="182" y="979"/>
                    </a:lnTo>
                    <a:lnTo>
                      <a:pt x="252" y="1034"/>
                    </a:lnTo>
                    <a:lnTo>
                      <a:pt x="331" y="1077"/>
                    </a:lnTo>
                    <a:lnTo>
                      <a:pt x="418" y="1108"/>
                    </a:lnTo>
                    <a:lnTo>
                      <a:pt x="507" y="1125"/>
                    </a:lnTo>
                    <a:lnTo>
                      <a:pt x="552" y="1127"/>
                    </a:lnTo>
                    <a:lnTo>
                      <a:pt x="596" y="1127"/>
                    </a:lnTo>
                    <a:lnTo>
                      <a:pt x="682" y="1115"/>
                    </a:lnTo>
                    <a:lnTo>
                      <a:pt x="765" y="1090"/>
                    </a:lnTo>
                    <a:lnTo>
                      <a:pt x="844" y="1053"/>
                    </a:lnTo>
                    <a:lnTo>
                      <a:pt x="915" y="1004"/>
                    </a:lnTo>
                    <a:lnTo>
                      <a:pt x="979" y="945"/>
                    </a:lnTo>
                    <a:lnTo>
                      <a:pt x="1034" y="875"/>
                    </a:lnTo>
                    <a:lnTo>
                      <a:pt x="1077" y="796"/>
                    </a:lnTo>
                    <a:lnTo>
                      <a:pt x="1108" y="708"/>
                    </a:lnTo>
                    <a:lnTo>
                      <a:pt x="1124" y="620"/>
                    </a:lnTo>
                    <a:lnTo>
                      <a:pt x="1127" y="575"/>
                    </a:lnTo>
                    <a:lnTo>
                      <a:pt x="1126" y="531"/>
                    </a:lnTo>
                    <a:lnTo>
                      <a:pt x="1114" y="445"/>
                    </a:lnTo>
                    <a:lnTo>
                      <a:pt x="1090" y="362"/>
                    </a:lnTo>
                    <a:lnTo>
                      <a:pt x="1053" y="283"/>
                    </a:lnTo>
                    <a:lnTo>
                      <a:pt x="1004" y="212"/>
                    </a:lnTo>
                    <a:lnTo>
                      <a:pt x="944" y="148"/>
                    </a:lnTo>
                    <a:lnTo>
                      <a:pt x="875" y="93"/>
                    </a:lnTo>
                    <a:lnTo>
                      <a:pt x="795" y="50"/>
                    </a:lnTo>
                    <a:lnTo>
                      <a:pt x="708" y="19"/>
                    </a:lnTo>
                    <a:lnTo>
                      <a:pt x="619" y="3"/>
                    </a:lnTo>
                    <a:lnTo>
                      <a:pt x="575"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4" name="Group 11"/>
            <p:cNvGrpSpPr/>
            <p:nvPr/>
          </p:nvGrpSpPr>
          <p:grpSpPr>
            <a:xfrm>
              <a:off x="3090240" y="4593600"/>
              <a:ext cx="450360" cy="384840"/>
              <a:chOff x="3090240" y="4593600"/>
              <a:chExt cx="450360" cy="384840"/>
            </a:xfrm>
          </p:grpSpPr>
          <p:sp>
            <p:nvSpPr>
              <p:cNvPr id="465" name="Freeform 137"/>
              <p:cNvSpPr/>
              <p:nvPr/>
            </p:nvSpPr>
            <p:spPr>
              <a:xfrm>
                <a:off x="3090240" y="4593600"/>
                <a:ext cx="450360" cy="384840"/>
              </a:xfrm>
              <a:custGeom>
                <a:avLst/>
                <a:gdLst/>
                <a:ahLst/>
                <a:rect l="l" t="t" r="r" b="b"/>
                <a:pathLst>
                  <a:path w="943" h="943">
                    <a:moveTo>
                      <a:pt x="481" y="0"/>
                    </a:moveTo>
                    <a:lnTo>
                      <a:pt x="408" y="5"/>
                    </a:lnTo>
                    <a:lnTo>
                      <a:pt x="337" y="20"/>
                    </a:lnTo>
                    <a:lnTo>
                      <a:pt x="270" y="46"/>
                    </a:lnTo>
                    <a:lnTo>
                      <a:pt x="207" y="82"/>
                    </a:lnTo>
                    <a:lnTo>
                      <a:pt x="149" y="128"/>
                    </a:lnTo>
                    <a:lnTo>
                      <a:pt x="99" y="183"/>
                    </a:lnTo>
                    <a:lnTo>
                      <a:pt x="57" y="247"/>
                    </a:lnTo>
                    <a:lnTo>
                      <a:pt x="26" y="318"/>
                    </a:lnTo>
                    <a:lnTo>
                      <a:pt x="8" y="390"/>
                    </a:lnTo>
                    <a:lnTo>
                      <a:pt x="0" y="463"/>
                    </a:lnTo>
                    <a:lnTo>
                      <a:pt x="1" y="499"/>
                    </a:lnTo>
                    <a:lnTo>
                      <a:pt x="11" y="571"/>
                    </a:lnTo>
                    <a:lnTo>
                      <a:pt x="32" y="640"/>
                    </a:lnTo>
                    <a:lnTo>
                      <a:pt x="63" y="706"/>
                    </a:lnTo>
                    <a:lnTo>
                      <a:pt x="104" y="766"/>
                    </a:lnTo>
                    <a:lnTo>
                      <a:pt x="154" y="820"/>
                    </a:lnTo>
                    <a:lnTo>
                      <a:pt x="214" y="867"/>
                    </a:lnTo>
                    <a:lnTo>
                      <a:pt x="282" y="903"/>
                    </a:lnTo>
                    <a:lnTo>
                      <a:pt x="354" y="928"/>
                    </a:lnTo>
                    <a:lnTo>
                      <a:pt x="426" y="941"/>
                    </a:lnTo>
                    <a:lnTo>
                      <a:pt x="463" y="943"/>
                    </a:lnTo>
                    <a:lnTo>
                      <a:pt x="499" y="942"/>
                    </a:lnTo>
                    <a:lnTo>
                      <a:pt x="571" y="933"/>
                    </a:lnTo>
                    <a:lnTo>
                      <a:pt x="641" y="912"/>
                    </a:lnTo>
                    <a:lnTo>
                      <a:pt x="706" y="881"/>
                    </a:lnTo>
                    <a:lnTo>
                      <a:pt x="766" y="840"/>
                    </a:lnTo>
                    <a:lnTo>
                      <a:pt x="820" y="789"/>
                    </a:lnTo>
                    <a:lnTo>
                      <a:pt x="867" y="729"/>
                    </a:lnTo>
                    <a:lnTo>
                      <a:pt x="903" y="661"/>
                    </a:lnTo>
                    <a:lnTo>
                      <a:pt x="928" y="590"/>
                    </a:lnTo>
                    <a:lnTo>
                      <a:pt x="941" y="517"/>
                    </a:lnTo>
                    <a:lnTo>
                      <a:pt x="943" y="481"/>
                    </a:lnTo>
                    <a:lnTo>
                      <a:pt x="942" y="444"/>
                    </a:lnTo>
                    <a:lnTo>
                      <a:pt x="933" y="372"/>
                    </a:lnTo>
                    <a:lnTo>
                      <a:pt x="912" y="303"/>
                    </a:lnTo>
                    <a:lnTo>
                      <a:pt x="881" y="238"/>
                    </a:lnTo>
                    <a:lnTo>
                      <a:pt x="840" y="177"/>
                    </a:lnTo>
                    <a:lnTo>
                      <a:pt x="789" y="123"/>
                    </a:lnTo>
                    <a:lnTo>
                      <a:pt x="730" y="77"/>
                    </a:lnTo>
                    <a:lnTo>
                      <a:pt x="662" y="40"/>
                    </a:lnTo>
                    <a:lnTo>
                      <a:pt x="590" y="15"/>
                    </a:lnTo>
                    <a:lnTo>
                      <a:pt x="517" y="3"/>
                    </a:lnTo>
                    <a:lnTo>
                      <a:pt x="481"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Group 12"/>
            <p:cNvGrpSpPr/>
            <p:nvPr/>
          </p:nvGrpSpPr>
          <p:grpSpPr>
            <a:xfrm>
              <a:off x="2809080" y="4977360"/>
              <a:ext cx="445680" cy="380520"/>
              <a:chOff x="2809080" y="4977360"/>
              <a:chExt cx="445680" cy="380520"/>
            </a:xfrm>
          </p:grpSpPr>
          <p:sp>
            <p:nvSpPr>
              <p:cNvPr id="467" name="Freeform 136"/>
              <p:cNvSpPr/>
              <p:nvPr/>
            </p:nvSpPr>
            <p:spPr>
              <a:xfrm>
                <a:off x="2809080" y="4977360"/>
                <a:ext cx="445680" cy="380520"/>
              </a:xfrm>
              <a:custGeom>
                <a:avLst/>
                <a:gdLst/>
                <a:ahLst/>
                <a:rect l="l" t="t" r="r" b="b"/>
                <a:pathLst>
                  <a:path w="933" h="933">
                    <a:moveTo>
                      <a:pt x="468" y="0"/>
                    </a:moveTo>
                    <a:lnTo>
                      <a:pt x="396" y="6"/>
                    </a:lnTo>
                    <a:lnTo>
                      <a:pt x="327" y="22"/>
                    </a:lnTo>
                    <a:lnTo>
                      <a:pt x="260" y="48"/>
                    </a:lnTo>
                    <a:lnTo>
                      <a:pt x="197" y="86"/>
                    </a:lnTo>
                    <a:lnTo>
                      <a:pt x="141" y="133"/>
                    </a:lnTo>
                    <a:lnTo>
                      <a:pt x="91" y="190"/>
                    </a:lnTo>
                    <a:lnTo>
                      <a:pt x="51" y="255"/>
                    </a:lnTo>
                    <a:lnTo>
                      <a:pt x="22" y="323"/>
                    </a:lnTo>
                    <a:lnTo>
                      <a:pt x="6" y="394"/>
                    </a:lnTo>
                    <a:lnTo>
                      <a:pt x="0" y="465"/>
                    </a:lnTo>
                    <a:lnTo>
                      <a:pt x="1" y="501"/>
                    </a:lnTo>
                    <a:lnTo>
                      <a:pt x="12" y="572"/>
                    </a:lnTo>
                    <a:lnTo>
                      <a:pt x="33" y="640"/>
                    </a:lnTo>
                    <a:lnTo>
                      <a:pt x="65" y="705"/>
                    </a:lnTo>
                    <a:lnTo>
                      <a:pt x="107" y="765"/>
                    </a:lnTo>
                    <a:lnTo>
                      <a:pt x="160" y="818"/>
                    </a:lnTo>
                    <a:lnTo>
                      <a:pt x="221" y="864"/>
                    </a:lnTo>
                    <a:lnTo>
                      <a:pt x="288" y="898"/>
                    </a:lnTo>
                    <a:lnTo>
                      <a:pt x="357" y="920"/>
                    </a:lnTo>
                    <a:lnTo>
                      <a:pt x="429" y="932"/>
                    </a:lnTo>
                    <a:lnTo>
                      <a:pt x="465" y="933"/>
                    </a:lnTo>
                    <a:lnTo>
                      <a:pt x="500" y="932"/>
                    </a:lnTo>
                    <a:lnTo>
                      <a:pt x="571" y="921"/>
                    </a:lnTo>
                    <a:lnTo>
                      <a:pt x="640" y="900"/>
                    </a:lnTo>
                    <a:lnTo>
                      <a:pt x="704" y="868"/>
                    </a:lnTo>
                    <a:lnTo>
                      <a:pt x="764" y="826"/>
                    </a:lnTo>
                    <a:lnTo>
                      <a:pt x="818" y="773"/>
                    </a:lnTo>
                    <a:lnTo>
                      <a:pt x="863" y="712"/>
                    </a:lnTo>
                    <a:lnTo>
                      <a:pt x="897" y="645"/>
                    </a:lnTo>
                    <a:lnTo>
                      <a:pt x="920" y="576"/>
                    </a:lnTo>
                    <a:lnTo>
                      <a:pt x="931" y="504"/>
                    </a:lnTo>
                    <a:lnTo>
                      <a:pt x="933" y="468"/>
                    </a:lnTo>
                    <a:lnTo>
                      <a:pt x="931" y="433"/>
                    </a:lnTo>
                    <a:lnTo>
                      <a:pt x="921" y="362"/>
                    </a:lnTo>
                    <a:lnTo>
                      <a:pt x="899" y="293"/>
                    </a:lnTo>
                    <a:lnTo>
                      <a:pt x="867" y="229"/>
                    </a:lnTo>
                    <a:lnTo>
                      <a:pt x="825" y="169"/>
                    </a:lnTo>
                    <a:lnTo>
                      <a:pt x="773" y="115"/>
                    </a:lnTo>
                    <a:lnTo>
                      <a:pt x="711" y="70"/>
                    </a:lnTo>
                    <a:lnTo>
                      <a:pt x="645" y="36"/>
                    </a:lnTo>
                    <a:lnTo>
                      <a:pt x="575" y="13"/>
                    </a:lnTo>
                    <a:lnTo>
                      <a:pt x="504" y="2"/>
                    </a:lnTo>
                    <a:lnTo>
                      <a:pt x="468"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8" name="Group 13"/>
            <p:cNvGrpSpPr/>
            <p:nvPr/>
          </p:nvGrpSpPr>
          <p:grpSpPr>
            <a:xfrm>
              <a:off x="2490840" y="5333040"/>
              <a:ext cx="407520" cy="347760"/>
              <a:chOff x="2490840" y="5333040"/>
              <a:chExt cx="407520" cy="347760"/>
            </a:xfrm>
          </p:grpSpPr>
          <p:sp>
            <p:nvSpPr>
              <p:cNvPr id="469" name="Freeform 135"/>
              <p:cNvSpPr/>
              <p:nvPr/>
            </p:nvSpPr>
            <p:spPr>
              <a:xfrm>
                <a:off x="2490840" y="5333040"/>
                <a:ext cx="407520" cy="347760"/>
              </a:xfrm>
              <a:custGeom>
                <a:avLst/>
                <a:gdLst/>
                <a:ahLst/>
                <a:rect l="l" t="t" r="r" b="b"/>
                <a:pathLst>
                  <a:path w="853" h="853">
                    <a:moveTo>
                      <a:pt x="421" y="0"/>
                    </a:moveTo>
                    <a:lnTo>
                      <a:pt x="356" y="6"/>
                    </a:lnTo>
                    <a:lnTo>
                      <a:pt x="292" y="22"/>
                    </a:lnTo>
                    <a:lnTo>
                      <a:pt x="230" y="48"/>
                    </a:lnTo>
                    <a:lnTo>
                      <a:pt x="173" y="84"/>
                    </a:lnTo>
                    <a:lnTo>
                      <a:pt x="121" y="129"/>
                    </a:lnTo>
                    <a:lnTo>
                      <a:pt x="77" y="183"/>
                    </a:lnTo>
                    <a:lnTo>
                      <a:pt x="42" y="241"/>
                    </a:lnTo>
                    <a:lnTo>
                      <a:pt x="18" y="303"/>
                    </a:lnTo>
                    <a:lnTo>
                      <a:pt x="4" y="367"/>
                    </a:lnTo>
                    <a:lnTo>
                      <a:pt x="0" y="433"/>
                    </a:lnTo>
                    <a:lnTo>
                      <a:pt x="2" y="465"/>
                    </a:lnTo>
                    <a:lnTo>
                      <a:pt x="13" y="530"/>
                    </a:lnTo>
                    <a:lnTo>
                      <a:pt x="33" y="593"/>
                    </a:lnTo>
                    <a:lnTo>
                      <a:pt x="64" y="652"/>
                    </a:lnTo>
                    <a:lnTo>
                      <a:pt x="105" y="707"/>
                    </a:lnTo>
                    <a:lnTo>
                      <a:pt x="155" y="756"/>
                    </a:lnTo>
                    <a:lnTo>
                      <a:pt x="211" y="795"/>
                    </a:lnTo>
                    <a:lnTo>
                      <a:pt x="271" y="824"/>
                    </a:lnTo>
                    <a:lnTo>
                      <a:pt x="335" y="843"/>
                    </a:lnTo>
                    <a:lnTo>
                      <a:pt x="400" y="852"/>
                    </a:lnTo>
                    <a:lnTo>
                      <a:pt x="432" y="853"/>
                    </a:lnTo>
                    <a:lnTo>
                      <a:pt x="465" y="852"/>
                    </a:lnTo>
                    <a:lnTo>
                      <a:pt x="530" y="841"/>
                    </a:lnTo>
                    <a:lnTo>
                      <a:pt x="592" y="820"/>
                    </a:lnTo>
                    <a:lnTo>
                      <a:pt x="652" y="789"/>
                    </a:lnTo>
                    <a:lnTo>
                      <a:pt x="707" y="748"/>
                    </a:lnTo>
                    <a:lnTo>
                      <a:pt x="756" y="698"/>
                    </a:lnTo>
                    <a:lnTo>
                      <a:pt x="795" y="642"/>
                    </a:lnTo>
                    <a:lnTo>
                      <a:pt x="824" y="582"/>
                    </a:lnTo>
                    <a:lnTo>
                      <a:pt x="843" y="519"/>
                    </a:lnTo>
                    <a:lnTo>
                      <a:pt x="852" y="454"/>
                    </a:lnTo>
                    <a:lnTo>
                      <a:pt x="853" y="421"/>
                    </a:lnTo>
                    <a:lnTo>
                      <a:pt x="851" y="388"/>
                    </a:lnTo>
                    <a:lnTo>
                      <a:pt x="840" y="324"/>
                    </a:lnTo>
                    <a:lnTo>
                      <a:pt x="820" y="261"/>
                    </a:lnTo>
                    <a:lnTo>
                      <a:pt x="789" y="201"/>
                    </a:lnTo>
                    <a:lnTo>
                      <a:pt x="748" y="147"/>
                    </a:lnTo>
                    <a:lnTo>
                      <a:pt x="698" y="98"/>
                    </a:lnTo>
                    <a:lnTo>
                      <a:pt x="642" y="58"/>
                    </a:lnTo>
                    <a:lnTo>
                      <a:pt x="582" y="29"/>
                    </a:lnTo>
                    <a:lnTo>
                      <a:pt x="518" y="10"/>
                    </a:lnTo>
                    <a:lnTo>
                      <a:pt x="453" y="1"/>
                    </a:lnTo>
                    <a:lnTo>
                      <a:pt x="421"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Group 14"/>
            <p:cNvGrpSpPr/>
            <p:nvPr/>
          </p:nvGrpSpPr>
          <p:grpSpPr>
            <a:xfrm>
              <a:off x="231840" y="3613320"/>
              <a:ext cx="2466000" cy="1896120"/>
              <a:chOff x="231840" y="3613320"/>
              <a:chExt cx="2466000" cy="1896120"/>
            </a:xfrm>
          </p:grpSpPr>
          <p:sp>
            <p:nvSpPr>
              <p:cNvPr id="471" name="Freeform 134"/>
              <p:cNvSpPr/>
              <p:nvPr/>
            </p:nvSpPr>
            <p:spPr>
              <a:xfrm>
                <a:off x="231840" y="3613320"/>
                <a:ext cx="2466000" cy="1896120"/>
              </a:xfrm>
              <a:custGeom>
                <a:avLst/>
                <a:gdLst/>
                <a:ahLst/>
                <a:rect l="l" t="t" r="r" b="b"/>
                <a:pathLst>
                  <a:path w="5161" h="4647">
                    <a:moveTo>
                      <a:pt x="0" y="0"/>
                    </a:moveTo>
                    <a:lnTo>
                      <a:pt x="0" y="23"/>
                    </a:lnTo>
                    <a:lnTo>
                      <a:pt x="358" y="314"/>
                    </a:lnTo>
                    <a:lnTo>
                      <a:pt x="937" y="796"/>
                    </a:lnTo>
                    <a:lnTo>
                      <a:pt x="1517" y="1292"/>
                    </a:lnTo>
                    <a:lnTo>
                      <a:pt x="2100" y="1803"/>
                    </a:lnTo>
                    <a:lnTo>
                      <a:pt x="2689" y="2331"/>
                    </a:lnTo>
                    <a:lnTo>
                      <a:pt x="3286" y="2877"/>
                    </a:lnTo>
                    <a:lnTo>
                      <a:pt x="3893" y="3444"/>
                    </a:lnTo>
                    <a:lnTo>
                      <a:pt x="4513" y="4034"/>
                    </a:lnTo>
                    <a:lnTo>
                      <a:pt x="5148" y="4647"/>
                    </a:lnTo>
                    <a:lnTo>
                      <a:pt x="5161" y="4634"/>
                    </a:lnTo>
                    <a:lnTo>
                      <a:pt x="4525" y="4021"/>
                    </a:lnTo>
                    <a:lnTo>
                      <a:pt x="3905" y="3431"/>
                    </a:lnTo>
                    <a:lnTo>
                      <a:pt x="3298" y="2864"/>
                    </a:lnTo>
                    <a:lnTo>
                      <a:pt x="2701" y="2318"/>
                    </a:lnTo>
                    <a:lnTo>
                      <a:pt x="2112" y="1790"/>
                    </a:lnTo>
                    <a:lnTo>
                      <a:pt x="1528" y="1279"/>
                    </a:lnTo>
                    <a:lnTo>
                      <a:pt x="948" y="783"/>
                    </a:lnTo>
                    <a:lnTo>
                      <a:pt x="369" y="300"/>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2" name="Group 15"/>
            <p:cNvGrpSpPr/>
            <p:nvPr/>
          </p:nvGrpSpPr>
          <p:grpSpPr>
            <a:xfrm>
              <a:off x="231840" y="3841200"/>
              <a:ext cx="2464560" cy="1667160"/>
              <a:chOff x="231840" y="3841200"/>
              <a:chExt cx="2464560" cy="1667160"/>
            </a:xfrm>
          </p:grpSpPr>
          <p:sp>
            <p:nvSpPr>
              <p:cNvPr id="473" name="Freeform 133"/>
              <p:cNvSpPr/>
              <p:nvPr/>
            </p:nvSpPr>
            <p:spPr>
              <a:xfrm>
                <a:off x="231840" y="3841200"/>
                <a:ext cx="2464560" cy="1667160"/>
              </a:xfrm>
              <a:custGeom>
                <a:avLst/>
                <a:gdLst/>
                <a:ahLst/>
                <a:rect l="l" t="t" r="r" b="b"/>
                <a:pathLst>
                  <a:path w="5158" h="4086">
                    <a:moveTo>
                      <a:pt x="0" y="0"/>
                    </a:moveTo>
                    <a:lnTo>
                      <a:pt x="0" y="10"/>
                    </a:lnTo>
                    <a:lnTo>
                      <a:pt x="216" y="136"/>
                    </a:lnTo>
                    <a:lnTo>
                      <a:pt x="831" y="524"/>
                    </a:lnTo>
                    <a:lnTo>
                      <a:pt x="1441" y="940"/>
                    </a:lnTo>
                    <a:lnTo>
                      <a:pt x="2049" y="1385"/>
                    </a:lnTo>
                    <a:lnTo>
                      <a:pt x="2658" y="1860"/>
                    </a:lnTo>
                    <a:lnTo>
                      <a:pt x="3270" y="2366"/>
                    </a:lnTo>
                    <a:lnTo>
                      <a:pt x="3888" y="2905"/>
                    </a:lnTo>
                    <a:lnTo>
                      <a:pt x="4514" y="3478"/>
                    </a:lnTo>
                    <a:lnTo>
                      <a:pt x="5151" y="4086"/>
                    </a:lnTo>
                    <a:lnTo>
                      <a:pt x="5158" y="4080"/>
                    </a:lnTo>
                    <a:lnTo>
                      <a:pt x="4520" y="3471"/>
                    </a:lnTo>
                    <a:lnTo>
                      <a:pt x="3894" y="2898"/>
                    </a:lnTo>
                    <a:lnTo>
                      <a:pt x="3276" y="2359"/>
                    </a:lnTo>
                    <a:lnTo>
                      <a:pt x="2663" y="1853"/>
                    </a:lnTo>
                    <a:lnTo>
                      <a:pt x="2054" y="1378"/>
                    </a:lnTo>
                    <a:lnTo>
                      <a:pt x="1446" y="933"/>
                    </a:lnTo>
                    <a:lnTo>
                      <a:pt x="835" y="517"/>
                    </a:lnTo>
                    <a:lnTo>
                      <a:pt x="221" y="128"/>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 name="Group 16"/>
            <p:cNvGrpSpPr/>
            <p:nvPr/>
          </p:nvGrpSpPr>
          <p:grpSpPr>
            <a:xfrm>
              <a:off x="231840" y="3991320"/>
              <a:ext cx="2464560" cy="1517040"/>
              <a:chOff x="231840" y="3991320"/>
              <a:chExt cx="2464560" cy="1517040"/>
            </a:xfrm>
          </p:grpSpPr>
          <p:sp>
            <p:nvSpPr>
              <p:cNvPr id="475" name="Freeform 132"/>
              <p:cNvSpPr/>
              <p:nvPr/>
            </p:nvSpPr>
            <p:spPr>
              <a:xfrm>
                <a:off x="231840" y="3991320"/>
                <a:ext cx="2464560" cy="1517040"/>
              </a:xfrm>
              <a:custGeom>
                <a:avLst/>
                <a:gdLst/>
                <a:ahLst/>
                <a:rect l="l" t="t" r="r" b="b"/>
                <a:pathLst>
                  <a:path w="5158" h="3718">
                    <a:moveTo>
                      <a:pt x="0" y="0"/>
                    </a:moveTo>
                    <a:lnTo>
                      <a:pt x="0" y="10"/>
                    </a:lnTo>
                    <a:lnTo>
                      <a:pt x="196" y="95"/>
                    </a:lnTo>
                    <a:lnTo>
                      <a:pt x="691" y="337"/>
                    </a:lnTo>
                    <a:lnTo>
                      <a:pt x="1182" y="605"/>
                    </a:lnTo>
                    <a:lnTo>
                      <a:pt x="1672" y="898"/>
                    </a:lnTo>
                    <a:lnTo>
                      <a:pt x="2160" y="1218"/>
                    </a:lnTo>
                    <a:lnTo>
                      <a:pt x="2650" y="1565"/>
                    </a:lnTo>
                    <a:lnTo>
                      <a:pt x="3141" y="1939"/>
                    </a:lnTo>
                    <a:lnTo>
                      <a:pt x="3635" y="2341"/>
                    </a:lnTo>
                    <a:lnTo>
                      <a:pt x="4134" y="2771"/>
                    </a:lnTo>
                    <a:lnTo>
                      <a:pt x="4639" y="3230"/>
                    </a:lnTo>
                    <a:lnTo>
                      <a:pt x="5151" y="3718"/>
                    </a:lnTo>
                    <a:lnTo>
                      <a:pt x="5158" y="3712"/>
                    </a:lnTo>
                    <a:lnTo>
                      <a:pt x="4645" y="3224"/>
                    </a:lnTo>
                    <a:lnTo>
                      <a:pt x="4140" y="2765"/>
                    </a:lnTo>
                    <a:lnTo>
                      <a:pt x="3641" y="2335"/>
                    </a:lnTo>
                    <a:lnTo>
                      <a:pt x="3146" y="1932"/>
                    </a:lnTo>
                    <a:lnTo>
                      <a:pt x="2655" y="1558"/>
                    </a:lnTo>
                    <a:lnTo>
                      <a:pt x="2165" y="1211"/>
                    </a:lnTo>
                    <a:lnTo>
                      <a:pt x="1676" y="891"/>
                    </a:lnTo>
                    <a:lnTo>
                      <a:pt x="1187" y="597"/>
                    </a:lnTo>
                    <a:lnTo>
                      <a:pt x="695" y="329"/>
                    </a:lnTo>
                    <a:lnTo>
                      <a:pt x="200" y="8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6" name="Group 17"/>
            <p:cNvGrpSpPr/>
            <p:nvPr/>
          </p:nvGrpSpPr>
          <p:grpSpPr>
            <a:xfrm>
              <a:off x="231840" y="4080600"/>
              <a:ext cx="2464560" cy="1427760"/>
              <a:chOff x="231840" y="4080600"/>
              <a:chExt cx="2464560" cy="1427760"/>
            </a:xfrm>
          </p:grpSpPr>
          <p:sp>
            <p:nvSpPr>
              <p:cNvPr id="477" name="Freeform 131"/>
              <p:cNvSpPr/>
              <p:nvPr/>
            </p:nvSpPr>
            <p:spPr>
              <a:xfrm>
                <a:off x="231840" y="4080600"/>
                <a:ext cx="2464560" cy="1427760"/>
              </a:xfrm>
              <a:custGeom>
                <a:avLst/>
                <a:gdLst/>
                <a:ahLst/>
                <a:rect l="l" t="t" r="r" b="b"/>
                <a:pathLst>
                  <a:path w="5158" h="3499">
                    <a:moveTo>
                      <a:pt x="0" y="0"/>
                    </a:moveTo>
                    <a:lnTo>
                      <a:pt x="0" y="10"/>
                    </a:lnTo>
                    <a:lnTo>
                      <a:pt x="19" y="16"/>
                    </a:lnTo>
                    <a:lnTo>
                      <a:pt x="410" y="161"/>
                    </a:lnTo>
                    <a:lnTo>
                      <a:pt x="800" y="326"/>
                    </a:lnTo>
                    <a:lnTo>
                      <a:pt x="1188" y="511"/>
                    </a:lnTo>
                    <a:lnTo>
                      <a:pt x="1576" y="716"/>
                    </a:lnTo>
                    <a:lnTo>
                      <a:pt x="1964" y="942"/>
                    </a:lnTo>
                    <a:lnTo>
                      <a:pt x="2352" y="1188"/>
                    </a:lnTo>
                    <a:lnTo>
                      <a:pt x="2742" y="1455"/>
                    </a:lnTo>
                    <a:lnTo>
                      <a:pt x="3134" y="1743"/>
                    </a:lnTo>
                    <a:lnTo>
                      <a:pt x="3530" y="2051"/>
                    </a:lnTo>
                    <a:lnTo>
                      <a:pt x="3928" y="2381"/>
                    </a:lnTo>
                    <a:lnTo>
                      <a:pt x="4331" y="2732"/>
                    </a:lnTo>
                    <a:lnTo>
                      <a:pt x="4738" y="3105"/>
                    </a:lnTo>
                    <a:lnTo>
                      <a:pt x="5151" y="3499"/>
                    </a:lnTo>
                    <a:lnTo>
                      <a:pt x="5158" y="3493"/>
                    </a:lnTo>
                    <a:lnTo>
                      <a:pt x="4744" y="3098"/>
                    </a:lnTo>
                    <a:lnTo>
                      <a:pt x="4337" y="2726"/>
                    </a:lnTo>
                    <a:lnTo>
                      <a:pt x="3934" y="2374"/>
                    </a:lnTo>
                    <a:lnTo>
                      <a:pt x="3535" y="2044"/>
                    </a:lnTo>
                    <a:lnTo>
                      <a:pt x="3140" y="1736"/>
                    </a:lnTo>
                    <a:lnTo>
                      <a:pt x="2747" y="1448"/>
                    </a:lnTo>
                    <a:lnTo>
                      <a:pt x="2357" y="1181"/>
                    </a:lnTo>
                    <a:lnTo>
                      <a:pt x="1968" y="934"/>
                    </a:lnTo>
                    <a:lnTo>
                      <a:pt x="1580" y="708"/>
                    </a:lnTo>
                    <a:lnTo>
                      <a:pt x="1192" y="503"/>
                    </a:lnTo>
                    <a:lnTo>
                      <a:pt x="803" y="318"/>
                    </a:lnTo>
                    <a:lnTo>
                      <a:pt x="414" y="152"/>
                    </a:lnTo>
                    <a:lnTo>
                      <a:pt x="22" y="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Group 18"/>
            <p:cNvGrpSpPr/>
            <p:nvPr/>
          </p:nvGrpSpPr>
          <p:grpSpPr>
            <a:xfrm>
              <a:off x="231840" y="4136760"/>
              <a:ext cx="2464560" cy="1371960"/>
              <a:chOff x="231840" y="4136760"/>
              <a:chExt cx="2464560" cy="1371960"/>
            </a:xfrm>
          </p:grpSpPr>
          <p:sp>
            <p:nvSpPr>
              <p:cNvPr id="479" name="Freeform 130"/>
              <p:cNvSpPr/>
              <p:nvPr/>
            </p:nvSpPr>
            <p:spPr>
              <a:xfrm>
                <a:off x="231840" y="4136760"/>
                <a:ext cx="2464560" cy="1371960"/>
              </a:xfrm>
              <a:custGeom>
                <a:avLst/>
                <a:gdLst/>
                <a:ahLst/>
                <a:rect l="l" t="t" r="r" b="b"/>
                <a:pathLst>
                  <a:path w="5158" h="3362">
                    <a:moveTo>
                      <a:pt x="0" y="0"/>
                    </a:moveTo>
                    <a:lnTo>
                      <a:pt x="0" y="9"/>
                    </a:lnTo>
                    <a:lnTo>
                      <a:pt x="225" y="72"/>
                    </a:lnTo>
                    <a:lnTo>
                      <a:pt x="568" y="188"/>
                    </a:lnTo>
                    <a:lnTo>
                      <a:pt x="911" y="322"/>
                    </a:lnTo>
                    <a:lnTo>
                      <a:pt x="1254" y="474"/>
                    </a:lnTo>
                    <a:lnTo>
                      <a:pt x="1597" y="644"/>
                    </a:lnTo>
                    <a:lnTo>
                      <a:pt x="1941" y="832"/>
                    </a:lnTo>
                    <a:lnTo>
                      <a:pt x="2286" y="1039"/>
                    </a:lnTo>
                    <a:lnTo>
                      <a:pt x="2633" y="1264"/>
                    </a:lnTo>
                    <a:lnTo>
                      <a:pt x="2982" y="1508"/>
                    </a:lnTo>
                    <a:lnTo>
                      <a:pt x="3334" y="1770"/>
                    </a:lnTo>
                    <a:lnTo>
                      <a:pt x="3689" y="2051"/>
                    </a:lnTo>
                    <a:lnTo>
                      <a:pt x="4048" y="2350"/>
                    </a:lnTo>
                    <a:lnTo>
                      <a:pt x="4411" y="2669"/>
                    </a:lnTo>
                    <a:lnTo>
                      <a:pt x="4779" y="3006"/>
                    </a:lnTo>
                    <a:lnTo>
                      <a:pt x="5151" y="3362"/>
                    </a:lnTo>
                    <a:lnTo>
                      <a:pt x="5158" y="3356"/>
                    </a:lnTo>
                    <a:lnTo>
                      <a:pt x="4785" y="2999"/>
                    </a:lnTo>
                    <a:lnTo>
                      <a:pt x="4417" y="2662"/>
                    </a:lnTo>
                    <a:lnTo>
                      <a:pt x="4054" y="2344"/>
                    </a:lnTo>
                    <a:lnTo>
                      <a:pt x="3695" y="2044"/>
                    </a:lnTo>
                    <a:lnTo>
                      <a:pt x="3339" y="1763"/>
                    </a:lnTo>
                    <a:lnTo>
                      <a:pt x="2987" y="1501"/>
                    </a:lnTo>
                    <a:lnTo>
                      <a:pt x="2638" y="1257"/>
                    </a:lnTo>
                    <a:lnTo>
                      <a:pt x="2290" y="1032"/>
                    </a:lnTo>
                    <a:lnTo>
                      <a:pt x="1945" y="825"/>
                    </a:lnTo>
                    <a:lnTo>
                      <a:pt x="1601" y="636"/>
                    </a:lnTo>
                    <a:lnTo>
                      <a:pt x="1257" y="466"/>
                    </a:lnTo>
                    <a:lnTo>
                      <a:pt x="914" y="314"/>
                    </a:lnTo>
                    <a:lnTo>
                      <a:pt x="571" y="180"/>
                    </a:lnTo>
                    <a:lnTo>
                      <a:pt x="227" y="64"/>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Group 19"/>
            <p:cNvGrpSpPr/>
            <p:nvPr/>
          </p:nvGrpSpPr>
          <p:grpSpPr>
            <a:xfrm>
              <a:off x="231840" y="4183200"/>
              <a:ext cx="2464560" cy="1325160"/>
              <a:chOff x="231840" y="4183200"/>
              <a:chExt cx="2464560" cy="1325160"/>
            </a:xfrm>
          </p:grpSpPr>
          <p:sp>
            <p:nvSpPr>
              <p:cNvPr id="481" name="Freeform 129"/>
              <p:cNvSpPr/>
              <p:nvPr/>
            </p:nvSpPr>
            <p:spPr>
              <a:xfrm>
                <a:off x="231840" y="4183200"/>
                <a:ext cx="2464560" cy="1325160"/>
              </a:xfrm>
              <a:custGeom>
                <a:avLst/>
                <a:gdLst/>
                <a:ahLst/>
                <a:rect l="l" t="t" r="r" b="b"/>
                <a:pathLst>
                  <a:path w="5158" h="3248">
                    <a:moveTo>
                      <a:pt x="0" y="0"/>
                    </a:moveTo>
                    <a:lnTo>
                      <a:pt x="0" y="9"/>
                    </a:lnTo>
                    <a:lnTo>
                      <a:pt x="22" y="13"/>
                    </a:lnTo>
                    <a:lnTo>
                      <a:pt x="330" y="89"/>
                    </a:lnTo>
                    <a:lnTo>
                      <a:pt x="639" y="181"/>
                    </a:lnTo>
                    <a:lnTo>
                      <a:pt x="947" y="289"/>
                    </a:lnTo>
                    <a:lnTo>
                      <a:pt x="1257" y="415"/>
                    </a:lnTo>
                    <a:lnTo>
                      <a:pt x="1567" y="557"/>
                    </a:lnTo>
                    <a:lnTo>
                      <a:pt x="1879" y="717"/>
                    </a:lnTo>
                    <a:lnTo>
                      <a:pt x="2192" y="893"/>
                    </a:lnTo>
                    <a:lnTo>
                      <a:pt x="2508" y="1087"/>
                    </a:lnTo>
                    <a:lnTo>
                      <a:pt x="2826" y="1297"/>
                    </a:lnTo>
                    <a:lnTo>
                      <a:pt x="3146" y="1524"/>
                    </a:lnTo>
                    <a:lnTo>
                      <a:pt x="3471" y="1769"/>
                    </a:lnTo>
                    <a:lnTo>
                      <a:pt x="3798" y="2030"/>
                    </a:lnTo>
                    <a:lnTo>
                      <a:pt x="4130" y="2309"/>
                    </a:lnTo>
                    <a:lnTo>
                      <a:pt x="4465" y="2605"/>
                    </a:lnTo>
                    <a:lnTo>
                      <a:pt x="4806" y="2918"/>
                    </a:lnTo>
                    <a:lnTo>
                      <a:pt x="5151" y="3248"/>
                    </a:lnTo>
                    <a:lnTo>
                      <a:pt x="5158" y="3242"/>
                    </a:lnTo>
                    <a:lnTo>
                      <a:pt x="4812" y="2911"/>
                    </a:lnTo>
                    <a:lnTo>
                      <a:pt x="4471" y="2598"/>
                    </a:lnTo>
                    <a:lnTo>
                      <a:pt x="4135" y="2302"/>
                    </a:lnTo>
                    <a:lnTo>
                      <a:pt x="3804" y="2023"/>
                    </a:lnTo>
                    <a:lnTo>
                      <a:pt x="3476" y="1762"/>
                    </a:lnTo>
                    <a:lnTo>
                      <a:pt x="3152" y="1517"/>
                    </a:lnTo>
                    <a:lnTo>
                      <a:pt x="2831" y="1290"/>
                    </a:lnTo>
                    <a:lnTo>
                      <a:pt x="2512" y="1079"/>
                    </a:lnTo>
                    <a:lnTo>
                      <a:pt x="2197" y="886"/>
                    </a:lnTo>
                    <a:lnTo>
                      <a:pt x="1883" y="709"/>
                    </a:lnTo>
                    <a:lnTo>
                      <a:pt x="1571" y="550"/>
                    </a:lnTo>
                    <a:lnTo>
                      <a:pt x="1260" y="407"/>
                    </a:lnTo>
                    <a:lnTo>
                      <a:pt x="951" y="281"/>
                    </a:lnTo>
                    <a:lnTo>
                      <a:pt x="642" y="172"/>
                    </a:lnTo>
                    <a:lnTo>
                      <a:pt x="333" y="80"/>
                    </a:lnTo>
                    <a:lnTo>
                      <a:pt x="24" y="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Group 20"/>
            <p:cNvGrpSpPr/>
            <p:nvPr/>
          </p:nvGrpSpPr>
          <p:grpSpPr>
            <a:xfrm>
              <a:off x="231840" y="4226040"/>
              <a:ext cx="2464560" cy="1282320"/>
              <a:chOff x="231840" y="4226040"/>
              <a:chExt cx="2464560" cy="1282320"/>
            </a:xfrm>
          </p:grpSpPr>
          <p:sp>
            <p:nvSpPr>
              <p:cNvPr id="483" name="Freeform 128"/>
              <p:cNvSpPr/>
              <p:nvPr/>
            </p:nvSpPr>
            <p:spPr>
              <a:xfrm>
                <a:off x="231840" y="4226040"/>
                <a:ext cx="2464560" cy="1282320"/>
              </a:xfrm>
              <a:custGeom>
                <a:avLst/>
                <a:gdLst/>
                <a:ahLst/>
                <a:rect l="l" t="t" r="r" b="b"/>
                <a:pathLst>
                  <a:path w="5158" h="3143">
                    <a:moveTo>
                      <a:pt x="0" y="0"/>
                    </a:moveTo>
                    <a:lnTo>
                      <a:pt x="0" y="9"/>
                    </a:lnTo>
                    <a:lnTo>
                      <a:pt x="105" y="24"/>
                    </a:lnTo>
                    <a:lnTo>
                      <a:pt x="385" y="80"/>
                    </a:lnTo>
                    <a:lnTo>
                      <a:pt x="665" y="151"/>
                    </a:lnTo>
                    <a:lnTo>
                      <a:pt x="946" y="239"/>
                    </a:lnTo>
                    <a:lnTo>
                      <a:pt x="1229" y="342"/>
                    </a:lnTo>
                    <a:lnTo>
                      <a:pt x="1513" y="462"/>
                    </a:lnTo>
                    <a:lnTo>
                      <a:pt x="1799" y="597"/>
                    </a:lnTo>
                    <a:lnTo>
                      <a:pt x="2087" y="749"/>
                    </a:lnTo>
                    <a:lnTo>
                      <a:pt x="2378" y="916"/>
                    </a:lnTo>
                    <a:lnTo>
                      <a:pt x="2671" y="1100"/>
                    </a:lnTo>
                    <a:lnTo>
                      <a:pt x="2968" y="1299"/>
                    </a:lnTo>
                    <a:lnTo>
                      <a:pt x="3267" y="1514"/>
                    </a:lnTo>
                    <a:lnTo>
                      <a:pt x="3571" y="1746"/>
                    </a:lnTo>
                    <a:lnTo>
                      <a:pt x="3878" y="1993"/>
                    </a:lnTo>
                    <a:lnTo>
                      <a:pt x="4189" y="2256"/>
                    </a:lnTo>
                    <a:lnTo>
                      <a:pt x="4505" y="2536"/>
                    </a:lnTo>
                    <a:lnTo>
                      <a:pt x="4826" y="2831"/>
                    </a:lnTo>
                    <a:lnTo>
                      <a:pt x="5151" y="3143"/>
                    </a:lnTo>
                    <a:lnTo>
                      <a:pt x="5158" y="3137"/>
                    </a:lnTo>
                    <a:lnTo>
                      <a:pt x="4832" y="2825"/>
                    </a:lnTo>
                    <a:lnTo>
                      <a:pt x="4511" y="2529"/>
                    </a:lnTo>
                    <a:lnTo>
                      <a:pt x="4195" y="2250"/>
                    </a:lnTo>
                    <a:lnTo>
                      <a:pt x="3883" y="1986"/>
                    </a:lnTo>
                    <a:lnTo>
                      <a:pt x="3576" y="1739"/>
                    </a:lnTo>
                    <a:lnTo>
                      <a:pt x="3273" y="1507"/>
                    </a:lnTo>
                    <a:lnTo>
                      <a:pt x="2973" y="1292"/>
                    </a:lnTo>
                    <a:lnTo>
                      <a:pt x="2676" y="1092"/>
                    </a:lnTo>
                    <a:lnTo>
                      <a:pt x="2382" y="909"/>
                    </a:lnTo>
                    <a:lnTo>
                      <a:pt x="2091" y="741"/>
                    </a:lnTo>
                    <a:lnTo>
                      <a:pt x="1803" y="589"/>
                    </a:lnTo>
                    <a:lnTo>
                      <a:pt x="1517" y="454"/>
                    </a:lnTo>
                    <a:lnTo>
                      <a:pt x="1232" y="334"/>
                    </a:lnTo>
                    <a:lnTo>
                      <a:pt x="949" y="231"/>
                    </a:lnTo>
                    <a:lnTo>
                      <a:pt x="667" y="143"/>
                    </a:lnTo>
                    <a:lnTo>
                      <a:pt x="386" y="71"/>
                    </a:lnTo>
                    <a:lnTo>
                      <a:pt x="106" y="1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Group 21"/>
            <p:cNvGrpSpPr/>
            <p:nvPr/>
          </p:nvGrpSpPr>
          <p:grpSpPr>
            <a:xfrm>
              <a:off x="231840" y="3458880"/>
              <a:ext cx="2802240" cy="1711800"/>
              <a:chOff x="231840" y="3458880"/>
              <a:chExt cx="2802240" cy="1711800"/>
            </a:xfrm>
          </p:grpSpPr>
          <p:sp>
            <p:nvSpPr>
              <p:cNvPr id="485" name="Freeform 127"/>
              <p:cNvSpPr/>
              <p:nvPr/>
            </p:nvSpPr>
            <p:spPr>
              <a:xfrm>
                <a:off x="231840" y="3458880"/>
                <a:ext cx="2802240" cy="1711800"/>
              </a:xfrm>
              <a:custGeom>
                <a:avLst/>
                <a:gdLst/>
                <a:ahLst/>
                <a:rect l="l" t="t" r="r" b="b"/>
                <a:pathLst>
                  <a:path w="5865" h="4195">
                    <a:moveTo>
                      <a:pt x="0" y="0"/>
                    </a:moveTo>
                    <a:lnTo>
                      <a:pt x="0" y="21"/>
                    </a:lnTo>
                    <a:lnTo>
                      <a:pt x="587" y="424"/>
                    </a:lnTo>
                    <a:lnTo>
                      <a:pt x="1837" y="1295"/>
                    </a:lnTo>
                    <a:lnTo>
                      <a:pt x="3777" y="2678"/>
                    </a:lnTo>
                    <a:lnTo>
                      <a:pt x="5855" y="4195"/>
                    </a:lnTo>
                    <a:lnTo>
                      <a:pt x="5865" y="4181"/>
                    </a:lnTo>
                    <a:lnTo>
                      <a:pt x="3788" y="2664"/>
                    </a:lnTo>
                    <a:lnTo>
                      <a:pt x="1848" y="1280"/>
                    </a:lnTo>
                    <a:lnTo>
                      <a:pt x="597" y="409"/>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oup 22"/>
            <p:cNvGrpSpPr/>
            <p:nvPr/>
          </p:nvGrpSpPr>
          <p:grpSpPr>
            <a:xfrm>
              <a:off x="231840" y="3695760"/>
              <a:ext cx="2801520" cy="1473120"/>
              <a:chOff x="231840" y="3695760"/>
              <a:chExt cx="2801520" cy="1473120"/>
            </a:xfrm>
          </p:grpSpPr>
          <p:sp>
            <p:nvSpPr>
              <p:cNvPr id="487" name="Freeform 126"/>
              <p:cNvSpPr/>
              <p:nvPr/>
            </p:nvSpPr>
            <p:spPr>
              <a:xfrm>
                <a:off x="231840" y="3695760"/>
                <a:ext cx="2801520" cy="1473120"/>
              </a:xfrm>
              <a:custGeom>
                <a:avLst/>
                <a:gdLst/>
                <a:ahLst/>
                <a:rect l="l" t="t" r="r" b="b"/>
                <a:pathLst>
                  <a:path w="5863" h="3610">
                    <a:moveTo>
                      <a:pt x="0" y="0"/>
                    </a:moveTo>
                    <a:lnTo>
                      <a:pt x="0" y="10"/>
                    </a:lnTo>
                    <a:lnTo>
                      <a:pt x="445" y="223"/>
                    </a:lnTo>
                    <a:lnTo>
                      <a:pt x="1103" y="560"/>
                    </a:lnTo>
                    <a:lnTo>
                      <a:pt x="1761" y="919"/>
                    </a:lnTo>
                    <a:lnTo>
                      <a:pt x="2422" y="1302"/>
                    </a:lnTo>
                    <a:lnTo>
                      <a:pt x="3087" y="1710"/>
                    </a:lnTo>
                    <a:lnTo>
                      <a:pt x="3761" y="2144"/>
                    </a:lnTo>
                    <a:lnTo>
                      <a:pt x="4446" y="2604"/>
                    </a:lnTo>
                    <a:lnTo>
                      <a:pt x="5144" y="3093"/>
                    </a:lnTo>
                    <a:lnTo>
                      <a:pt x="5858" y="3610"/>
                    </a:lnTo>
                    <a:lnTo>
                      <a:pt x="5863" y="3603"/>
                    </a:lnTo>
                    <a:lnTo>
                      <a:pt x="5149" y="3085"/>
                    </a:lnTo>
                    <a:lnTo>
                      <a:pt x="4451" y="2597"/>
                    </a:lnTo>
                    <a:lnTo>
                      <a:pt x="3766" y="2136"/>
                    </a:lnTo>
                    <a:lnTo>
                      <a:pt x="3092" y="1703"/>
                    </a:lnTo>
                    <a:lnTo>
                      <a:pt x="2426" y="1295"/>
                    </a:lnTo>
                    <a:lnTo>
                      <a:pt x="1765" y="912"/>
                    </a:lnTo>
                    <a:lnTo>
                      <a:pt x="1107" y="552"/>
                    </a:lnTo>
                    <a:lnTo>
                      <a:pt x="449" y="215"/>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8" name="Group 23"/>
            <p:cNvGrpSpPr/>
            <p:nvPr/>
          </p:nvGrpSpPr>
          <p:grpSpPr>
            <a:xfrm>
              <a:off x="231840" y="3858120"/>
              <a:ext cx="2801520" cy="1311120"/>
              <a:chOff x="231840" y="3858120"/>
              <a:chExt cx="2801520" cy="1311120"/>
            </a:xfrm>
          </p:grpSpPr>
          <p:sp>
            <p:nvSpPr>
              <p:cNvPr id="489" name="Freeform 125"/>
              <p:cNvSpPr/>
              <p:nvPr/>
            </p:nvSpPr>
            <p:spPr>
              <a:xfrm>
                <a:off x="231840" y="3858120"/>
                <a:ext cx="2801520" cy="1311120"/>
              </a:xfrm>
              <a:custGeom>
                <a:avLst/>
                <a:gdLst/>
                <a:ahLst/>
                <a:rect l="l" t="t" r="r" b="b"/>
                <a:pathLst>
                  <a:path w="5863" h="3213">
                    <a:moveTo>
                      <a:pt x="0" y="0"/>
                    </a:moveTo>
                    <a:lnTo>
                      <a:pt x="0" y="10"/>
                    </a:lnTo>
                    <a:lnTo>
                      <a:pt x="66" y="30"/>
                    </a:lnTo>
                    <a:lnTo>
                      <a:pt x="580" y="211"/>
                    </a:lnTo>
                    <a:lnTo>
                      <a:pt x="1094" y="412"/>
                    </a:lnTo>
                    <a:lnTo>
                      <a:pt x="1607" y="635"/>
                    </a:lnTo>
                    <a:lnTo>
                      <a:pt x="2121" y="879"/>
                    </a:lnTo>
                    <a:lnTo>
                      <a:pt x="2637" y="1145"/>
                    </a:lnTo>
                    <a:lnTo>
                      <a:pt x="3158" y="1433"/>
                    </a:lnTo>
                    <a:lnTo>
                      <a:pt x="3683" y="1743"/>
                    </a:lnTo>
                    <a:lnTo>
                      <a:pt x="4214" y="2076"/>
                    </a:lnTo>
                    <a:lnTo>
                      <a:pt x="4753" y="2431"/>
                    </a:lnTo>
                    <a:lnTo>
                      <a:pt x="5300" y="2811"/>
                    </a:lnTo>
                    <a:lnTo>
                      <a:pt x="5858" y="3213"/>
                    </a:lnTo>
                    <a:lnTo>
                      <a:pt x="5863" y="3206"/>
                    </a:lnTo>
                    <a:lnTo>
                      <a:pt x="5305" y="2803"/>
                    </a:lnTo>
                    <a:lnTo>
                      <a:pt x="4758" y="2424"/>
                    </a:lnTo>
                    <a:lnTo>
                      <a:pt x="4219" y="2068"/>
                    </a:lnTo>
                    <a:lnTo>
                      <a:pt x="3687" y="1735"/>
                    </a:lnTo>
                    <a:lnTo>
                      <a:pt x="3162" y="1425"/>
                    </a:lnTo>
                    <a:lnTo>
                      <a:pt x="2642" y="1137"/>
                    </a:lnTo>
                    <a:lnTo>
                      <a:pt x="2125" y="871"/>
                    </a:lnTo>
                    <a:lnTo>
                      <a:pt x="1610" y="627"/>
                    </a:lnTo>
                    <a:lnTo>
                      <a:pt x="1097" y="404"/>
                    </a:lnTo>
                    <a:lnTo>
                      <a:pt x="583" y="202"/>
                    </a:lnTo>
                    <a:lnTo>
                      <a:pt x="68"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oup 24"/>
            <p:cNvGrpSpPr/>
            <p:nvPr/>
          </p:nvGrpSpPr>
          <p:grpSpPr>
            <a:xfrm>
              <a:off x="231840" y="3959640"/>
              <a:ext cx="2801520" cy="1209600"/>
              <a:chOff x="231840" y="3959640"/>
              <a:chExt cx="2801520" cy="1209600"/>
            </a:xfrm>
          </p:grpSpPr>
          <p:sp>
            <p:nvSpPr>
              <p:cNvPr id="491" name="Freeform 124"/>
              <p:cNvSpPr/>
              <p:nvPr/>
            </p:nvSpPr>
            <p:spPr>
              <a:xfrm>
                <a:off x="231840" y="3959640"/>
                <a:ext cx="2801520" cy="1209600"/>
              </a:xfrm>
              <a:custGeom>
                <a:avLst/>
                <a:gdLst/>
                <a:ahLst/>
                <a:rect l="l" t="t" r="r" b="b"/>
                <a:pathLst>
                  <a:path w="5863" h="2965">
                    <a:moveTo>
                      <a:pt x="0" y="0"/>
                    </a:moveTo>
                    <a:lnTo>
                      <a:pt x="0" y="9"/>
                    </a:lnTo>
                    <a:lnTo>
                      <a:pt x="101" y="31"/>
                    </a:lnTo>
                    <a:lnTo>
                      <a:pt x="498" y="133"/>
                    </a:lnTo>
                    <a:lnTo>
                      <a:pt x="896" y="252"/>
                    </a:lnTo>
                    <a:lnTo>
                      <a:pt x="1293" y="387"/>
                    </a:lnTo>
                    <a:lnTo>
                      <a:pt x="1691" y="538"/>
                    </a:lnTo>
                    <a:lnTo>
                      <a:pt x="2091" y="705"/>
                    </a:lnTo>
                    <a:lnTo>
                      <a:pt x="2493" y="889"/>
                    </a:lnTo>
                    <a:lnTo>
                      <a:pt x="2898" y="1090"/>
                    </a:lnTo>
                    <a:lnTo>
                      <a:pt x="3306" y="1307"/>
                    </a:lnTo>
                    <a:lnTo>
                      <a:pt x="3718" y="1541"/>
                    </a:lnTo>
                    <a:lnTo>
                      <a:pt x="4134" y="1791"/>
                    </a:lnTo>
                    <a:lnTo>
                      <a:pt x="4556" y="2059"/>
                    </a:lnTo>
                    <a:lnTo>
                      <a:pt x="4983" y="2344"/>
                    </a:lnTo>
                    <a:lnTo>
                      <a:pt x="5417" y="2645"/>
                    </a:lnTo>
                    <a:lnTo>
                      <a:pt x="5858" y="2964"/>
                    </a:lnTo>
                    <a:lnTo>
                      <a:pt x="5863" y="2957"/>
                    </a:lnTo>
                    <a:lnTo>
                      <a:pt x="5422" y="2638"/>
                    </a:lnTo>
                    <a:lnTo>
                      <a:pt x="4988" y="2336"/>
                    </a:lnTo>
                    <a:lnTo>
                      <a:pt x="4561" y="2052"/>
                    </a:lnTo>
                    <a:lnTo>
                      <a:pt x="4139" y="1784"/>
                    </a:lnTo>
                    <a:lnTo>
                      <a:pt x="3722" y="1533"/>
                    </a:lnTo>
                    <a:lnTo>
                      <a:pt x="3310" y="1299"/>
                    </a:lnTo>
                    <a:lnTo>
                      <a:pt x="2902" y="1082"/>
                    </a:lnTo>
                    <a:lnTo>
                      <a:pt x="2497" y="881"/>
                    </a:lnTo>
                    <a:lnTo>
                      <a:pt x="2095" y="697"/>
                    </a:lnTo>
                    <a:lnTo>
                      <a:pt x="1695" y="530"/>
                    </a:lnTo>
                    <a:lnTo>
                      <a:pt x="1296" y="378"/>
                    </a:lnTo>
                    <a:lnTo>
                      <a:pt x="898" y="243"/>
                    </a:lnTo>
                    <a:lnTo>
                      <a:pt x="501" y="125"/>
                    </a:lnTo>
                    <a:lnTo>
                      <a:pt x="103"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Group 25"/>
            <p:cNvGrpSpPr/>
            <p:nvPr/>
          </p:nvGrpSpPr>
          <p:grpSpPr>
            <a:xfrm>
              <a:off x="231840" y="4021920"/>
              <a:ext cx="2801520" cy="1146960"/>
              <a:chOff x="231840" y="4021920"/>
              <a:chExt cx="2801520" cy="1146960"/>
            </a:xfrm>
          </p:grpSpPr>
          <p:sp>
            <p:nvSpPr>
              <p:cNvPr id="493" name="Freeform 123"/>
              <p:cNvSpPr/>
              <p:nvPr/>
            </p:nvSpPr>
            <p:spPr>
              <a:xfrm>
                <a:off x="231840" y="4021920"/>
                <a:ext cx="2801520" cy="1146960"/>
              </a:xfrm>
              <a:custGeom>
                <a:avLst/>
                <a:gdLst/>
                <a:ahLst/>
                <a:rect l="l" t="t" r="r" b="b"/>
                <a:pathLst>
                  <a:path w="5863" h="2811">
                    <a:moveTo>
                      <a:pt x="0" y="0"/>
                    </a:moveTo>
                    <a:lnTo>
                      <a:pt x="0" y="9"/>
                    </a:lnTo>
                    <a:lnTo>
                      <a:pt x="46" y="16"/>
                    </a:lnTo>
                    <a:lnTo>
                      <a:pt x="393" y="81"/>
                    </a:lnTo>
                    <a:lnTo>
                      <a:pt x="740" y="160"/>
                    </a:lnTo>
                    <a:lnTo>
                      <a:pt x="1087" y="254"/>
                    </a:lnTo>
                    <a:lnTo>
                      <a:pt x="1436" y="362"/>
                    </a:lnTo>
                    <a:lnTo>
                      <a:pt x="1786" y="485"/>
                    </a:lnTo>
                    <a:lnTo>
                      <a:pt x="2138" y="623"/>
                    </a:lnTo>
                    <a:lnTo>
                      <a:pt x="2492" y="775"/>
                    </a:lnTo>
                    <a:lnTo>
                      <a:pt x="2849" y="942"/>
                    </a:lnTo>
                    <a:lnTo>
                      <a:pt x="3210" y="1124"/>
                    </a:lnTo>
                    <a:lnTo>
                      <a:pt x="3574" y="1321"/>
                    </a:lnTo>
                    <a:lnTo>
                      <a:pt x="3942" y="1532"/>
                    </a:lnTo>
                    <a:lnTo>
                      <a:pt x="4314" y="1758"/>
                    </a:lnTo>
                    <a:lnTo>
                      <a:pt x="4692" y="1999"/>
                    </a:lnTo>
                    <a:lnTo>
                      <a:pt x="5075" y="2255"/>
                    </a:lnTo>
                    <a:lnTo>
                      <a:pt x="5463" y="2526"/>
                    </a:lnTo>
                    <a:lnTo>
                      <a:pt x="5858" y="2811"/>
                    </a:lnTo>
                    <a:lnTo>
                      <a:pt x="5863" y="2804"/>
                    </a:lnTo>
                    <a:lnTo>
                      <a:pt x="5468" y="2518"/>
                    </a:lnTo>
                    <a:lnTo>
                      <a:pt x="5080" y="2248"/>
                    </a:lnTo>
                    <a:lnTo>
                      <a:pt x="4697" y="1992"/>
                    </a:lnTo>
                    <a:lnTo>
                      <a:pt x="4319" y="1751"/>
                    </a:lnTo>
                    <a:lnTo>
                      <a:pt x="3946" y="1524"/>
                    </a:lnTo>
                    <a:lnTo>
                      <a:pt x="3578" y="1313"/>
                    </a:lnTo>
                    <a:lnTo>
                      <a:pt x="3214" y="1116"/>
                    </a:lnTo>
                    <a:lnTo>
                      <a:pt x="2853" y="935"/>
                    </a:lnTo>
                    <a:lnTo>
                      <a:pt x="2496" y="767"/>
                    </a:lnTo>
                    <a:lnTo>
                      <a:pt x="2141" y="615"/>
                    </a:lnTo>
                    <a:lnTo>
                      <a:pt x="1789" y="477"/>
                    </a:lnTo>
                    <a:lnTo>
                      <a:pt x="1438" y="354"/>
                    </a:lnTo>
                    <a:lnTo>
                      <a:pt x="1090" y="246"/>
                    </a:lnTo>
                    <a:lnTo>
                      <a:pt x="742" y="152"/>
                    </a:lnTo>
                    <a:lnTo>
                      <a:pt x="395" y="72"/>
                    </a:lnTo>
                    <a:lnTo>
                      <a:pt x="48" y="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Group 26"/>
            <p:cNvGrpSpPr/>
            <p:nvPr/>
          </p:nvGrpSpPr>
          <p:grpSpPr>
            <a:xfrm>
              <a:off x="231840" y="4077720"/>
              <a:ext cx="2801520" cy="1091520"/>
              <a:chOff x="231840" y="4077720"/>
              <a:chExt cx="2801520" cy="1091520"/>
            </a:xfrm>
          </p:grpSpPr>
          <p:sp>
            <p:nvSpPr>
              <p:cNvPr id="495" name="Freeform 122"/>
              <p:cNvSpPr/>
              <p:nvPr/>
            </p:nvSpPr>
            <p:spPr>
              <a:xfrm>
                <a:off x="231840" y="4077720"/>
                <a:ext cx="2801520" cy="1091520"/>
              </a:xfrm>
              <a:custGeom>
                <a:avLst/>
                <a:gdLst/>
                <a:ahLst/>
                <a:rect l="l" t="t" r="r" b="b"/>
                <a:pathLst>
                  <a:path w="5863" h="2675">
                    <a:moveTo>
                      <a:pt x="0" y="0"/>
                    </a:moveTo>
                    <a:lnTo>
                      <a:pt x="0" y="9"/>
                    </a:lnTo>
                    <a:lnTo>
                      <a:pt x="244" y="35"/>
                    </a:lnTo>
                    <a:lnTo>
                      <a:pt x="553" y="82"/>
                    </a:lnTo>
                    <a:lnTo>
                      <a:pt x="863" y="143"/>
                    </a:lnTo>
                    <a:lnTo>
                      <a:pt x="1175" y="217"/>
                    </a:lnTo>
                    <a:lnTo>
                      <a:pt x="1489" y="305"/>
                    </a:lnTo>
                    <a:lnTo>
                      <a:pt x="1804" y="406"/>
                    </a:lnTo>
                    <a:lnTo>
                      <a:pt x="2122" y="521"/>
                    </a:lnTo>
                    <a:lnTo>
                      <a:pt x="2442" y="649"/>
                    </a:lnTo>
                    <a:lnTo>
                      <a:pt x="2765" y="790"/>
                    </a:lnTo>
                    <a:lnTo>
                      <a:pt x="3092" y="946"/>
                    </a:lnTo>
                    <a:lnTo>
                      <a:pt x="3422" y="1114"/>
                    </a:lnTo>
                    <a:lnTo>
                      <a:pt x="3755" y="1297"/>
                    </a:lnTo>
                    <a:lnTo>
                      <a:pt x="4093" y="1492"/>
                    </a:lnTo>
                    <a:lnTo>
                      <a:pt x="4436" y="1702"/>
                    </a:lnTo>
                    <a:lnTo>
                      <a:pt x="4783" y="1925"/>
                    </a:lnTo>
                    <a:lnTo>
                      <a:pt x="5136" y="2161"/>
                    </a:lnTo>
                    <a:lnTo>
                      <a:pt x="5494" y="2411"/>
                    </a:lnTo>
                    <a:lnTo>
                      <a:pt x="5858" y="2674"/>
                    </a:lnTo>
                    <a:lnTo>
                      <a:pt x="5863" y="2667"/>
                    </a:lnTo>
                    <a:lnTo>
                      <a:pt x="5499" y="2404"/>
                    </a:lnTo>
                    <a:lnTo>
                      <a:pt x="5141" y="2154"/>
                    </a:lnTo>
                    <a:lnTo>
                      <a:pt x="4788" y="1917"/>
                    </a:lnTo>
                    <a:lnTo>
                      <a:pt x="4441" y="1694"/>
                    </a:lnTo>
                    <a:lnTo>
                      <a:pt x="4098" y="1485"/>
                    </a:lnTo>
                    <a:lnTo>
                      <a:pt x="3760" y="1289"/>
                    </a:lnTo>
                    <a:lnTo>
                      <a:pt x="3426" y="1107"/>
                    </a:lnTo>
                    <a:lnTo>
                      <a:pt x="3095" y="938"/>
                    </a:lnTo>
                    <a:lnTo>
                      <a:pt x="2769" y="782"/>
                    </a:lnTo>
                    <a:lnTo>
                      <a:pt x="2445" y="641"/>
                    </a:lnTo>
                    <a:lnTo>
                      <a:pt x="2125" y="512"/>
                    </a:lnTo>
                    <a:lnTo>
                      <a:pt x="1807" y="398"/>
                    </a:lnTo>
                    <a:lnTo>
                      <a:pt x="1491" y="296"/>
                    </a:lnTo>
                    <a:lnTo>
                      <a:pt x="1177" y="209"/>
                    </a:lnTo>
                    <a:lnTo>
                      <a:pt x="865" y="135"/>
                    </a:lnTo>
                    <a:lnTo>
                      <a:pt x="555" y="74"/>
                    </a:lnTo>
                    <a:lnTo>
                      <a:pt x="245" y="2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Group 27"/>
            <p:cNvGrpSpPr/>
            <p:nvPr/>
          </p:nvGrpSpPr>
          <p:grpSpPr>
            <a:xfrm>
              <a:off x="231840" y="4128480"/>
              <a:ext cx="2801520" cy="1040400"/>
              <a:chOff x="231840" y="4128480"/>
              <a:chExt cx="2801520" cy="1040400"/>
            </a:xfrm>
          </p:grpSpPr>
          <p:sp>
            <p:nvSpPr>
              <p:cNvPr id="497" name="Freeform 121"/>
              <p:cNvSpPr/>
              <p:nvPr/>
            </p:nvSpPr>
            <p:spPr>
              <a:xfrm>
                <a:off x="231840" y="4128480"/>
                <a:ext cx="2801520" cy="1040400"/>
              </a:xfrm>
              <a:custGeom>
                <a:avLst/>
                <a:gdLst/>
                <a:ahLst/>
                <a:rect l="l" t="t" r="r" b="b"/>
                <a:pathLst>
                  <a:path w="5863" h="2550">
                    <a:moveTo>
                      <a:pt x="0" y="0"/>
                    </a:moveTo>
                    <a:lnTo>
                      <a:pt x="0" y="9"/>
                    </a:lnTo>
                    <a:lnTo>
                      <a:pt x="85" y="11"/>
                    </a:lnTo>
                    <a:lnTo>
                      <a:pt x="364" y="30"/>
                    </a:lnTo>
                    <a:lnTo>
                      <a:pt x="644" y="62"/>
                    </a:lnTo>
                    <a:lnTo>
                      <a:pt x="926" y="107"/>
                    </a:lnTo>
                    <a:lnTo>
                      <a:pt x="1209" y="164"/>
                    </a:lnTo>
                    <a:lnTo>
                      <a:pt x="1495" y="235"/>
                    </a:lnTo>
                    <a:lnTo>
                      <a:pt x="1783" y="318"/>
                    </a:lnTo>
                    <a:lnTo>
                      <a:pt x="2074" y="413"/>
                    </a:lnTo>
                    <a:lnTo>
                      <a:pt x="2368" y="522"/>
                    </a:lnTo>
                    <a:lnTo>
                      <a:pt x="2665" y="643"/>
                    </a:lnTo>
                    <a:lnTo>
                      <a:pt x="2965" y="777"/>
                    </a:lnTo>
                    <a:lnTo>
                      <a:pt x="3268" y="923"/>
                    </a:lnTo>
                    <a:lnTo>
                      <a:pt x="3576" y="1082"/>
                    </a:lnTo>
                    <a:lnTo>
                      <a:pt x="3887" y="1254"/>
                    </a:lnTo>
                    <a:lnTo>
                      <a:pt x="4203" y="1439"/>
                    </a:lnTo>
                    <a:lnTo>
                      <a:pt x="4524" y="1636"/>
                    </a:lnTo>
                    <a:lnTo>
                      <a:pt x="4850" y="1845"/>
                    </a:lnTo>
                    <a:lnTo>
                      <a:pt x="5180" y="2068"/>
                    </a:lnTo>
                    <a:lnTo>
                      <a:pt x="5516" y="2303"/>
                    </a:lnTo>
                    <a:lnTo>
                      <a:pt x="5858" y="2550"/>
                    </a:lnTo>
                    <a:lnTo>
                      <a:pt x="5863" y="2543"/>
                    </a:lnTo>
                    <a:lnTo>
                      <a:pt x="5521" y="2296"/>
                    </a:lnTo>
                    <a:lnTo>
                      <a:pt x="5185" y="2061"/>
                    </a:lnTo>
                    <a:lnTo>
                      <a:pt x="4854" y="1838"/>
                    </a:lnTo>
                    <a:lnTo>
                      <a:pt x="4529" y="1628"/>
                    </a:lnTo>
                    <a:lnTo>
                      <a:pt x="4208" y="1431"/>
                    </a:lnTo>
                    <a:lnTo>
                      <a:pt x="3892" y="1246"/>
                    </a:lnTo>
                    <a:lnTo>
                      <a:pt x="3580" y="1075"/>
                    </a:lnTo>
                    <a:lnTo>
                      <a:pt x="3272" y="915"/>
                    </a:lnTo>
                    <a:lnTo>
                      <a:pt x="2968" y="769"/>
                    </a:lnTo>
                    <a:lnTo>
                      <a:pt x="2668" y="635"/>
                    </a:lnTo>
                    <a:lnTo>
                      <a:pt x="2371" y="514"/>
                    </a:lnTo>
                    <a:lnTo>
                      <a:pt x="2077" y="405"/>
                    </a:lnTo>
                    <a:lnTo>
                      <a:pt x="1786" y="309"/>
                    </a:lnTo>
                    <a:lnTo>
                      <a:pt x="1498" y="226"/>
                    </a:lnTo>
                    <a:lnTo>
                      <a:pt x="1211" y="156"/>
                    </a:lnTo>
                    <a:lnTo>
                      <a:pt x="927" y="98"/>
                    </a:lnTo>
                    <a:lnTo>
                      <a:pt x="645" y="53"/>
                    </a:lnTo>
                    <a:lnTo>
                      <a:pt x="364" y="21"/>
                    </a:lnTo>
                    <a:lnTo>
                      <a:pt x="85" y="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28"/>
            <p:cNvGrpSpPr/>
            <p:nvPr/>
          </p:nvGrpSpPr>
          <p:grpSpPr>
            <a:xfrm>
              <a:off x="231840" y="3319560"/>
              <a:ext cx="3084840" cy="1467720"/>
              <a:chOff x="231840" y="3319560"/>
              <a:chExt cx="3084840" cy="1467720"/>
            </a:xfrm>
          </p:grpSpPr>
          <p:sp>
            <p:nvSpPr>
              <p:cNvPr id="499" name="Freeform 120"/>
              <p:cNvSpPr/>
              <p:nvPr/>
            </p:nvSpPr>
            <p:spPr>
              <a:xfrm>
                <a:off x="231840" y="3319560"/>
                <a:ext cx="3084840" cy="1467720"/>
              </a:xfrm>
              <a:custGeom>
                <a:avLst/>
                <a:gdLst/>
                <a:ahLst/>
                <a:rect l="l" t="t" r="r" b="b"/>
                <a:pathLst>
                  <a:path w="6456" h="3597">
                    <a:moveTo>
                      <a:pt x="0" y="0"/>
                    </a:moveTo>
                    <a:lnTo>
                      <a:pt x="0" y="10"/>
                    </a:lnTo>
                    <a:lnTo>
                      <a:pt x="130" y="85"/>
                    </a:lnTo>
                    <a:lnTo>
                      <a:pt x="2789" y="1588"/>
                    </a:lnTo>
                    <a:lnTo>
                      <a:pt x="6452" y="3598"/>
                    </a:lnTo>
                    <a:lnTo>
                      <a:pt x="6456" y="3590"/>
                    </a:lnTo>
                    <a:lnTo>
                      <a:pt x="2793" y="1581"/>
                    </a:lnTo>
                    <a:lnTo>
                      <a:pt x="135" y="78"/>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29"/>
            <p:cNvGrpSpPr/>
            <p:nvPr/>
          </p:nvGrpSpPr>
          <p:grpSpPr>
            <a:xfrm>
              <a:off x="231840" y="3560400"/>
              <a:ext cx="3084840" cy="1227240"/>
              <a:chOff x="231840" y="3560400"/>
              <a:chExt cx="3084840" cy="1227240"/>
            </a:xfrm>
          </p:grpSpPr>
          <p:sp>
            <p:nvSpPr>
              <p:cNvPr id="501" name="Freeform 119"/>
              <p:cNvSpPr/>
              <p:nvPr/>
            </p:nvSpPr>
            <p:spPr>
              <a:xfrm>
                <a:off x="231840" y="3560400"/>
                <a:ext cx="3084840" cy="1227240"/>
              </a:xfrm>
              <a:custGeom>
                <a:avLst/>
                <a:gdLst/>
                <a:ahLst/>
                <a:rect l="l" t="t" r="r" b="b"/>
                <a:pathLst>
                  <a:path w="6456" h="3008">
                    <a:moveTo>
                      <a:pt x="0" y="0"/>
                    </a:moveTo>
                    <a:lnTo>
                      <a:pt x="0" y="9"/>
                    </a:lnTo>
                    <a:lnTo>
                      <a:pt x="638" y="252"/>
                    </a:lnTo>
                    <a:lnTo>
                      <a:pt x="1332" y="532"/>
                    </a:lnTo>
                    <a:lnTo>
                      <a:pt x="2030" y="828"/>
                    </a:lnTo>
                    <a:lnTo>
                      <a:pt x="2735" y="1142"/>
                    </a:lnTo>
                    <a:lnTo>
                      <a:pt x="3449" y="1474"/>
                    </a:lnTo>
                    <a:lnTo>
                      <a:pt x="4175" y="1826"/>
                    </a:lnTo>
                    <a:lnTo>
                      <a:pt x="4915" y="2198"/>
                    </a:lnTo>
                    <a:lnTo>
                      <a:pt x="5673" y="2592"/>
                    </a:lnTo>
                    <a:lnTo>
                      <a:pt x="6452" y="3008"/>
                    </a:lnTo>
                    <a:lnTo>
                      <a:pt x="6456" y="3000"/>
                    </a:lnTo>
                    <a:lnTo>
                      <a:pt x="5677" y="2584"/>
                    </a:lnTo>
                    <a:lnTo>
                      <a:pt x="4919" y="2190"/>
                    </a:lnTo>
                    <a:lnTo>
                      <a:pt x="4178" y="1818"/>
                    </a:lnTo>
                    <a:lnTo>
                      <a:pt x="3453" y="1466"/>
                    </a:lnTo>
                    <a:lnTo>
                      <a:pt x="2739" y="1134"/>
                    </a:lnTo>
                    <a:lnTo>
                      <a:pt x="2034" y="820"/>
                    </a:lnTo>
                    <a:lnTo>
                      <a:pt x="1336" y="523"/>
                    </a:lnTo>
                    <a:lnTo>
                      <a:pt x="641" y="244"/>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Group 30"/>
            <p:cNvGrpSpPr/>
            <p:nvPr/>
          </p:nvGrpSpPr>
          <p:grpSpPr>
            <a:xfrm>
              <a:off x="231840" y="3730680"/>
              <a:ext cx="3085560" cy="1058760"/>
              <a:chOff x="231840" y="3730680"/>
              <a:chExt cx="3085560" cy="1058760"/>
            </a:xfrm>
          </p:grpSpPr>
          <p:sp>
            <p:nvSpPr>
              <p:cNvPr id="503" name="Freeform 118"/>
              <p:cNvSpPr/>
              <p:nvPr/>
            </p:nvSpPr>
            <p:spPr>
              <a:xfrm>
                <a:off x="231840" y="3730680"/>
                <a:ext cx="3085560" cy="1058760"/>
              </a:xfrm>
              <a:custGeom>
                <a:avLst/>
                <a:gdLst/>
                <a:ahLst/>
                <a:rect l="l" t="t" r="r" b="b"/>
                <a:pathLst>
                  <a:path w="6458" h="2595">
                    <a:moveTo>
                      <a:pt x="0" y="0"/>
                    </a:moveTo>
                    <a:lnTo>
                      <a:pt x="0" y="18"/>
                    </a:lnTo>
                    <a:lnTo>
                      <a:pt x="504" y="140"/>
                    </a:lnTo>
                    <a:lnTo>
                      <a:pt x="1021" y="280"/>
                    </a:lnTo>
                    <a:lnTo>
                      <a:pt x="1540" y="437"/>
                    </a:lnTo>
                    <a:lnTo>
                      <a:pt x="2061" y="609"/>
                    </a:lnTo>
                    <a:lnTo>
                      <a:pt x="2585" y="798"/>
                    </a:lnTo>
                    <a:lnTo>
                      <a:pt x="3114" y="1003"/>
                    </a:lnTo>
                    <a:lnTo>
                      <a:pt x="3648" y="1225"/>
                    </a:lnTo>
                    <a:lnTo>
                      <a:pt x="4190" y="1464"/>
                    </a:lnTo>
                    <a:lnTo>
                      <a:pt x="4740" y="1721"/>
                    </a:lnTo>
                    <a:lnTo>
                      <a:pt x="5299" y="1994"/>
                    </a:lnTo>
                    <a:lnTo>
                      <a:pt x="5869" y="2286"/>
                    </a:lnTo>
                    <a:lnTo>
                      <a:pt x="6450" y="2595"/>
                    </a:lnTo>
                    <a:lnTo>
                      <a:pt x="6458" y="2579"/>
                    </a:lnTo>
                    <a:lnTo>
                      <a:pt x="5877" y="2270"/>
                    </a:lnTo>
                    <a:lnTo>
                      <a:pt x="5307" y="1979"/>
                    </a:lnTo>
                    <a:lnTo>
                      <a:pt x="4748" y="1705"/>
                    </a:lnTo>
                    <a:lnTo>
                      <a:pt x="4197" y="1448"/>
                    </a:lnTo>
                    <a:lnTo>
                      <a:pt x="3655" y="1209"/>
                    </a:lnTo>
                    <a:lnTo>
                      <a:pt x="3120" y="987"/>
                    </a:lnTo>
                    <a:lnTo>
                      <a:pt x="2591" y="781"/>
                    </a:lnTo>
                    <a:lnTo>
                      <a:pt x="2066" y="592"/>
                    </a:lnTo>
                    <a:lnTo>
                      <a:pt x="1545" y="420"/>
                    </a:lnTo>
                    <a:lnTo>
                      <a:pt x="1026" y="263"/>
                    </a:lnTo>
                    <a:lnTo>
                      <a:pt x="509" y="12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Group 31"/>
            <p:cNvGrpSpPr/>
            <p:nvPr/>
          </p:nvGrpSpPr>
          <p:grpSpPr>
            <a:xfrm>
              <a:off x="231840" y="3842640"/>
              <a:ext cx="3084840" cy="945000"/>
              <a:chOff x="231840" y="3842640"/>
              <a:chExt cx="3084840" cy="945000"/>
            </a:xfrm>
          </p:grpSpPr>
          <p:sp>
            <p:nvSpPr>
              <p:cNvPr id="505" name="Freeform 117"/>
              <p:cNvSpPr/>
              <p:nvPr/>
            </p:nvSpPr>
            <p:spPr>
              <a:xfrm>
                <a:off x="231840" y="3842640"/>
                <a:ext cx="3084840" cy="945000"/>
              </a:xfrm>
              <a:custGeom>
                <a:avLst/>
                <a:gdLst/>
                <a:ahLst/>
                <a:rect l="l" t="t" r="r" b="b"/>
                <a:pathLst>
                  <a:path w="6456" h="2316">
                    <a:moveTo>
                      <a:pt x="0" y="0"/>
                    </a:moveTo>
                    <a:lnTo>
                      <a:pt x="0" y="9"/>
                    </a:lnTo>
                    <a:lnTo>
                      <a:pt x="309" y="51"/>
                    </a:lnTo>
                    <a:lnTo>
                      <a:pt x="697" y="117"/>
                    </a:lnTo>
                    <a:lnTo>
                      <a:pt x="1086" y="194"/>
                    </a:lnTo>
                    <a:lnTo>
                      <a:pt x="1476" y="284"/>
                    </a:lnTo>
                    <a:lnTo>
                      <a:pt x="1868" y="386"/>
                    </a:lnTo>
                    <a:lnTo>
                      <a:pt x="2262" y="500"/>
                    </a:lnTo>
                    <a:lnTo>
                      <a:pt x="2660" y="626"/>
                    </a:lnTo>
                    <a:lnTo>
                      <a:pt x="3061" y="764"/>
                    </a:lnTo>
                    <a:lnTo>
                      <a:pt x="3466" y="915"/>
                    </a:lnTo>
                    <a:lnTo>
                      <a:pt x="3875" y="1078"/>
                    </a:lnTo>
                    <a:lnTo>
                      <a:pt x="4289" y="1253"/>
                    </a:lnTo>
                    <a:lnTo>
                      <a:pt x="4709" y="1441"/>
                    </a:lnTo>
                    <a:lnTo>
                      <a:pt x="5134" y="1641"/>
                    </a:lnTo>
                    <a:lnTo>
                      <a:pt x="5566" y="1853"/>
                    </a:lnTo>
                    <a:lnTo>
                      <a:pt x="6005" y="2078"/>
                    </a:lnTo>
                    <a:lnTo>
                      <a:pt x="6452" y="2316"/>
                    </a:lnTo>
                    <a:lnTo>
                      <a:pt x="6456" y="2308"/>
                    </a:lnTo>
                    <a:lnTo>
                      <a:pt x="6009" y="2070"/>
                    </a:lnTo>
                    <a:lnTo>
                      <a:pt x="5570" y="1845"/>
                    </a:lnTo>
                    <a:lnTo>
                      <a:pt x="5138" y="1633"/>
                    </a:lnTo>
                    <a:lnTo>
                      <a:pt x="4712" y="1433"/>
                    </a:lnTo>
                    <a:lnTo>
                      <a:pt x="4293" y="1245"/>
                    </a:lnTo>
                    <a:lnTo>
                      <a:pt x="3878" y="1069"/>
                    </a:lnTo>
                    <a:lnTo>
                      <a:pt x="3469" y="907"/>
                    </a:lnTo>
                    <a:lnTo>
                      <a:pt x="3064" y="756"/>
                    </a:lnTo>
                    <a:lnTo>
                      <a:pt x="2663" y="617"/>
                    </a:lnTo>
                    <a:lnTo>
                      <a:pt x="2265" y="491"/>
                    </a:lnTo>
                    <a:lnTo>
                      <a:pt x="1870" y="377"/>
                    </a:lnTo>
                    <a:lnTo>
                      <a:pt x="1478" y="275"/>
                    </a:lnTo>
                    <a:lnTo>
                      <a:pt x="1087" y="186"/>
                    </a:lnTo>
                    <a:lnTo>
                      <a:pt x="698" y="108"/>
                    </a:lnTo>
                    <a:lnTo>
                      <a:pt x="310" y="4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6" name="Group 32"/>
            <p:cNvGrpSpPr/>
            <p:nvPr/>
          </p:nvGrpSpPr>
          <p:grpSpPr>
            <a:xfrm>
              <a:off x="231840" y="3910680"/>
              <a:ext cx="3085560" cy="878400"/>
              <a:chOff x="231840" y="3910680"/>
              <a:chExt cx="3085560" cy="878400"/>
            </a:xfrm>
          </p:grpSpPr>
          <p:sp>
            <p:nvSpPr>
              <p:cNvPr id="507" name="Freeform 116"/>
              <p:cNvSpPr/>
              <p:nvPr/>
            </p:nvSpPr>
            <p:spPr>
              <a:xfrm>
                <a:off x="231840" y="3910680"/>
                <a:ext cx="3085560" cy="878400"/>
              </a:xfrm>
              <a:custGeom>
                <a:avLst/>
                <a:gdLst/>
                <a:ahLst/>
                <a:rect l="l" t="t" r="r" b="b"/>
                <a:pathLst>
                  <a:path w="6458" h="2153">
                    <a:moveTo>
                      <a:pt x="0" y="0"/>
                    </a:moveTo>
                    <a:lnTo>
                      <a:pt x="0" y="18"/>
                    </a:lnTo>
                    <a:lnTo>
                      <a:pt x="27" y="19"/>
                    </a:lnTo>
                    <a:lnTo>
                      <a:pt x="361" y="46"/>
                    </a:lnTo>
                    <a:lnTo>
                      <a:pt x="696" y="84"/>
                    </a:lnTo>
                    <a:lnTo>
                      <a:pt x="1032" y="132"/>
                    </a:lnTo>
                    <a:lnTo>
                      <a:pt x="1369" y="192"/>
                    </a:lnTo>
                    <a:lnTo>
                      <a:pt x="1709" y="262"/>
                    </a:lnTo>
                    <a:lnTo>
                      <a:pt x="2050" y="342"/>
                    </a:lnTo>
                    <a:lnTo>
                      <a:pt x="2394" y="434"/>
                    </a:lnTo>
                    <a:lnTo>
                      <a:pt x="2742" y="536"/>
                    </a:lnTo>
                    <a:lnTo>
                      <a:pt x="3092" y="649"/>
                    </a:lnTo>
                    <a:lnTo>
                      <a:pt x="3446" y="773"/>
                    </a:lnTo>
                    <a:lnTo>
                      <a:pt x="3804" y="908"/>
                    </a:lnTo>
                    <a:lnTo>
                      <a:pt x="4167" y="1054"/>
                    </a:lnTo>
                    <a:lnTo>
                      <a:pt x="4533" y="1210"/>
                    </a:lnTo>
                    <a:lnTo>
                      <a:pt x="4905" y="1377"/>
                    </a:lnTo>
                    <a:lnTo>
                      <a:pt x="5283" y="1555"/>
                    </a:lnTo>
                    <a:lnTo>
                      <a:pt x="5666" y="1744"/>
                    </a:lnTo>
                    <a:lnTo>
                      <a:pt x="6054" y="1943"/>
                    </a:lnTo>
                    <a:lnTo>
                      <a:pt x="6450" y="2154"/>
                    </a:lnTo>
                    <a:lnTo>
                      <a:pt x="6458" y="2138"/>
                    </a:lnTo>
                    <a:lnTo>
                      <a:pt x="6063" y="1928"/>
                    </a:lnTo>
                    <a:lnTo>
                      <a:pt x="5673" y="1728"/>
                    </a:lnTo>
                    <a:lnTo>
                      <a:pt x="5290" y="1539"/>
                    </a:lnTo>
                    <a:lnTo>
                      <a:pt x="4913" y="1361"/>
                    </a:lnTo>
                    <a:lnTo>
                      <a:pt x="4541" y="1194"/>
                    </a:lnTo>
                    <a:lnTo>
                      <a:pt x="4173" y="1037"/>
                    </a:lnTo>
                    <a:lnTo>
                      <a:pt x="3811" y="892"/>
                    </a:lnTo>
                    <a:lnTo>
                      <a:pt x="3452" y="757"/>
                    </a:lnTo>
                    <a:lnTo>
                      <a:pt x="3098" y="633"/>
                    </a:lnTo>
                    <a:lnTo>
                      <a:pt x="2747" y="519"/>
                    </a:lnTo>
                    <a:lnTo>
                      <a:pt x="2399" y="417"/>
                    </a:lnTo>
                    <a:lnTo>
                      <a:pt x="2055" y="325"/>
                    </a:lnTo>
                    <a:lnTo>
                      <a:pt x="1712" y="244"/>
                    </a:lnTo>
                    <a:lnTo>
                      <a:pt x="1373" y="174"/>
                    </a:lnTo>
                    <a:lnTo>
                      <a:pt x="1035" y="115"/>
                    </a:lnTo>
                    <a:lnTo>
                      <a:pt x="698" y="66"/>
                    </a:lnTo>
                    <a:lnTo>
                      <a:pt x="363" y="29"/>
                    </a:lnTo>
                    <a:lnTo>
                      <a:pt x="29" y="2"/>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Group 33"/>
            <p:cNvGrpSpPr/>
            <p:nvPr/>
          </p:nvGrpSpPr>
          <p:grpSpPr>
            <a:xfrm>
              <a:off x="231840" y="3975120"/>
              <a:ext cx="3084840" cy="812880"/>
              <a:chOff x="231840" y="3975120"/>
              <a:chExt cx="3084840" cy="812880"/>
            </a:xfrm>
          </p:grpSpPr>
          <p:sp>
            <p:nvSpPr>
              <p:cNvPr id="509" name="Freeform 114"/>
              <p:cNvSpPr/>
              <p:nvPr/>
            </p:nvSpPr>
            <p:spPr>
              <a:xfrm>
                <a:off x="231840" y="3975120"/>
                <a:ext cx="3084840" cy="812880"/>
              </a:xfrm>
              <a:custGeom>
                <a:avLst/>
                <a:gdLst/>
                <a:ahLst/>
                <a:rect l="l" t="t" r="r" b="b"/>
                <a:pathLst>
                  <a:path w="6456" h="1992">
                    <a:moveTo>
                      <a:pt x="397" y="9"/>
                    </a:moveTo>
                    <a:lnTo>
                      <a:pt x="27" y="9"/>
                    </a:lnTo>
                    <a:lnTo>
                      <a:pt x="322" y="14"/>
                    </a:lnTo>
                    <a:lnTo>
                      <a:pt x="619" y="29"/>
                    </a:lnTo>
                    <a:lnTo>
                      <a:pt x="916" y="54"/>
                    </a:lnTo>
                    <a:lnTo>
                      <a:pt x="1216" y="89"/>
                    </a:lnTo>
                    <a:lnTo>
                      <a:pt x="1518" y="134"/>
                    </a:lnTo>
                    <a:lnTo>
                      <a:pt x="1822" y="188"/>
                    </a:lnTo>
                    <a:lnTo>
                      <a:pt x="2128" y="253"/>
                    </a:lnTo>
                    <a:lnTo>
                      <a:pt x="2437" y="328"/>
                    </a:lnTo>
                    <a:lnTo>
                      <a:pt x="2749" y="412"/>
                    </a:lnTo>
                    <a:lnTo>
                      <a:pt x="3065" y="507"/>
                    </a:lnTo>
                    <a:lnTo>
                      <a:pt x="3384" y="611"/>
                    </a:lnTo>
                    <a:lnTo>
                      <a:pt x="3706" y="725"/>
                    </a:lnTo>
                    <a:lnTo>
                      <a:pt x="4033" y="849"/>
                    </a:lnTo>
                    <a:lnTo>
                      <a:pt x="4364" y="983"/>
                    </a:lnTo>
                    <a:lnTo>
                      <a:pt x="4699" y="1127"/>
                    </a:lnTo>
                    <a:lnTo>
                      <a:pt x="5039" y="1280"/>
                    </a:lnTo>
                    <a:lnTo>
                      <a:pt x="5384" y="1443"/>
                    </a:lnTo>
                    <a:lnTo>
                      <a:pt x="5734" y="1616"/>
                    </a:lnTo>
                    <a:lnTo>
                      <a:pt x="6090" y="1799"/>
                    </a:lnTo>
                    <a:lnTo>
                      <a:pt x="6452" y="1992"/>
                    </a:lnTo>
                    <a:lnTo>
                      <a:pt x="6456" y="1984"/>
                    </a:lnTo>
                    <a:lnTo>
                      <a:pt x="6094" y="1791"/>
                    </a:lnTo>
                    <a:lnTo>
                      <a:pt x="5738" y="1609"/>
                    </a:lnTo>
                    <a:lnTo>
                      <a:pt x="5388" y="1436"/>
                    </a:lnTo>
                    <a:lnTo>
                      <a:pt x="5043" y="1272"/>
                    </a:lnTo>
                    <a:lnTo>
                      <a:pt x="4703" y="1119"/>
                    </a:lnTo>
                    <a:lnTo>
                      <a:pt x="4367" y="975"/>
                    </a:lnTo>
                    <a:lnTo>
                      <a:pt x="4036" y="841"/>
                    </a:lnTo>
                    <a:lnTo>
                      <a:pt x="3709" y="717"/>
                    </a:lnTo>
                    <a:lnTo>
                      <a:pt x="3386" y="603"/>
                    </a:lnTo>
                    <a:lnTo>
                      <a:pt x="3067" y="498"/>
                    </a:lnTo>
                    <a:lnTo>
                      <a:pt x="2752" y="404"/>
                    </a:lnTo>
                    <a:lnTo>
                      <a:pt x="2439" y="319"/>
                    </a:lnTo>
                    <a:lnTo>
                      <a:pt x="2130" y="245"/>
                    </a:lnTo>
                    <a:lnTo>
                      <a:pt x="1823" y="180"/>
                    </a:lnTo>
                    <a:lnTo>
                      <a:pt x="1519" y="125"/>
                    </a:lnTo>
                    <a:lnTo>
                      <a:pt x="1217" y="80"/>
                    </a:lnTo>
                    <a:lnTo>
                      <a:pt x="917" y="45"/>
                    </a:lnTo>
                    <a:lnTo>
                      <a:pt x="619" y="20"/>
                    </a:lnTo>
                    <a:lnTo>
                      <a:pt x="397"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15"/>
              <p:cNvSpPr/>
              <p:nvPr/>
            </p:nvSpPr>
            <p:spPr>
              <a:xfrm>
                <a:off x="231840" y="3975120"/>
                <a:ext cx="3084840" cy="812880"/>
              </a:xfrm>
              <a:custGeom>
                <a:avLst/>
                <a:gdLst/>
                <a:ahLst/>
                <a:rect l="l" t="t" r="r" b="b"/>
                <a:pathLst>
                  <a:path w="6456" h="1992">
                    <a:moveTo>
                      <a:pt x="27" y="0"/>
                    </a:moveTo>
                    <a:lnTo>
                      <a:pt x="0" y="1"/>
                    </a:lnTo>
                    <a:lnTo>
                      <a:pt x="0" y="9"/>
                    </a:lnTo>
                    <a:lnTo>
                      <a:pt x="27" y="9"/>
                    </a:lnTo>
                    <a:lnTo>
                      <a:pt x="397" y="9"/>
                    </a:lnTo>
                    <a:lnTo>
                      <a:pt x="322" y="5"/>
                    </a:lnTo>
                    <a:lnTo>
                      <a:pt x="27"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Group 34"/>
            <p:cNvGrpSpPr/>
            <p:nvPr/>
          </p:nvGrpSpPr>
          <p:grpSpPr>
            <a:xfrm>
              <a:off x="231840" y="4025880"/>
              <a:ext cx="3084840" cy="761760"/>
              <a:chOff x="231840" y="4025880"/>
              <a:chExt cx="3084840" cy="761760"/>
            </a:xfrm>
          </p:grpSpPr>
          <p:sp>
            <p:nvSpPr>
              <p:cNvPr id="512" name="Freeform 112"/>
              <p:cNvSpPr/>
              <p:nvPr/>
            </p:nvSpPr>
            <p:spPr>
              <a:xfrm>
                <a:off x="231840" y="4025880"/>
                <a:ext cx="3084840" cy="761760"/>
              </a:xfrm>
              <a:custGeom>
                <a:avLst/>
                <a:gdLst/>
                <a:ahLst/>
                <a:rect l="l" t="t" r="r" b="b"/>
                <a:pathLst>
                  <a:path w="6456" h="1867">
                    <a:moveTo>
                      <a:pt x="856" y="9"/>
                    </a:moveTo>
                    <a:lnTo>
                      <a:pt x="510" y="9"/>
                    </a:lnTo>
                    <a:lnTo>
                      <a:pt x="777" y="14"/>
                    </a:lnTo>
                    <a:lnTo>
                      <a:pt x="1047" y="28"/>
                    </a:lnTo>
                    <a:lnTo>
                      <a:pt x="1319" y="51"/>
                    </a:lnTo>
                    <a:lnTo>
                      <a:pt x="1593" y="84"/>
                    </a:lnTo>
                    <a:lnTo>
                      <a:pt x="1869" y="126"/>
                    </a:lnTo>
                    <a:lnTo>
                      <a:pt x="2149" y="178"/>
                    </a:lnTo>
                    <a:lnTo>
                      <a:pt x="2431" y="239"/>
                    </a:lnTo>
                    <a:lnTo>
                      <a:pt x="2716" y="309"/>
                    </a:lnTo>
                    <a:lnTo>
                      <a:pt x="3005" y="388"/>
                    </a:lnTo>
                    <a:lnTo>
                      <a:pt x="3297" y="477"/>
                    </a:lnTo>
                    <a:lnTo>
                      <a:pt x="3593" y="575"/>
                    </a:lnTo>
                    <a:lnTo>
                      <a:pt x="3892" y="682"/>
                    </a:lnTo>
                    <a:lnTo>
                      <a:pt x="4196" y="798"/>
                    </a:lnTo>
                    <a:lnTo>
                      <a:pt x="4504" y="924"/>
                    </a:lnTo>
                    <a:lnTo>
                      <a:pt x="4816" y="1058"/>
                    </a:lnTo>
                    <a:lnTo>
                      <a:pt x="5133" y="1202"/>
                    </a:lnTo>
                    <a:lnTo>
                      <a:pt x="5455" y="1354"/>
                    </a:lnTo>
                    <a:lnTo>
                      <a:pt x="5782" y="1516"/>
                    </a:lnTo>
                    <a:lnTo>
                      <a:pt x="6114" y="1687"/>
                    </a:lnTo>
                    <a:lnTo>
                      <a:pt x="6452" y="1867"/>
                    </a:lnTo>
                    <a:lnTo>
                      <a:pt x="6456" y="1859"/>
                    </a:lnTo>
                    <a:lnTo>
                      <a:pt x="6118" y="1679"/>
                    </a:lnTo>
                    <a:lnTo>
                      <a:pt x="5786" y="1508"/>
                    </a:lnTo>
                    <a:lnTo>
                      <a:pt x="5459" y="1346"/>
                    </a:lnTo>
                    <a:lnTo>
                      <a:pt x="5137" y="1194"/>
                    </a:lnTo>
                    <a:lnTo>
                      <a:pt x="4820" y="1050"/>
                    </a:lnTo>
                    <a:lnTo>
                      <a:pt x="4507" y="915"/>
                    </a:lnTo>
                    <a:lnTo>
                      <a:pt x="4199" y="790"/>
                    </a:lnTo>
                    <a:lnTo>
                      <a:pt x="3895" y="674"/>
                    </a:lnTo>
                    <a:lnTo>
                      <a:pt x="3595" y="567"/>
                    </a:lnTo>
                    <a:lnTo>
                      <a:pt x="3299" y="469"/>
                    </a:lnTo>
                    <a:lnTo>
                      <a:pt x="3007" y="380"/>
                    </a:lnTo>
                    <a:lnTo>
                      <a:pt x="2718" y="300"/>
                    </a:lnTo>
                    <a:lnTo>
                      <a:pt x="2433" y="230"/>
                    </a:lnTo>
                    <a:lnTo>
                      <a:pt x="2150" y="169"/>
                    </a:lnTo>
                    <a:lnTo>
                      <a:pt x="1871" y="118"/>
                    </a:lnTo>
                    <a:lnTo>
                      <a:pt x="1594" y="75"/>
                    </a:lnTo>
                    <a:lnTo>
                      <a:pt x="1320" y="43"/>
                    </a:lnTo>
                    <a:lnTo>
                      <a:pt x="1048" y="19"/>
                    </a:lnTo>
                    <a:lnTo>
                      <a:pt x="856"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13"/>
              <p:cNvSpPr/>
              <p:nvPr/>
            </p:nvSpPr>
            <p:spPr>
              <a:xfrm>
                <a:off x="231840" y="4025880"/>
                <a:ext cx="3084840" cy="761760"/>
              </a:xfrm>
              <a:custGeom>
                <a:avLst/>
                <a:gdLst/>
                <a:ahLst/>
                <a:rect l="l" t="t" r="r" b="b"/>
                <a:pathLst>
                  <a:path w="6456" h="1867">
                    <a:moveTo>
                      <a:pt x="510" y="0"/>
                    </a:moveTo>
                    <a:lnTo>
                      <a:pt x="159" y="8"/>
                    </a:lnTo>
                    <a:lnTo>
                      <a:pt x="0" y="20"/>
                    </a:lnTo>
                    <a:lnTo>
                      <a:pt x="0" y="28"/>
                    </a:lnTo>
                    <a:lnTo>
                      <a:pt x="159" y="17"/>
                    </a:lnTo>
                    <a:lnTo>
                      <a:pt x="510" y="9"/>
                    </a:lnTo>
                    <a:lnTo>
                      <a:pt x="856" y="9"/>
                    </a:lnTo>
                    <a:lnTo>
                      <a:pt x="778" y="5"/>
                    </a:lnTo>
                    <a:lnTo>
                      <a:pt x="51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Group 35"/>
            <p:cNvGrpSpPr/>
            <p:nvPr/>
          </p:nvGrpSpPr>
          <p:grpSpPr>
            <a:xfrm>
              <a:off x="231840" y="3181320"/>
              <a:ext cx="3316320" cy="1164600"/>
              <a:chOff x="231840" y="3181320"/>
              <a:chExt cx="3316320" cy="1164600"/>
            </a:xfrm>
          </p:grpSpPr>
          <p:sp>
            <p:nvSpPr>
              <p:cNvPr id="515" name="Freeform 111"/>
              <p:cNvSpPr/>
              <p:nvPr/>
            </p:nvSpPr>
            <p:spPr>
              <a:xfrm>
                <a:off x="231840" y="3181320"/>
                <a:ext cx="3316320" cy="1164600"/>
              </a:xfrm>
              <a:custGeom>
                <a:avLst/>
                <a:gdLst/>
                <a:ahLst/>
                <a:rect l="l" t="t" r="r" b="b"/>
                <a:pathLst>
                  <a:path w="6941" h="2854">
                    <a:moveTo>
                      <a:pt x="0" y="0"/>
                    </a:moveTo>
                    <a:lnTo>
                      <a:pt x="0" y="10"/>
                    </a:lnTo>
                    <a:lnTo>
                      <a:pt x="261" y="134"/>
                    </a:lnTo>
                    <a:lnTo>
                      <a:pt x="940" y="447"/>
                    </a:lnTo>
                    <a:lnTo>
                      <a:pt x="1629" y="754"/>
                    </a:lnTo>
                    <a:lnTo>
                      <a:pt x="2330" y="1057"/>
                    </a:lnTo>
                    <a:lnTo>
                      <a:pt x="3046" y="1357"/>
                    </a:lnTo>
                    <a:lnTo>
                      <a:pt x="3779" y="1654"/>
                    </a:lnTo>
                    <a:lnTo>
                      <a:pt x="4532" y="1952"/>
                    </a:lnTo>
                    <a:lnTo>
                      <a:pt x="5308" y="2250"/>
                    </a:lnTo>
                    <a:lnTo>
                      <a:pt x="6938" y="2854"/>
                    </a:lnTo>
                    <a:lnTo>
                      <a:pt x="6941" y="2846"/>
                    </a:lnTo>
                    <a:lnTo>
                      <a:pt x="5311" y="2242"/>
                    </a:lnTo>
                    <a:lnTo>
                      <a:pt x="4535" y="1944"/>
                    </a:lnTo>
                    <a:lnTo>
                      <a:pt x="3782" y="1646"/>
                    </a:lnTo>
                    <a:lnTo>
                      <a:pt x="3049" y="1348"/>
                    </a:lnTo>
                    <a:lnTo>
                      <a:pt x="2334" y="1049"/>
                    </a:lnTo>
                    <a:lnTo>
                      <a:pt x="1633" y="746"/>
                    </a:lnTo>
                    <a:lnTo>
                      <a:pt x="944" y="439"/>
                    </a:lnTo>
                    <a:lnTo>
                      <a:pt x="265" y="126"/>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Group 36"/>
            <p:cNvGrpSpPr/>
            <p:nvPr/>
          </p:nvGrpSpPr>
          <p:grpSpPr>
            <a:xfrm>
              <a:off x="231840" y="3419280"/>
              <a:ext cx="3318840" cy="931680"/>
              <a:chOff x="231840" y="3419280"/>
              <a:chExt cx="3318840" cy="931680"/>
            </a:xfrm>
          </p:grpSpPr>
          <p:sp>
            <p:nvSpPr>
              <p:cNvPr id="517" name="Freeform 110"/>
              <p:cNvSpPr/>
              <p:nvPr/>
            </p:nvSpPr>
            <p:spPr>
              <a:xfrm>
                <a:off x="231840" y="3419280"/>
                <a:ext cx="3318840" cy="931680"/>
              </a:xfrm>
              <a:custGeom>
                <a:avLst/>
                <a:gdLst/>
                <a:ahLst/>
                <a:rect l="l" t="t" r="r" b="b"/>
                <a:pathLst>
                  <a:path w="6946" h="2283">
                    <a:moveTo>
                      <a:pt x="0" y="0"/>
                    </a:moveTo>
                    <a:lnTo>
                      <a:pt x="0" y="36"/>
                    </a:lnTo>
                    <a:lnTo>
                      <a:pt x="71" y="56"/>
                    </a:lnTo>
                    <a:lnTo>
                      <a:pt x="792" y="260"/>
                    </a:lnTo>
                    <a:lnTo>
                      <a:pt x="1516" y="473"/>
                    </a:lnTo>
                    <a:lnTo>
                      <a:pt x="2247" y="696"/>
                    </a:lnTo>
                    <a:lnTo>
                      <a:pt x="3741" y="1174"/>
                    </a:lnTo>
                    <a:lnTo>
                      <a:pt x="5295" y="1701"/>
                    </a:lnTo>
                    <a:lnTo>
                      <a:pt x="6934" y="2283"/>
                    </a:lnTo>
                    <a:lnTo>
                      <a:pt x="6946" y="2250"/>
                    </a:lnTo>
                    <a:lnTo>
                      <a:pt x="5307" y="1668"/>
                    </a:lnTo>
                    <a:lnTo>
                      <a:pt x="3752" y="1141"/>
                    </a:lnTo>
                    <a:lnTo>
                      <a:pt x="2258" y="662"/>
                    </a:lnTo>
                    <a:lnTo>
                      <a:pt x="1526" y="439"/>
                    </a:lnTo>
                    <a:lnTo>
                      <a:pt x="802" y="226"/>
                    </a:lnTo>
                    <a:lnTo>
                      <a:pt x="81" y="22"/>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Group 37"/>
            <p:cNvGrpSpPr/>
            <p:nvPr/>
          </p:nvGrpSpPr>
          <p:grpSpPr>
            <a:xfrm>
              <a:off x="231840" y="3604320"/>
              <a:ext cx="3316320" cy="741240"/>
              <a:chOff x="231840" y="3604320"/>
              <a:chExt cx="3316320" cy="741240"/>
            </a:xfrm>
          </p:grpSpPr>
          <p:sp>
            <p:nvSpPr>
              <p:cNvPr id="519" name="Freeform 109"/>
              <p:cNvSpPr/>
              <p:nvPr/>
            </p:nvSpPr>
            <p:spPr>
              <a:xfrm>
                <a:off x="231840" y="3604320"/>
                <a:ext cx="3316320" cy="741240"/>
              </a:xfrm>
              <a:custGeom>
                <a:avLst/>
                <a:gdLst/>
                <a:ahLst/>
                <a:rect l="l" t="t" r="r" b="b"/>
                <a:pathLst>
                  <a:path w="6941" h="1817">
                    <a:moveTo>
                      <a:pt x="0" y="0"/>
                    </a:moveTo>
                    <a:lnTo>
                      <a:pt x="0" y="9"/>
                    </a:lnTo>
                    <a:lnTo>
                      <a:pt x="134" y="26"/>
                    </a:lnTo>
                    <a:lnTo>
                      <a:pt x="629" y="100"/>
                    </a:lnTo>
                    <a:lnTo>
                      <a:pt x="1125" y="184"/>
                    </a:lnTo>
                    <a:lnTo>
                      <a:pt x="1624" y="279"/>
                    </a:lnTo>
                    <a:lnTo>
                      <a:pt x="2125" y="384"/>
                    </a:lnTo>
                    <a:lnTo>
                      <a:pt x="2631" y="500"/>
                    </a:lnTo>
                    <a:lnTo>
                      <a:pt x="3142" y="626"/>
                    </a:lnTo>
                    <a:lnTo>
                      <a:pt x="3659" y="763"/>
                    </a:lnTo>
                    <a:lnTo>
                      <a:pt x="4183" y="911"/>
                    </a:lnTo>
                    <a:lnTo>
                      <a:pt x="4715" y="1070"/>
                    </a:lnTo>
                    <a:lnTo>
                      <a:pt x="5255" y="1240"/>
                    </a:lnTo>
                    <a:lnTo>
                      <a:pt x="5805" y="1421"/>
                    </a:lnTo>
                    <a:lnTo>
                      <a:pt x="6366" y="1613"/>
                    </a:lnTo>
                    <a:lnTo>
                      <a:pt x="6938" y="1817"/>
                    </a:lnTo>
                    <a:lnTo>
                      <a:pt x="6941" y="1809"/>
                    </a:lnTo>
                    <a:lnTo>
                      <a:pt x="6369" y="1605"/>
                    </a:lnTo>
                    <a:lnTo>
                      <a:pt x="5808" y="1412"/>
                    </a:lnTo>
                    <a:lnTo>
                      <a:pt x="5258" y="1231"/>
                    </a:lnTo>
                    <a:lnTo>
                      <a:pt x="4717" y="1061"/>
                    </a:lnTo>
                    <a:lnTo>
                      <a:pt x="4185" y="902"/>
                    </a:lnTo>
                    <a:lnTo>
                      <a:pt x="3661" y="754"/>
                    </a:lnTo>
                    <a:lnTo>
                      <a:pt x="3144" y="617"/>
                    </a:lnTo>
                    <a:lnTo>
                      <a:pt x="2633" y="491"/>
                    </a:lnTo>
                    <a:lnTo>
                      <a:pt x="2127" y="375"/>
                    </a:lnTo>
                    <a:lnTo>
                      <a:pt x="1625" y="270"/>
                    </a:lnTo>
                    <a:lnTo>
                      <a:pt x="1127" y="176"/>
                    </a:lnTo>
                    <a:lnTo>
                      <a:pt x="630" y="92"/>
                    </a:lnTo>
                    <a:lnTo>
                      <a:pt x="135" y="18"/>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Group 38"/>
            <p:cNvGrpSpPr/>
            <p:nvPr/>
          </p:nvGrpSpPr>
          <p:grpSpPr>
            <a:xfrm>
              <a:off x="231840" y="3720600"/>
              <a:ext cx="3317400" cy="627120"/>
              <a:chOff x="231840" y="3720600"/>
              <a:chExt cx="3317400" cy="627120"/>
            </a:xfrm>
          </p:grpSpPr>
          <p:sp>
            <p:nvSpPr>
              <p:cNvPr id="521" name="Freeform 108"/>
              <p:cNvSpPr/>
              <p:nvPr/>
            </p:nvSpPr>
            <p:spPr>
              <a:xfrm>
                <a:off x="231840" y="3720600"/>
                <a:ext cx="3317400" cy="627120"/>
              </a:xfrm>
              <a:custGeom>
                <a:avLst/>
                <a:gdLst/>
                <a:ahLst/>
                <a:rect l="l" t="t" r="r" b="b"/>
                <a:pathLst>
                  <a:path w="6943" h="1537">
                    <a:moveTo>
                      <a:pt x="0" y="0"/>
                    </a:moveTo>
                    <a:lnTo>
                      <a:pt x="0" y="18"/>
                    </a:lnTo>
                    <a:lnTo>
                      <a:pt x="126" y="22"/>
                    </a:lnTo>
                    <a:lnTo>
                      <a:pt x="479" y="41"/>
                    </a:lnTo>
                    <a:lnTo>
                      <a:pt x="834" y="68"/>
                    </a:lnTo>
                    <a:lnTo>
                      <a:pt x="1189" y="102"/>
                    </a:lnTo>
                    <a:lnTo>
                      <a:pt x="1547" y="144"/>
                    </a:lnTo>
                    <a:lnTo>
                      <a:pt x="1907" y="194"/>
                    </a:lnTo>
                    <a:lnTo>
                      <a:pt x="2269" y="251"/>
                    </a:lnTo>
                    <a:lnTo>
                      <a:pt x="2634" y="316"/>
                    </a:lnTo>
                    <a:lnTo>
                      <a:pt x="3002" y="389"/>
                    </a:lnTo>
                    <a:lnTo>
                      <a:pt x="3374" y="469"/>
                    </a:lnTo>
                    <a:lnTo>
                      <a:pt x="3750" y="557"/>
                    </a:lnTo>
                    <a:lnTo>
                      <a:pt x="4130" y="653"/>
                    </a:lnTo>
                    <a:lnTo>
                      <a:pt x="4514" y="756"/>
                    </a:lnTo>
                    <a:lnTo>
                      <a:pt x="4903" y="867"/>
                    </a:lnTo>
                    <a:lnTo>
                      <a:pt x="5298" y="986"/>
                    </a:lnTo>
                    <a:lnTo>
                      <a:pt x="5699" y="1112"/>
                    </a:lnTo>
                    <a:lnTo>
                      <a:pt x="6105" y="1246"/>
                    </a:lnTo>
                    <a:lnTo>
                      <a:pt x="6518" y="1388"/>
                    </a:lnTo>
                    <a:lnTo>
                      <a:pt x="6937" y="1537"/>
                    </a:lnTo>
                    <a:lnTo>
                      <a:pt x="6943" y="1520"/>
                    </a:lnTo>
                    <a:lnTo>
                      <a:pt x="6523" y="1371"/>
                    </a:lnTo>
                    <a:lnTo>
                      <a:pt x="6110" y="1229"/>
                    </a:lnTo>
                    <a:lnTo>
                      <a:pt x="5704" y="1095"/>
                    </a:lnTo>
                    <a:lnTo>
                      <a:pt x="5303" y="969"/>
                    </a:lnTo>
                    <a:lnTo>
                      <a:pt x="4908" y="850"/>
                    </a:lnTo>
                    <a:lnTo>
                      <a:pt x="4519" y="739"/>
                    </a:lnTo>
                    <a:lnTo>
                      <a:pt x="4134" y="636"/>
                    </a:lnTo>
                    <a:lnTo>
                      <a:pt x="3754" y="540"/>
                    </a:lnTo>
                    <a:lnTo>
                      <a:pt x="3378" y="452"/>
                    </a:lnTo>
                    <a:lnTo>
                      <a:pt x="3006" y="372"/>
                    </a:lnTo>
                    <a:lnTo>
                      <a:pt x="2637" y="299"/>
                    </a:lnTo>
                    <a:lnTo>
                      <a:pt x="2272" y="234"/>
                    </a:lnTo>
                    <a:lnTo>
                      <a:pt x="1909" y="176"/>
                    </a:lnTo>
                    <a:lnTo>
                      <a:pt x="1549" y="127"/>
                    </a:lnTo>
                    <a:lnTo>
                      <a:pt x="1191" y="85"/>
                    </a:lnTo>
                    <a:lnTo>
                      <a:pt x="835" y="50"/>
                    </a:lnTo>
                    <a:lnTo>
                      <a:pt x="480" y="23"/>
                    </a:lnTo>
                    <a:lnTo>
                      <a:pt x="126" y="4"/>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Group 39"/>
            <p:cNvGrpSpPr/>
            <p:nvPr/>
          </p:nvGrpSpPr>
          <p:grpSpPr>
            <a:xfrm>
              <a:off x="231840" y="3795480"/>
              <a:ext cx="3316320" cy="550440"/>
              <a:chOff x="231840" y="3795480"/>
              <a:chExt cx="3316320" cy="550440"/>
            </a:xfrm>
          </p:grpSpPr>
          <p:sp>
            <p:nvSpPr>
              <p:cNvPr id="523" name="Freeform 106"/>
              <p:cNvSpPr/>
              <p:nvPr/>
            </p:nvSpPr>
            <p:spPr>
              <a:xfrm>
                <a:off x="231840" y="3795480"/>
                <a:ext cx="3316320" cy="550440"/>
              </a:xfrm>
              <a:custGeom>
                <a:avLst/>
                <a:gdLst/>
                <a:ahLst/>
                <a:rect l="l" t="t" r="r" b="b"/>
                <a:pathLst>
                  <a:path w="6941" h="1349">
                    <a:moveTo>
                      <a:pt x="879" y="8"/>
                    </a:moveTo>
                    <a:lnTo>
                      <a:pt x="419" y="8"/>
                    </a:lnTo>
                    <a:lnTo>
                      <a:pt x="719" y="12"/>
                    </a:lnTo>
                    <a:lnTo>
                      <a:pt x="1021" y="22"/>
                    </a:lnTo>
                    <a:lnTo>
                      <a:pt x="1324" y="39"/>
                    </a:lnTo>
                    <a:lnTo>
                      <a:pt x="1629" y="63"/>
                    </a:lnTo>
                    <a:lnTo>
                      <a:pt x="1936" y="93"/>
                    </a:lnTo>
                    <a:lnTo>
                      <a:pt x="2245" y="130"/>
                    </a:lnTo>
                    <a:lnTo>
                      <a:pt x="2557" y="174"/>
                    </a:lnTo>
                    <a:lnTo>
                      <a:pt x="2871" y="225"/>
                    </a:lnTo>
                    <a:lnTo>
                      <a:pt x="3189" y="282"/>
                    </a:lnTo>
                    <a:lnTo>
                      <a:pt x="3509" y="346"/>
                    </a:lnTo>
                    <a:lnTo>
                      <a:pt x="3833" y="417"/>
                    </a:lnTo>
                    <a:lnTo>
                      <a:pt x="4161" y="494"/>
                    </a:lnTo>
                    <a:lnTo>
                      <a:pt x="4492" y="578"/>
                    </a:lnTo>
                    <a:lnTo>
                      <a:pt x="4827" y="668"/>
                    </a:lnTo>
                    <a:lnTo>
                      <a:pt x="5167" y="765"/>
                    </a:lnTo>
                    <a:lnTo>
                      <a:pt x="5512" y="869"/>
                    </a:lnTo>
                    <a:lnTo>
                      <a:pt x="5861" y="979"/>
                    </a:lnTo>
                    <a:lnTo>
                      <a:pt x="6215" y="1096"/>
                    </a:lnTo>
                    <a:lnTo>
                      <a:pt x="6574" y="1219"/>
                    </a:lnTo>
                    <a:lnTo>
                      <a:pt x="6938" y="1349"/>
                    </a:lnTo>
                    <a:lnTo>
                      <a:pt x="6941" y="1341"/>
                    </a:lnTo>
                    <a:lnTo>
                      <a:pt x="6577" y="1211"/>
                    </a:lnTo>
                    <a:lnTo>
                      <a:pt x="6217" y="1087"/>
                    </a:lnTo>
                    <a:lnTo>
                      <a:pt x="5863" y="971"/>
                    </a:lnTo>
                    <a:lnTo>
                      <a:pt x="5514" y="860"/>
                    </a:lnTo>
                    <a:lnTo>
                      <a:pt x="5170" y="757"/>
                    </a:lnTo>
                    <a:lnTo>
                      <a:pt x="4830" y="660"/>
                    </a:lnTo>
                    <a:lnTo>
                      <a:pt x="4494" y="569"/>
                    </a:lnTo>
                    <a:lnTo>
                      <a:pt x="4163" y="485"/>
                    </a:lnTo>
                    <a:lnTo>
                      <a:pt x="3835" y="408"/>
                    </a:lnTo>
                    <a:lnTo>
                      <a:pt x="3511" y="337"/>
                    </a:lnTo>
                    <a:lnTo>
                      <a:pt x="3190" y="273"/>
                    </a:lnTo>
                    <a:lnTo>
                      <a:pt x="2873" y="216"/>
                    </a:lnTo>
                    <a:lnTo>
                      <a:pt x="2558" y="165"/>
                    </a:lnTo>
                    <a:lnTo>
                      <a:pt x="2246" y="122"/>
                    </a:lnTo>
                    <a:lnTo>
                      <a:pt x="1937" y="84"/>
                    </a:lnTo>
                    <a:lnTo>
                      <a:pt x="1630" y="54"/>
                    </a:lnTo>
                    <a:lnTo>
                      <a:pt x="1324" y="30"/>
                    </a:lnTo>
                    <a:lnTo>
                      <a:pt x="1021" y="13"/>
                    </a:lnTo>
                    <a:lnTo>
                      <a:pt x="879"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107"/>
              <p:cNvSpPr/>
              <p:nvPr/>
            </p:nvSpPr>
            <p:spPr>
              <a:xfrm>
                <a:off x="231840" y="3795480"/>
                <a:ext cx="3316320" cy="550440"/>
              </a:xfrm>
              <a:custGeom>
                <a:avLst/>
                <a:gdLst/>
                <a:ahLst/>
                <a:rect l="l" t="t" r="r" b="b"/>
                <a:pathLst>
                  <a:path w="6941" h="1349">
                    <a:moveTo>
                      <a:pt x="419" y="0"/>
                    </a:moveTo>
                    <a:lnTo>
                      <a:pt x="31" y="5"/>
                    </a:lnTo>
                    <a:lnTo>
                      <a:pt x="0" y="7"/>
                    </a:lnTo>
                    <a:lnTo>
                      <a:pt x="0" y="15"/>
                    </a:lnTo>
                    <a:lnTo>
                      <a:pt x="31" y="14"/>
                    </a:lnTo>
                    <a:lnTo>
                      <a:pt x="419" y="8"/>
                    </a:lnTo>
                    <a:lnTo>
                      <a:pt x="879" y="8"/>
                    </a:lnTo>
                    <a:lnTo>
                      <a:pt x="719" y="3"/>
                    </a:lnTo>
                    <a:lnTo>
                      <a:pt x="41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Group 40"/>
            <p:cNvGrpSpPr/>
            <p:nvPr/>
          </p:nvGrpSpPr>
          <p:grpSpPr>
            <a:xfrm>
              <a:off x="231840" y="3846240"/>
              <a:ext cx="3316320" cy="499320"/>
              <a:chOff x="231840" y="3846240"/>
              <a:chExt cx="3316320" cy="499320"/>
            </a:xfrm>
          </p:grpSpPr>
          <p:sp>
            <p:nvSpPr>
              <p:cNvPr id="526" name="Freeform 104"/>
              <p:cNvSpPr/>
              <p:nvPr/>
            </p:nvSpPr>
            <p:spPr>
              <a:xfrm>
                <a:off x="231840" y="3846240"/>
                <a:ext cx="3316320" cy="499320"/>
              </a:xfrm>
              <a:custGeom>
                <a:avLst/>
                <a:gdLst/>
                <a:ahLst/>
                <a:rect l="l" t="t" r="r" b="b"/>
                <a:pathLst>
                  <a:path w="6941" h="1224">
                    <a:moveTo>
                      <a:pt x="1500" y="9"/>
                    </a:moveTo>
                    <a:lnTo>
                      <a:pt x="1069" y="9"/>
                    </a:lnTo>
                    <a:lnTo>
                      <a:pt x="1336" y="12"/>
                    </a:lnTo>
                    <a:lnTo>
                      <a:pt x="1604" y="22"/>
                    </a:lnTo>
                    <a:lnTo>
                      <a:pt x="1875" y="37"/>
                    </a:lnTo>
                    <a:lnTo>
                      <a:pt x="2147" y="59"/>
                    </a:lnTo>
                    <a:lnTo>
                      <a:pt x="2422" y="86"/>
                    </a:lnTo>
                    <a:lnTo>
                      <a:pt x="2700" y="120"/>
                    </a:lnTo>
                    <a:lnTo>
                      <a:pt x="2980" y="160"/>
                    </a:lnTo>
                    <a:lnTo>
                      <a:pt x="3263" y="206"/>
                    </a:lnTo>
                    <a:lnTo>
                      <a:pt x="3549" y="258"/>
                    </a:lnTo>
                    <a:lnTo>
                      <a:pt x="3838" y="317"/>
                    </a:lnTo>
                    <a:lnTo>
                      <a:pt x="4131" y="381"/>
                    </a:lnTo>
                    <a:lnTo>
                      <a:pt x="4427" y="451"/>
                    </a:lnTo>
                    <a:lnTo>
                      <a:pt x="4726" y="527"/>
                    </a:lnTo>
                    <a:lnTo>
                      <a:pt x="5030" y="609"/>
                    </a:lnTo>
                    <a:lnTo>
                      <a:pt x="5337" y="697"/>
                    </a:lnTo>
                    <a:lnTo>
                      <a:pt x="5649" y="791"/>
                    </a:lnTo>
                    <a:lnTo>
                      <a:pt x="5964" y="890"/>
                    </a:lnTo>
                    <a:lnTo>
                      <a:pt x="6284" y="996"/>
                    </a:lnTo>
                    <a:lnTo>
                      <a:pt x="6609" y="1108"/>
                    </a:lnTo>
                    <a:lnTo>
                      <a:pt x="6938" y="1225"/>
                    </a:lnTo>
                    <a:lnTo>
                      <a:pt x="6941" y="1217"/>
                    </a:lnTo>
                    <a:lnTo>
                      <a:pt x="6612" y="1099"/>
                    </a:lnTo>
                    <a:lnTo>
                      <a:pt x="6287" y="988"/>
                    </a:lnTo>
                    <a:lnTo>
                      <a:pt x="5967" y="882"/>
                    </a:lnTo>
                    <a:lnTo>
                      <a:pt x="5651" y="782"/>
                    </a:lnTo>
                    <a:lnTo>
                      <a:pt x="5340" y="688"/>
                    </a:lnTo>
                    <a:lnTo>
                      <a:pt x="5032" y="600"/>
                    </a:lnTo>
                    <a:lnTo>
                      <a:pt x="4729" y="518"/>
                    </a:lnTo>
                    <a:lnTo>
                      <a:pt x="4429" y="442"/>
                    </a:lnTo>
                    <a:lnTo>
                      <a:pt x="4133" y="372"/>
                    </a:lnTo>
                    <a:lnTo>
                      <a:pt x="3840" y="308"/>
                    </a:lnTo>
                    <a:lnTo>
                      <a:pt x="3551" y="250"/>
                    </a:lnTo>
                    <a:lnTo>
                      <a:pt x="3265" y="198"/>
                    </a:lnTo>
                    <a:lnTo>
                      <a:pt x="2982" y="152"/>
                    </a:lnTo>
                    <a:lnTo>
                      <a:pt x="2701" y="112"/>
                    </a:lnTo>
                    <a:lnTo>
                      <a:pt x="2423" y="78"/>
                    </a:lnTo>
                    <a:lnTo>
                      <a:pt x="2148" y="50"/>
                    </a:lnTo>
                    <a:lnTo>
                      <a:pt x="1875" y="28"/>
                    </a:lnTo>
                    <a:lnTo>
                      <a:pt x="1605" y="13"/>
                    </a:lnTo>
                    <a:lnTo>
                      <a:pt x="1500" y="9"/>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105"/>
              <p:cNvSpPr/>
              <p:nvPr/>
            </p:nvSpPr>
            <p:spPr>
              <a:xfrm>
                <a:off x="231840" y="3846240"/>
                <a:ext cx="3316320" cy="499320"/>
              </a:xfrm>
              <a:custGeom>
                <a:avLst/>
                <a:gdLst/>
                <a:ahLst/>
                <a:rect l="l" t="t" r="r" b="b"/>
                <a:pathLst>
                  <a:path w="6941" h="1224">
                    <a:moveTo>
                      <a:pt x="1069" y="0"/>
                    </a:moveTo>
                    <a:lnTo>
                      <a:pt x="661" y="8"/>
                    </a:lnTo>
                    <a:lnTo>
                      <a:pt x="256" y="30"/>
                    </a:lnTo>
                    <a:lnTo>
                      <a:pt x="0" y="54"/>
                    </a:lnTo>
                    <a:lnTo>
                      <a:pt x="0" y="63"/>
                    </a:lnTo>
                    <a:lnTo>
                      <a:pt x="256" y="39"/>
                    </a:lnTo>
                    <a:lnTo>
                      <a:pt x="661" y="17"/>
                    </a:lnTo>
                    <a:lnTo>
                      <a:pt x="1069" y="9"/>
                    </a:lnTo>
                    <a:lnTo>
                      <a:pt x="1500" y="9"/>
                    </a:lnTo>
                    <a:lnTo>
                      <a:pt x="1336" y="4"/>
                    </a:lnTo>
                    <a:lnTo>
                      <a:pt x="106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Group 41"/>
            <p:cNvGrpSpPr/>
            <p:nvPr/>
          </p:nvGrpSpPr>
          <p:grpSpPr>
            <a:xfrm>
              <a:off x="231840" y="3882240"/>
              <a:ext cx="3316320" cy="463320"/>
              <a:chOff x="231840" y="3882240"/>
              <a:chExt cx="3316320" cy="463320"/>
            </a:xfrm>
          </p:grpSpPr>
          <p:sp>
            <p:nvSpPr>
              <p:cNvPr id="529" name="Freeform 102"/>
              <p:cNvSpPr/>
              <p:nvPr/>
            </p:nvSpPr>
            <p:spPr>
              <a:xfrm>
                <a:off x="231840" y="3882240"/>
                <a:ext cx="3316320" cy="463320"/>
              </a:xfrm>
              <a:custGeom>
                <a:avLst/>
                <a:gdLst/>
                <a:ahLst/>
                <a:rect l="l" t="t" r="r" b="b"/>
                <a:pathLst>
                  <a:path w="6941" h="1136">
                    <a:moveTo>
                      <a:pt x="1941" y="8"/>
                    </a:moveTo>
                    <a:lnTo>
                      <a:pt x="1531" y="8"/>
                    </a:lnTo>
                    <a:lnTo>
                      <a:pt x="1774" y="11"/>
                    </a:lnTo>
                    <a:lnTo>
                      <a:pt x="2019" y="20"/>
                    </a:lnTo>
                    <a:lnTo>
                      <a:pt x="2266" y="34"/>
                    </a:lnTo>
                    <a:lnTo>
                      <a:pt x="2516" y="54"/>
                    </a:lnTo>
                    <a:lnTo>
                      <a:pt x="2768" y="80"/>
                    </a:lnTo>
                    <a:lnTo>
                      <a:pt x="3023" y="112"/>
                    </a:lnTo>
                    <a:lnTo>
                      <a:pt x="3280" y="149"/>
                    </a:lnTo>
                    <a:lnTo>
                      <a:pt x="3541" y="192"/>
                    </a:lnTo>
                    <a:lnTo>
                      <a:pt x="3805" y="240"/>
                    </a:lnTo>
                    <a:lnTo>
                      <a:pt x="4071" y="294"/>
                    </a:lnTo>
                    <a:lnTo>
                      <a:pt x="4341" y="354"/>
                    </a:lnTo>
                    <a:lnTo>
                      <a:pt x="4615" y="419"/>
                    </a:lnTo>
                    <a:lnTo>
                      <a:pt x="4892" y="489"/>
                    </a:lnTo>
                    <a:lnTo>
                      <a:pt x="5172" y="565"/>
                    </a:lnTo>
                    <a:lnTo>
                      <a:pt x="5456" y="647"/>
                    </a:lnTo>
                    <a:lnTo>
                      <a:pt x="5745" y="734"/>
                    </a:lnTo>
                    <a:lnTo>
                      <a:pt x="6037" y="826"/>
                    </a:lnTo>
                    <a:lnTo>
                      <a:pt x="6333" y="924"/>
                    </a:lnTo>
                    <a:lnTo>
                      <a:pt x="6634" y="1027"/>
                    </a:lnTo>
                    <a:lnTo>
                      <a:pt x="6938" y="1136"/>
                    </a:lnTo>
                    <a:lnTo>
                      <a:pt x="6941" y="1128"/>
                    </a:lnTo>
                    <a:lnTo>
                      <a:pt x="6636" y="1019"/>
                    </a:lnTo>
                    <a:lnTo>
                      <a:pt x="6336" y="916"/>
                    </a:lnTo>
                    <a:lnTo>
                      <a:pt x="6039" y="818"/>
                    </a:lnTo>
                    <a:lnTo>
                      <a:pt x="5747" y="725"/>
                    </a:lnTo>
                    <a:lnTo>
                      <a:pt x="5459" y="638"/>
                    </a:lnTo>
                    <a:lnTo>
                      <a:pt x="5174" y="557"/>
                    </a:lnTo>
                    <a:lnTo>
                      <a:pt x="4894" y="481"/>
                    </a:lnTo>
                    <a:lnTo>
                      <a:pt x="4617" y="410"/>
                    </a:lnTo>
                    <a:lnTo>
                      <a:pt x="4343" y="345"/>
                    </a:lnTo>
                    <a:lnTo>
                      <a:pt x="4073" y="285"/>
                    </a:lnTo>
                    <a:lnTo>
                      <a:pt x="3806" y="231"/>
                    </a:lnTo>
                    <a:lnTo>
                      <a:pt x="3543" y="183"/>
                    </a:lnTo>
                    <a:lnTo>
                      <a:pt x="3282" y="140"/>
                    </a:lnTo>
                    <a:lnTo>
                      <a:pt x="3024" y="103"/>
                    </a:lnTo>
                    <a:lnTo>
                      <a:pt x="2769" y="71"/>
                    </a:lnTo>
                    <a:lnTo>
                      <a:pt x="2517" y="46"/>
                    </a:lnTo>
                    <a:lnTo>
                      <a:pt x="2267" y="25"/>
                    </a:lnTo>
                    <a:lnTo>
                      <a:pt x="2019" y="11"/>
                    </a:lnTo>
                    <a:lnTo>
                      <a:pt x="1941"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103"/>
              <p:cNvSpPr/>
              <p:nvPr/>
            </p:nvSpPr>
            <p:spPr>
              <a:xfrm>
                <a:off x="231840" y="3882240"/>
                <a:ext cx="3316320" cy="463320"/>
              </a:xfrm>
              <a:custGeom>
                <a:avLst/>
                <a:gdLst/>
                <a:ahLst/>
                <a:rect l="l" t="t" r="r" b="b"/>
                <a:pathLst>
                  <a:path w="6941" h="1136">
                    <a:moveTo>
                      <a:pt x="1531" y="0"/>
                    </a:moveTo>
                    <a:lnTo>
                      <a:pt x="1112" y="8"/>
                    </a:lnTo>
                    <a:lnTo>
                      <a:pt x="697" y="35"/>
                    </a:lnTo>
                    <a:lnTo>
                      <a:pt x="288" y="80"/>
                    </a:lnTo>
                    <a:lnTo>
                      <a:pt x="0" y="124"/>
                    </a:lnTo>
                    <a:lnTo>
                      <a:pt x="0" y="133"/>
                    </a:lnTo>
                    <a:lnTo>
                      <a:pt x="289" y="89"/>
                    </a:lnTo>
                    <a:lnTo>
                      <a:pt x="698" y="44"/>
                    </a:lnTo>
                    <a:lnTo>
                      <a:pt x="1112" y="17"/>
                    </a:lnTo>
                    <a:lnTo>
                      <a:pt x="1531" y="8"/>
                    </a:lnTo>
                    <a:lnTo>
                      <a:pt x="1941" y="8"/>
                    </a:lnTo>
                    <a:lnTo>
                      <a:pt x="1774" y="2"/>
                    </a:lnTo>
                    <a:lnTo>
                      <a:pt x="1531"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Group 42"/>
            <p:cNvGrpSpPr/>
            <p:nvPr/>
          </p:nvGrpSpPr>
          <p:grpSpPr>
            <a:xfrm>
              <a:off x="231840" y="2994120"/>
              <a:ext cx="3510360" cy="683640"/>
              <a:chOff x="231840" y="2994120"/>
              <a:chExt cx="3510360" cy="683640"/>
            </a:xfrm>
          </p:grpSpPr>
          <p:sp>
            <p:nvSpPr>
              <p:cNvPr id="532" name="Freeform 101"/>
              <p:cNvSpPr/>
              <p:nvPr/>
            </p:nvSpPr>
            <p:spPr>
              <a:xfrm>
                <a:off x="231840" y="2994120"/>
                <a:ext cx="3510360" cy="683640"/>
              </a:xfrm>
              <a:custGeom>
                <a:avLst/>
                <a:gdLst/>
                <a:ahLst/>
                <a:rect l="l" t="t" r="r" b="b"/>
                <a:pathLst>
                  <a:path w="7347" h="1676">
                    <a:moveTo>
                      <a:pt x="0" y="0"/>
                    </a:moveTo>
                    <a:lnTo>
                      <a:pt x="0" y="37"/>
                    </a:lnTo>
                    <a:lnTo>
                      <a:pt x="366" y="162"/>
                    </a:lnTo>
                    <a:lnTo>
                      <a:pt x="1068" y="384"/>
                    </a:lnTo>
                    <a:lnTo>
                      <a:pt x="1783" y="590"/>
                    </a:lnTo>
                    <a:lnTo>
                      <a:pt x="2511" y="781"/>
                    </a:lnTo>
                    <a:lnTo>
                      <a:pt x="3257" y="958"/>
                    </a:lnTo>
                    <a:lnTo>
                      <a:pt x="4023" y="1123"/>
                    </a:lnTo>
                    <a:lnTo>
                      <a:pt x="4812" y="1276"/>
                    </a:lnTo>
                    <a:lnTo>
                      <a:pt x="5626" y="1419"/>
                    </a:lnTo>
                    <a:lnTo>
                      <a:pt x="6469" y="1551"/>
                    </a:lnTo>
                    <a:lnTo>
                      <a:pt x="7343" y="1676"/>
                    </a:lnTo>
                    <a:lnTo>
                      <a:pt x="7347" y="1641"/>
                    </a:lnTo>
                    <a:lnTo>
                      <a:pt x="6474" y="1517"/>
                    </a:lnTo>
                    <a:lnTo>
                      <a:pt x="5632" y="1384"/>
                    </a:lnTo>
                    <a:lnTo>
                      <a:pt x="4818" y="1242"/>
                    </a:lnTo>
                    <a:lnTo>
                      <a:pt x="4030" y="1089"/>
                    </a:lnTo>
                    <a:lnTo>
                      <a:pt x="3265" y="924"/>
                    </a:lnTo>
                    <a:lnTo>
                      <a:pt x="2520" y="747"/>
                    </a:lnTo>
                    <a:lnTo>
                      <a:pt x="1792" y="556"/>
                    </a:lnTo>
                    <a:lnTo>
                      <a:pt x="1079" y="350"/>
                    </a:lnTo>
                    <a:lnTo>
                      <a:pt x="377" y="1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Group 43"/>
            <p:cNvGrpSpPr/>
            <p:nvPr/>
          </p:nvGrpSpPr>
          <p:grpSpPr>
            <a:xfrm>
              <a:off x="231840" y="3234960"/>
              <a:ext cx="3510360" cy="442080"/>
              <a:chOff x="231840" y="3234960"/>
              <a:chExt cx="3510360" cy="442080"/>
            </a:xfrm>
          </p:grpSpPr>
          <p:sp>
            <p:nvSpPr>
              <p:cNvPr id="534" name="Freeform 100"/>
              <p:cNvSpPr/>
              <p:nvPr/>
            </p:nvSpPr>
            <p:spPr>
              <a:xfrm>
                <a:off x="231840" y="3234960"/>
                <a:ext cx="3510360" cy="442080"/>
              </a:xfrm>
              <a:custGeom>
                <a:avLst/>
                <a:gdLst/>
                <a:ahLst/>
                <a:rect l="l" t="t" r="r" b="b"/>
                <a:pathLst>
                  <a:path w="7347" h="1084">
                    <a:moveTo>
                      <a:pt x="0" y="0"/>
                    </a:moveTo>
                    <a:lnTo>
                      <a:pt x="0" y="36"/>
                    </a:lnTo>
                    <a:lnTo>
                      <a:pt x="182" y="64"/>
                    </a:lnTo>
                    <a:lnTo>
                      <a:pt x="7343" y="1085"/>
                    </a:lnTo>
                    <a:lnTo>
                      <a:pt x="7347" y="1050"/>
                    </a:lnTo>
                    <a:lnTo>
                      <a:pt x="187" y="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Group 44"/>
            <p:cNvGrpSpPr/>
            <p:nvPr/>
          </p:nvGrpSpPr>
          <p:grpSpPr>
            <a:xfrm>
              <a:off x="231840" y="3417120"/>
              <a:ext cx="3511440" cy="263880"/>
              <a:chOff x="231840" y="3417120"/>
              <a:chExt cx="3511440" cy="263880"/>
            </a:xfrm>
          </p:grpSpPr>
          <p:sp>
            <p:nvSpPr>
              <p:cNvPr id="536" name="Freeform 99"/>
              <p:cNvSpPr/>
              <p:nvPr/>
            </p:nvSpPr>
            <p:spPr>
              <a:xfrm>
                <a:off x="231840" y="3417120"/>
                <a:ext cx="3511440" cy="263880"/>
              </a:xfrm>
              <a:custGeom>
                <a:avLst/>
                <a:gdLst/>
                <a:ahLst/>
                <a:rect l="l" t="t" r="r" b="b"/>
                <a:pathLst>
                  <a:path w="7349" h="647">
                    <a:moveTo>
                      <a:pt x="0" y="0"/>
                    </a:moveTo>
                    <a:lnTo>
                      <a:pt x="0" y="53"/>
                    </a:lnTo>
                    <a:lnTo>
                      <a:pt x="571" y="63"/>
                    </a:lnTo>
                    <a:lnTo>
                      <a:pt x="1316" y="87"/>
                    </a:lnTo>
                    <a:lnTo>
                      <a:pt x="2068" y="123"/>
                    </a:lnTo>
                    <a:lnTo>
                      <a:pt x="2831" y="171"/>
                    </a:lnTo>
                    <a:lnTo>
                      <a:pt x="3607" y="230"/>
                    </a:lnTo>
                    <a:lnTo>
                      <a:pt x="4802" y="342"/>
                    </a:lnTo>
                    <a:lnTo>
                      <a:pt x="6043" y="481"/>
                    </a:lnTo>
                    <a:lnTo>
                      <a:pt x="7342" y="647"/>
                    </a:lnTo>
                    <a:lnTo>
                      <a:pt x="7349" y="595"/>
                    </a:lnTo>
                    <a:lnTo>
                      <a:pt x="6050" y="429"/>
                    </a:lnTo>
                    <a:lnTo>
                      <a:pt x="4807" y="290"/>
                    </a:lnTo>
                    <a:lnTo>
                      <a:pt x="3611" y="178"/>
                    </a:lnTo>
                    <a:lnTo>
                      <a:pt x="2834" y="118"/>
                    </a:lnTo>
                    <a:lnTo>
                      <a:pt x="2071" y="70"/>
                    </a:lnTo>
                    <a:lnTo>
                      <a:pt x="1318" y="34"/>
                    </a:lnTo>
                    <a:lnTo>
                      <a:pt x="573" y="10"/>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 name="Group 45"/>
            <p:cNvGrpSpPr/>
            <p:nvPr/>
          </p:nvGrpSpPr>
          <p:grpSpPr>
            <a:xfrm>
              <a:off x="231840" y="3512520"/>
              <a:ext cx="3510000" cy="159840"/>
              <a:chOff x="231840" y="3512520"/>
              <a:chExt cx="3510000" cy="159840"/>
            </a:xfrm>
          </p:grpSpPr>
          <p:sp>
            <p:nvSpPr>
              <p:cNvPr id="538" name="Freeform 97"/>
              <p:cNvSpPr/>
              <p:nvPr/>
            </p:nvSpPr>
            <p:spPr>
              <a:xfrm>
                <a:off x="231840" y="3512520"/>
                <a:ext cx="3510000" cy="159840"/>
              </a:xfrm>
              <a:custGeom>
                <a:avLst/>
                <a:gdLst/>
                <a:ahLst/>
                <a:rect l="l" t="t" r="r" b="b"/>
                <a:pathLst>
                  <a:path w="7346" h="392">
                    <a:moveTo>
                      <a:pt x="2963" y="8"/>
                    </a:moveTo>
                    <a:lnTo>
                      <a:pt x="2252" y="8"/>
                    </a:lnTo>
                    <a:lnTo>
                      <a:pt x="2488" y="9"/>
                    </a:lnTo>
                    <a:lnTo>
                      <a:pt x="2966" y="17"/>
                    </a:lnTo>
                    <a:lnTo>
                      <a:pt x="3449" y="33"/>
                    </a:lnTo>
                    <a:lnTo>
                      <a:pt x="3939" y="56"/>
                    </a:lnTo>
                    <a:lnTo>
                      <a:pt x="4437" y="87"/>
                    </a:lnTo>
                    <a:lnTo>
                      <a:pt x="4944" y="126"/>
                    </a:lnTo>
                    <a:lnTo>
                      <a:pt x="5720" y="198"/>
                    </a:lnTo>
                    <a:lnTo>
                      <a:pt x="6520" y="287"/>
                    </a:lnTo>
                    <a:lnTo>
                      <a:pt x="7345" y="391"/>
                    </a:lnTo>
                    <a:lnTo>
                      <a:pt x="7346" y="383"/>
                    </a:lnTo>
                    <a:lnTo>
                      <a:pt x="6521" y="278"/>
                    </a:lnTo>
                    <a:lnTo>
                      <a:pt x="5721" y="189"/>
                    </a:lnTo>
                    <a:lnTo>
                      <a:pt x="4944" y="117"/>
                    </a:lnTo>
                    <a:lnTo>
                      <a:pt x="4438" y="79"/>
                    </a:lnTo>
                    <a:lnTo>
                      <a:pt x="3940" y="47"/>
                    </a:lnTo>
                    <a:lnTo>
                      <a:pt x="3449" y="24"/>
                    </a:lnTo>
                    <a:lnTo>
                      <a:pt x="2966" y="8"/>
                    </a:lnTo>
                    <a:lnTo>
                      <a:pt x="2963" y="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98"/>
              <p:cNvSpPr/>
              <p:nvPr/>
            </p:nvSpPr>
            <p:spPr>
              <a:xfrm>
                <a:off x="231840" y="3512520"/>
                <a:ext cx="3510000" cy="159840"/>
              </a:xfrm>
              <a:custGeom>
                <a:avLst/>
                <a:gdLst/>
                <a:ahLst/>
                <a:rect l="l" t="t" r="r" b="b"/>
                <a:pathLst>
                  <a:path w="7346" h="392">
                    <a:moveTo>
                      <a:pt x="2252" y="0"/>
                    </a:moveTo>
                    <a:lnTo>
                      <a:pt x="1739" y="4"/>
                    </a:lnTo>
                    <a:lnTo>
                      <a:pt x="1232" y="19"/>
                    </a:lnTo>
                    <a:lnTo>
                      <a:pt x="729" y="42"/>
                    </a:lnTo>
                    <a:lnTo>
                      <a:pt x="229" y="76"/>
                    </a:lnTo>
                    <a:lnTo>
                      <a:pt x="0" y="96"/>
                    </a:lnTo>
                    <a:lnTo>
                      <a:pt x="0" y="105"/>
                    </a:lnTo>
                    <a:lnTo>
                      <a:pt x="230" y="85"/>
                    </a:lnTo>
                    <a:lnTo>
                      <a:pt x="729" y="51"/>
                    </a:lnTo>
                    <a:lnTo>
                      <a:pt x="1232" y="27"/>
                    </a:lnTo>
                    <a:lnTo>
                      <a:pt x="1740" y="13"/>
                    </a:lnTo>
                    <a:lnTo>
                      <a:pt x="2963" y="8"/>
                    </a:lnTo>
                    <a:lnTo>
                      <a:pt x="2488" y="1"/>
                    </a:lnTo>
                    <a:lnTo>
                      <a:pt x="2252"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 name="Group 46"/>
            <p:cNvGrpSpPr/>
            <p:nvPr/>
          </p:nvGrpSpPr>
          <p:grpSpPr>
            <a:xfrm>
              <a:off x="231840" y="3538080"/>
              <a:ext cx="3510000" cy="136080"/>
              <a:chOff x="231840" y="3538080"/>
              <a:chExt cx="3510000" cy="136080"/>
            </a:xfrm>
          </p:grpSpPr>
          <p:sp>
            <p:nvSpPr>
              <p:cNvPr id="541" name="Freeform 95"/>
              <p:cNvSpPr/>
              <p:nvPr/>
            </p:nvSpPr>
            <p:spPr>
              <a:xfrm>
                <a:off x="231840" y="3538080"/>
                <a:ext cx="3510000" cy="136080"/>
              </a:xfrm>
              <a:custGeom>
                <a:avLst/>
                <a:gdLst/>
                <a:ahLst/>
                <a:rect l="l" t="t" r="r" b="b"/>
                <a:pathLst>
                  <a:path w="7346" h="334">
                    <a:moveTo>
                      <a:pt x="4039" y="18"/>
                    </a:moveTo>
                    <a:lnTo>
                      <a:pt x="3118" y="18"/>
                    </a:lnTo>
                    <a:lnTo>
                      <a:pt x="3314" y="19"/>
                    </a:lnTo>
                    <a:lnTo>
                      <a:pt x="3711" y="25"/>
                    </a:lnTo>
                    <a:lnTo>
                      <a:pt x="4113" y="38"/>
                    </a:lnTo>
                    <a:lnTo>
                      <a:pt x="4521" y="58"/>
                    </a:lnTo>
                    <a:lnTo>
                      <a:pt x="4936" y="83"/>
                    </a:lnTo>
                    <a:lnTo>
                      <a:pt x="5357" y="115"/>
                    </a:lnTo>
                    <a:lnTo>
                      <a:pt x="6002" y="174"/>
                    </a:lnTo>
                    <a:lnTo>
                      <a:pt x="6664" y="247"/>
                    </a:lnTo>
                    <a:lnTo>
                      <a:pt x="7344" y="334"/>
                    </a:lnTo>
                    <a:lnTo>
                      <a:pt x="7346" y="316"/>
                    </a:lnTo>
                    <a:lnTo>
                      <a:pt x="6666" y="230"/>
                    </a:lnTo>
                    <a:lnTo>
                      <a:pt x="6003" y="157"/>
                    </a:lnTo>
                    <a:lnTo>
                      <a:pt x="5358" y="97"/>
                    </a:lnTo>
                    <a:lnTo>
                      <a:pt x="4937" y="66"/>
                    </a:lnTo>
                    <a:lnTo>
                      <a:pt x="4522" y="40"/>
                    </a:lnTo>
                    <a:lnTo>
                      <a:pt x="4114" y="21"/>
                    </a:lnTo>
                    <a:lnTo>
                      <a:pt x="4039" y="1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96"/>
              <p:cNvSpPr/>
              <p:nvPr/>
            </p:nvSpPr>
            <p:spPr>
              <a:xfrm>
                <a:off x="231840" y="3538080"/>
                <a:ext cx="3510000" cy="136080"/>
              </a:xfrm>
              <a:custGeom>
                <a:avLst/>
                <a:gdLst/>
                <a:ahLst/>
                <a:rect l="l" t="t" r="r" b="b"/>
                <a:pathLst>
                  <a:path w="7346" h="334">
                    <a:moveTo>
                      <a:pt x="3118" y="0"/>
                    </a:moveTo>
                    <a:lnTo>
                      <a:pt x="2561" y="7"/>
                    </a:lnTo>
                    <a:lnTo>
                      <a:pt x="2013" y="28"/>
                    </a:lnTo>
                    <a:lnTo>
                      <a:pt x="1472" y="62"/>
                    </a:lnTo>
                    <a:lnTo>
                      <a:pt x="938" y="110"/>
                    </a:lnTo>
                    <a:lnTo>
                      <a:pt x="410" y="173"/>
                    </a:lnTo>
                    <a:lnTo>
                      <a:pt x="0" y="233"/>
                    </a:lnTo>
                    <a:lnTo>
                      <a:pt x="0" y="251"/>
                    </a:lnTo>
                    <a:lnTo>
                      <a:pt x="412" y="190"/>
                    </a:lnTo>
                    <a:lnTo>
                      <a:pt x="940" y="128"/>
                    </a:lnTo>
                    <a:lnTo>
                      <a:pt x="1473" y="79"/>
                    </a:lnTo>
                    <a:lnTo>
                      <a:pt x="2013" y="45"/>
                    </a:lnTo>
                    <a:lnTo>
                      <a:pt x="2561" y="25"/>
                    </a:lnTo>
                    <a:lnTo>
                      <a:pt x="3118" y="18"/>
                    </a:lnTo>
                    <a:lnTo>
                      <a:pt x="4039" y="18"/>
                    </a:lnTo>
                    <a:lnTo>
                      <a:pt x="3712" y="8"/>
                    </a:lnTo>
                    <a:lnTo>
                      <a:pt x="3315" y="1"/>
                    </a:lnTo>
                    <a:lnTo>
                      <a:pt x="3118"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Group 47"/>
            <p:cNvGrpSpPr/>
            <p:nvPr/>
          </p:nvGrpSpPr>
          <p:grpSpPr>
            <a:xfrm>
              <a:off x="231840" y="3556440"/>
              <a:ext cx="3510000" cy="159480"/>
              <a:chOff x="231840" y="3556440"/>
              <a:chExt cx="3510000" cy="159480"/>
            </a:xfrm>
          </p:grpSpPr>
          <p:sp>
            <p:nvSpPr>
              <p:cNvPr id="544" name="Freeform 93"/>
              <p:cNvSpPr/>
              <p:nvPr/>
            </p:nvSpPr>
            <p:spPr>
              <a:xfrm>
                <a:off x="231840" y="3556440"/>
                <a:ext cx="3510000" cy="159480"/>
              </a:xfrm>
              <a:custGeom>
                <a:avLst/>
                <a:gdLst/>
                <a:ahLst/>
                <a:rect l="l" t="t" r="r" b="b"/>
                <a:pathLst>
                  <a:path w="7346" h="391">
                    <a:moveTo>
                      <a:pt x="3645" y="0"/>
                    </a:moveTo>
                    <a:lnTo>
                      <a:pt x="3062" y="9"/>
                    </a:lnTo>
                    <a:lnTo>
                      <a:pt x="2491" y="34"/>
                    </a:lnTo>
                    <a:lnTo>
                      <a:pt x="1932" y="77"/>
                    </a:lnTo>
                    <a:lnTo>
                      <a:pt x="1382" y="138"/>
                    </a:lnTo>
                    <a:lnTo>
                      <a:pt x="841" y="217"/>
                    </a:lnTo>
                    <a:lnTo>
                      <a:pt x="307" y="315"/>
                    </a:lnTo>
                    <a:lnTo>
                      <a:pt x="0" y="382"/>
                    </a:lnTo>
                    <a:lnTo>
                      <a:pt x="0" y="391"/>
                    </a:lnTo>
                    <a:lnTo>
                      <a:pt x="309" y="323"/>
                    </a:lnTo>
                    <a:lnTo>
                      <a:pt x="843" y="226"/>
                    </a:lnTo>
                    <a:lnTo>
                      <a:pt x="1383" y="147"/>
                    </a:lnTo>
                    <a:lnTo>
                      <a:pt x="1933" y="86"/>
                    </a:lnTo>
                    <a:lnTo>
                      <a:pt x="2492" y="43"/>
                    </a:lnTo>
                    <a:lnTo>
                      <a:pt x="3062" y="17"/>
                    </a:lnTo>
                    <a:lnTo>
                      <a:pt x="3645" y="9"/>
                    </a:lnTo>
                    <a:lnTo>
                      <a:pt x="4250" y="9"/>
                    </a:lnTo>
                    <a:lnTo>
                      <a:pt x="3990" y="3"/>
                    </a:lnTo>
                    <a:lnTo>
                      <a:pt x="3645"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94"/>
              <p:cNvSpPr/>
              <p:nvPr/>
            </p:nvSpPr>
            <p:spPr>
              <a:xfrm>
                <a:off x="231840" y="3556440"/>
                <a:ext cx="3510000" cy="159480"/>
              </a:xfrm>
              <a:custGeom>
                <a:avLst/>
                <a:gdLst/>
                <a:ahLst/>
                <a:rect l="l" t="t" r="r" b="b"/>
                <a:pathLst>
                  <a:path w="7346" h="391">
                    <a:moveTo>
                      <a:pt x="4250" y="9"/>
                    </a:moveTo>
                    <a:lnTo>
                      <a:pt x="3645" y="9"/>
                    </a:lnTo>
                    <a:lnTo>
                      <a:pt x="3817" y="10"/>
                    </a:lnTo>
                    <a:lnTo>
                      <a:pt x="4164" y="15"/>
                    </a:lnTo>
                    <a:lnTo>
                      <a:pt x="4517" y="27"/>
                    </a:lnTo>
                    <a:lnTo>
                      <a:pt x="4875" y="43"/>
                    </a:lnTo>
                    <a:lnTo>
                      <a:pt x="5238" y="66"/>
                    </a:lnTo>
                    <a:lnTo>
                      <a:pt x="5607" y="94"/>
                    </a:lnTo>
                    <a:lnTo>
                      <a:pt x="6172" y="145"/>
                    </a:lnTo>
                    <a:lnTo>
                      <a:pt x="6751" y="209"/>
                    </a:lnTo>
                    <a:lnTo>
                      <a:pt x="7345" y="284"/>
                    </a:lnTo>
                    <a:lnTo>
                      <a:pt x="7346" y="276"/>
                    </a:lnTo>
                    <a:lnTo>
                      <a:pt x="6752" y="200"/>
                    </a:lnTo>
                    <a:lnTo>
                      <a:pt x="6172" y="137"/>
                    </a:lnTo>
                    <a:lnTo>
                      <a:pt x="5608" y="85"/>
                    </a:lnTo>
                    <a:lnTo>
                      <a:pt x="5239" y="57"/>
                    </a:lnTo>
                    <a:lnTo>
                      <a:pt x="4875" y="35"/>
                    </a:lnTo>
                    <a:lnTo>
                      <a:pt x="4517" y="18"/>
                    </a:lnTo>
                    <a:lnTo>
                      <a:pt x="4250"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Group 48"/>
            <p:cNvGrpSpPr/>
            <p:nvPr/>
          </p:nvGrpSpPr>
          <p:grpSpPr>
            <a:xfrm>
              <a:off x="231840" y="3567240"/>
              <a:ext cx="3510000" cy="221400"/>
              <a:chOff x="231840" y="3567240"/>
              <a:chExt cx="3510000" cy="221400"/>
            </a:xfrm>
          </p:grpSpPr>
          <p:sp>
            <p:nvSpPr>
              <p:cNvPr id="547" name="Freeform 91"/>
              <p:cNvSpPr/>
              <p:nvPr/>
            </p:nvSpPr>
            <p:spPr>
              <a:xfrm>
                <a:off x="231840" y="3567240"/>
                <a:ext cx="3510000" cy="221400"/>
              </a:xfrm>
              <a:custGeom>
                <a:avLst/>
                <a:gdLst/>
                <a:ahLst/>
                <a:rect l="l" t="t" r="r" b="b"/>
                <a:pathLst>
                  <a:path w="7346" h="543">
                    <a:moveTo>
                      <a:pt x="4000" y="0"/>
                    </a:moveTo>
                    <a:lnTo>
                      <a:pt x="3401" y="10"/>
                    </a:lnTo>
                    <a:lnTo>
                      <a:pt x="2819" y="40"/>
                    </a:lnTo>
                    <a:lnTo>
                      <a:pt x="2250" y="91"/>
                    </a:lnTo>
                    <a:lnTo>
                      <a:pt x="1694" y="162"/>
                    </a:lnTo>
                    <a:lnTo>
                      <a:pt x="1149" y="255"/>
                    </a:lnTo>
                    <a:lnTo>
                      <a:pt x="615" y="370"/>
                    </a:lnTo>
                    <a:lnTo>
                      <a:pt x="89" y="507"/>
                    </a:lnTo>
                    <a:lnTo>
                      <a:pt x="0" y="534"/>
                    </a:lnTo>
                    <a:lnTo>
                      <a:pt x="0" y="543"/>
                    </a:lnTo>
                    <a:lnTo>
                      <a:pt x="92" y="515"/>
                    </a:lnTo>
                    <a:lnTo>
                      <a:pt x="617" y="378"/>
                    </a:lnTo>
                    <a:lnTo>
                      <a:pt x="1151" y="264"/>
                    </a:lnTo>
                    <a:lnTo>
                      <a:pt x="1695" y="171"/>
                    </a:lnTo>
                    <a:lnTo>
                      <a:pt x="2251" y="99"/>
                    </a:lnTo>
                    <a:lnTo>
                      <a:pt x="2819" y="49"/>
                    </a:lnTo>
                    <a:lnTo>
                      <a:pt x="3402" y="19"/>
                    </a:lnTo>
                    <a:lnTo>
                      <a:pt x="4000" y="9"/>
                    </a:lnTo>
                    <a:lnTo>
                      <a:pt x="4577" y="9"/>
                    </a:lnTo>
                    <a:lnTo>
                      <a:pt x="4312" y="3"/>
                    </a:lnTo>
                    <a:lnTo>
                      <a:pt x="400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92"/>
              <p:cNvSpPr/>
              <p:nvPr/>
            </p:nvSpPr>
            <p:spPr>
              <a:xfrm>
                <a:off x="231840" y="3567240"/>
                <a:ext cx="3510000" cy="221400"/>
              </a:xfrm>
              <a:custGeom>
                <a:avLst/>
                <a:gdLst/>
                <a:ahLst/>
                <a:rect l="l" t="t" r="r" b="b"/>
                <a:pathLst>
                  <a:path w="7346" h="543">
                    <a:moveTo>
                      <a:pt x="4577" y="9"/>
                    </a:moveTo>
                    <a:lnTo>
                      <a:pt x="4000" y="9"/>
                    </a:lnTo>
                    <a:lnTo>
                      <a:pt x="4155" y="9"/>
                    </a:lnTo>
                    <a:lnTo>
                      <a:pt x="4469" y="15"/>
                    </a:lnTo>
                    <a:lnTo>
                      <a:pt x="4788" y="25"/>
                    </a:lnTo>
                    <a:lnTo>
                      <a:pt x="5112" y="40"/>
                    </a:lnTo>
                    <a:lnTo>
                      <a:pt x="5440" y="60"/>
                    </a:lnTo>
                    <a:lnTo>
                      <a:pt x="5774" y="85"/>
                    </a:lnTo>
                    <a:lnTo>
                      <a:pt x="6285" y="132"/>
                    </a:lnTo>
                    <a:lnTo>
                      <a:pt x="6808" y="189"/>
                    </a:lnTo>
                    <a:lnTo>
                      <a:pt x="7345" y="257"/>
                    </a:lnTo>
                    <a:lnTo>
                      <a:pt x="7346" y="249"/>
                    </a:lnTo>
                    <a:lnTo>
                      <a:pt x="6809" y="181"/>
                    </a:lnTo>
                    <a:lnTo>
                      <a:pt x="6286" y="123"/>
                    </a:lnTo>
                    <a:lnTo>
                      <a:pt x="5775" y="76"/>
                    </a:lnTo>
                    <a:lnTo>
                      <a:pt x="5441" y="51"/>
                    </a:lnTo>
                    <a:lnTo>
                      <a:pt x="5112" y="31"/>
                    </a:lnTo>
                    <a:lnTo>
                      <a:pt x="4788" y="16"/>
                    </a:lnTo>
                    <a:lnTo>
                      <a:pt x="4577"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 name="Group 49"/>
            <p:cNvGrpSpPr/>
            <p:nvPr/>
          </p:nvGrpSpPr>
          <p:grpSpPr>
            <a:xfrm>
              <a:off x="231840" y="2679840"/>
              <a:ext cx="3492360" cy="193320"/>
              <a:chOff x="231840" y="2679840"/>
              <a:chExt cx="3492360" cy="193320"/>
            </a:xfrm>
          </p:grpSpPr>
          <p:sp>
            <p:nvSpPr>
              <p:cNvPr id="550" name="Freeform 89"/>
              <p:cNvSpPr/>
              <p:nvPr/>
            </p:nvSpPr>
            <p:spPr>
              <a:xfrm>
                <a:off x="231840" y="2679840"/>
                <a:ext cx="3492360" cy="193320"/>
              </a:xfrm>
              <a:custGeom>
                <a:avLst/>
                <a:gdLst/>
                <a:ahLst/>
                <a:rect l="l" t="t" r="r" b="b"/>
                <a:pathLst>
                  <a:path w="7309" h="474">
                    <a:moveTo>
                      <a:pt x="0" y="184"/>
                    </a:moveTo>
                    <a:lnTo>
                      <a:pt x="0" y="240"/>
                    </a:lnTo>
                    <a:lnTo>
                      <a:pt x="8" y="241"/>
                    </a:lnTo>
                    <a:lnTo>
                      <a:pt x="259" y="282"/>
                    </a:lnTo>
                    <a:lnTo>
                      <a:pt x="511" y="319"/>
                    </a:lnTo>
                    <a:lnTo>
                      <a:pt x="765" y="352"/>
                    </a:lnTo>
                    <a:lnTo>
                      <a:pt x="1019" y="381"/>
                    </a:lnTo>
                    <a:lnTo>
                      <a:pt x="1276" y="406"/>
                    </a:lnTo>
                    <a:lnTo>
                      <a:pt x="1533" y="427"/>
                    </a:lnTo>
                    <a:lnTo>
                      <a:pt x="1793" y="444"/>
                    </a:lnTo>
                    <a:lnTo>
                      <a:pt x="2054" y="458"/>
                    </a:lnTo>
                    <a:lnTo>
                      <a:pt x="2318" y="467"/>
                    </a:lnTo>
                    <a:lnTo>
                      <a:pt x="2583" y="473"/>
                    </a:lnTo>
                    <a:lnTo>
                      <a:pt x="2851" y="475"/>
                    </a:lnTo>
                    <a:lnTo>
                      <a:pt x="3057" y="474"/>
                    </a:lnTo>
                    <a:lnTo>
                      <a:pt x="3264" y="470"/>
                    </a:lnTo>
                    <a:lnTo>
                      <a:pt x="3473" y="465"/>
                    </a:lnTo>
                    <a:lnTo>
                      <a:pt x="3895" y="448"/>
                    </a:lnTo>
                    <a:lnTo>
                      <a:pt x="4322" y="422"/>
                    </a:lnTo>
                    <a:lnTo>
                      <a:pt x="2851" y="422"/>
                    </a:lnTo>
                    <a:lnTo>
                      <a:pt x="2319" y="414"/>
                    </a:lnTo>
                    <a:lnTo>
                      <a:pt x="1796" y="392"/>
                    </a:lnTo>
                    <a:lnTo>
                      <a:pt x="1280" y="353"/>
                    </a:lnTo>
                    <a:lnTo>
                      <a:pt x="771" y="300"/>
                    </a:lnTo>
                    <a:lnTo>
                      <a:pt x="268" y="230"/>
                    </a:lnTo>
                    <a:lnTo>
                      <a:pt x="0" y="184"/>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90"/>
              <p:cNvSpPr/>
              <p:nvPr/>
            </p:nvSpPr>
            <p:spPr>
              <a:xfrm>
                <a:off x="231840" y="2679840"/>
                <a:ext cx="3492360" cy="193320"/>
              </a:xfrm>
              <a:custGeom>
                <a:avLst/>
                <a:gdLst/>
                <a:ahLst/>
                <a:rect l="l" t="t" r="r" b="b"/>
                <a:pathLst>
                  <a:path w="7309" h="474">
                    <a:moveTo>
                      <a:pt x="7300" y="0"/>
                    </a:moveTo>
                    <a:lnTo>
                      <a:pt x="6579" y="116"/>
                    </a:lnTo>
                    <a:lnTo>
                      <a:pt x="6110" y="183"/>
                    </a:lnTo>
                    <a:lnTo>
                      <a:pt x="5650" y="242"/>
                    </a:lnTo>
                    <a:lnTo>
                      <a:pt x="5199" y="292"/>
                    </a:lnTo>
                    <a:lnTo>
                      <a:pt x="4756" y="335"/>
                    </a:lnTo>
                    <a:lnTo>
                      <a:pt x="4321" y="369"/>
                    </a:lnTo>
                    <a:lnTo>
                      <a:pt x="3893" y="395"/>
                    </a:lnTo>
                    <a:lnTo>
                      <a:pt x="3471" y="412"/>
                    </a:lnTo>
                    <a:lnTo>
                      <a:pt x="3263" y="418"/>
                    </a:lnTo>
                    <a:lnTo>
                      <a:pt x="3056" y="421"/>
                    </a:lnTo>
                    <a:lnTo>
                      <a:pt x="2851" y="422"/>
                    </a:lnTo>
                    <a:lnTo>
                      <a:pt x="4322" y="422"/>
                    </a:lnTo>
                    <a:lnTo>
                      <a:pt x="4760" y="388"/>
                    </a:lnTo>
                    <a:lnTo>
                      <a:pt x="5204" y="345"/>
                    </a:lnTo>
                    <a:lnTo>
                      <a:pt x="5656" y="294"/>
                    </a:lnTo>
                    <a:lnTo>
                      <a:pt x="6117" y="235"/>
                    </a:lnTo>
                    <a:lnTo>
                      <a:pt x="6586" y="168"/>
                    </a:lnTo>
                    <a:lnTo>
                      <a:pt x="7309" y="52"/>
                    </a:lnTo>
                    <a:lnTo>
                      <a:pt x="7300"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Group 50"/>
            <p:cNvGrpSpPr/>
            <p:nvPr/>
          </p:nvGrpSpPr>
          <p:grpSpPr>
            <a:xfrm>
              <a:off x="231840" y="2673000"/>
              <a:ext cx="3493800" cy="336960"/>
              <a:chOff x="231840" y="2673000"/>
              <a:chExt cx="3493800" cy="336960"/>
            </a:xfrm>
          </p:grpSpPr>
          <p:sp>
            <p:nvSpPr>
              <p:cNvPr id="553" name="Freeform 88"/>
              <p:cNvSpPr/>
              <p:nvPr/>
            </p:nvSpPr>
            <p:spPr>
              <a:xfrm>
                <a:off x="231840" y="2673000"/>
                <a:ext cx="3493800" cy="336960"/>
              </a:xfrm>
              <a:custGeom>
                <a:avLst/>
                <a:gdLst/>
                <a:ahLst/>
                <a:rect l="l" t="t" r="r" b="b"/>
                <a:pathLst>
                  <a:path w="7312" h="826">
                    <a:moveTo>
                      <a:pt x="7297" y="0"/>
                    </a:moveTo>
                    <a:lnTo>
                      <a:pt x="6017" y="206"/>
                    </a:lnTo>
                    <a:lnTo>
                      <a:pt x="5195" y="324"/>
                    </a:lnTo>
                    <a:lnTo>
                      <a:pt x="4394" y="428"/>
                    </a:lnTo>
                    <a:lnTo>
                      <a:pt x="3613" y="517"/>
                    </a:lnTo>
                    <a:lnTo>
                      <a:pt x="2847" y="591"/>
                    </a:lnTo>
                    <a:lnTo>
                      <a:pt x="2095" y="651"/>
                    </a:lnTo>
                    <a:lnTo>
                      <a:pt x="1354" y="695"/>
                    </a:lnTo>
                    <a:lnTo>
                      <a:pt x="619" y="725"/>
                    </a:lnTo>
                    <a:lnTo>
                      <a:pt x="254" y="734"/>
                    </a:lnTo>
                    <a:lnTo>
                      <a:pt x="0" y="738"/>
                    </a:lnTo>
                    <a:lnTo>
                      <a:pt x="0" y="826"/>
                    </a:lnTo>
                    <a:lnTo>
                      <a:pt x="256" y="822"/>
                    </a:lnTo>
                    <a:lnTo>
                      <a:pt x="622" y="813"/>
                    </a:lnTo>
                    <a:lnTo>
                      <a:pt x="1358" y="783"/>
                    </a:lnTo>
                    <a:lnTo>
                      <a:pt x="2101" y="739"/>
                    </a:lnTo>
                    <a:lnTo>
                      <a:pt x="2855" y="679"/>
                    </a:lnTo>
                    <a:lnTo>
                      <a:pt x="3622" y="605"/>
                    </a:lnTo>
                    <a:lnTo>
                      <a:pt x="4405" y="516"/>
                    </a:lnTo>
                    <a:lnTo>
                      <a:pt x="5207" y="412"/>
                    </a:lnTo>
                    <a:lnTo>
                      <a:pt x="6030" y="293"/>
                    </a:lnTo>
                    <a:lnTo>
                      <a:pt x="7312" y="87"/>
                    </a:lnTo>
                    <a:lnTo>
                      <a:pt x="7297"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 name="Group 51"/>
            <p:cNvGrpSpPr/>
            <p:nvPr/>
          </p:nvGrpSpPr>
          <p:grpSpPr>
            <a:xfrm>
              <a:off x="231840" y="2683440"/>
              <a:ext cx="3491280" cy="499680"/>
              <a:chOff x="231840" y="2683440"/>
              <a:chExt cx="3491280" cy="499680"/>
            </a:xfrm>
          </p:grpSpPr>
          <p:sp>
            <p:nvSpPr>
              <p:cNvPr id="555" name="Freeform 87"/>
              <p:cNvSpPr/>
              <p:nvPr/>
            </p:nvSpPr>
            <p:spPr>
              <a:xfrm>
                <a:off x="231840" y="2683440"/>
                <a:ext cx="3491280" cy="499680"/>
              </a:xfrm>
              <a:custGeom>
                <a:avLst/>
                <a:gdLst/>
                <a:ahLst/>
                <a:rect l="l" t="t" r="r" b="b"/>
                <a:pathLst>
                  <a:path w="7307" h="1225">
                    <a:moveTo>
                      <a:pt x="7301" y="0"/>
                    </a:moveTo>
                    <a:lnTo>
                      <a:pt x="0" y="1190"/>
                    </a:lnTo>
                    <a:lnTo>
                      <a:pt x="0" y="1225"/>
                    </a:lnTo>
                    <a:lnTo>
                      <a:pt x="7307" y="35"/>
                    </a:lnTo>
                    <a:lnTo>
                      <a:pt x="730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Group 52"/>
            <p:cNvGrpSpPr/>
            <p:nvPr/>
          </p:nvGrpSpPr>
          <p:grpSpPr>
            <a:xfrm>
              <a:off x="231840" y="2687040"/>
              <a:ext cx="3490920" cy="623160"/>
              <a:chOff x="231840" y="2687040"/>
              <a:chExt cx="3490920" cy="623160"/>
            </a:xfrm>
          </p:grpSpPr>
          <p:sp>
            <p:nvSpPr>
              <p:cNvPr id="557" name="Freeform 86"/>
              <p:cNvSpPr/>
              <p:nvPr/>
            </p:nvSpPr>
            <p:spPr>
              <a:xfrm>
                <a:off x="231840" y="2687040"/>
                <a:ext cx="3490920" cy="623160"/>
              </a:xfrm>
              <a:custGeom>
                <a:avLst/>
                <a:gdLst/>
                <a:ahLst/>
                <a:rect l="l" t="t" r="r" b="b"/>
                <a:pathLst>
                  <a:path w="7306" h="1527">
                    <a:moveTo>
                      <a:pt x="7303" y="0"/>
                    </a:moveTo>
                    <a:lnTo>
                      <a:pt x="5590" y="301"/>
                    </a:lnTo>
                    <a:lnTo>
                      <a:pt x="3977" y="610"/>
                    </a:lnTo>
                    <a:lnTo>
                      <a:pt x="2442" y="931"/>
                    </a:lnTo>
                    <a:lnTo>
                      <a:pt x="1696" y="1098"/>
                    </a:lnTo>
                    <a:lnTo>
                      <a:pt x="961" y="1270"/>
                    </a:lnTo>
                    <a:lnTo>
                      <a:pt x="233" y="1449"/>
                    </a:lnTo>
                    <a:lnTo>
                      <a:pt x="0" y="1509"/>
                    </a:lnTo>
                    <a:lnTo>
                      <a:pt x="0" y="1527"/>
                    </a:lnTo>
                    <a:lnTo>
                      <a:pt x="238" y="1466"/>
                    </a:lnTo>
                    <a:lnTo>
                      <a:pt x="965" y="1287"/>
                    </a:lnTo>
                    <a:lnTo>
                      <a:pt x="1700" y="1115"/>
                    </a:lnTo>
                    <a:lnTo>
                      <a:pt x="2446" y="948"/>
                    </a:lnTo>
                    <a:lnTo>
                      <a:pt x="3981" y="627"/>
                    </a:lnTo>
                    <a:lnTo>
                      <a:pt x="5593" y="319"/>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Group 53"/>
            <p:cNvGrpSpPr/>
            <p:nvPr/>
          </p:nvGrpSpPr>
          <p:grpSpPr>
            <a:xfrm>
              <a:off x="231840" y="2688840"/>
              <a:ext cx="3490560" cy="708480"/>
              <a:chOff x="231840" y="2688840"/>
              <a:chExt cx="3490560" cy="708480"/>
            </a:xfrm>
          </p:grpSpPr>
          <p:sp>
            <p:nvSpPr>
              <p:cNvPr id="559" name="Freeform 85"/>
              <p:cNvSpPr/>
              <p:nvPr/>
            </p:nvSpPr>
            <p:spPr>
              <a:xfrm>
                <a:off x="231840" y="2688840"/>
                <a:ext cx="3490560" cy="708480"/>
              </a:xfrm>
              <a:custGeom>
                <a:avLst/>
                <a:gdLst/>
                <a:ahLst/>
                <a:rect l="l" t="t" r="r" b="b"/>
                <a:pathLst>
                  <a:path w="7305" h="1737">
                    <a:moveTo>
                      <a:pt x="7304" y="0"/>
                    </a:moveTo>
                    <a:lnTo>
                      <a:pt x="6434" y="152"/>
                    </a:lnTo>
                    <a:lnTo>
                      <a:pt x="5594" y="309"/>
                    </a:lnTo>
                    <a:lnTo>
                      <a:pt x="4781" y="472"/>
                    </a:lnTo>
                    <a:lnTo>
                      <a:pt x="3992" y="642"/>
                    </a:lnTo>
                    <a:lnTo>
                      <a:pt x="3225" y="820"/>
                    </a:lnTo>
                    <a:lnTo>
                      <a:pt x="2476" y="1006"/>
                    </a:lnTo>
                    <a:lnTo>
                      <a:pt x="1742" y="1201"/>
                    </a:lnTo>
                    <a:lnTo>
                      <a:pt x="1022" y="1408"/>
                    </a:lnTo>
                    <a:lnTo>
                      <a:pt x="312" y="1625"/>
                    </a:lnTo>
                    <a:lnTo>
                      <a:pt x="0" y="1728"/>
                    </a:lnTo>
                    <a:lnTo>
                      <a:pt x="0" y="1737"/>
                    </a:lnTo>
                    <a:lnTo>
                      <a:pt x="315" y="1634"/>
                    </a:lnTo>
                    <a:lnTo>
                      <a:pt x="1025" y="1416"/>
                    </a:lnTo>
                    <a:lnTo>
                      <a:pt x="1745" y="1210"/>
                    </a:lnTo>
                    <a:lnTo>
                      <a:pt x="2478" y="1014"/>
                    </a:lnTo>
                    <a:lnTo>
                      <a:pt x="3227" y="828"/>
                    </a:lnTo>
                    <a:lnTo>
                      <a:pt x="3994" y="651"/>
                    </a:lnTo>
                    <a:lnTo>
                      <a:pt x="4783" y="481"/>
                    </a:lnTo>
                    <a:lnTo>
                      <a:pt x="5596" y="318"/>
                    </a:lnTo>
                    <a:lnTo>
                      <a:pt x="6436" y="161"/>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Group 54"/>
            <p:cNvGrpSpPr/>
            <p:nvPr/>
          </p:nvGrpSpPr>
          <p:grpSpPr>
            <a:xfrm>
              <a:off x="231840" y="2688840"/>
              <a:ext cx="3490560" cy="874440"/>
              <a:chOff x="231840" y="2688840"/>
              <a:chExt cx="3490560" cy="874440"/>
            </a:xfrm>
          </p:grpSpPr>
          <p:sp>
            <p:nvSpPr>
              <p:cNvPr id="561" name="Freeform 84"/>
              <p:cNvSpPr/>
              <p:nvPr/>
            </p:nvSpPr>
            <p:spPr>
              <a:xfrm>
                <a:off x="231840" y="2688840"/>
                <a:ext cx="3490560" cy="874440"/>
              </a:xfrm>
              <a:custGeom>
                <a:avLst/>
                <a:gdLst/>
                <a:ahLst/>
                <a:rect l="l" t="t" r="r" b="b"/>
                <a:pathLst>
                  <a:path w="7305" h="2143">
                    <a:moveTo>
                      <a:pt x="7304" y="0"/>
                    </a:moveTo>
                    <a:lnTo>
                      <a:pt x="6436" y="155"/>
                    </a:lnTo>
                    <a:lnTo>
                      <a:pt x="5603" y="322"/>
                    </a:lnTo>
                    <a:lnTo>
                      <a:pt x="4800" y="501"/>
                    </a:lnTo>
                    <a:lnTo>
                      <a:pt x="4027" y="693"/>
                    </a:lnTo>
                    <a:lnTo>
                      <a:pt x="3280" y="900"/>
                    </a:lnTo>
                    <a:lnTo>
                      <a:pt x="2557" y="1123"/>
                    </a:lnTo>
                    <a:lnTo>
                      <a:pt x="1855" y="1364"/>
                    </a:lnTo>
                    <a:lnTo>
                      <a:pt x="1171" y="1623"/>
                    </a:lnTo>
                    <a:lnTo>
                      <a:pt x="503" y="1902"/>
                    </a:lnTo>
                    <a:lnTo>
                      <a:pt x="0" y="2133"/>
                    </a:lnTo>
                    <a:lnTo>
                      <a:pt x="0" y="2143"/>
                    </a:lnTo>
                    <a:lnTo>
                      <a:pt x="506" y="1910"/>
                    </a:lnTo>
                    <a:lnTo>
                      <a:pt x="1174" y="1632"/>
                    </a:lnTo>
                    <a:lnTo>
                      <a:pt x="1858" y="1372"/>
                    </a:lnTo>
                    <a:lnTo>
                      <a:pt x="2560" y="1132"/>
                    </a:lnTo>
                    <a:lnTo>
                      <a:pt x="3283" y="909"/>
                    </a:lnTo>
                    <a:lnTo>
                      <a:pt x="4029" y="701"/>
                    </a:lnTo>
                    <a:lnTo>
                      <a:pt x="4802" y="509"/>
                    </a:lnTo>
                    <a:lnTo>
                      <a:pt x="5604" y="330"/>
                    </a:lnTo>
                    <a:lnTo>
                      <a:pt x="6438" y="164"/>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Group 55"/>
            <p:cNvGrpSpPr/>
            <p:nvPr/>
          </p:nvGrpSpPr>
          <p:grpSpPr>
            <a:xfrm>
              <a:off x="231840" y="2687040"/>
              <a:ext cx="3490920" cy="796320"/>
              <a:chOff x="231840" y="2687040"/>
              <a:chExt cx="3490920" cy="796320"/>
            </a:xfrm>
          </p:grpSpPr>
          <p:sp>
            <p:nvSpPr>
              <p:cNvPr id="563" name="Freeform 83"/>
              <p:cNvSpPr/>
              <p:nvPr/>
            </p:nvSpPr>
            <p:spPr>
              <a:xfrm>
                <a:off x="231840" y="2687040"/>
                <a:ext cx="3490920" cy="796320"/>
              </a:xfrm>
              <a:custGeom>
                <a:avLst/>
                <a:gdLst/>
                <a:ahLst/>
                <a:rect l="l" t="t" r="r" b="b"/>
                <a:pathLst>
                  <a:path w="7306" h="1952">
                    <a:moveTo>
                      <a:pt x="7303" y="0"/>
                    </a:moveTo>
                    <a:lnTo>
                      <a:pt x="6434" y="154"/>
                    </a:lnTo>
                    <a:lnTo>
                      <a:pt x="5597" y="316"/>
                    </a:lnTo>
                    <a:lnTo>
                      <a:pt x="4789" y="487"/>
                    </a:lnTo>
                    <a:lnTo>
                      <a:pt x="4008" y="669"/>
                    </a:lnTo>
                    <a:lnTo>
                      <a:pt x="3250" y="863"/>
                    </a:lnTo>
                    <a:lnTo>
                      <a:pt x="2513" y="1069"/>
                    </a:lnTo>
                    <a:lnTo>
                      <a:pt x="1794" y="1289"/>
                    </a:lnTo>
                    <a:lnTo>
                      <a:pt x="1091" y="1524"/>
                    </a:lnTo>
                    <a:lnTo>
                      <a:pt x="401" y="1775"/>
                    </a:lnTo>
                    <a:lnTo>
                      <a:pt x="0" y="1933"/>
                    </a:lnTo>
                    <a:lnTo>
                      <a:pt x="0" y="1952"/>
                    </a:lnTo>
                    <a:lnTo>
                      <a:pt x="407" y="1791"/>
                    </a:lnTo>
                    <a:lnTo>
                      <a:pt x="1097" y="1541"/>
                    </a:lnTo>
                    <a:lnTo>
                      <a:pt x="1800" y="1306"/>
                    </a:lnTo>
                    <a:lnTo>
                      <a:pt x="2518" y="1086"/>
                    </a:lnTo>
                    <a:lnTo>
                      <a:pt x="3254" y="880"/>
                    </a:lnTo>
                    <a:lnTo>
                      <a:pt x="4012" y="686"/>
                    </a:lnTo>
                    <a:lnTo>
                      <a:pt x="4793" y="505"/>
                    </a:lnTo>
                    <a:lnTo>
                      <a:pt x="5601" y="333"/>
                    </a:lnTo>
                    <a:lnTo>
                      <a:pt x="6437" y="171"/>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Group 56"/>
            <p:cNvGrpSpPr/>
            <p:nvPr/>
          </p:nvGrpSpPr>
          <p:grpSpPr>
            <a:xfrm>
              <a:off x="231840" y="1468440"/>
              <a:ext cx="2956680" cy="1017000"/>
              <a:chOff x="231840" y="1468440"/>
              <a:chExt cx="2956680" cy="1017000"/>
            </a:xfrm>
          </p:grpSpPr>
          <p:sp>
            <p:nvSpPr>
              <p:cNvPr id="565" name="Freeform 82"/>
              <p:cNvSpPr/>
              <p:nvPr/>
            </p:nvSpPr>
            <p:spPr>
              <a:xfrm>
                <a:off x="231840" y="1468440"/>
                <a:ext cx="2956680" cy="1017000"/>
              </a:xfrm>
              <a:custGeom>
                <a:avLst/>
                <a:gdLst/>
                <a:ahLst/>
                <a:rect l="l" t="t" r="r" b="b"/>
                <a:pathLst>
                  <a:path w="6188" h="2493">
                    <a:moveTo>
                      <a:pt x="6141" y="0"/>
                    </a:moveTo>
                    <a:lnTo>
                      <a:pt x="5951" y="121"/>
                    </a:lnTo>
                    <a:lnTo>
                      <a:pt x="5763" y="238"/>
                    </a:lnTo>
                    <a:lnTo>
                      <a:pt x="5576" y="352"/>
                    </a:lnTo>
                    <a:lnTo>
                      <a:pt x="5390" y="463"/>
                    </a:lnTo>
                    <a:lnTo>
                      <a:pt x="5206" y="571"/>
                    </a:lnTo>
                    <a:lnTo>
                      <a:pt x="5023" y="676"/>
                    </a:lnTo>
                    <a:lnTo>
                      <a:pt x="4842" y="778"/>
                    </a:lnTo>
                    <a:lnTo>
                      <a:pt x="4662" y="876"/>
                    </a:lnTo>
                    <a:lnTo>
                      <a:pt x="4483" y="972"/>
                    </a:lnTo>
                    <a:lnTo>
                      <a:pt x="4306" y="1065"/>
                    </a:lnTo>
                    <a:lnTo>
                      <a:pt x="4130" y="1154"/>
                    </a:lnTo>
                    <a:lnTo>
                      <a:pt x="3954" y="1241"/>
                    </a:lnTo>
                    <a:lnTo>
                      <a:pt x="3780" y="1324"/>
                    </a:lnTo>
                    <a:lnTo>
                      <a:pt x="3608" y="1405"/>
                    </a:lnTo>
                    <a:lnTo>
                      <a:pt x="3436" y="1482"/>
                    </a:lnTo>
                    <a:lnTo>
                      <a:pt x="3265" y="1557"/>
                    </a:lnTo>
                    <a:lnTo>
                      <a:pt x="3095" y="1628"/>
                    </a:lnTo>
                    <a:lnTo>
                      <a:pt x="2926" y="1696"/>
                    </a:lnTo>
                    <a:lnTo>
                      <a:pt x="2758" y="1762"/>
                    </a:lnTo>
                    <a:lnTo>
                      <a:pt x="2591" y="1824"/>
                    </a:lnTo>
                    <a:lnTo>
                      <a:pt x="2424" y="1883"/>
                    </a:lnTo>
                    <a:lnTo>
                      <a:pt x="2258" y="1939"/>
                    </a:lnTo>
                    <a:lnTo>
                      <a:pt x="2093" y="1992"/>
                    </a:lnTo>
                    <a:lnTo>
                      <a:pt x="1929" y="2042"/>
                    </a:lnTo>
                    <a:lnTo>
                      <a:pt x="1765" y="2089"/>
                    </a:lnTo>
                    <a:lnTo>
                      <a:pt x="1602" y="2133"/>
                    </a:lnTo>
                    <a:lnTo>
                      <a:pt x="1440" y="2174"/>
                    </a:lnTo>
                    <a:lnTo>
                      <a:pt x="1278" y="2212"/>
                    </a:lnTo>
                    <a:lnTo>
                      <a:pt x="1116" y="2247"/>
                    </a:lnTo>
                    <a:lnTo>
                      <a:pt x="955" y="2279"/>
                    </a:lnTo>
                    <a:lnTo>
                      <a:pt x="794" y="2307"/>
                    </a:lnTo>
                    <a:lnTo>
                      <a:pt x="634" y="2333"/>
                    </a:lnTo>
                    <a:lnTo>
                      <a:pt x="474" y="2356"/>
                    </a:lnTo>
                    <a:lnTo>
                      <a:pt x="314" y="2375"/>
                    </a:lnTo>
                    <a:lnTo>
                      <a:pt x="154" y="2392"/>
                    </a:lnTo>
                    <a:lnTo>
                      <a:pt x="0" y="2405"/>
                    </a:lnTo>
                    <a:lnTo>
                      <a:pt x="0" y="2494"/>
                    </a:lnTo>
                    <a:lnTo>
                      <a:pt x="162" y="2480"/>
                    </a:lnTo>
                    <a:lnTo>
                      <a:pt x="324" y="2463"/>
                    </a:lnTo>
                    <a:lnTo>
                      <a:pt x="485" y="2443"/>
                    </a:lnTo>
                    <a:lnTo>
                      <a:pt x="647" y="2420"/>
                    </a:lnTo>
                    <a:lnTo>
                      <a:pt x="809" y="2394"/>
                    </a:lnTo>
                    <a:lnTo>
                      <a:pt x="971" y="2365"/>
                    </a:lnTo>
                    <a:lnTo>
                      <a:pt x="1134" y="2333"/>
                    </a:lnTo>
                    <a:lnTo>
                      <a:pt x="1297" y="2298"/>
                    </a:lnTo>
                    <a:lnTo>
                      <a:pt x="1461" y="2260"/>
                    </a:lnTo>
                    <a:lnTo>
                      <a:pt x="1624" y="2218"/>
                    </a:lnTo>
                    <a:lnTo>
                      <a:pt x="1789" y="2174"/>
                    </a:lnTo>
                    <a:lnTo>
                      <a:pt x="1954" y="2127"/>
                    </a:lnTo>
                    <a:lnTo>
                      <a:pt x="2120" y="2076"/>
                    </a:lnTo>
                    <a:lnTo>
                      <a:pt x="2286" y="2023"/>
                    </a:lnTo>
                    <a:lnTo>
                      <a:pt x="2453" y="1966"/>
                    </a:lnTo>
                    <a:lnTo>
                      <a:pt x="2621" y="1907"/>
                    </a:lnTo>
                    <a:lnTo>
                      <a:pt x="2789" y="1844"/>
                    </a:lnTo>
                    <a:lnTo>
                      <a:pt x="2958" y="1778"/>
                    </a:lnTo>
                    <a:lnTo>
                      <a:pt x="3128" y="1709"/>
                    </a:lnTo>
                    <a:lnTo>
                      <a:pt x="3299" y="1638"/>
                    </a:lnTo>
                    <a:lnTo>
                      <a:pt x="3471" y="1563"/>
                    </a:lnTo>
                    <a:lnTo>
                      <a:pt x="3644" y="1485"/>
                    </a:lnTo>
                    <a:lnTo>
                      <a:pt x="3818" y="1404"/>
                    </a:lnTo>
                    <a:lnTo>
                      <a:pt x="3993" y="1320"/>
                    </a:lnTo>
                    <a:lnTo>
                      <a:pt x="4169" y="1233"/>
                    </a:lnTo>
                    <a:lnTo>
                      <a:pt x="4346" y="1143"/>
                    </a:lnTo>
                    <a:lnTo>
                      <a:pt x="4524" y="1050"/>
                    </a:lnTo>
                    <a:lnTo>
                      <a:pt x="4704" y="954"/>
                    </a:lnTo>
                    <a:lnTo>
                      <a:pt x="4885" y="854"/>
                    </a:lnTo>
                    <a:lnTo>
                      <a:pt x="5067" y="752"/>
                    </a:lnTo>
                    <a:lnTo>
                      <a:pt x="5250" y="647"/>
                    </a:lnTo>
                    <a:lnTo>
                      <a:pt x="5435" y="538"/>
                    </a:lnTo>
                    <a:lnTo>
                      <a:pt x="5621" y="427"/>
                    </a:lnTo>
                    <a:lnTo>
                      <a:pt x="5809" y="313"/>
                    </a:lnTo>
                    <a:lnTo>
                      <a:pt x="5998" y="195"/>
                    </a:lnTo>
                    <a:lnTo>
                      <a:pt x="6188" y="75"/>
                    </a:lnTo>
                    <a:lnTo>
                      <a:pt x="6141"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Group 57"/>
            <p:cNvGrpSpPr/>
            <p:nvPr/>
          </p:nvGrpSpPr>
          <p:grpSpPr>
            <a:xfrm>
              <a:off x="231840" y="1477800"/>
              <a:ext cx="2950200" cy="1182240"/>
              <a:chOff x="231840" y="1477800"/>
              <a:chExt cx="2950200" cy="1182240"/>
            </a:xfrm>
          </p:grpSpPr>
          <p:sp>
            <p:nvSpPr>
              <p:cNvPr id="567" name="Freeform 81"/>
              <p:cNvSpPr/>
              <p:nvPr/>
            </p:nvSpPr>
            <p:spPr>
              <a:xfrm>
                <a:off x="231840" y="1477800"/>
                <a:ext cx="2950200" cy="1182240"/>
              </a:xfrm>
              <a:custGeom>
                <a:avLst/>
                <a:gdLst/>
                <a:ahLst/>
                <a:rect l="l" t="t" r="r" b="b"/>
                <a:pathLst>
                  <a:path w="6174" h="2898">
                    <a:moveTo>
                      <a:pt x="6155" y="0"/>
                    </a:moveTo>
                    <a:lnTo>
                      <a:pt x="5613" y="339"/>
                    </a:lnTo>
                    <a:lnTo>
                      <a:pt x="5081" y="659"/>
                    </a:lnTo>
                    <a:lnTo>
                      <a:pt x="4558" y="959"/>
                    </a:lnTo>
                    <a:lnTo>
                      <a:pt x="4043" y="1241"/>
                    </a:lnTo>
                    <a:lnTo>
                      <a:pt x="3535" y="1505"/>
                    </a:lnTo>
                    <a:lnTo>
                      <a:pt x="3033" y="1749"/>
                    </a:lnTo>
                    <a:lnTo>
                      <a:pt x="2535" y="1976"/>
                    </a:lnTo>
                    <a:lnTo>
                      <a:pt x="2041" y="2184"/>
                    </a:lnTo>
                    <a:lnTo>
                      <a:pt x="1550" y="2374"/>
                    </a:lnTo>
                    <a:lnTo>
                      <a:pt x="1061" y="2547"/>
                    </a:lnTo>
                    <a:lnTo>
                      <a:pt x="572" y="2703"/>
                    </a:lnTo>
                    <a:lnTo>
                      <a:pt x="83" y="2841"/>
                    </a:lnTo>
                    <a:lnTo>
                      <a:pt x="0" y="2861"/>
                    </a:lnTo>
                    <a:lnTo>
                      <a:pt x="0" y="2897"/>
                    </a:lnTo>
                    <a:lnTo>
                      <a:pt x="92" y="2875"/>
                    </a:lnTo>
                    <a:lnTo>
                      <a:pt x="582" y="2736"/>
                    </a:lnTo>
                    <a:lnTo>
                      <a:pt x="1072" y="2581"/>
                    </a:lnTo>
                    <a:lnTo>
                      <a:pt x="1562" y="2407"/>
                    </a:lnTo>
                    <a:lnTo>
                      <a:pt x="2054" y="2217"/>
                    </a:lnTo>
                    <a:lnTo>
                      <a:pt x="2549" y="2008"/>
                    </a:lnTo>
                    <a:lnTo>
                      <a:pt x="3048" y="1781"/>
                    </a:lnTo>
                    <a:lnTo>
                      <a:pt x="3551" y="1536"/>
                    </a:lnTo>
                    <a:lnTo>
                      <a:pt x="4060" y="1272"/>
                    </a:lnTo>
                    <a:lnTo>
                      <a:pt x="4576" y="990"/>
                    </a:lnTo>
                    <a:lnTo>
                      <a:pt x="5099" y="689"/>
                    </a:lnTo>
                    <a:lnTo>
                      <a:pt x="5632" y="369"/>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Group 58"/>
            <p:cNvGrpSpPr/>
            <p:nvPr/>
          </p:nvGrpSpPr>
          <p:grpSpPr>
            <a:xfrm>
              <a:off x="231840" y="1477800"/>
              <a:ext cx="2950200" cy="1348200"/>
              <a:chOff x="231840" y="1477800"/>
              <a:chExt cx="2950200" cy="1348200"/>
            </a:xfrm>
          </p:grpSpPr>
          <p:sp>
            <p:nvSpPr>
              <p:cNvPr id="569" name="Freeform 80"/>
              <p:cNvSpPr/>
              <p:nvPr/>
            </p:nvSpPr>
            <p:spPr>
              <a:xfrm>
                <a:off x="231840" y="1477800"/>
                <a:ext cx="2950200" cy="1348200"/>
              </a:xfrm>
              <a:custGeom>
                <a:avLst/>
                <a:gdLst/>
                <a:ahLst/>
                <a:rect l="l" t="t" r="r" b="b"/>
                <a:pathLst>
                  <a:path w="6174" h="3304">
                    <a:moveTo>
                      <a:pt x="6155" y="0"/>
                    </a:moveTo>
                    <a:lnTo>
                      <a:pt x="5408" y="468"/>
                    </a:lnTo>
                    <a:lnTo>
                      <a:pt x="4679" y="910"/>
                    </a:lnTo>
                    <a:lnTo>
                      <a:pt x="3966" y="1325"/>
                    </a:lnTo>
                    <a:lnTo>
                      <a:pt x="3265" y="1716"/>
                    </a:lnTo>
                    <a:lnTo>
                      <a:pt x="2574" y="2082"/>
                    </a:lnTo>
                    <a:lnTo>
                      <a:pt x="1890" y="2425"/>
                    </a:lnTo>
                    <a:lnTo>
                      <a:pt x="1210" y="2746"/>
                    </a:lnTo>
                    <a:lnTo>
                      <a:pt x="532" y="3046"/>
                    </a:lnTo>
                    <a:lnTo>
                      <a:pt x="0" y="3265"/>
                    </a:lnTo>
                    <a:lnTo>
                      <a:pt x="0" y="3303"/>
                    </a:lnTo>
                    <a:lnTo>
                      <a:pt x="546" y="3078"/>
                    </a:lnTo>
                    <a:lnTo>
                      <a:pt x="1225" y="2778"/>
                    </a:lnTo>
                    <a:lnTo>
                      <a:pt x="1905" y="2457"/>
                    </a:lnTo>
                    <a:lnTo>
                      <a:pt x="2590" y="2113"/>
                    </a:lnTo>
                    <a:lnTo>
                      <a:pt x="3282" y="1747"/>
                    </a:lnTo>
                    <a:lnTo>
                      <a:pt x="3983" y="1356"/>
                    </a:lnTo>
                    <a:lnTo>
                      <a:pt x="4697" y="940"/>
                    </a:lnTo>
                    <a:lnTo>
                      <a:pt x="5427" y="498"/>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Group 59"/>
            <p:cNvGrpSpPr/>
            <p:nvPr/>
          </p:nvGrpSpPr>
          <p:grpSpPr>
            <a:xfrm>
              <a:off x="231840" y="1480680"/>
              <a:ext cx="2948040" cy="1465920"/>
              <a:chOff x="231840" y="1480680"/>
              <a:chExt cx="2948040" cy="1465920"/>
            </a:xfrm>
          </p:grpSpPr>
          <p:sp>
            <p:nvSpPr>
              <p:cNvPr id="571" name="Freeform 79"/>
              <p:cNvSpPr/>
              <p:nvPr/>
            </p:nvSpPr>
            <p:spPr>
              <a:xfrm>
                <a:off x="231840" y="1480680"/>
                <a:ext cx="2948040" cy="1465920"/>
              </a:xfrm>
              <a:custGeom>
                <a:avLst/>
                <a:gdLst/>
                <a:ahLst/>
                <a:rect l="l" t="t" r="r" b="b"/>
                <a:pathLst>
                  <a:path w="6170" h="3593">
                    <a:moveTo>
                      <a:pt x="6160" y="0"/>
                    </a:moveTo>
                    <a:lnTo>
                      <a:pt x="5414" y="472"/>
                    </a:lnTo>
                    <a:lnTo>
                      <a:pt x="4687" y="923"/>
                    </a:lnTo>
                    <a:lnTo>
                      <a:pt x="3977" y="1355"/>
                    </a:lnTo>
                    <a:lnTo>
                      <a:pt x="3282" y="1769"/>
                    </a:lnTo>
                    <a:lnTo>
                      <a:pt x="2598" y="2166"/>
                    </a:lnTo>
                    <a:lnTo>
                      <a:pt x="1923" y="2547"/>
                    </a:lnTo>
                    <a:lnTo>
                      <a:pt x="1255" y="2914"/>
                    </a:lnTo>
                    <a:lnTo>
                      <a:pt x="590" y="3269"/>
                    </a:lnTo>
                    <a:lnTo>
                      <a:pt x="0" y="3573"/>
                    </a:lnTo>
                    <a:lnTo>
                      <a:pt x="0" y="3593"/>
                    </a:lnTo>
                    <a:lnTo>
                      <a:pt x="598" y="3284"/>
                    </a:lnTo>
                    <a:lnTo>
                      <a:pt x="1263" y="2930"/>
                    </a:lnTo>
                    <a:lnTo>
                      <a:pt x="1932" y="2563"/>
                    </a:lnTo>
                    <a:lnTo>
                      <a:pt x="2607" y="2181"/>
                    </a:lnTo>
                    <a:lnTo>
                      <a:pt x="3291" y="1784"/>
                    </a:lnTo>
                    <a:lnTo>
                      <a:pt x="3986" y="1370"/>
                    </a:lnTo>
                    <a:lnTo>
                      <a:pt x="4696" y="938"/>
                    </a:lnTo>
                    <a:lnTo>
                      <a:pt x="5423" y="487"/>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Group 60"/>
            <p:cNvGrpSpPr/>
            <p:nvPr/>
          </p:nvGrpSpPr>
          <p:grpSpPr>
            <a:xfrm>
              <a:off x="231840" y="1482480"/>
              <a:ext cx="2946600" cy="1550880"/>
              <a:chOff x="231840" y="1482480"/>
              <a:chExt cx="2946600" cy="1550880"/>
            </a:xfrm>
          </p:grpSpPr>
          <p:sp>
            <p:nvSpPr>
              <p:cNvPr id="573" name="Freeform 78"/>
              <p:cNvSpPr/>
              <p:nvPr/>
            </p:nvSpPr>
            <p:spPr>
              <a:xfrm>
                <a:off x="231840" y="1482480"/>
                <a:ext cx="2946600" cy="1550880"/>
              </a:xfrm>
              <a:custGeom>
                <a:avLst/>
                <a:gdLst/>
                <a:ahLst/>
                <a:rect l="l" t="t" r="r" b="b"/>
                <a:pathLst>
                  <a:path w="6167" h="3801">
                    <a:moveTo>
                      <a:pt x="6162" y="0"/>
                    </a:moveTo>
                    <a:lnTo>
                      <a:pt x="3987" y="1373"/>
                    </a:lnTo>
                    <a:lnTo>
                      <a:pt x="1958" y="2622"/>
                    </a:lnTo>
                    <a:lnTo>
                      <a:pt x="0" y="3791"/>
                    </a:lnTo>
                    <a:lnTo>
                      <a:pt x="0" y="3801"/>
                    </a:lnTo>
                    <a:lnTo>
                      <a:pt x="1963" y="2630"/>
                    </a:lnTo>
                    <a:lnTo>
                      <a:pt x="3992" y="1380"/>
                    </a:lnTo>
                    <a:lnTo>
                      <a:pt x="6167" y="7"/>
                    </a:lnTo>
                    <a:lnTo>
                      <a:pt x="6162"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Group 61"/>
            <p:cNvGrpSpPr/>
            <p:nvPr/>
          </p:nvGrpSpPr>
          <p:grpSpPr>
            <a:xfrm>
              <a:off x="231840" y="1480680"/>
              <a:ext cx="2948040" cy="1640520"/>
              <a:chOff x="231840" y="1480680"/>
              <a:chExt cx="2948040" cy="1640520"/>
            </a:xfrm>
          </p:grpSpPr>
          <p:sp>
            <p:nvSpPr>
              <p:cNvPr id="575" name="Freeform 77"/>
              <p:cNvSpPr/>
              <p:nvPr/>
            </p:nvSpPr>
            <p:spPr>
              <a:xfrm>
                <a:off x="231840" y="1480680"/>
                <a:ext cx="2948040" cy="1640520"/>
              </a:xfrm>
              <a:custGeom>
                <a:avLst/>
                <a:gdLst/>
                <a:ahLst/>
                <a:rect l="l" t="t" r="r" b="b"/>
                <a:pathLst>
                  <a:path w="6170" h="4021">
                    <a:moveTo>
                      <a:pt x="6160" y="0"/>
                    </a:moveTo>
                    <a:lnTo>
                      <a:pt x="3994" y="1388"/>
                    </a:lnTo>
                    <a:lnTo>
                      <a:pt x="0" y="4000"/>
                    </a:lnTo>
                    <a:lnTo>
                      <a:pt x="0" y="4021"/>
                    </a:lnTo>
                    <a:lnTo>
                      <a:pt x="4004" y="1403"/>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62"/>
            <p:cNvGrpSpPr/>
            <p:nvPr/>
          </p:nvGrpSpPr>
          <p:grpSpPr>
            <a:xfrm>
              <a:off x="231840" y="1480680"/>
              <a:ext cx="2948040" cy="1726920"/>
              <a:chOff x="231840" y="1480680"/>
              <a:chExt cx="2948040" cy="1726920"/>
            </a:xfrm>
          </p:grpSpPr>
          <p:sp>
            <p:nvSpPr>
              <p:cNvPr id="577" name="Freeform 76"/>
              <p:cNvSpPr/>
              <p:nvPr/>
            </p:nvSpPr>
            <p:spPr>
              <a:xfrm>
                <a:off x="231840" y="1480680"/>
                <a:ext cx="2948040" cy="1726920"/>
              </a:xfrm>
              <a:custGeom>
                <a:avLst/>
                <a:gdLst/>
                <a:ahLst/>
                <a:rect l="l" t="t" r="r" b="b"/>
                <a:pathLst>
                  <a:path w="6170" h="4232">
                    <a:moveTo>
                      <a:pt x="6160" y="0"/>
                    </a:moveTo>
                    <a:lnTo>
                      <a:pt x="5417" y="477"/>
                    </a:lnTo>
                    <a:lnTo>
                      <a:pt x="4004" y="1401"/>
                    </a:lnTo>
                    <a:lnTo>
                      <a:pt x="3331" y="1852"/>
                    </a:lnTo>
                    <a:lnTo>
                      <a:pt x="2676" y="2298"/>
                    </a:lnTo>
                    <a:lnTo>
                      <a:pt x="2037" y="2740"/>
                    </a:lnTo>
                    <a:lnTo>
                      <a:pt x="1412" y="3181"/>
                    </a:lnTo>
                    <a:lnTo>
                      <a:pt x="798" y="3622"/>
                    </a:lnTo>
                    <a:lnTo>
                      <a:pt x="193" y="4066"/>
                    </a:lnTo>
                    <a:lnTo>
                      <a:pt x="0" y="4210"/>
                    </a:lnTo>
                    <a:lnTo>
                      <a:pt x="0" y="4232"/>
                    </a:lnTo>
                    <a:lnTo>
                      <a:pt x="204" y="4080"/>
                    </a:lnTo>
                    <a:lnTo>
                      <a:pt x="808" y="3637"/>
                    </a:lnTo>
                    <a:lnTo>
                      <a:pt x="1422" y="3195"/>
                    </a:lnTo>
                    <a:lnTo>
                      <a:pt x="2047" y="2755"/>
                    </a:lnTo>
                    <a:lnTo>
                      <a:pt x="2686" y="2312"/>
                    </a:lnTo>
                    <a:lnTo>
                      <a:pt x="3340" y="1867"/>
                    </a:lnTo>
                    <a:lnTo>
                      <a:pt x="4014" y="1416"/>
                    </a:lnTo>
                    <a:lnTo>
                      <a:pt x="5426" y="492"/>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Group 63"/>
            <p:cNvGrpSpPr/>
            <p:nvPr/>
          </p:nvGrpSpPr>
          <p:grpSpPr>
            <a:xfrm>
              <a:off x="2219040" y="601560"/>
              <a:ext cx="9000" cy="4320"/>
              <a:chOff x="2219040" y="601560"/>
              <a:chExt cx="9000" cy="4320"/>
            </a:xfrm>
          </p:grpSpPr>
          <p:sp>
            <p:nvSpPr>
              <p:cNvPr id="579" name="Freeform 75"/>
              <p:cNvSpPr/>
              <p:nvPr/>
            </p:nvSpPr>
            <p:spPr>
              <a:xfrm>
                <a:off x="2219040" y="601560"/>
                <a:ext cx="9000" cy="4320"/>
              </a:xfrm>
              <a:custGeom>
                <a:avLst/>
                <a:gdLst/>
                <a:ahLst/>
                <a:rect l="l" t="t" r="r" b="b"/>
                <a:pathLst>
                  <a:path w="19" h="11">
                    <a:moveTo>
                      <a:pt x="18" y="0"/>
                    </a:moveTo>
                    <a:lnTo>
                      <a:pt x="1" y="0"/>
                    </a:lnTo>
                    <a:lnTo>
                      <a:pt x="0" y="3"/>
                    </a:lnTo>
                    <a:lnTo>
                      <a:pt x="1" y="7"/>
                    </a:lnTo>
                    <a:lnTo>
                      <a:pt x="6" y="11"/>
                    </a:lnTo>
                    <a:lnTo>
                      <a:pt x="8" y="11"/>
                    </a:lnTo>
                    <a:lnTo>
                      <a:pt x="12" y="11"/>
                    </a:lnTo>
                    <a:lnTo>
                      <a:pt x="15" y="10"/>
                    </a:lnTo>
                    <a:lnTo>
                      <a:pt x="18" y="5"/>
                    </a:lnTo>
                    <a:lnTo>
                      <a:pt x="19" y="3"/>
                    </a:lnTo>
                    <a:lnTo>
                      <a:pt x="18" y="0"/>
                    </a:lnTo>
                  </a:path>
                </a:pathLst>
              </a:custGeom>
              <a:solidFill>
                <a:srgbClr val="6d6e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580" name="Group 64"/>
            <p:cNvGrpSpPr/>
            <p:nvPr/>
          </p:nvGrpSpPr>
          <p:grpSpPr>
            <a:xfrm>
              <a:off x="2232360" y="607320"/>
              <a:ext cx="9360" cy="7200"/>
              <a:chOff x="2232360" y="607320"/>
              <a:chExt cx="9360" cy="7200"/>
            </a:xfrm>
          </p:grpSpPr>
          <p:sp>
            <p:nvSpPr>
              <p:cNvPr id="581" name="Freeform 74"/>
              <p:cNvSpPr/>
              <p:nvPr/>
            </p:nvSpPr>
            <p:spPr>
              <a:xfrm>
                <a:off x="2232360" y="607320"/>
                <a:ext cx="9360" cy="7200"/>
              </a:xfrm>
              <a:custGeom>
                <a:avLst/>
                <a:gdLst/>
                <a:ahLst/>
                <a:rect l="l" t="t" r="r" b="b"/>
                <a:pathLst>
                  <a:path w="20" h="18">
                    <a:moveTo>
                      <a:pt x="12" y="0"/>
                    </a:moveTo>
                    <a:lnTo>
                      <a:pt x="7" y="0"/>
                    </a:lnTo>
                    <a:lnTo>
                      <a:pt x="4" y="1"/>
                    </a:lnTo>
                    <a:lnTo>
                      <a:pt x="0" y="7"/>
                    </a:lnTo>
                    <a:lnTo>
                      <a:pt x="1" y="13"/>
                    </a:lnTo>
                    <a:lnTo>
                      <a:pt x="6" y="17"/>
                    </a:lnTo>
                    <a:lnTo>
                      <a:pt x="8" y="17"/>
                    </a:lnTo>
                    <a:lnTo>
                      <a:pt x="12" y="17"/>
                    </a:lnTo>
                    <a:lnTo>
                      <a:pt x="15" y="16"/>
                    </a:lnTo>
                    <a:lnTo>
                      <a:pt x="20" y="10"/>
                    </a:lnTo>
                    <a:lnTo>
                      <a:pt x="19" y="4"/>
                    </a:lnTo>
                    <a:lnTo>
                      <a:pt x="13"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2" name="Group 65"/>
            <p:cNvGrpSpPr/>
            <p:nvPr/>
          </p:nvGrpSpPr>
          <p:grpSpPr>
            <a:xfrm>
              <a:off x="2248200" y="619200"/>
              <a:ext cx="6840" cy="3600"/>
              <a:chOff x="2248200" y="619200"/>
              <a:chExt cx="6840" cy="3600"/>
            </a:xfrm>
          </p:grpSpPr>
          <p:sp>
            <p:nvSpPr>
              <p:cNvPr id="583" name="Freeform 73"/>
              <p:cNvSpPr/>
              <p:nvPr/>
            </p:nvSpPr>
            <p:spPr>
              <a:xfrm>
                <a:off x="2248200" y="619200"/>
                <a:ext cx="6840" cy="3600"/>
              </a:xfrm>
              <a:custGeom>
                <a:avLst/>
                <a:gdLst/>
                <a:ahLst/>
                <a:rect l="l" t="t" r="r" b="b"/>
                <a:pathLst>
                  <a:path w="15" h="9">
                    <a:moveTo>
                      <a:pt x="15" y="0"/>
                    </a:moveTo>
                    <a:lnTo>
                      <a:pt x="5" y="0"/>
                    </a:lnTo>
                    <a:lnTo>
                      <a:pt x="0" y="7"/>
                    </a:lnTo>
                    <a:lnTo>
                      <a:pt x="1" y="9"/>
                    </a:lnTo>
                    <a:lnTo>
                      <a:pt x="3" y="9"/>
                    </a:lnTo>
                    <a:lnTo>
                      <a:pt x="8" y="9"/>
                    </a:lnTo>
                    <a:lnTo>
                      <a:pt x="10" y="8"/>
                    </a:lnTo>
                    <a:lnTo>
                      <a:pt x="15" y="2"/>
                    </a:lnTo>
                    <a:lnTo>
                      <a:pt x="15" y="0"/>
                    </a:lnTo>
                  </a:path>
                </a:pathLst>
              </a:custGeom>
              <a:solidFill>
                <a:srgbClr val="6d6e71"/>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584" name="Group 66"/>
            <p:cNvGrpSpPr/>
            <p:nvPr/>
          </p:nvGrpSpPr>
          <p:grpSpPr>
            <a:xfrm>
              <a:off x="2245680" y="615960"/>
              <a:ext cx="9360" cy="6120"/>
              <a:chOff x="2245680" y="615960"/>
              <a:chExt cx="9360" cy="6120"/>
            </a:xfrm>
          </p:grpSpPr>
          <p:sp>
            <p:nvSpPr>
              <p:cNvPr id="585" name="Freeform 72"/>
              <p:cNvSpPr/>
              <p:nvPr/>
            </p:nvSpPr>
            <p:spPr>
              <a:xfrm>
                <a:off x="2245680" y="615960"/>
                <a:ext cx="9360" cy="6120"/>
              </a:xfrm>
              <a:custGeom>
                <a:avLst/>
                <a:gdLst/>
                <a:ahLst/>
                <a:rect l="l" t="t" r="r" b="b"/>
                <a:pathLst>
                  <a:path w="20" h="16">
                    <a:moveTo>
                      <a:pt x="12" y="0"/>
                    </a:moveTo>
                    <a:lnTo>
                      <a:pt x="7" y="0"/>
                    </a:lnTo>
                    <a:lnTo>
                      <a:pt x="5" y="1"/>
                    </a:lnTo>
                    <a:lnTo>
                      <a:pt x="0" y="7"/>
                    </a:lnTo>
                    <a:lnTo>
                      <a:pt x="1" y="13"/>
                    </a:lnTo>
                    <a:lnTo>
                      <a:pt x="5" y="15"/>
                    </a:lnTo>
                    <a:lnTo>
                      <a:pt x="10" y="8"/>
                    </a:lnTo>
                    <a:lnTo>
                      <a:pt x="20" y="8"/>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586" name="Group 67"/>
            <p:cNvGrpSpPr/>
            <p:nvPr/>
          </p:nvGrpSpPr>
          <p:grpSpPr>
            <a:xfrm>
              <a:off x="2259000" y="624600"/>
              <a:ext cx="9360" cy="7200"/>
              <a:chOff x="2259000" y="624600"/>
              <a:chExt cx="9360" cy="7200"/>
            </a:xfrm>
          </p:grpSpPr>
          <p:sp>
            <p:nvSpPr>
              <p:cNvPr id="587" name="Freeform 71"/>
              <p:cNvSpPr/>
              <p:nvPr/>
            </p:nvSpPr>
            <p:spPr>
              <a:xfrm>
                <a:off x="2259000" y="624600"/>
                <a:ext cx="9360" cy="7200"/>
              </a:xfrm>
              <a:custGeom>
                <a:avLst/>
                <a:gdLst/>
                <a:ahLst/>
                <a:rect l="l" t="t" r="r" b="b"/>
                <a:pathLst>
                  <a:path w="20" h="18">
                    <a:moveTo>
                      <a:pt x="12" y="0"/>
                    </a:moveTo>
                    <a:lnTo>
                      <a:pt x="7" y="0"/>
                    </a:lnTo>
                    <a:lnTo>
                      <a:pt x="5" y="1"/>
                    </a:lnTo>
                    <a:lnTo>
                      <a:pt x="0" y="7"/>
                    </a:lnTo>
                    <a:lnTo>
                      <a:pt x="1" y="13"/>
                    </a:lnTo>
                    <a:lnTo>
                      <a:pt x="6" y="17"/>
                    </a:lnTo>
                    <a:lnTo>
                      <a:pt x="8" y="17"/>
                    </a:lnTo>
                    <a:lnTo>
                      <a:pt x="13" y="17"/>
                    </a:lnTo>
                    <a:lnTo>
                      <a:pt x="15" y="16"/>
                    </a:lnTo>
                    <a:lnTo>
                      <a:pt x="20" y="10"/>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8" name="Group 68"/>
            <p:cNvGrpSpPr/>
            <p:nvPr/>
          </p:nvGrpSpPr>
          <p:grpSpPr>
            <a:xfrm>
              <a:off x="227160" y="633240"/>
              <a:ext cx="3561480" cy="5851800"/>
              <a:chOff x="227160" y="633240"/>
              <a:chExt cx="3561480" cy="5851800"/>
            </a:xfrm>
          </p:grpSpPr>
          <p:sp>
            <p:nvSpPr>
              <p:cNvPr id="589" name="Freeform 69"/>
              <p:cNvSpPr/>
              <p:nvPr/>
            </p:nvSpPr>
            <p:spPr>
              <a:xfrm>
                <a:off x="2273400" y="633240"/>
                <a:ext cx="9360" cy="7560"/>
              </a:xfrm>
              <a:custGeom>
                <a:avLst/>
                <a:gdLst/>
                <a:ahLst/>
                <a:rect l="l" t="t" r="r" b="b"/>
                <a:pathLst>
                  <a:path w="20" h="18">
                    <a:moveTo>
                      <a:pt x="12" y="0"/>
                    </a:moveTo>
                    <a:lnTo>
                      <a:pt x="7" y="0"/>
                    </a:lnTo>
                    <a:lnTo>
                      <a:pt x="5" y="1"/>
                    </a:lnTo>
                    <a:lnTo>
                      <a:pt x="0" y="7"/>
                    </a:lnTo>
                    <a:lnTo>
                      <a:pt x="1" y="13"/>
                    </a:lnTo>
                    <a:lnTo>
                      <a:pt x="6" y="17"/>
                    </a:lnTo>
                    <a:lnTo>
                      <a:pt x="8" y="18"/>
                    </a:lnTo>
                    <a:lnTo>
                      <a:pt x="13" y="18"/>
                    </a:lnTo>
                    <a:lnTo>
                      <a:pt x="15" y="16"/>
                    </a:lnTo>
                    <a:lnTo>
                      <a:pt x="20" y="10"/>
                    </a:lnTo>
                    <a:lnTo>
                      <a:pt x="19" y="5"/>
                    </a:lnTo>
                    <a:lnTo>
                      <a:pt x="14" y="1"/>
                    </a:lnTo>
                    <a:lnTo>
                      <a:pt x="12" y="0"/>
                    </a:lnTo>
                  </a:path>
                </a:pathLst>
              </a:custGeom>
              <a:solidFill>
                <a:srgbClr val="6d6e7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pic>
            <p:nvPicPr>
              <p:cNvPr id="590" name="Picture 70" descr=""/>
              <p:cNvPicPr/>
              <p:nvPr/>
            </p:nvPicPr>
            <p:blipFill>
              <a:blip r:embed="rId2"/>
              <a:stretch/>
            </p:blipFill>
            <p:spPr>
              <a:xfrm>
                <a:off x="227160" y="637560"/>
                <a:ext cx="3561480" cy="5847480"/>
              </a:xfrm>
              <a:prstGeom prst="rect">
                <a:avLst/>
              </a:prstGeom>
              <a:ln w="0">
                <a:noFill/>
              </a:ln>
            </p:spPr>
          </p:pic>
        </p:grpSp>
      </p:grpSp>
      <p:sp>
        <p:nvSpPr>
          <p:cNvPr id="591" name="TextBox 142"/>
          <p:cNvSpPr/>
          <p:nvPr/>
        </p:nvSpPr>
        <p:spPr>
          <a:xfrm>
            <a:off x="5006880" y="919080"/>
            <a:ext cx="349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Arial"/>
              </a:rPr>
              <a:t>Global Marketing</a:t>
            </a:r>
            <a:endParaRPr b="0" lang="en-US" sz="5400" spc="-1" strike="noStrike">
              <a:solidFill>
                <a:srgbClr val="000000"/>
              </a:solidFill>
              <a:latin typeface="Arial"/>
            </a:endParaRPr>
          </a:p>
        </p:txBody>
      </p:sp>
      <p:sp>
        <p:nvSpPr>
          <p:cNvPr id="592" name="TextBox 143"/>
          <p:cNvSpPr/>
          <p:nvPr/>
        </p:nvSpPr>
        <p:spPr>
          <a:xfrm>
            <a:off x="5192640" y="3114720"/>
            <a:ext cx="349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6600"/>
                </a:solidFill>
                <a:latin typeface="Arial"/>
              </a:rPr>
              <a:t>Warren J. Keegan   Mark C. Green</a:t>
            </a:r>
            <a:endParaRPr b="0" lang="en-US" sz="1600" spc="-1" strike="noStrike">
              <a:solidFill>
                <a:srgbClr val="000000"/>
              </a:solidFill>
              <a:latin typeface="Arial"/>
            </a:endParaRPr>
          </a:p>
        </p:txBody>
      </p:sp>
      <p:sp>
        <p:nvSpPr>
          <p:cNvPr id="593" name="TextBox 144"/>
          <p:cNvSpPr/>
          <p:nvPr/>
        </p:nvSpPr>
        <p:spPr>
          <a:xfrm>
            <a:off x="5192640" y="4351320"/>
            <a:ext cx="3272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Introduction to Global Marketin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00"/>
                </a:solidFill>
                <a:latin typeface="Arial"/>
              </a:rPr>
              <a:t>Chapter 1</a:t>
            </a:r>
            <a:endParaRPr b="0" lang="en-US" sz="2800" spc="-1" strike="noStrike">
              <a:solidFill>
                <a:srgbClr val="000000"/>
              </a:solidFill>
              <a:latin typeface="Arial"/>
            </a:endParaRPr>
          </a:p>
        </p:txBody>
      </p:sp>
      <p:sp>
        <p:nvSpPr>
          <p:cNvPr id="594" name="Rectangle 141"/>
          <p:cNvSpPr/>
          <p:nvPr/>
        </p:nvSpPr>
        <p:spPr>
          <a:xfrm>
            <a:off x="2830320" y="630072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TextBox 1"/>
          <p:cNvSpPr/>
          <p:nvPr/>
        </p:nvSpPr>
        <p:spPr>
          <a:xfrm>
            <a:off x="700200" y="2016000"/>
            <a:ext cx="762948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Arial"/>
              </a:rPr>
              <a:t>Chapter 5</a:t>
            </a:r>
            <a:endParaRPr b="0" lang="en-US" sz="4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c00000"/>
                </a:solidFill>
                <a:latin typeface="Arial"/>
              </a:rPr>
              <a:t>Global Marketing</a:t>
            </a:r>
            <a:endParaRPr b="0" lang="en-US" sz="4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5721C-F575-4B8D-A8C6-EB81AB831653}"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
        <p:nvSpPr>
          <p:cNvPr id="1307" name="PlaceHolder 1"/>
          <p:cNvSpPr>
            <a:spLocks noGrp="1"/>
          </p:cNvSpPr>
          <p:nvPr>
            <p:ph type="title"/>
          </p:nvPr>
        </p:nvSpPr>
        <p:spPr>
          <a:xfrm>
            <a:off x="321840" y="429840"/>
            <a:ext cx="8364600" cy="8794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ternational Marketing Orientation</a:t>
            </a:r>
            <a:endParaRPr b="0" lang="en-US" sz="3600" spc="-1" strike="noStrike">
              <a:solidFill>
                <a:srgbClr val="000000"/>
              </a:solidFill>
              <a:latin typeface="Calibri"/>
            </a:endParaRPr>
          </a:p>
        </p:txBody>
      </p:sp>
      <p:sp>
        <p:nvSpPr>
          <p:cNvPr id="1308" name="PlaceHolder 2"/>
          <p:cNvSpPr>
            <a:spLocks noGrp="1"/>
          </p:cNvSpPr>
          <p:nvPr>
            <p:ph/>
          </p:nvPr>
        </p:nvSpPr>
        <p:spPr>
          <a:xfrm>
            <a:off x="456840" y="1474560"/>
            <a:ext cx="8396280" cy="5087880"/>
          </a:xfrm>
          <a:prstGeom prst="rect">
            <a:avLst/>
          </a:prstGeom>
          <a:solidFill>
            <a:srgbClr val="ffffff"/>
          </a:solidFill>
          <a:ln w="0">
            <a:noFill/>
          </a:ln>
        </p:spPr>
        <p:txBody>
          <a:bodyPr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fferent attitudes towards company’s involvement with international marketing process are called international marketing orientations.</a:t>
            </a:r>
            <a:endParaRPr b="0" lang="en-US" sz="2800" spc="-1" strike="noStrike">
              <a:solidFill>
                <a:srgbClr val="000000"/>
              </a:solidFill>
              <a:latin typeface="Calibri"/>
            </a:endParaRPr>
          </a:p>
          <a:p>
            <a:pPr marL="343080" indent="-34308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Four approaches for International Marketing Orientations: </a:t>
            </a:r>
            <a:endParaRPr b="0" lang="en-US" sz="30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1. Ethno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2. Poly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3. Regio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4. Geocentric  Approach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406080"/>
            <a:ext cx="8229600" cy="102852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ternational Marketing Orientation</a:t>
            </a:r>
            <a:endParaRPr b="0" lang="en-US" sz="3600" spc="-1" strike="noStrike">
              <a:solidFill>
                <a:srgbClr val="000000"/>
              </a:solidFill>
              <a:latin typeface="Calibri"/>
            </a:endParaRPr>
          </a:p>
        </p:txBody>
      </p:sp>
      <p:sp>
        <p:nvSpPr>
          <p:cNvPr id="1310" name=""/>
          <p:cNvSpPr txBox="1"/>
          <p:nvPr/>
        </p:nvSpPr>
        <p:spPr>
          <a:xfrm>
            <a:off x="457200" y="1595520"/>
            <a:ext cx="8229600" cy="4967280"/>
          </a:xfrm>
          <a:prstGeom prst="rect">
            <a:avLst/>
          </a:prstGeom>
          <a:noFill/>
          <a:ln w="9360">
            <a:solidFill>
              <a:srgbClr val="c4bd97"/>
            </a:solidFill>
            <a:miter/>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1. </a:t>
            </a:r>
            <a:r>
              <a:rPr b="1" lang="en-US" sz="3200" spc="-1" strike="noStrike" u="sng">
                <a:solidFill>
                  <a:srgbClr val="ff0000"/>
                </a:solidFill>
                <a:uFillTx/>
                <a:latin typeface="Calibri"/>
                <a:ea typeface="MS PGothic"/>
              </a:rPr>
              <a:t>Ethnocentric Orienta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MS PGothic"/>
              </a:rPr>
              <a:t> </a:t>
            </a:r>
            <a:r>
              <a:rPr b="0" lang="en-US" sz="2800" spc="-1" strike="noStrike">
                <a:solidFill>
                  <a:srgbClr val="000000"/>
                </a:solidFill>
                <a:latin typeface="Calibri"/>
                <a:ea typeface="MS PGothic"/>
              </a:rPr>
              <a:t>Home country is superior to oth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Sees only similarities in other countri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Assumes products and practices that succeed at home will be successful everywhe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ment focus is to do in host countries what is done in the home count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Sometimes called an </a:t>
            </a:r>
            <a:r>
              <a:rPr b="1" i="1" lang="en-US" sz="2800" spc="-1" strike="noStrike">
                <a:solidFill>
                  <a:srgbClr val="000000"/>
                </a:solidFill>
                <a:latin typeface="Calibri"/>
                <a:ea typeface="MS PGothic"/>
              </a:rPr>
              <a:t>international compan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Leads to a </a:t>
            </a:r>
            <a:r>
              <a:rPr b="1" i="1" lang="en-US" sz="2800" spc="-1" strike="noStrike">
                <a:solidFill>
                  <a:srgbClr val="000000"/>
                </a:solidFill>
                <a:latin typeface="Calibri"/>
                <a:ea typeface="MS PGothic"/>
              </a:rPr>
              <a:t>standardized</a:t>
            </a:r>
            <a:r>
              <a:rPr b="0" lang="en-US" sz="2800" spc="-1" strike="noStrike">
                <a:solidFill>
                  <a:srgbClr val="000000"/>
                </a:solidFill>
                <a:latin typeface="Calibri"/>
                <a:ea typeface="MS PGothic"/>
              </a:rPr>
              <a:t>  </a:t>
            </a:r>
            <a:r>
              <a:rPr b="1" i="1" lang="en-US" sz="2800" spc="-1" strike="noStrike">
                <a:solidFill>
                  <a:srgbClr val="000000"/>
                </a:solidFill>
                <a:latin typeface="Calibri"/>
                <a:ea typeface="MS PGothic"/>
              </a:rPr>
              <a:t>approach.</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nternational Marketing Orientation</a:t>
            </a:r>
            <a:endParaRPr b="0" lang="en-US" sz="3200" spc="-1" strike="noStrike">
              <a:solidFill>
                <a:srgbClr val="000000"/>
              </a:solidFill>
              <a:latin typeface="Calibri"/>
            </a:endParaRPr>
          </a:p>
        </p:txBody>
      </p:sp>
      <p:sp>
        <p:nvSpPr>
          <p:cNvPr id="1312" name=""/>
          <p:cNvSpPr txBox="1"/>
          <p:nvPr/>
        </p:nvSpPr>
        <p:spPr>
          <a:xfrm>
            <a:off x="457200" y="1703160"/>
            <a:ext cx="8229600" cy="48942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2 . </a:t>
            </a:r>
            <a:r>
              <a:rPr b="1" lang="en-US" sz="3200" spc="-1" strike="noStrike" u="sng">
                <a:solidFill>
                  <a:srgbClr val="ff0000"/>
                </a:solidFill>
                <a:uFillTx/>
                <a:latin typeface="Calibri"/>
                <a:ea typeface="MS PGothic"/>
              </a:rPr>
              <a:t>Polycentric Orien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Each country is uniqu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Leads to a </a:t>
            </a:r>
            <a:r>
              <a:rPr b="0" i="1" lang="en-US" sz="2800" spc="-1" strike="noStrike">
                <a:solidFill>
                  <a:srgbClr val="000000"/>
                </a:solidFill>
                <a:latin typeface="Calibri"/>
                <a:ea typeface="MS PGothic"/>
              </a:rPr>
              <a:t>localized or adaptation</a:t>
            </a:r>
            <a:r>
              <a:rPr b="0" lang="en-US" sz="2800" spc="-1" strike="noStrike">
                <a:solidFill>
                  <a:srgbClr val="000000"/>
                </a:solidFill>
                <a:latin typeface="Calibri"/>
                <a:ea typeface="MS PGothic"/>
              </a:rPr>
              <a:t> </a:t>
            </a:r>
            <a:r>
              <a:rPr b="0" i="1" lang="en-US" sz="2800" spc="-1" strike="noStrike">
                <a:solidFill>
                  <a:srgbClr val="000000"/>
                </a:solidFill>
                <a:latin typeface="Calibri"/>
                <a:ea typeface="MS PGothic"/>
              </a:rPr>
              <a:t>approach </a:t>
            </a:r>
            <a:r>
              <a:rPr b="0" lang="en-US" sz="2800" spc="-1" strike="noStrike">
                <a:solidFill>
                  <a:srgbClr val="000000"/>
                </a:solidFill>
                <a:latin typeface="Calibri"/>
                <a:ea typeface="MS PGothic"/>
              </a:rPr>
              <a:t>that assumes products must be adapted to local market cond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ny operates differently in each host country based on that situ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times called </a:t>
            </a:r>
            <a:r>
              <a:rPr b="1" i="1" lang="en-US" sz="2800" spc="-1" strike="noStrike">
                <a:solidFill>
                  <a:srgbClr val="000000"/>
                </a:solidFill>
                <a:latin typeface="Calibri"/>
              </a:rPr>
              <a:t>a multinational compan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430200"/>
            <a:ext cx="8229600" cy="11476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br>
              <a:rPr sz="3600"/>
            </a:br>
            <a:r>
              <a:rPr b="1" lang="en-US" sz="2400" spc="-1" strike="noStrike">
                <a:solidFill>
                  <a:srgbClr val="000000"/>
                </a:solidFill>
                <a:latin typeface="Calibri"/>
              </a:rPr>
              <a:t>continued………….</a:t>
            </a:r>
            <a:endParaRPr b="0" lang="en-US" sz="2400" spc="-1" strike="noStrike">
              <a:solidFill>
                <a:srgbClr val="000000"/>
              </a:solidFill>
              <a:latin typeface="Calibri"/>
            </a:endParaRPr>
          </a:p>
        </p:txBody>
      </p:sp>
      <p:sp>
        <p:nvSpPr>
          <p:cNvPr id="1314" name=""/>
          <p:cNvSpPr txBox="1"/>
          <p:nvPr/>
        </p:nvSpPr>
        <p:spPr>
          <a:xfrm>
            <a:off x="321840" y="1828440"/>
            <a:ext cx="8364600" cy="4660920"/>
          </a:xfrm>
          <a:prstGeom prst="rect">
            <a:avLst/>
          </a:prstGeom>
          <a:noFill/>
          <a:ln w="0">
            <a:noFill/>
          </a:ln>
        </p:spPr>
        <p:txBody>
          <a:bodyPr anchor="t">
            <a:normAutofit fontScale="87000"/>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ea typeface="MS PGothic"/>
              </a:rPr>
              <a:t>3. </a:t>
            </a:r>
            <a:r>
              <a:rPr b="1" lang="en-US" sz="3000" spc="-1" strike="noStrike" u="sng">
                <a:solidFill>
                  <a:srgbClr val="ff0000"/>
                </a:solidFill>
                <a:uFillTx/>
                <a:latin typeface="Calibri"/>
                <a:ea typeface="MS PGothic"/>
              </a:rPr>
              <a:t>Regiocentric Orientation:</a:t>
            </a:r>
            <a:endParaRPr b="0" lang="en-US" sz="3000" spc="-1" strike="noStrike">
              <a:solidFill>
                <a:srgbClr val="000000"/>
              </a:solidFill>
              <a:latin typeface="Calibri"/>
            </a:endParaRPr>
          </a:p>
          <a:p>
            <a:pPr lvl="1" marL="646200" indent="-2484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Region becomes the relevant geographic unit (rather than by country)</a:t>
            </a:r>
            <a:endParaRPr b="0" lang="en-US" sz="2800" spc="-1" strike="noStrike">
              <a:solidFill>
                <a:srgbClr val="000000"/>
              </a:solidFill>
              <a:latin typeface="Calibri"/>
            </a:endParaRPr>
          </a:p>
          <a:p>
            <a:pPr lvl="2" marL="994320" indent="-198720">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ea typeface="MS PGothic"/>
              </a:rPr>
              <a:t>Ex:</a:t>
            </a:r>
            <a:r>
              <a:rPr b="0" lang="en-US" sz="2800" spc="-1" strike="noStrike">
                <a:solidFill>
                  <a:srgbClr val="000000"/>
                </a:solidFill>
                <a:latin typeface="Calibri"/>
                <a:ea typeface="MS PGothic"/>
              </a:rPr>
              <a:t> The NAFTA or European Union market.</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Some companies serve markets on a regional basis.</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European Union </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NAFTA</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Gulf Cooperation Council (GCC)</a:t>
            </a:r>
            <a:endParaRPr b="0" lang="en-US" sz="2800" spc="-1" strike="noStrike">
              <a:solidFill>
                <a:srgbClr val="000000"/>
              </a:solidFill>
              <a:latin typeface="Calibri"/>
            </a:endParaRPr>
          </a:p>
          <a:p>
            <a:pPr lvl="1" marL="646200" indent="-248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447840"/>
            <a:ext cx="8229600" cy="11476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endParaRPr b="0" lang="en-US" sz="3600" spc="-1" strike="noStrike">
              <a:solidFill>
                <a:srgbClr val="000000"/>
              </a:solidFill>
              <a:latin typeface="Calibri"/>
            </a:endParaRPr>
          </a:p>
        </p:txBody>
      </p:sp>
      <p:sp>
        <p:nvSpPr>
          <p:cNvPr id="1316" name=""/>
          <p:cNvSpPr txBox="1"/>
          <p:nvPr/>
        </p:nvSpPr>
        <p:spPr>
          <a:xfrm>
            <a:off x="457200" y="1757520"/>
            <a:ext cx="8229600" cy="4714560"/>
          </a:xfrm>
          <a:prstGeom prst="rect">
            <a:avLst/>
          </a:prstGeom>
          <a:noFill/>
          <a:ln w="0">
            <a:noFill/>
          </a:ln>
        </p:spPr>
        <p:txBody>
          <a:bodyPr anchor="t">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4. </a:t>
            </a:r>
            <a:r>
              <a:rPr b="1" lang="en-US" sz="3200" spc="-1" strike="noStrike" u="sng">
                <a:solidFill>
                  <a:srgbClr val="ff0000"/>
                </a:solidFill>
                <a:uFillTx/>
                <a:latin typeface="Calibri"/>
                <a:ea typeface="MS PGothic"/>
              </a:rPr>
              <a:t>Geocentric Orientation:</a:t>
            </a:r>
            <a:endParaRPr b="0" lang="en-US" sz="3200" spc="-1" strike="noStrike">
              <a:solidFill>
                <a:srgbClr val="000000"/>
              </a:solidFill>
              <a:latin typeface="Calibri"/>
            </a:endParaRPr>
          </a:p>
          <a:p>
            <a:pPr>
              <a:lnSpc>
                <a:spcPct val="90000"/>
              </a:lnSpc>
              <a:spcBef>
                <a:spcPts val="3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Entire world is a potential market</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Also known as a </a:t>
            </a:r>
            <a:r>
              <a:rPr b="1" i="1" lang="en-US" sz="3000" spc="-1" strike="noStrike">
                <a:solidFill>
                  <a:srgbClr val="000000"/>
                </a:solidFill>
                <a:latin typeface="Calibri"/>
                <a:ea typeface="MS PGothic"/>
              </a:rPr>
              <a:t>global company</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Retains an relationship with the headquarters country</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Leads to a combination of </a:t>
            </a:r>
            <a:r>
              <a:rPr b="1" i="1" lang="en-US" sz="3000" spc="-1" strike="noStrike">
                <a:solidFill>
                  <a:srgbClr val="000000"/>
                </a:solidFill>
                <a:latin typeface="Calibri"/>
                <a:ea typeface="MS PGothic"/>
              </a:rPr>
              <a:t>extension and adaptation elements.</a:t>
            </a:r>
            <a:endParaRPr b="0" lang="en-US" sz="3000" spc="-1" strike="noStrike">
              <a:solidFill>
                <a:srgbClr val="000000"/>
              </a:solidFill>
              <a:latin typeface="Calibri"/>
            </a:endParaRPr>
          </a:p>
          <a:p>
            <a:pPr>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812520" y="392040"/>
            <a:ext cx="7475400" cy="7984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1. Products </a:t>
            </a:r>
            <a:endParaRPr b="0" lang="en-US" sz="3600" spc="-1" strike="noStrike">
              <a:solidFill>
                <a:srgbClr val="000000"/>
              </a:solidFill>
              <a:latin typeface="Calibri"/>
            </a:endParaRPr>
          </a:p>
        </p:txBody>
      </p:sp>
      <p:sp>
        <p:nvSpPr>
          <p:cNvPr id="1318" name=""/>
          <p:cNvSpPr txBox="1"/>
          <p:nvPr/>
        </p:nvSpPr>
        <p:spPr>
          <a:xfrm>
            <a:off x="456840" y="1422360"/>
            <a:ext cx="8304120" cy="4950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1" i="1" lang="en-US" sz="2800" spc="-1" strike="noStrike" u="sng">
                <a:solidFill>
                  <a:srgbClr val="000000"/>
                </a:solidFill>
                <a:uFillTx/>
                <a:latin typeface="Calibri"/>
              </a:rPr>
              <a:t>Globalization </a:t>
            </a:r>
            <a:r>
              <a:rPr b="1" i="1" lang="en-US" sz="2800" spc="-1" strike="noStrike" u="sng">
                <a:solidFill>
                  <a:srgbClr val="ff0000"/>
                </a:solidFill>
                <a:uFillTx/>
                <a:latin typeface="Calibri"/>
              </a:rPr>
              <a:t>or</a:t>
            </a:r>
            <a:r>
              <a:rPr b="1" i="1" lang="en-US" sz="2800" spc="-1" strike="noStrike" u="sng">
                <a:solidFill>
                  <a:srgbClr val="000000"/>
                </a:solidFill>
                <a:uFillTx/>
                <a:latin typeface="Calibri"/>
              </a:rPr>
              <a:t>  Global Localization: </a:t>
            </a:r>
            <a:endParaRPr b="0" lang="en-US" sz="2800" spc="-1" strike="noStrike">
              <a:solidFill>
                <a:srgbClr val="000000"/>
              </a:solidFill>
              <a:latin typeface="Calibri"/>
            </a:endParaRPr>
          </a:p>
          <a:p>
            <a:pPr marL="343080" indent="-343080">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Globalization (Standardization):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Developing standardized products marketed worldwide with a standardized marketing mix</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Principle of mass marketing.</a:t>
            </a:r>
            <a:endParaRPr b="0" lang="en-US" sz="26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Global localization (Adaptation):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Mixing standardization and customization in a way that minimizes costs while maximizing satisfac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Calibri"/>
                <a:ea typeface="MS PGothic"/>
              </a:rPr>
              <a:t>Think globally, act local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Footer Placeholder 4"/>
          <p:cNvSpPr/>
          <p:nvPr/>
        </p:nvSpPr>
        <p:spPr>
          <a:xfrm>
            <a:off x="1752480" y="6489720"/>
            <a:ext cx="556272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Times New Roman"/>
              </a:rPr>
              <a:t>Copyright © 2011 Pearson Educatio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ea typeface="Times New Roman"/>
              </a:rPr>
              <a:t>16-</a:t>
            </a:r>
            <a:fld id="{23C02B29-84E6-4E01-84D6-7EDB4D3EA1BE}"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21" name="PlaceHolder 1"/>
          <p:cNvSpPr>
            <a:spLocks noGrp="1"/>
          </p:cNvSpPr>
          <p:nvPr>
            <p:ph type="title"/>
          </p:nvPr>
        </p:nvSpPr>
        <p:spPr>
          <a:xfrm>
            <a:off x="457200" y="479520"/>
            <a:ext cx="8229600" cy="938160"/>
          </a:xfrm>
          <a:prstGeom prst="rect">
            <a:avLst/>
          </a:prstGeom>
          <a:solidFill>
            <a:srgbClr val="f2f2f2"/>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Why Firms Modify Products</a:t>
            </a:r>
            <a:endParaRPr b="0" lang="en-US" sz="3600" spc="-1" strike="noStrike">
              <a:solidFill>
                <a:srgbClr val="000000"/>
              </a:solidFill>
              <a:latin typeface="Calibri"/>
            </a:endParaRPr>
          </a:p>
        </p:txBody>
      </p:sp>
      <p:sp>
        <p:nvSpPr>
          <p:cNvPr id="1322" name="PlaceHolder 2"/>
          <p:cNvSpPr>
            <a:spLocks noGrp="1"/>
          </p:cNvSpPr>
          <p:nvPr>
            <p:ph/>
          </p:nvPr>
        </p:nvSpPr>
        <p:spPr>
          <a:xfrm>
            <a:off x="457200" y="1726920"/>
            <a:ext cx="8229600" cy="4762440"/>
          </a:xfrm>
          <a:prstGeom prst="rect">
            <a:avLst/>
          </a:prstGeom>
          <a:solidFill>
            <a:srgbClr val="ffffff"/>
          </a:solidFill>
          <a:ln w="0">
            <a:noFill/>
          </a:ln>
        </p:spPr>
        <p:txBody>
          <a:bodyPr anchor="t">
            <a:normAutofit/>
          </a:bodyPr>
          <a:p>
            <a:pPr marL="507960" indent="0">
              <a:lnSpc>
                <a:spcPct val="100000"/>
              </a:lnSpc>
              <a:spcBef>
                <a:spcPts val="799"/>
              </a:spcBef>
              <a:buNone/>
              <a:tabLst>
                <a:tab algn="l" pos="0"/>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200" spc="-1" strike="noStrike">
                <a:solidFill>
                  <a:srgbClr val="000000"/>
                </a:solidFill>
                <a:latin typeface="Arial"/>
              </a:rPr>
              <a:t>  </a:t>
            </a:r>
            <a:r>
              <a:rPr b="0" i="1" lang="en-US" sz="3200" spc="-1" strike="noStrike">
                <a:solidFill>
                  <a:srgbClr val="ff0000"/>
                </a:solidFill>
                <a:latin typeface="Arial"/>
              </a:rPr>
              <a:t>Firms modify products for the following reasons ? </a:t>
            </a:r>
            <a:endParaRPr b="0" lang="en-US" sz="32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Legal Considerations: </a:t>
            </a:r>
            <a:endParaRPr b="0" lang="en-US" sz="3200" spc="-1" strike="noStrike">
              <a:solidFill>
                <a:srgbClr val="000000"/>
              </a:solidFill>
              <a:latin typeface="Calibri"/>
            </a:endParaRPr>
          </a:p>
          <a:p>
            <a:pPr marL="507960" indent="-392040">
              <a:lnSpc>
                <a:spcPct val="100000"/>
              </a:lnSpc>
              <a:spcBef>
                <a:spcPts val="601"/>
              </a:spcBef>
              <a:buClr>
                <a:srgbClr val="000000"/>
              </a:buClr>
              <a:buFont typeface="Wingdings" charset="2"/>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Legal factors are usually related to safety or health protection.</a:t>
            </a:r>
            <a:endParaRPr b="0" lang="en-US" sz="24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ultural Considerations</a:t>
            </a:r>
            <a:endParaRPr b="0" lang="en-US" sz="32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Economic Considerations</a:t>
            </a:r>
            <a:endParaRPr b="0" lang="en-US" sz="3200" spc="-1" strike="noStrike">
              <a:solidFill>
                <a:srgbClr val="000000"/>
              </a:solidFill>
              <a:latin typeface="Calibri"/>
            </a:endParaRPr>
          </a:p>
          <a:p>
            <a:pPr marL="507960" indent="-392040">
              <a:lnSpc>
                <a:spcPct val="100000"/>
              </a:lnSpc>
              <a:spcBef>
                <a:spcPts val="601"/>
              </a:spcBef>
              <a:buClr>
                <a:srgbClr val="000000"/>
              </a:buClr>
              <a:buFont typeface="Wingdings" charset="2"/>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Personal incomes and infrastructures affect product demand.</a:t>
            </a:r>
            <a:endParaRPr b="0" lang="en-US" sz="2400" spc="-1" strike="noStrike">
              <a:solidFill>
                <a:srgbClr val="000000"/>
              </a:solidFill>
              <a:latin typeface="Calibri"/>
            </a:endParaRPr>
          </a:p>
          <a:p>
            <a:pPr marL="507960" indent="0">
              <a:lnSpc>
                <a:spcPct val="100000"/>
              </a:lnSpc>
              <a:spcBef>
                <a:spcPts val="601"/>
              </a:spcBef>
              <a:buNone/>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378000"/>
            <a:ext cx="8229600" cy="10396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2. Prices </a:t>
            </a:r>
            <a:endParaRPr b="0" lang="en-US" sz="4400" spc="-1" strike="noStrike">
              <a:solidFill>
                <a:srgbClr val="000000"/>
              </a:solidFill>
              <a:latin typeface="Calibri"/>
            </a:endParaRPr>
          </a:p>
        </p:txBody>
      </p:sp>
      <p:sp>
        <p:nvSpPr>
          <p:cNvPr id="1324" name=""/>
          <p:cNvSpPr txBox="1"/>
          <p:nvPr/>
        </p:nvSpPr>
        <p:spPr>
          <a:xfrm>
            <a:off x="457200" y="1600200"/>
            <a:ext cx="8354880" cy="4751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1" i="1" lang="en-US" sz="3200" spc="-1" strike="noStrike" u="sng">
                <a:solidFill>
                  <a:srgbClr val="ff0000"/>
                </a:solidFill>
                <a:uFillTx/>
                <a:latin typeface="Calibri"/>
              </a:rPr>
              <a:t>Potential Problems in International Pric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overnment inter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Market divers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Export price incr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xed versus variable pric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Relations with supplier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420840"/>
            <a:ext cx="8229600" cy="88560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3. Distribution</a:t>
            </a:r>
            <a:endParaRPr b="0" lang="en-US" sz="3600" spc="-1" strike="noStrike">
              <a:solidFill>
                <a:srgbClr val="000000"/>
              </a:solidFill>
              <a:latin typeface="Calibri"/>
            </a:endParaRPr>
          </a:p>
        </p:txBody>
      </p:sp>
      <p:sp>
        <p:nvSpPr>
          <p:cNvPr id="1326" name=""/>
          <p:cNvSpPr txBox="1"/>
          <p:nvPr/>
        </p:nvSpPr>
        <p:spPr>
          <a:xfrm>
            <a:off x="457200" y="1480680"/>
            <a:ext cx="8229600" cy="5079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 international marketing, a company must decide on the method of distribution </a:t>
            </a:r>
            <a:r>
              <a:rPr b="0" lang="en-US" sz="2800" spc="-1" strike="noStrike" u="sng">
                <a:solidFill>
                  <a:srgbClr val="ff0000"/>
                </a:solidFill>
                <a:uFillTx/>
                <a:latin typeface="Calibri"/>
              </a:rPr>
              <a:t>among countries </a:t>
            </a:r>
            <a:r>
              <a:rPr b="0" lang="en-US" sz="2800" spc="-1" strike="noStrike">
                <a:solidFill>
                  <a:srgbClr val="000000"/>
                </a:solidFill>
                <a:latin typeface="Calibri"/>
              </a:rPr>
              <a:t>as well as the method </a:t>
            </a:r>
            <a:r>
              <a:rPr b="0" lang="en-US" sz="2800" spc="-1" strike="noStrike" u="sng">
                <a:solidFill>
                  <a:srgbClr val="ff0000"/>
                </a:solidFill>
                <a:uFillTx/>
                <a:latin typeface="Calibri"/>
              </a:rPr>
              <a:t>within the country</a:t>
            </a:r>
            <a:r>
              <a:rPr b="0" lang="en-US" sz="2800" spc="-1" strike="noStrike" u="sng">
                <a:solidFill>
                  <a:srgbClr val="000000"/>
                </a:solidFill>
                <a:uFillTx/>
                <a:latin typeface="Calibri"/>
              </a:rPr>
              <a:t> </a:t>
            </a:r>
            <a:r>
              <a:rPr b="0" lang="en-US" sz="2800" spc="-1" strike="noStrike">
                <a:solidFill>
                  <a:srgbClr val="000000"/>
                </a:solidFill>
                <a:latin typeface="Calibri"/>
              </a:rPr>
              <a:t>where final sale occu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in the marketing mix, International companies  find distribution one of the most difficult functions to standardize internationally for several reasons. Each country has its own distribution system, which an International company  finds difficult to modify because it is interlinked with the country’s cultural, economic, and legal environm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Footer Placeholder 4"/>
          <p:cNvSpPr/>
          <p:nvPr/>
        </p:nvSpPr>
        <p:spPr>
          <a:xfrm>
            <a:off x="1752480" y="6489720"/>
            <a:ext cx="556272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Times New Roman"/>
              </a:rPr>
              <a:t>Copyright © 2011 Pearson Educatio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ea typeface="Times New Roman"/>
              </a:rPr>
              <a:t>16-</a:t>
            </a:r>
            <a:fld id="{4AC5F907-4B63-4DB5-B91D-F0E092D1719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29" name="PlaceHolder 1"/>
          <p:cNvSpPr>
            <a:spLocks noGrp="1"/>
          </p:cNvSpPr>
          <p:nvPr>
            <p:ph type="title"/>
          </p:nvPr>
        </p:nvSpPr>
        <p:spPr>
          <a:xfrm>
            <a:off x="457200" y="493560"/>
            <a:ext cx="8229600" cy="827280"/>
          </a:xfrm>
          <a:prstGeom prst="rect">
            <a:avLst/>
          </a:prstGeom>
          <a:solidFill>
            <a:srgbClr val="f2f2f2"/>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Qualifying Distributors</a:t>
            </a:r>
            <a:endParaRPr b="0" lang="en-US" sz="3600" spc="-1" strike="noStrike">
              <a:solidFill>
                <a:srgbClr val="000000"/>
              </a:solidFill>
              <a:latin typeface="Calibri"/>
            </a:endParaRPr>
          </a:p>
        </p:txBody>
      </p:sp>
      <p:sp>
        <p:nvSpPr>
          <p:cNvPr id="1330" name="PlaceHolder 2"/>
          <p:cNvSpPr>
            <a:spLocks noGrp="1"/>
          </p:cNvSpPr>
          <p:nvPr>
            <p:ph/>
          </p:nvPr>
        </p:nvSpPr>
        <p:spPr>
          <a:xfrm>
            <a:off x="457200" y="1600200"/>
            <a:ext cx="8229600" cy="4756320"/>
          </a:xfrm>
          <a:prstGeom prst="rect">
            <a:avLst/>
          </a:prstGeom>
          <a:noFill/>
          <a:ln w="0">
            <a:noFill/>
          </a:ln>
        </p:spPr>
        <p:txBody>
          <a:bodyPr anchor="t">
            <a:normAutofit/>
          </a:bodyPr>
          <a:p>
            <a:pPr marL="3430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ff0000"/>
                </a:solidFill>
                <a:latin typeface="Arial"/>
              </a:rPr>
              <a:t>Some evaluation criteria for distributors include the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nancial capabi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nnections with custom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t with a company’s produc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Other resourc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rustworthine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mpatibility with product image</a:t>
            </a:r>
            <a:endParaRPr b="0" lang="en-US" sz="2800" spc="-1" strike="noStrike">
              <a:solidFill>
                <a:srgbClr val="000000"/>
              </a:solidFill>
              <a:latin typeface="Calibri"/>
            </a:endParaRPr>
          </a:p>
          <a:p>
            <a:pPr marL="34308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401760"/>
            <a:ext cx="8229600" cy="1009440"/>
          </a:xfrm>
          <a:prstGeom prst="rect">
            <a:avLst/>
          </a:prstGeom>
          <a:solidFill>
            <a:srgbClr val="f2f2f2"/>
          </a:solid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t>
            </a:r>
            <a:endParaRPr b="0" lang="en-US" sz="4400" spc="-1" strike="noStrike">
              <a:solidFill>
                <a:srgbClr val="000000"/>
              </a:solidFill>
              <a:latin typeface="Calibri"/>
            </a:endParaRPr>
          </a:p>
        </p:txBody>
      </p:sp>
      <p:pic>
        <p:nvPicPr>
          <p:cNvPr id="1284" name="Picture 2" descr=""/>
          <p:cNvPicPr/>
          <p:nvPr/>
        </p:nvPicPr>
        <p:blipFill>
          <a:blip r:embed="rId1"/>
          <a:stretch/>
        </p:blipFill>
        <p:spPr>
          <a:xfrm>
            <a:off x="438120" y="1859040"/>
            <a:ext cx="3848040" cy="8370720"/>
          </a:xfrm>
          <a:prstGeom prst="rect">
            <a:avLst/>
          </a:prstGeom>
          <a:ln w="0">
            <a:noFill/>
          </a:ln>
        </p:spPr>
      </p:pic>
      <p:pic>
        <p:nvPicPr>
          <p:cNvPr id="1285" name="Picture 3" descr=""/>
          <p:cNvPicPr/>
          <p:nvPr/>
        </p:nvPicPr>
        <p:blipFill>
          <a:blip r:embed="rId2"/>
          <a:stretch/>
        </p:blipFill>
        <p:spPr>
          <a:xfrm>
            <a:off x="4572000" y="1917720"/>
            <a:ext cx="3451320" cy="338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544320" y="422280"/>
            <a:ext cx="8032680" cy="10144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4. Promotional Mix</a:t>
            </a:r>
            <a:endParaRPr b="0" lang="en-US" sz="3600" spc="-1" strike="noStrike">
              <a:solidFill>
                <a:srgbClr val="000000"/>
              </a:solidFill>
              <a:latin typeface="Calibri"/>
            </a:endParaRPr>
          </a:p>
        </p:txBody>
      </p:sp>
      <p:sp>
        <p:nvSpPr>
          <p:cNvPr id="1332" name="PlaceHolder 2"/>
          <p:cNvSpPr>
            <a:spLocks noGrp="1"/>
          </p:cNvSpPr>
          <p:nvPr>
            <p:ph/>
          </p:nvPr>
        </p:nvSpPr>
        <p:spPr>
          <a:xfrm>
            <a:off x="668160" y="1785960"/>
            <a:ext cx="7445520" cy="400536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0000"/>
                </a:solidFill>
                <a:latin typeface="Calibri"/>
              </a:rPr>
              <a:t> </a:t>
            </a:r>
            <a:r>
              <a:rPr b="1" i="1" lang="en-US" sz="3200" spc="-1" strike="noStrike">
                <a:solidFill>
                  <a:srgbClr val="ff0000"/>
                </a:solidFill>
                <a:latin typeface="Calibri"/>
              </a:rPr>
              <a:t>I</a:t>
            </a:r>
            <a:r>
              <a:rPr b="1" i="1" lang="en-US" sz="3200" spc="-1" strike="noStrike" u="sng">
                <a:solidFill>
                  <a:srgbClr val="ff0000"/>
                </a:solidFill>
                <a:uFillTx/>
                <a:latin typeface="Calibri"/>
              </a:rPr>
              <a:t>nternational Promotional Mi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verti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sonal s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ales Promo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blic Relations</a:t>
            </a:r>
            <a:endParaRPr b="0" lang="en-US" sz="3200" spc="-1" strike="noStrike">
              <a:solidFill>
                <a:srgbClr val="000000"/>
              </a:solidFill>
              <a:latin typeface="Calibri"/>
            </a:endParaRPr>
          </a:p>
        </p:txBody>
      </p:sp>
      <p:sp>
        <p:nvSpPr>
          <p:cNvPr id="1333" name="Freeform 4"/>
          <p:cNvSpPr/>
          <p:nvPr/>
        </p:nvSpPr>
        <p:spPr>
          <a:xfrm>
            <a:off x="1670040" y="3290760"/>
            <a:ext cx="1014480" cy="1157400"/>
          </a:xfrm>
          <a:custGeom>
            <a:avLst/>
            <a:gdLst/>
            <a:ahLst/>
            <a:rect l="l" t="t" r="r" b="b"/>
            <a:pathLst>
              <a:path w="1597" h="1822">
                <a:moveTo>
                  <a:pt x="439" y="1737"/>
                </a:moveTo>
                <a:lnTo>
                  <a:pt x="332" y="1308"/>
                </a:lnTo>
                <a:lnTo>
                  <a:pt x="363" y="1050"/>
                </a:lnTo>
                <a:lnTo>
                  <a:pt x="0" y="794"/>
                </a:lnTo>
                <a:lnTo>
                  <a:pt x="52" y="536"/>
                </a:lnTo>
                <a:lnTo>
                  <a:pt x="116" y="320"/>
                </a:lnTo>
                <a:lnTo>
                  <a:pt x="493" y="138"/>
                </a:lnTo>
                <a:lnTo>
                  <a:pt x="932" y="0"/>
                </a:lnTo>
                <a:lnTo>
                  <a:pt x="1212" y="22"/>
                </a:lnTo>
                <a:lnTo>
                  <a:pt x="1575" y="161"/>
                </a:lnTo>
                <a:lnTo>
                  <a:pt x="1597" y="472"/>
                </a:lnTo>
                <a:lnTo>
                  <a:pt x="1523" y="998"/>
                </a:lnTo>
                <a:lnTo>
                  <a:pt x="1264" y="1083"/>
                </a:lnTo>
                <a:lnTo>
                  <a:pt x="1146" y="1083"/>
                </a:lnTo>
                <a:lnTo>
                  <a:pt x="868" y="1223"/>
                </a:lnTo>
                <a:lnTo>
                  <a:pt x="761" y="1436"/>
                </a:lnTo>
                <a:lnTo>
                  <a:pt x="719" y="1609"/>
                </a:lnTo>
                <a:lnTo>
                  <a:pt x="472" y="1822"/>
                </a:lnTo>
                <a:lnTo>
                  <a:pt x="439" y="173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Freeform 5"/>
          <p:cNvSpPr/>
          <p:nvPr/>
        </p:nvSpPr>
        <p:spPr>
          <a:xfrm>
            <a:off x="1519200" y="2139840"/>
            <a:ext cx="333360" cy="108000"/>
          </a:xfrm>
          <a:custGeom>
            <a:avLst/>
            <a:gdLst/>
            <a:ahLst/>
            <a:rect l="l" t="t" r="r" b="b"/>
            <a:pathLst>
              <a:path w="526" h="171">
                <a:moveTo>
                  <a:pt x="0" y="31"/>
                </a:moveTo>
                <a:lnTo>
                  <a:pt x="374" y="0"/>
                </a:lnTo>
                <a:lnTo>
                  <a:pt x="526" y="31"/>
                </a:lnTo>
                <a:lnTo>
                  <a:pt x="450" y="171"/>
                </a:lnTo>
                <a:lnTo>
                  <a:pt x="225" y="107"/>
                </a:lnTo>
                <a:lnTo>
                  <a:pt x="76" y="116"/>
                </a:lnTo>
                <a:lnTo>
                  <a:pt x="0" y="3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Rectangle 6"/>
          <p:cNvSpPr/>
          <p:nvPr/>
        </p:nvSpPr>
        <p:spPr>
          <a:xfrm>
            <a:off x="0" y="159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6" name="Rectangle 7"/>
          <p:cNvSpPr/>
          <p:nvPr/>
        </p:nvSpPr>
        <p:spPr>
          <a:xfrm>
            <a:off x="0" y="1593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32">
                                            <p:txEl>
                                              <p:pRg st="0" end="0"/>
                                            </p:txEl>
                                          </p:spTgt>
                                        </p:tgtEl>
                                        <p:attrNameLst>
                                          <p:attrName>style.visibility</p:attrName>
                                        </p:attrNameLst>
                                      </p:cBhvr>
                                      <p:to>
                                        <p:strVal val="visible"/>
                                      </p:to>
                                    </p:set>
                                    <p:anim calcmode="lin" valueType="num">
                                      <p:cBhvr additive="base">
                                        <p:cTn id="7" dur="500" fill="hold"/>
                                        <p:tgtEl>
                                          <p:spTgt spid="13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32">
                                            <p:txEl>
                                              <p:pRg st="1" end="1"/>
                                            </p:txEl>
                                          </p:spTgt>
                                        </p:tgtEl>
                                        <p:attrNameLst>
                                          <p:attrName>style.visibility</p:attrName>
                                        </p:attrNameLst>
                                      </p:cBhvr>
                                      <p:to>
                                        <p:strVal val="visible"/>
                                      </p:to>
                                    </p:set>
                                    <p:anim calcmode="lin" valueType="num">
                                      <p:cBhvr additive="base">
                                        <p:cTn id="13" dur="500" fill="hold"/>
                                        <p:tgtEl>
                                          <p:spTgt spid="133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32">
                                            <p:txEl>
                                              <p:pRg st="2" end="2"/>
                                            </p:txEl>
                                          </p:spTgt>
                                        </p:tgtEl>
                                        <p:attrNameLst>
                                          <p:attrName>style.visibility</p:attrName>
                                        </p:attrNameLst>
                                      </p:cBhvr>
                                      <p:to>
                                        <p:strVal val="visible"/>
                                      </p:to>
                                    </p:set>
                                    <p:anim calcmode="lin" valueType="num">
                                      <p:cBhvr additive="base">
                                        <p:cTn id="19" dur="500" fill="hold"/>
                                        <p:tgtEl>
                                          <p:spTgt spid="133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32">
                                            <p:txEl>
                                              <p:pRg st="3" end="3"/>
                                            </p:txEl>
                                          </p:spTgt>
                                        </p:tgtEl>
                                        <p:attrNameLst>
                                          <p:attrName>style.visibility</p:attrName>
                                        </p:attrNameLst>
                                      </p:cBhvr>
                                      <p:to>
                                        <p:strVal val="visible"/>
                                      </p:to>
                                    </p:set>
                                    <p:anim calcmode="lin" valueType="num">
                                      <p:cBhvr additive="base">
                                        <p:cTn id="25" dur="500" fill="hold"/>
                                        <p:tgtEl>
                                          <p:spTgt spid="133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32">
                                            <p:txEl>
                                              <p:pRg st="4" end="4"/>
                                            </p:txEl>
                                          </p:spTgt>
                                        </p:tgtEl>
                                        <p:attrNameLst>
                                          <p:attrName>style.visibility</p:attrName>
                                        </p:attrNameLst>
                                      </p:cBhvr>
                                      <p:to>
                                        <p:strVal val="visible"/>
                                      </p:to>
                                    </p:set>
                                    <p:anim calcmode="lin" valueType="num">
                                      <p:cBhvr additive="base">
                                        <p:cTn id="31" dur="500" fill="hold"/>
                                        <p:tgtEl>
                                          <p:spTgt spid="133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336600"/>
            <a:ext cx="8229600" cy="9460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What is  Marketing ? </a:t>
            </a:r>
            <a:endParaRPr b="0" lang="en-US" sz="3600" spc="-1" strike="noStrike">
              <a:solidFill>
                <a:srgbClr val="000000"/>
              </a:solidFill>
              <a:latin typeface="Calibri"/>
            </a:endParaRPr>
          </a:p>
        </p:txBody>
      </p:sp>
      <p:sp>
        <p:nvSpPr>
          <p:cNvPr id="1287" name=""/>
          <p:cNvSpPr txBox="1"/>
          <p:nvPr/>
        </p:nvSpPr>
        <p:spPr>
          <a:xfrm>
            <a:off x="457200" y="1539720"/>
            <a:ext cx="8229600" cy="4973760"/>
          </a:xfrm>
          <a:prstGeom prst="rect">
            <a:avLst/>
          </a:prstGeom>
          <a:noFill/>
          <a:ln w="0">
            <a:noFill/>
          </a:ln>
        </p:spPr>
        <p:txBody>
          <a:bodyPr lIns="90000" rIns="90000" tIns="46800" bIns="46800" anchor="t">
            <a:normAutofit fontScale="88000"/>
          </a:bodyPr>
          <a:p>
            <a:pPr marL="301680" indent="-301680">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Marketing  :</a:t>
            </a:r>
            <a:r>
              <a:rPr b="0" lang="en-US" sz="2800" spc="-1" strike="noStrike">
                <a:solidFill>
                  <a:srgbClr val="000000"/>
                </a:solidFill>
                <a:latin typeface="Calibri"/>
              </a:rPr>
              <a:t> </a:t>
            </a:r>
            <a:r>
              <a:rPr b="0" lang="en-US" sz="2700" spc="-1" strike="noStrike">
                <a:solidFill>
                  <a:srgbClr val="000000"/>
                </a:solidFill>
                <a:latin typeface="Calibri"/>
              </a:rPr>
              <a:t>The management process through which goods and services move from producer or seller  to the customer. </a:t>
            </a:r>
            <a:r>
              <a:rPr b="1" i="1" lang="en-US" sz="2700" spc="-1" strike="noStrike">
                <a:solidFill>
                  <a:srgbClr val="000000"/>
                </a:solidFill>
                <a:latin typeface="Calibri"/>
              </a:rPr>
              <a:t>It includes the coordination of four elements called the </a:t>
            </a:r>
            <a:r>
              <a:rPr b="1" i="1" lang="en-US" sz="2700" spc="-1" strike="noStrike">
                <a:solidFill>
                  <a:srgbClr val="ff0000"/>
                </a:solidFill>
                <a:latin typeface="Calibri"/>
              </a:rPr>
              <a:t>4 P's </a:t>
            </a:r>
            <a:r>
              <a:rPr b="1" i="1" lang="en-US" sz="2700" spc="-1" strike="noStrike">
                <a:solidFill>
                  <a:srgbClr val="000000"/>
                </a:solidFill>
                <a:latin typeface="Calibri"/>
              </a:rPr>
              <a:t>of marketing:</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1) identification, selection and development of a </a:t>
            </a:r>
            <a:r>
              <a:rPr b="1" lang="en-US" sz="2700" spc="-1" strike="noStrike">
                <a:solidFill>
                  <a:srgbClr val="000000"/>
                </a:solidFill>
                <a:latin typeface="Calibri"/>
              </a:rPr>
              <a:t>product</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determination of its </a:t>
            </a:r>
            <a:r>
              <a:rPr b="1" lang="en-US" sz="2700" spc="-1" strike="noStrike">
                <a:solidFill>
                  <a:srgbClr val="000000"/>
                </a:solidFill>
                <a:latin typeface="Calibri"/>
              </a:rPr>
              <a:t>price</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3) selection of a distribution channel to reach the customer's </a:t>
            </a:r>
            <a:r>
              <a:rPr b="1" lang="en-US" sz="2700" spc="-1" strike="noStrike">
                <a:solidFill>
                  <a:srgbClr val="000000"/>
                </a:solidFill>
                <a:latin typeface="Calibri"/>
              </a:rPr>
              <a:t>place</a:t>
            </a:r>
            <a:r>
              <a:rPr b="0" lang="en-US" sz="2700" spc="-1" strike="noStrike">
                <a:solidFill>
                  <a:srgbClr val="000000"/>
                </a:solidFill>
                <a:latin typeface="Calibri"/>
              </a:rPr>
              <a:t>, and</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4) development and implementation of a </a:t>
            </a:r>
            <a:r>
              <a:rPr b="1" lang="en-US" sz="2700" spc="-1" strike="noStrike">
                <a:solidFill>
                  <a:srgbClr val="000000"/>
                </a:solidFill>
                <a:latin typeface="Calibri"/>
              </a:rPr>
              <a:t>promotional strategy</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352440"/>
            <a:ext cx="8229600" cy="88272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Global Marketing ? </a:t>
            </a:r>
            <a:endParaRPr b="0" lang="en-US" sz="3600" spc="-1" strike="noStrike">
              <a:solidFill>
                <a:srgbClr val="000000"/>
              </a:solidFill>
              <a:latin typeface="Calibri"/>
            </a:endParaRPr>
          </a:p>
        </p:txBody>
      </p:sp>
      <p:sp>
        <p:nvSpPr>
          <p:cNvPr id="1289" name=""/>
          <p:cNvSpPr txBox="1"/>
          <p:nvPr/>
        </p:nvSpPr>
        <p:spPr>
          <a:xfrm>
            <a:off x="336600" y="1410840"/>
            <a:ext cx="8502480" cy="5102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Global marketing refers to marketing activities coordinated and integrated across multiple country markets  in order to meet global objectives".</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lobal marketing focuses on global market opportunities and threa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the main difference between the regular marketing and global marketing  </a:t>
            </a:r>
            <a:r>
              <a:rPr b="0" lang="en-US" sz="2800" spc="-1" strike="noStrike">
                <a:solidFill>
                  <a:srgbClr val="ff0000"/>
                </a:solidFill>
                <a:latin typeface="Times New Roman"/>
              </a:rPr>
              <a:t>is the scope of activities </a:t>
            </a:r>
            <a:r>
              <a:rPr b="0" lang="en-US" sz="2800" spc="-1" strike="noStrike">
                <a:solidFill>
                  <a:srgbClr val="000000"/>
                </a:solidFill>
                <a:latin typeface="Times New Roman"/>
              </a:rPr>
              <a:t>because global marketing occurs in markets outside the organization’s home country.</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401760"/>
            <a:ext cx="8229600" cy="9460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ere in the World?</a:t>
            </a:r>
            <a:endParaRPr b="0" lang="en-US" sz="4000" spc="-1" strike="noStrike">
              <a:solidFill>
                <a:srgbClr val="000000"/>
              </a:solidFill>
              <a:latin typeface="Calibri"/>
            </a:endParaRPr>
          </a:p>
        </p:txBody>
      </p:sp>
      <p:sp>
        <p:nvSpPr>
          <p:cNvPr id="1291" name="PlaceHolder 2"/>
          <p:cNvSpPr>
            <a:spLocks noGrp="1"/>
          </p:cNvSpPr>
          <p:nvPr>
            <p:ph/>
          </p:nvPr>
        </p:nvSpPr>
        <p:spPr>
          <a:xfrm>
            <a:off x="457200" y="1676520"/>
            <a:ext cx="8229600" cy="4449600"/>
          </a:xfrm>
          <a:prstGeom prst="rect">
            <a:avLst/>
          </a:prstGeom>
          <a:solidFill>
            <a:srgbClr val="ffffff"/>
          </a:solid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0000"/>
                </a:solidFill>
                <a:latin typeface="Calibri"/>
              </a:rPr>
              <a:t>How does a company decide which markets to enter?</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Company resources.</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Managerial mind-set.</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Nature of opportunities and threats in that market.</a:t>
            </a:r>
            <a:endParaRPr b="0" lang="en-US" sz="32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eece1"/>
                </a:solidFill>
                <a:latin typeface="Times New Roman"/>
              </a:rPr>
              <a:t>© 2005 Prentice Hall</a:t>
            </a:r>
            <a:endParaRPr b="0" lang="en-US" sz="1200" spc="-1" strike="noStrike">
              <a:solidFill>
                <a:srgbClr val="000000"/>
              </a:solidFill>
              <a:latin typeface="Arial"/>
            </a:endParaRPr>
          </a:p>
        </p:txBody>
      </p:sp>
      <p:sp>
        <p:nvSpPr>
          <p:cNvPr id="12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eece1"/>
                </a:solidFill>
                <a:latin typeface="Times New Roman"/>
              </a:rPr>
              <a:t>1-</a:t>
            </a:r>
            <a:fld id="{5761D039-F1D2-47BA-A7A6-5B73659551E6}" type="slidenum">
              <a:rPr b="0" lang="en-US" sz="1200" spc="-1" strike="noStrike">
                <a:solidFill>
                  <a:srgbClr val="eeece1"/>
                </a:solidFill>
                <a:latin typeface="Times New Roman"/>
              </a:rPr>
              <a:t>&lt;number&gt;</a:t>
            </a:fld>
            <a:endParaRPr b="0" lang="en-US" sz="1200" spc="-1" strike="noStrike">
              <a:solidFill>
                <a:srgbClr val="000000"/>
              </a:solidFill>
              <a:latin typeface="Arial"/>
            </a:endParaRPr>
          </a:p>
        </p:txBody>
      </p:sp>
      <p:sp>
        <p:nvSpPr>
          <p:cNvPr id="1294" name="PlaceHolder 1"/>
          <p:cNvSpPr>
            <a:spLocks noGrp="1"/>
          </p:cNvSpPr>
          <p:nvPr>
            <p:ph type="title"/>
          </p:nvPr>
        </p:nvSpPr>
        <p:spPr>
          <a:xfrm>
            <a:off x="457200" y="385560"/>
            <a:ext cx="8229600" cy="89676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asons for Global Marketing</a:t>
            </a:r>
            <a:endParaRPr b="0" lang="en-US" sz="3600" spc="-1" strike="noStrike">
              <a:solidFill>
                <a:srgbClr val="000000"/>
              </a:solidFill>
              <a:latin typeface="Calibri"/>
            </a:endParaRPr>
          </a:p>
        </p:txBody>
      </p:sp>
      <p:sp>
        <p:nvSpPr>
          <p:cNvPr id="1295" name="PlaceHolder 2"/>
          <p:cNvSpPr>
            <a:spLocks noGrp="1"/>
          </p:cNvSpPr>
          <p:nvPr>
            <p:ph/>
          </p:nvPr>
        </p:nvSpPr>
        <p:spPr>
          <a:xfrm>
            <a:off x="457200" y="1492200"/>
            <a:ext cx="8229600" cy="52293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Growth</a:t>
            </a:r>
            <a:r>
              <a:rPr b="1" lang="en-US" sz="3200" spc="-1" strike="noStrike" u="sng">
                <a:solidFill>
                  <a:srgbClr val="ff0000"/>
                </a:solidFill>
                <a:uFillTx/>
                <a:latin typeface="Calibri"/>
              </a:rPr>
              <a:t> </a:t>
            </a:r>
            <a:endParaRPr b="0" lang="en-US" sz="32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ccess to new markets </a:t>
            </a:r>
            <a:endParaRPr b="0" lang="en-US" sz="28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ccess to resourc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Survival</a:t>
            </a:r>
            <a:endParaRPr b="0" lang="en-US" sz="28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gainst competitors with lower costs (due to increased access to resourc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Create value for customers:</a:t>
            </a:r>
            <a:r>
              <a:rPr b="1" i="1" lang="en-US" sz="2800" spc="-1" strike="noStrike">
                <a:solidFill>
                  <a:srgbClr val="ff0000"/>
                </a:solidFill>
                <a:latin typeface="Calibri"/>
                <a:ea typeface="MS PGothic"/>
              </a:rPr>
              <a:t> </a:t>
            </a:r>
            <a:endParaRPr b="0" lang="en-US" sz="28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Improve the product</a:t>
            </a:r>
            <a:endParaRPr b="0" lang="en-US" sz="25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Find new distribution channels</a:t>
            </a:r>
            <a:endParaRPr b="0" lang="en-US" sz="25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Create better communications</a:t>
            </a:r>
            <a:endParaRPr b="0" lang="en-US" sz="2500" spc="-1" strike="noStrike">
              <a:solidFill>
                <a:srgbClr val="000000"/>
              </a:solidFill>
              <a:latin typeface="Calibri"/>
            </a:endParaRPr>
          </a:p>
          <a:p>
            <a:pPr lvl="1" marL="914400" indent="0">
              <a:spcBef>
                <a:spcPts val="624"/>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90240"/>
            <a:ext cx="8229600" cy="10270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How Big Is The Global Market?</a:t>
            </a:r>
            <a:endParaRPr b="0" lang="en-US" sz="3600" spc="-1" strike="noStrike">
              <a:solidFill>
                <a:srgbClr val="000000"/>
              </a:solidFill>
              <a:latin typeface="Calibri"/>
            </a:endParaRPr>
          </a:p>
        </p:txBody>
      </p:sp>
      <p:pic>
        <p:nvPicPr>
          <p:cNvPr id="1297" name="Content Placeholder 4" descr="Table1-4.jpg"/>
          <p:cNvPicPr/>
          <p:nvPr/>
        </p:nvPicPr>
        <p:blipFill>
          <a:blip r:embed="rId1"/>
          <a:srcRect l="0" t="-27872" r="0" b="-27872"/>
          <a:stretch/>
        </p:blipFill>
        <p:spPr>
          <a:xfrm>
            <a:off x="355680" y="1708200"/>
            <a:ext cx="8229600" cy="4646520"/>
          </a:xfrm>
          <a:prstGeom prst="rect">
            <a:avLst/>
          </a:prstGeom>
          <a:ln w="9360">
            <a:solidFill>
              <a:srgbClr val="c4bd97"/>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380880"/>
            <a:ext cx="7772400" cy="9352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Examples of Global Marketers</a:t>
            </a:r>
            <a:endParaRPr b="0" lang="en-US" sz="3600" spc="-1" strike="noStrike">
              <a:solidFill>
                <a:srgbClr val="000000"/>
              </a:solidFill>
              <a:latin typeface="Calibri"/>
            </a:endParaRPr>
          </a:p>
        </p:txBody>
      </p:sp>
      <p:sp>
        <p:nvSpPr>
          <p:cNvPr id="1299" name="PlaceHolder 2"/>
          <p:cNvSpPr>
            <a:spLocks noGrp="1"/>
          </p:cNvSpPr>
          <p:nvPr>
            <p:ph/>
          </p:nvPr>
        </p:nvSpPr>
        <p:spPr>
          <a:xfrm>
            <a:off x="685440" y="1599840"/>
            <a:ext cx="3809880" cy="4784760"/>
          </a:xfrm>
          <a:prstGeom prst="rect">
            <a:avLst/>
          </a:prstGeom>
          <a:solidFill>
            <a:srgbClr val="fdeada"/>
          </a:solid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ca-Col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hilip Morr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cDonal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oyo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or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ilev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illet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BM</a:t>
            </a:r>
            <a:endParaRPr b="0" lang="en-US" sz="2800" spc="-1" strike="noStrike">
              <a:solidFill>
                <a:srgbClr val="000000"/>
              </a:solidFill>
              <a:latin typeface="Calibri"/>
            </a:endParaRPr>
          </a:p>
        </p:txBody>
      </p:sp>
      <p:sp>
        <p:nvSpPr>
          <p:cNvPr id="1300" name="PlaceHolder 3"/>
          <p:cNvSpPr>
            <a:spLocks noGrp="1"/>
          </p:cNvSpPr>
          <p:nvPr>
            <p:ph/>
          </p:nvPr>
        </p:nvSpPr>
        <p:spPr>
          <a:xfrm>
            <a:off x="4647960" y="1600200"/>
            <a:ext cx="3809880" cy="4672080"/>
          </a:xfrm>
          <a:prstGeom prst="rect">
            <a:avLst/>
          </a:prstGeom>
          <a:solidFill>
            <a:srgbClr val="fdeada"/>
          </a:solid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Jap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K/ Netherlan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680"/>
            <a:ext cx="8229600" cy="101592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International Marketing Orientations</a:t>
            </a:r>
            <a:endParaRPr b="0" lang="en-US" sz="4000" spc="-1" strike="noStrike">
              <a:solidFill>
                <a:srgbClr val="000000"/>
              </a:solidFill>
              <a:latin typeface="Calibri"/>
            </a:endParaRPr>
          </a:p>
        </p:txBody>
      </p:sp>
      <p:sp>
        <p:nvSpPr>
          <p:cNvPr id="1302" name="AutoShape 7"/>
          <p:cNvSpPr/>
          <p:nvPr/>
        </p:nvSpPr>
        <p:spPr>
          <a:xfrm>
            <a:off x="1219320" y="1752480"/>
            <a:ext cx="3124080" cy="2133720"/>
          </a:xfrm>
          <a:prstGeom prst="triangle">
            <a:avLst>
              <a:gd name="adj"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Ethn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Home country i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uperior, se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imilarities in foreign</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Countries</a:t>
            </a:r>
            <a:endParaRPr b="0" lang="en-US" sz="1800" spc="-1" strike="noStrike">
              <a:solidFill>
                <a:srgbClr val="000000"/>
              </a:solidFill>
              <a:latin typeface="Arial"/>
            </a:endParaRPr>
          </a:p>
        </p:txBody>
      </p:sp>
      <p:sp>
        <p:nvSpPr>
          <p:cNvPr id="1303" name="Rectangle 9"/>
          <p:cNvSpPr/>
          <p:nvPr/>
        </p:nvSpPr>
        <p:spPr>
          <a:xfrm>
            <a:off x="1219320" y="4483080"/>
            <a:ext cx="3124080" cy="2043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Regi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ees similarities and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differences in a worl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Region; is ethnocentric or</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ycentric in its view of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the rest of the world</a:t>
            </a:r>
            <a:endParaRPr b="0" lang="en-US" sz="1800" spc="-1" strike="noStrike">
              <a:solidFill>
                <a:srgbClr val="000000"/>
              </a:solidFill>
              <a:latin typeface="Arial"/>
            </a:endParaRPr>
          </a:p>
        </p:txBody>
      </p:sp>
      <p:sp>
        <p:nvSpPr>
          <p:cNvPr id="1304" name="Oval 10"/>
          <p:cNvSpPr/>
          <p:nvPr/>
        </p:nvSpPr>
        <p:spPr>
          <a:xfrm>
            <a:off x="5257800" y="4343400"/>
            <a:ext cx="3200400" cy="20131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Ge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World view, se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imilarities an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Differences in hom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And host countries</a:t>
            </a:r>
            <a:endParaRPr b="0" lang="en-US" sz="1800" spc="-1" strike="noStrike">
              <a:solidFill>
                <a:srgbClr val="000000"/>
              </a:solidFill>
              <a:latin typeface="Arial"/>
            </a:endParaRPr>
          </a:p>
        </p:txBody>
      </p:sp>
      <p:sp>
        <p:nvSpPr>
          <p:cNvPr id="1305" name="AutoShape 13"/>
          <p:cNvSpPr/>
          <p:nvPr/>
        </p:nvSpPr>
        <p:spPr>
          <a:xfrm>
            <a:off x="4788000" y="1752480"/>
            <a:ext cx="3441600" cy="2133720"/>
          </a:xfrm>
          <a:prstGeom prst="pi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Polycentric: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Each host country I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Unique, sees differenc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In foreign count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5:29:12Z</dcterms:created>
  <dc:creator>Jill Solomon</dc:creator>
  <dc:description/>
  <dc:language>en-US</dc:language>
  <cp:lastModifiedBy>User</cp:lastModifiedBy>
  <dcterms:modified xsi:type="dcterms:W3CDTF">2016-11-24T07:05:59Z</dcterms:modified>
  <cp:revision>87</cp:revision>
  <dc:subject/>
  <dc:title>PowerPoint Presentation</dc:title>
</cp:coreProperties>
</file>