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12.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C980F-293D-41D6-A19B-440A42D403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F79AF-BFF5-46D7-BA2D-43E2F9859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66630-9C69-420C-92A4-087084B66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C2754-38A7-4B32-AD30-9FD087CED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829D1-ADEB-4911-B976-E04AFEF20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6B899-BC6A-449D-9DB3-A70BC799C88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5B2EE-A38D-4C9D-9219-F775EFB59FD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77805-5C5E-4B14-BE39-2755B0E5C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FD10C-AB2A-4370-9C72-71B7199F9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868A4-0B30-4894-A7C2-2B6CBE9AA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71E16-3A03-46DA-8AF1-8EEFE89C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39C1EA-7FDC-47FF-A75E-AEF502968B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039C3-EBD6-4CD4-993E-153BFBDAB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8DD60-6A59-48E7-ACD1-F1D4098BFF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704222-1FD3-4FA3-9C4A-3595E16F73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E4B19E-05C2-48FE-97C6-50F6EA661B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A29F0E-F08A-4861-ADA0-B968255BCB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4E817A-A2B0-4DAE-9978-E3E8D7502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19A1B-864B-4111-92F7-868EB4A46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D98336-3C0A-4481-9735-4B82DB9F4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04400-4E7C-4254-867B-4C1631258D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993444-78C2-4617-A774-429980FEE1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6B8E12-CA03-4F93-8EBF-12DF860094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2F484-3006-4391-BBDB-DFF5C5A17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4C8B03-99C6-4149-90DE-C812B218B6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C1FED52-5C90-4247-9519-A21F9FFFCC74}"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987AF8DA-19AD-41EA-B90A-0E784D79AD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35CA9080-6B5A-4C85-ACC6-2F9330AEE0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0D915E74-4750-4E86-A826-7266775774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0AB03BD1-56E8-45E4-962E-250FC0CD45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700FC35C-923E-45BC-ABFD-906D6700AF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BACC706C-7A19-4712-A2FC-06D4A9A94F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3515C94E-48A5-494A-8D15-D610F051A1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53182430-F57F-4C20-968F-5F352BAB67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A3D9E-AFB5-4BF7-AD5E-58F711E7D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25D83B15-8081-45B6-8EFE-0AD2003B49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35BC9F74-DBE9-49F4-BE7B-A117D6A722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7A813C35-A27B-4DDE-A881-F770E8827FB5}"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34FE146-1AD8-4846-9638-8C33CCDE57E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46C9A33-1ECF-4814-BBB0-FFA3431374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9133029-DA60-4BF0-A9CD-CBDF8CCFDF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595535C-38B3-40CA-B8AC-D3EE75881D8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F0AE1DB-8742-4B5A-A0A9-3EAFF35B5F0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B29B447-1DB1-40E0-A168-008C2977A0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2015640-74BB-48E0-9035-97C1419713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C007A-5ED7-4C45-9283-51392A8D0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467EF8-FD37-4D30-8D49-9D1FB6EE014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18BB4C-B0D1-4CF5-85E0-339B8C879F8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8C78272-D41C-499C-938D-629C076E29B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F08C5FA-0D5F-4476-AE16-E62E0404BA6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A8CE4E6-1CC7-430E-BDC6-57689B18C4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79A7694-5A79-447C-9F76-7F661DDB993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F638182-901D-469E-8788-00C4C01CF1C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749043F-09DC-4988-9466-037492C2AA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6FEADF1-9DA2-4450-AE10-5FF3CD0ABB7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C47D220-2E63-46F0-88CF-36B23163F5A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78F38-8C4F-4BB8-8AED-7656EEA7B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733614A-B0BB-4922-9D08-DEA36C552B2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37547FA-2A43-464F-A6E4-60A6E213A29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672202B-2AFC-4236-BEDE-E597AFB90D5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91B592B-7ACE-4E16-8ABA-8E095B3CACD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45A86D8-EB21-490C-9113-084ABB932F5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7C6C57B-71A6-478A-BC54-B7D332171AB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851D35D-EB9C-418B-B238-22A82D46A56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B7BC50BE-8689-48F3-9C01-056D6679A8D1}"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5887EFEB-A1FC-4F90-807E-EA5420DFFDB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2339CC34-B89B-413A-8B7B-584CDDC7362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E5F24-B751-445E-AB79-7D456571E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AFEC78F-695E-4333-9700-0F68E2A52AA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896B41CC-5B31-470B-8E28-1A19839D566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A3A698B3-46F8-4267-AEB9-A0F3CBFC400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5150CBB-9C35-4BFB-B308-AC2FC19052E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86D8EAD0-FF85-4DF1-AA08-4E7AE3C7000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7E0E718-DD7F-474C-9E35-A6929CB8816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87E2926D-4381-4036-9DDE-00CEA7A96DB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EDDF3C3D-2DE0-4176-A5E5-02095B498A0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F11DA0A4-6CFC-44B3-8EBE-5C6645CDD1CC}"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A0F380E-A9A6-4ABE-B721-5B55303F5ED4}"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D44E7-7BF4-4AFF-B654-1F4859BD0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030AF37A-0E4F-407A-804D-BB831C247B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747FCAC3-F49F-48F5-9392-E03C931D63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E016A99B-33AC-439F-BA9B-8AEEDB9B82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D73D39B1-BD2D-43E9-ADD9-A89EFE88EB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D047A971-6949-4990-BA89-6968665A0B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EBA21800-915A-490F-9C3E-BE7D3A3E84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DDF54C2F-4648-45D2-9765-E16B15C316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428C9B27-9471-4696-A436-943A26124B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E7D29920-FBB0-4FB2-BCFB-25EABB1A32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D6EA0AF9-7DF2-4A16-9DBE-667F5886DD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F310D-174C-4DD1-9E07-8026A7C57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C0005F80-8A8E-4155-AA5F-3B1791DAFB9F}"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1E0722-E93E-47D7-82C8-6326B99594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258550-DC0B-4D1A-9E2D-CE987FB687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298400-0F97-4376-93F7-9BDFE64244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7D6296-D237-4683-8BC6-F7A0AB2DAD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6ADA42-5F09-474C-AB01-B5BFE0906C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9474E9-A2F4-4DBF-B8C2-0B85427F75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626975-F54A-4796-8178-938F78A4CA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DD595B-3AB6-4462-BDD0-1C892CD00B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493BCA-F59B-475C-8366-686F4EBCED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2FFB7-104B-46D2-BD02-64AADAA49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06FB4F-68C5-4D3B-B223-A417CE6B05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241FCA-07CF-4884-8CC2-2DCAB49EFD2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E9D0C1D-4CD1-4AC9-9A5C-E2806C58AD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723F02B-B82A-4FEB-8E3F-1FE8692F7DC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9C02D1-BC21-4BF5-B6DB-EDD033D2FF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ED8185-38F4-466F-A2A5-E7032E6062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09BB14-5737-4242-9399-F0BB0F2736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382671-FCE2-4688-B145-25A8B62FF4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221F4D-8167-4A52-9A10-7FDC3F5079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8C5927-6412-4E12-864D-B4B7A6D973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00B5A-B3B1-4F8F-8590-A567D1F7A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75665-307A-4AE5-9470-0EF2CAE5F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F5BF08-F599-4BB9-82B3-9EB268F1D1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997587-C96D-4194-B42C-87B1A16FF6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47FCF1-CA87-4FEF-B262-68E12570C5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EC3B56-58B5-40C7-8A3C-96E1C7A5EFE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3A86678-1E5D-47F5-BDF7-4EDEC2F228E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BA5B2C2-AA10-46E8-ACEB-645EB24E77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7B4013-14DB-40F1-8A8B-22EA8E3DC8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E73940-CF5D-4AA6-AC7D-A47A4359F8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A07341-51AE-4CD0-87E6-081DA5674F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D3A2D6-624E-423F-91D9-2107BFAA27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8F872-0427-4A04-ACA7-0075F2206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B405F0-7844-40AA-8120-B196B900C4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3D816F-8BBE-4C2F-9C5D-F7302FE5ED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E5B8E0-DDC9-46DF-A580-67BAF7B0F5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6FB85E-0D8B-4A6E-B2B1-1470DE9A3B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1D8A77-A9D3-4AE5-9B63-4B04D3EEF8C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C0BAB05-C597-4863-AB07-901821A758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7F561E8-064F-42D8-9A67-019C36A0581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B71D0A2-584D-4B4D-9735-A1009455588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3538F0-54DD-4CED-B420-289ED3969B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5732BEC-F976-4EBE-9B04-3C5D6043AB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DE08C-6C48-4880-9B90-4C2CBCA46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8D7DFFA-B728-49C0-B1E0-95C4702CFAB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1B27E88-ECBF-442F-813A-27F6EA4396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12C653-2A9E-4AF8-BDF0-02A7EE0DD3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3CD8D9-4010-4A1E-8348-0C958DACDF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3F2706-EE74-491C-9D3D-F176D0683A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81BF94-F8B2-43FD-9C3B-96762B200F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526553-3AF3-48E2-BD03-2B24272585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87FD849-FCC8-4D28-AD1D-E2E73D66D67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2580200-F181-4FB1-927F-71D8C68125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84B588A-9AEA-4E34-8255-B76A9019111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AF2BE-42C0-468A-940A-61B90E734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E1DD82-BC8B-410C-A05B-70C520F8DB0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94FF59-88C3-4960-8F09-C9D14196A23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E1102B-8BA0-4A4B-8032-4F90446FEE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0553DE5-65C1-42B5-816D-5D9A5C187D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46133B-1718-4F7B-9677-44D9FEC75CC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339CF9-B63F-41ED-8AC2-E0E7EFEC35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09060F-58B1-4051-BEEB-E7A2CF382AA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EC1C94-28EE-495B-A81E-996F58DD51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7909A2-0224-4AB7-B876-BD06E86716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28D8B8A-7D00-4EE6-80C2-9F2411AD13D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6596F-8438-4722-B91C-2D8FBCC67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1600098-7839-4BA8-BD59-19F9005DA7E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7B51B3D-F73D-475B-97D6-121492D685F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926680E-9478-474E-9C16-1A1878EC37E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14358A-79F8-49EA-A992-0A96418853B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5D9D4CB-4C86-4AD2-93B3-BECADD5C152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E224F5A-8A82-484C-A6C3-CD74C0256FE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1F0FF55-B04D-4B4C-AD72-E5BB461523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36C843-72FE-4F42-B552-4661A7F304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B1220D-182A-4CE5-85E8-FA4742C02B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251B53-72CB-44E3-A4AB-66E53B4661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F62BF-6D44-46AE-AF96-D003D2C75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6A6191-E212-408E-960D-A872D17D97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CCA71D6-B303-4B4B-A825-CB597FE8A2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9A48B44-2E09-4399-AB29-5C17A161928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45DFE20-3DE8-40C5-A515-A5844599E6A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84120AE-6B24-4F84-9CCA-45B67C3F47B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25F512C-96AC-48E3-A987-FBBFA0DE67E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F831A95-7394-4CBB-A6C0-7B7D23AF02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87DE43E-A6E4-48BE-87D3-FB72A6BA1D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A5DD6D1-BC98-425B-AB90-9D6B9DEBD4D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439DCA8-EB7B-4BFB-A369-2265712702C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319F9-5FF4-466E-A100-054CF4053E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96ACB3-0527-48C5-BE97-27E16BBA0CE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2CBF127-011B-4CDA-9D46-9A529C19015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D832F6F-38E5-4216-8F66-584DD8C6978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8F52FD6-1C5A-4BA7-9170-FE674411908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3653760-8B19-4926-AB15-610509BDC82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8C34527-EC16-4FBD-A400-C7BA335B6DA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D99F430-84BC-4795-8B27-701525D8F4C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41C1C39-D584-414F-A50A-066A0E8E11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6631C61-A43C-4A2D-A4D1-666E3D533E0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34E23ED-2679-4DFE-A9C1-992FDF0FED8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BEAF3-491A-4B9E-9212-F81CF8A90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7B9FD83-A09A-4788-A23B-5CBCE1F49CE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F351B8D-621F-4355-9A86-4DE3576D7D8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F5B4141-7CA4-49E9-ACF1-27F62EC235D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05197CD-6B43-4361-82FA-090862DA69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4C303D2-3AB0-465C-9BBF-BE8232ECE48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3BCD7D9-C390-4579-AFD1-58BC2FB5A8E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DF93D9E-9A3C-4D28-9F59-1A03467496A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326438D-0103-4AF4-B155-395CA951EB5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459A33F-9C18-4786-8C45-28EF3284943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6E05893-05AE-4E67-9830-CFB77F01FAE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6C305-2D14-4944-B95E-FBF82AE3A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0A4C4DB-C569-439B-AF3E-E03CD5CAA6D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327E818-D79D-4E51-9FA7-D5B2D195921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C63171F-CCF7-4A14-A29D-867B5459A36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D1C5C4-8A17-41D1-80A7-C132A5AC7A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DDD9DA1-5EF5-4D88-BC79-7104BC215EA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B2D798C-146F-4B9A-B445-30C9B4B958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DFF316B-DAEF-4A9F-ACDC-7E8598C1AFD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ED7B3EC-A974-4FC5-9060-B4351F8CB08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521F6BC-3E21-48D6-84F1-EA5DEA5912A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85008-7AFF-49B8-B087-2F72B6127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033A8-8906-4068-B35C-F5FC5B51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CC966-B28C-4B08-8DF2-A04529D88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7B10D-3ACD-4E1A-9B7E-80BA924F1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ADE7A-2147-4C1E-A80D-4C6C61B7D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4D0D7-7DE7-437E-B3A1-A22D95B3F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7F336-9DF4-4F94-9E3B-08C45252E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79E1B7-D005-4750-BE9D-1258247EAF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A54081-B7AD-49CA-AFBE-C71F0ECB8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E36EED-4811-4BD3-B4C9-5B894DD4E4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190A5-95AA-4F2C-81ED-377EEA409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E2C50-F508-4858-A62D-67AE0B70EB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49AA8-8FB8-49B8-A0EB-1E3AE0445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815FD-1B62-40CF-AD3C-67978FF50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86A16-248C-4E08-A308-0E89BB207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C7130-D2B6-4F77-83A9-8805B64C8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7DAFC-3AB7-4643-9BEF-21C56E7DC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43E42-8FFA-4847-9B5C-289258CA7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30D5B-8412-4B25-B7F6-5802831FA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5BCED-9398-476B-BA6E-9846D78994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561F2-CE8A-4E6B-80F3-9BA9F811D8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2D05F5-0BF5-4A73-A42B-2050B5C112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A7B96E-63A9-40D6-B4D1-EB035BF367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FF0DC-4B5C-43E4-BD60-612737A3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D1C5B-D880-4208-B524-D2CEB1E46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29BB2-B3CD-4314-AED9-60E6D751C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63F12-9F14-4419-ADB8-F22ACE935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438241-37EC-45D9-A734-74F286378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84DA9-3D95-4DB9-B0ED-1FD7AE944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D52EC-848D-48A9-90C5-2BC3D29D2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B1FA6-B86B-49DF-8297-5194D74E1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AC8A7-B77A-4A5E-BB09-B6C4525B8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82FBC-47D3-4CE4-8E07-C86EAF2E8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12E866-8B7F-4744-93DD-231753E94B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5303-F64F-4782-9757-B1B2F2B9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F04687-9A65-4500-ABFC-A9D948E585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A32776-F6D1-46BE-A8D2-1D2A9A61CC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62E4F-3BB0-46CE-B795-A98B24DE16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E24B07-8A28-44CC-9CE7-2B4CA3068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438DC0-75BD-4CA9-84FC-68EAE41548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F2455-F18A-4156-B052-11BA2262B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D78B18-0150-44C2-94A3-67E096F38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E6FD4-46CC-4053-BB48-8F4C9DB7E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1FA91-5E4B-4802-878B-C0799501B5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C1755-0A7B-4934-93F7-412C2E418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C711-C303-44F2-9363-F3D6FD20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7753D7-9BD8-45D8-8F78-4D5F0F564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6E5106-0188-4BDC-A2CD-0540837FA1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0AFE04-368F-4F21-BC8C-C1E60D2B5B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185471-7E1A-4B17-9328-0B7DBEB26A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BF7B46-C3CE-4C18-80AC-8452EFF45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D912B2-C805-4A87-A62F-AC46C7C6B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AAC26-B7F1-4DDF-9526-EE7B3AA3C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D96AFF-56C5-42D2-938A-E0D8E8E91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27BFDE-47BF-40B3-8A53-4638785F5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6295C-B50A-443D-AE8E-FC976C54B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1BDE-3385-4259-AF3E-4596B48CC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9C7FA-FFED-4CC8-A676-F26C58EE3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558BE-5E61-4D9B-8F1F-D97A3228C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C5536-C098-4FB7-ACDC-ADA12C6992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8288DB-004C-44C0-AAC2-3DF305E39B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22F6FA-E948-458E-B555-2BB179F8E0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B90616-B399-4C43-9731-4A397EE317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41159D-C741-4377-9848-5AE959A2D2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127DC7-690A-4814-B756-6F96377436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23586-CA95-41CC-8160-955BC3E729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7D195-717E-4E61-AD8C-BEFC6C1B99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AD472-E520-4F58-90C0-1FEE81E4C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D783DF-35BB-4CDB-971B-44086113AC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BF8E5-1C07-4125-98DF-9CC0E2431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16E3C9-AB18-4D21-A97D-E8FC283FC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B1D97-E741-47C3-9CF4-AD9C57E5F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DEC5F-60FB-4857-9997-293093B6AC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D33B96-80AD-4872-B330-225142F744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ED85E6-AD66-4476-9A4F-899BF4B57E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BB90C-736C-405E-A6F3-2DAECD8B4E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D3A4D-F11D-4448-8530-339D413DE7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DF73F-CD0C-40C2-A969-B8CA481D0F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630FD-ADFD-478A-B43A-E657914DA4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99E70-A86E-4170-93D0-D81F88F886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905BB-0566-4682-8617-E5E595D802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14BD3-07BA-4F61-9682-31432B63E8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14796-8EEB-438D-AC19-D747D83693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24D93-B619-4C91-8BEF-745E282028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09D92-C86B-42C5-81A4-FB80F147F6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C1AD5-470D-490E-9251-31D3F85390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F177B-809E-443F-9025-8B1A5787F2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43198-D441-4933-A1EE-E09FA478D8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A30CC-D76C-477B-AA77-1850935E10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42AD3-20D3-4049-B84E-F5B7F81CD1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7D8A3-3642-4244-866B-4524334D34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FCD01-F44C-4A9B-907A-063DEB76B7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34932-81EE-4025-8853-4C8B41F289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E9902-9759-4DEE-9AF6-03DD665317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D7542-40A8-4EF1-86A3-3E20E0EA9E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135E0-3498-48AF-BAA8-6D0FDE390C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5A134-7ABC-4919-9129-148D80BA28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C9D2F-D410-4C5A-B509-2A2352C6BA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5</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0A114-3A72-4381-A10F-A40B50E47EC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7" name="PlaceHolder 1"/>
          <p:cNvSpPr>
            <a:spLocks noGrp="1"/>
          </p:cNvSpPr>
          <p:nvPr>
            <p:ph type="title"/>
          </p:nvPr>
        </p:nvSpPr>
        <p:spPr>
          <a:xfrm>
            <a:off x="321840" y="429840"/>
            <a:ext cx="8364600" cy="879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08" name="PlaceHolder 2"/>
          <p:cNvSpPr>
            <a:spLocks noGrp="1"/>
          </p:cNvSpPr>
          <p:nvPr>
            <p:ph/>
          </p:nvPr>
        </p:nvSpPr>
        <p:spPr>
          <a:xfrm>
            <a:off x="456840" y="1474560"/>
            <a:ext cx="8396280" cy="508788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attitudes towards company’s involvement with international marketing process are called international marketing orientations.</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Four approaches for International Marketing Orientations: </a:t>
            </a:r>
            <a:endParaRPr b="0" lang="en-US" sz="3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1. Ethn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2. Poly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3. Regi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4. Geocentric  Approach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10" name=""/>
          <p:cNvSpPr txBox="1"/>
          <p:nvPr/>
        </p:nvSpPr>
        <p:spPr>
          <a:xfrm>
            <a:off x="457200" y="1595520"/>
            <a:ext cx="8229600" cy="4967280"/>
          </a:xfrm>
          <a:prstGeom prst="rect">
            <a:avLst/>
          </a:prstGeom>
          <a:noFill/>
          <a:ln w="9360">
            <a:solidFill>
              <a:srgbClr val="c4bd97"/>
            </a:solidFill>
            <a:miter/>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1. </a:t>
            </a: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ternational Marketing Orientation</a:t>
            </a:r>
            <a:endParaRPr b="0" lang="en-US" sz="3200" spc="-1" strike="noStrike">
              <a:solidFill>
                <a:srgbClr val="000000"/>
              </a:solidFill>
              <a:latin typeface="Calibri"/>
            </a:endParaRPr>
          </a:p>
        </p:txBody>
      </p:sp>
      <p:sp>
        <p:nvSpPr>
          <p:cNvPr id="1312" name=""/>
          <p:cNvSpPr txBox="1"/>
          <p:nvPr/>
        </p:nvSpPr>
        <p:spPr>
          <a:xfrm>
            <a:off x="457200" y="1703160"/>
            <a:ext cx="8229600" cy="48942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2 . </a:t>
            </a: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321840" y="1828440"/>
            <a:ext cx="8364600" cy="4660920"/>
          </a:xfrm>
          <a:prstGeom prst="rect">
            <a:avLst/>
          </a:prstGeom>
          <a:noFill/>
          <a:ln w="0">
            <a:noFill/>
          </a:ln>
        </p:spPr>
        <p:txBody>
          <a:bodyPr anchor="t">
            <a:normAutofit fontScale="87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ea typeface="MS PGothic"/>
              </a:rPr>
              <a:t>3. </a:t>
            </a: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46200" indent="-2484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94320" indent="-198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European Union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NAFTA</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Gulf Cooperation Council (GCC)</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6" name=""/>
          <p:cNvSpPr txBox="1"/>
          <p:nvPr/>
        </p:nvSpPr>
        <p:spPr>
          <a:xfrm>
            <a:off x="457200" y="1757520"/>
            <a:ext cx="8229600" cy="47145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4. </a:t>
            </a: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18" name=""/>
          <p:cNvSpPr txBox="1"/>
          <p:nvPr/>
        </p:nvSpPr>
        <p:spPr>
          <a:xfrm>
            <a:off x="456840" y="1422360"/>
            <a:ext cx="830412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Principl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B521B94E-E437-4CBD-8CE6-197C8B5B6D7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1"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22"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 </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24" name=""/>
          <p:cNvSpPr txBox="1"/>
          <p:nvPr/>
        </p:nvSpPr>
        <p:spPr>
          <a:xfrm>
            <a:off x="457200" y="1600200"/>
            <a:ext cx="8354880" cy="4751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26"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t>
            </a:r>
            <a:r>
              <a:rPr b="0" lang="en-US" sz="2800" spc="-1" strike="noStrike" u="sng">
                <a:solidFill>
                  <a:srgbClr val="ff0000"/>
                </a:solidFill>
                <a:uFillTx/>
                <a:latin typeface="Calibri"/>
              </a:rPr>
              <a:t>among countries </a:t>
            </a:r>
            <a:r>
              <a:rPr b="0" lang="en-US" sz="2800" spc="-1" strike="noStrike">
                <a:solidFill>
                  <a:srgbClr val="000000"/>
                </a:solidFill>
                <a:latin typeface="Calibri"/>
              </a:rPr>
              <a:t>as well as the method </a:t>
            </a:r>
            <a:r>
              <a:rPr b="0" lang="en-US" sz="2800" spc="-1" strike="noStrike" u="sng">
                <a:solidFill>
                  <a:srgbClr val="ff0000"/>
                </a:solidFill>
                <a:uFillTx/>
                <a:latin typeface="Calibri"/>
              </a:rPr>
              <a:t>within the country</a:t>
            </a:r>
            <a:r>
              <a:rPr b="0" lang="en-US" sz="2800" spc="-1" strike="noStrike" u="sng">
                <a:solidFill>
                  <a:srgbClr val="000000"/>
                </a:solidFill>
                <a:uFillTx/>
                <a:latin typeface="Calibri"/>
              </a:rPr>
              <a:t> </a:t>
            </a:r>
            <a:r>
              <a:rPr b="0" lang="en-US" sz="2800" spc="-1" strike="noStrike">
                <a:solidFill>
                  <a:srgbClr val="000000"/>
                </a:solidFill>
                <a:latin typeface="Calibri"/>
              </a:rPr>
              <a:t>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FF2794D4-6640-4D05-A8D6-AADE11FB753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9"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0"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32"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33"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32">
                                            <p:txEl>
                                              <p:pRg st="0" end="0"/>
                                            </p:txEl>
                                          </p:spTgt>
                                        </p:tgtEl>
                                        <p:attrNameLst>
                                          <p:attrName>style.visibility</p:attrName>
                                        </p:attrNameLst>
                                      </p:cBhvr>
                                      <p:to>
                                        <p:strVal val="visible"/>
                                      </p:to>
                                    </p:set>
                                    <p:anim calcmode="lin" valueType="num">
                                      <p:cBhvr additive="base">
                                        <p:cTn id="7" dur="500" fill="hold"/>
                                        <p:tgtEl>
                                          <p:spTgt spid="13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2">
                                            <p:txEl>
                                              <p:pRg st="1" end="1"/>
                                            </p:txEl>
                                          </p:spTgt>
                                        </p:tgtEl>
                                        <p:attrNameLst>
                                          <p:attrName>style.visibility</p:attrName>
                                        </p:attrNameLst>
                                      </p:cBhvr>
                                      <p:to>
                                        <p:strVal val="visible"/>
                                      </p:to>
                                    </p:set>
                                    <p:anim calcmode="lin" valueType="num">
                                      <p:cBhvr additive="base">
                                        <p:cTn id="13" dur="500" fill="hold"/>
                                        <p:tgtEl>
                                          <p:spTgt spid="13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32">
                                            <p:txEl>
                                              <p:pRg st="2" end="2"/>
                                            </p:txEl>
                                          </p:spTgt>
                                        </p:tgtEl>
                                        <p:attrNameLst>
                                          <p:attrName>style.visibility</p:attrName>
                                        </p:attrNameLst>
                                      </p:cBhvr>
                                      <p:to>
                                        <p:strVal val="visible"/>
                                      </p:to>
                                    </p:set>
                                    <p:anim calcmode="lin" valueType="num">
                                      <p:cBhvr additive="base">
                                        <p:cTn id="19" dur="500" fill="hold"/>
                                        <p:tgtEl>
                                          <p:spTgt spid="13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32">
                                            <p:txEl>
                                              <p:pRg st="3" end="3"/>
                                            </p:txEl>
                                          </p:spTgt>
                                        </p:tgtEl>
                                        <p:attrNameLst>
                                          <p:attrName>style.visibility</p:attrName>
                                        </p:attrNameLst>
                                      </p:cBhvr>
                                      <p:to>
                                        <p:strVal val="visible"/>
                                      </p:to>
                                    </p:set>
                                    <p:anim calcmode="lin" valueType="num">
                                      <p:cBhvr additive="base">
                                        <p:cTn id="25" dur="500" fill="hold"/>
                                        <p:tgtEl>
                                          <p:spTgt spid="13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2">
                                            <p:txEl>
                                              <p:pRg st="4" end="4"/>
                                            </p:txEl>
                                          </p:spTgt>
                                        </p:tgtEl>
                                        <p:attrNameLst>
                                          <p:attrName>style.visibility</p:attrName>
                                        </p:attrNameLst>
                                      </p:cBhvr>
                                      <p:to>
                                        <p:strVal val="visible"/>
                                      </p:to>
                                    </p:set>
                                    <p:anim calcmode="lin" valueType="num">
                                      <p:cBhvr additive="base">
                                        <p:cTn id="31" dur="500" fill="hold"/>
                                        <p:tgtEl>
                                          <p:spTgt spid="13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a:t>
            </a:r>
            <a:r>
              <a:rPr b="0" lang="en-US" sz="2800" spc="-1" strike="noStrike">
                <a:solidFill>
                  <a:srgbClr val="ff0000"/>
                </a:solidFill>
                <a:latin typeface="Times New Roman"/>
              </a:rPr>
              <a:t>is the scope of activities </a:t>
            </a:r>
            <a:r>
              <a:rPr b="0" lang="en-US" sz="2800" spc="-1" strike="noStrike">
                <a:solidFill>
                  <a:srgbClr val="000000"/>
                </a:solidFill>
                <a:latin typeface="Times New Roman"/>
              </a:rPr>
              <a:t>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092F9424-8553-446F-B8C2-07D9245C756A}"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4"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5"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7"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299"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0"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ernational Marketing Orientations</a:t>
            </a:r>
            <a:endParaRPr b="0" lang="en-US" sz="4000" spc="-1" strike="noStrike">
              <a:solidFill>
                <a:srgbClr val="000000"/>
              </a:solidFill>
              <a:latin typeface="Calibri"/>
            </a:endParaRPr>
          </a:p>
        </p:txBody>
      </p:sp>
      <p:sp>
        <p:nvSpPr>
          <p:cNvPr id="1302"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3"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4"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5"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6-11-24T07:05:59Z</dcterms:modified>
  <cp:revision>87</cp:revision>
  <dc:subject/>
  <dc:title>PowerPoint Presentation</dc:title>
</cp:coreProperties>
</file>