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E8FC-41C1-43D5-857E-F9C302A54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9D89-839F-4CF2-8C14-EFB928ED2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3293-F482-428A-AA93-F83B34825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0B50-ECEC-4CE2-AD37-D65CDE985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884A-2F41-4CD3-92EE-3D9B85D0F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behaviors are independent; managers can be high or low on both behavi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C489-6EC2-4CC0-B1E7-16FAE344D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24DB-720A-4118-8402-BCCBCCEE6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5F1C-481F-4E37-A42A-8AE50229B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256E-4DDC-4B54-92B3-BBED2B383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C66E-8494-48EC-823A-1051F2FA2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1B49-9695-401C-9FAD-254EA8A5B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the power to hire or fire employ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E3F3-99FE-4612-B7D7-E082F1594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awarding pay raises or providing verbal praise for good perform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1017-80F1-4715-82B1-EB4CB9ABB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C276-DCAE-4B2A-A1CD-E7CE9CD26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3789-37A4-4611-97BE-F700B8CB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4E6-E2C8-4515-9F44-D26684F2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3AF-8381-4871-B40B-81C63837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2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17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2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10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061-E135-4FD5-B690-1D3902D6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5345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DC0-747F-4D63-B4DD-ADCC5CFD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412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412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10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7003-A11B-4E17-956E-E37168E1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5345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412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617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412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210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DA4-2D0D-4D72-A42D-B325C8C1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61B-2BEE-4B63-A26D-16C23A02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5345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914-5748-410B-82D2-F4B80F2C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B4B-98E5-4BDF-8508-A7BC18C3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6BF-9085-4BFC-A022-C0D3F871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B93E-CD41-48BF-8F4B-DD9D4A70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609480" y="1371600"/>
            <a:ext cx="853452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6c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934320" y="6457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-</a:t>
            </a:r>
            <a:fld id="{8F60AB6B-C489-4339-8622-D5DD0FCAA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1371600"/>
            <a:ext cx="609480" cy="2057400"/>
          </a:xfrm>
          <a:prstGeom prst="rect">
            <a:avLst/>
          </a:prstGeom>
          <a:solidFill>
            <a:srgbClr val="d6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3429000"/>
            <a:ext cx="609480" cy="3429000"/>
          </a:xfrm>
          <a:prstGeom prst="rect">
            <a:avLst/>
          </a:prstGeom>
          <a:solidFill>
            <a:srgbClr val="00a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88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88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3"/>
          <p:cNvSpPr/>
          <p:nvPr/>
        </p:nvSpPr>
        <p:spPr>
          <a:xfrm>
            <a:off x="609480" y="1371600"/>
            <a:ext cx="853452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6c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0" y="1371600"/>
            <a:ext cx="609480" cy="2057400"/>
          </a:xfrm>
          <a:prstGeom prst="rect">
            <a:avLst/>
          </a:prstGeom>
          <a:solidFill>
            <a:srgbClr val="d6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0" y="3429000"/>
            <a:ext cx="609480" cy="3429000"/>
          </a:xfrm>
          <a:prstGeom prst="rect">
            <a:avLst/>
          </a:prstGeom>
          <a:solidFill>
            <a:srgbClr val="00a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88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762120"/>
            <a:ext cx="9144000" cy="106668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6400800"/>
            <a:ext cx="363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Contemporary Management, 5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811400" y="6629040"/>
            <a:ext cx="419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Book Antiqua"/>
              </a:rPr>
              <a:t>Copyright © 2008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0" y="5486400"/>
            <a:ext cx="91440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4267080" y="5486400"/>
            <a:ext cx="914400" cy="457200"/>
          </a:xfrm>
          <a:prstGeom prst="flowChartMerge">
            <a:avLst/>
          </a:prstGeom>
          <a:solidFill>
            <a:srgbClr val="80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304920" y="304920"/>
            <a:ext cx="1752480" cy="1904760"/>
          </a:xfrm>
          <a:prstGeom prst="ellipse">
            <a:avLst/>
          </a:prstGeom>
          <a:solidFill>
            <a:srgbClr val="33ccc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905120" y="762120"/>
            <a:ext cx="5562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Chapter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8520" y="87480"/>
            <a:ext cx="792972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powerment: An Component i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dern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ower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 of giving employees at all levels in the organization the authority to make decisions, be responsible for their outcomes, improve quality, and cut costs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powerment: An Component i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dern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owerment increases a manager’s ability to get thing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owerment increases workers’ involvement, motivation, and 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owerment gives managers more time to concentrate on their critical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dership Models </a:t>
            </a:r>
            <a:r>
              <a:rPr b="1" lang="ar-JO" sz="3600" spc="-1" strike="noStrike">
                <a:solidFill>
                  <a:srgbClr val="ffff00"/>
                </a:solidFill>
                <a:latin typeface="Arial"/>
              </a:rPr>
              <a:t>النظريات القيادي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rait Model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ظريات السم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mpt to identify personal characteristics that cause for effective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shows that certain personal characteristics do appear to be connected to effective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“traits” are the result of skills and knowledge and effective leaders do not necessarily possess all of these tra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dership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77600" y="1599840"/>
            <a:ext cx="7910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havioral Model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نظريات السلوك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s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basic typ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behavior that many leaders engaged in to influence their subordi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dership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havioral Model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1. Consideration</a:t>
            </a:r>
            <a:r>
              <a:rPr b="1" i="1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eaders show subordinates they trust, respect, and care about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rs look out for the well-being of their subordin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what they can to help subordinates feel good and enjoy the work they per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dership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havioral Model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nitiating struct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s take steps to make sure that work gets done, subordinates perform their work acceptably, and the organization is efficient and effe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s assign tasks to groups and let subordinates know what is expected of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ingency Models of Leadership</a:t>
            </a:r>
            <a:r>
              <a:rPr b="1" lang="ar-JO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JO" sz="2400" spc="-1" strike="noStrike">
                <a:solidFill>
                  <a:srgbClr val="ffff00"/>
                </a:solidFill>
                <a:latin typeface="Arial"/>
              </a:rPr>
              <a:t>النظريات الموقفية أو الظرفية</a:t>
            </a:r>
            <a:r>
              <a:rPr b="1" lang="ar-JO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ntingency Mod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makes a manager an effective leader in one situation is not necessarily what that manager needs to be equally effective in another situation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ther or not a manager is an effective leader is the result of the relationship between what the manager  is like, what he does, and the situation in  which leadership  takes pl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ingency Models of Leadership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iedler’s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leadership is depending on both the </a:t>
            </a:r>
            <a:r>
              <a:rPr b="0" lang="en-US" sz="3000" spc="-1" strike="noStrike">
                <a:solidFill>
                  <a:srgbClr val="00a4a0"/>
                </a:solidFill>
                <a:latin typeface="Times New Roman"/>
                <a:ea typeface="Times New Roman"/>
              </a:rPr>
              <a:t>characteristic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leader and of the </a:t>
            </a:r>
            <a:r>
              <a:rPr b="0" lang="en-US" sz="3000" spc="-1" strike="noStrike">
                <a:solidFill>
                  <a:srgbClr val="00a4a0"/>
                </a:solidFill>
                <a:latin typeface="Times New Roman"/>
                <a:ea typeface="Times New Roman"/>
              </a:rPr>
              <a:t>situ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 style is the continuing, characteristic approach to leadership that a manager uses and does not readily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ickly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ingency Models of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iedler’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-oriented sty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جه نحو العلاقات</a:t>
            </a:r>
            <a:r>
              <a:rPr b="0" lang="ar-J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العاملين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s concerned with developing good relations with their subordinates and to be liked by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-oriented sty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توجه نحو المهام</a:t>
            </a: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 / الانتاج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s whose primary concern is to ensure that subordinates perform at a high level so the job gets d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use’s Path-Goal The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ingency model of leadership proposing that effective leaders can motivate subordinates to achie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97080">
              <a:lnSpc>
                <a:spcPct val="90000"/>
              </a:lnSpc>
              <a:spcBef>
                <a:spcPts val="700"/>
              </a:spcBef>
              <a:buClr>
                <a:srgbClr val="c488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ly identifying the outcomes that subordinates  are trying to obtain from their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97080">
              <a:lnSpc>
                <a:spcPct val="90000"/>
              </a:lnSpc>
              <a:spcBef>
                <a:spcPts val="700"/>
              </a:spcBef>
              <a:buClr>
                <a:srgbClr val="c488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warding subordinates with these outcomes for high-performance and attainment of work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97080">
              <a:lnSpc>
                <a:spcPct val="90000"/>
              </a:lnSpc>
              <a:spcBef>
                <a:spcPts val="700"/>
              </a:spcBef>
              <a:buClr>
                <a:srgbClr val="c488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rifying the paths leading to the attainment of work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Nature of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by which a person u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e over others an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otiv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directs their activities to achieve group or organizational go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tivating with Path-Go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210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-Goal identifies four leadership behavi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rective behavi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t goals, assign tasks, show how to do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pportive behavi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ook out for the worker’s best inte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ticipative behavior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subordinates a say in matters that affec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hievement-oriented behavior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very challenging goals, believing in worker’s 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tivating with Path-Go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behavior to be used depends on the nature of the subordinates and the kind of work they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6781680" y="4952880"/>
            <a:ext cx="2133720" cy="156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Nature of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dividual who is able to employ influence over other people to help achieve group or organization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6400800" y="4419720"/>
            <a:ext cx="2438280" cy="195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urces of Leadership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152280" y="1308240"/>
            <a:ext cx="8622000" cy="5321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: The Key to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itimate Pow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uthority that a manager has by virtue of his or her position in the fi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: The Key to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ward Po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ility of a manager to give or withhold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ible and intangible rew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managers use reward power to signal to employees that they are doing a good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6477120" y="4549680"/>
            <a:ext cx="2286000" cy="205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: The Key to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ercive Po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ility of a manager to punish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amples: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w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c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: The Key to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t Po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that is based on special knowledge, skills, and expertise that the leader poss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ds to be used in a guiding or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ac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n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: The Key to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t Power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وة الاقتداء والإعجا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that comes from colleagues’ respect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loya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essed by managers who are likable and whom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ordin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wish to use as a role model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10-29T18:02:4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