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CD5D-57E8-4399-AB28-B563A377C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7ABB-BC12-46DF-8E24-FC2ED7BB9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BDC5-DC22-4EBB-AA86-2C96AC543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9C52-9674-4AA9-B76D-280A43B3E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A9AD-7BDC-4E9A-8892-505C14377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behaviors are independent; managers can be high or low on both behavi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B552-0FDD-4BE7-9AB7-D7C3EAAB9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3718-F772-4FBA-94CB-C9B97E186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D7D5-690F-42EE-A0CF-D7715367A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393A-00E1-4728-AEC4-191D72187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25EA-A5B1-4344-835D-6C2BC10C7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14AB-0015-4F32-B02A-4767178CA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the power to hire or fire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C146-3A42-47A8-87D1-34D3F6631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awarding pay raises or providing verbal praise for good 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48FA-C47F-47FA-8203-3752A34D5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F7E0-0A22-43FD-8347-2DA7AC542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E2C-9E6B-4CC1-A60A-96789339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96E-1F5B-48C8-B351-95122C6C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614-BB19-4E66-B51A-ABEBCA04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2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17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2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10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AFB7-330E-4D57-BE59-92625E72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534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9DC-4CED-4247-A2DC-80342C2D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412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412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10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D77-00A5-479A-AC14-349111F9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534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412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617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412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210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F711-3D88-4E91-8335-8AA27643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A9D-226E-4313-85ED-5EE71BC9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5345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CF6-D2D2-41A2-AC8C-594AFFFE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7C73-EF2E-4C64-8C6C-D487339D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878-3C49-47BE-8692-01DF51ED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61B-B7BA-4208-8C2E-D89B2200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609480" y="1371600"/>
            <a:ext cx="853452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6c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934320" y="64576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-</a:t>
            </a:r>
            <a:fld id="{AF758CF9-CEA6-43F8-9871-7351EFCBE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1371600"/>
            <a:ext cx="609480" cy="2057400"/>
          </a:xfrm>
          <a:prstGeom prst="rect">
            <a:avLst/>
          </a:prstGeom>
          <a:solidFill>
            <a:srgbClr val="d6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3429000"/>
            <a:ext cx="609480" cy="3429000"/>
          </a:xfrm>
          <a:prstGeom prst="rect">
            <a:avLst/>
          </a:prstGeom>
          <a:solidFill>
            <a:srgbClr val="00a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88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88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3"/>
          <p:cNvSpPr/>
          <p:nvPr/>
        </p:nvSpPr>
        <p:spPr>
          <a:xfrm>
            <a:off x="609480" y="1371600"/>
            <a:ext cx="853452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6c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1371600"/>
            <a:ext cx="609480" cy="2057400"/>
          </a:xfrm>
          <a:prstGeom prst="rect">
            <a:avLst/>
          </a:prstGeom>
          <a:solidFill>
            <a:srgbClr val="d6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0" y="3429000"/>
            <a:ext cx="609480" cy="3429000"/>
          </a:xfrm>
          <a:prstGeom prst="rect">
            <a:avLst/>
          </a:prstGeom>
          <a:solidFill>
            <a:srgbClr val="00a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88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762120"/>
            <a:ext cx="9144000" cy="106668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6400800"/>
            <a:ext cx="363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Contemporary Management, 5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811400" y="6629040"/>
            <a:ext cx="419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Book Antiqua"/>
              </a:rPr>
              <a:t>Copyright © 2008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0" y="5486400"/>
            <a:ext cx="91440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4267080" y="5486400"/>
            <a:ext cx="914400" cy="457200"/>
          </a:xfrm>
          <a:prstGeom prst="flowChartMerge">
            <a:avLst/>
          </a:prstGeom>
          <a:solidFill>
            <a:srgbClr val="80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304920" y="304920"/>
            <a:ext cx="1752480" cy="1904760"/>
          </a:xfrm>
          <a:prstGeom prst="ellipse">
            <a:avLst/>
          </a:prstGeom>
          <a:solidFill>
            <a:srgbClr val="33cccc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905120" y="762120"/>
            <a:ext cx="5562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Chapter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8520" y="87480"/>
            <a:ext cx="792972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powerment: An Component i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ern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ower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 of giving employees at all levels in the organization the authority to make decisions, be responsible for their outcomes, improve quality, and cut costs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powerment: An Component i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ern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ment increases a manager’s ability to get thing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ment increases workers’ involvement, motivation, and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ment gives managers more time to concentrate on their critical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ership Models </a:t>
            </a:r>
            <a:r>
              <a:rPr b="1" lang="ar-JO" sz="3600" spc="-1" strike="noStrike">
                <a:solidFill>
                  <a:srgbClr val="ffff00"/>
                </a:solidFill>
                <a:latin typeface="Arial"/>
              </a:rPr>
              <a:t>النظريات القيادية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rait Model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ظريات السم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mpt to identify personal characteristics that cause for effective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shows that certain personal characteristics do appear to be connected to effective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“traits” are the result of skills and knowledge and effective leaders do not necessarily possess all of these tra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ership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77600" y="1599840"/>
            <a:ext cx="7910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havioral Model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نظريات السلوك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s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basic typ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behavior that many leaders engaged in to influence their subordi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ership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havioral Model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1. Consideration</a:t>
            </a:r>
            <a:r>
              <a:rPr b="1" i="1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eaders show subordinates they trust, respect, and care about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rs look out for the well-being of their subordin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what they can to help subordinates feel good and enjoy the work they per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dership Mod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havioral Model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nitiating struct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 take steps to make sure that work gets done, subordinates perform their work acceptably, and the organization is efficient and eff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s assign tasks to groups and let subordinates know what is expected of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ingency Models of Leadership</a:t>
            </a:r>
            <a:r>
              <a:rPr b="1" lang="ar-JO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JO" sz="2400" spc="-1" strike="noStrike">
                <a:solidFill>
                  <a:srgbClr val="ffff00"/>
                </a:solidFill>
                <a:latin typeface="Arial"/>
              </a:rPr>
              <a:t>النظريات الموقفية أو الظرفية</a:t>
            </a:r>
            <a:r>
              <a:rPr b="1" lang="ar-JO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ntingency Mod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makes a manager an effective leader in one situation is not necessarily what that manager needs to be equally effective in another situation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ther or not a manager is an effective leader is the result of the relationship between what the manager  is like, what he does, and the situation in  which leadership  takes pl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ingency Models of Leadership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iedler’s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leadership is depending on both the </a:t>
            </a:r>
            <a:r>
              <a:rPr b="0" lang="en-US" sz="3000" spc="-1" strike="noStrike">
                <a:solidFill>
                  <a:srgbClr val="00a4a0"/>
                </a:solidFill>
                <a:latin typeface="Times New Roman"/>
                <a:ea typeface="Times New Roman"/>
              </a:rPr>
              <a:t>characteristic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leader and of the </a:t>
            </a:r>
            <a:r>
              <a:rPr b="0" lang="en-US" sz="3000" spc="-1" strike="noStrike">
                <a:solidFill>
                  <a:srgbClr val="00a4a0"/>
                </a:solidFill>
                <a:latin typeface="Times New Roman"/>
                <a:ea typeface="Times New Roman"/>
              </a:rPr>
              <a:t>situ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style is the continuing, characteristic approach to leadership that a manager uses and does not readily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ickly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ingency Models of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iedler’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-oriented sty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جه نحو العلاقات</a:t>
            </a:r>
            <a:r>
              <a:rPr b="0" lang="ar-J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العاملين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 concerned with developing good relations with their subordinates and to be liked by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-oriented sty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توجه نحو المهام</a:t>
            </a: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 / الانتا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 whose primary concern is to ensure that subordinates perform at a high level so the job gets d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use’s Path-Goal The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ingency model of leadership proposing that effective leaders can motivate subordinates to achie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97080">
              <a:lnSpc>
                <a:spcPct val="90000"/>
              </a:lnSpc>
              <a:spcBef>
                <a:spcPts val="700"/>
              </a:spcBef>
              <a:buClr>
                <a:srgbClr val="c488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 identifying the outcomes that subordinates  are trying to obtain from their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97080">
              <a:lnSpc>
                <a:spcPct val="90000"/>
              </a:lnSpc>
              <a:spcBef>
                <a:spcPts val="700"/>
              </a:spcBef>
              <a:buClr>
                <a:srgbClr val="c488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warding subordinates with these outcomes for high-performance and attainment of work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97080">
              <a:lnSpc>
                <a:spcPct val="90000"/>
              </a:lnSpc>
              <a:spcBef>
                <a:spcPts val="700"/>
              </a:spcBef>
              <a:buClr>
                <a:srgbClr val="c488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fying the paths leading to the attainment of work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Nature of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by which a person u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e over others an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otiv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irects their activities to achieve group or organizational 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tivating with Path-Go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210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-Goal identifies four leadership behavi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rective behavi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t goals, assign tasks, show how to do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pportive behavi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ok out for the worker’s best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ticipative behavior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subordinates a say in matters that affec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hievement-oriented behavior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very challenging goals, believing in worker’s 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tivating with Path-Go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behavior to be used depends on the nature of the subordinates and the kind of work they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6781680" y="4952880"/>
            <a:ext cx="2133720" cy="156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Nature of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dividual who is able to employ influence over other people to help achieve group or organization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438280" cy="195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rces of Leadership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152280" y="1308240"/>
            <a:ext cx="8622000" cy="5321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itimate Pow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uthority that a manager has by virtue of his or her position in the fi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ward Po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a manager to give or withhold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ible and intangible rew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managers use reward power to signal to employees that they are doing a good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477120" y="4549680"/>
            <a:ext cx="2286000" cy="205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rcive Po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a manager to punish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amples: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c4884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w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c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t Po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that is based on special knowledge, skills, and expertise that the leader poss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ds to be used in a guiding or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ac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n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: The Key to Leadersh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88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t Power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وة الاقتداء والإعجا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that comes from colleagues’ respect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loya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488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essed by managers who are likable and whom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ordin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wish to use as a role mode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10-29T18:02:4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