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D303-094D-45C2-ABC3-C62E64AE0D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63DF-E632-47D0-8A58-44F5BE926B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2377-FA03-4F93-A809-6210EE7875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F56D-6C98-410B-9D3E-2D5E866D98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22A0-936C-482F-A0E7-EDE5B70E8C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A458-90C9-473C-91AA-DC878A2450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00D7-8EA1-4923-8916-16E36D8A53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F904-E3C6-43EB-B2B4-091C310E57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6CEA-F10A-480F-AC46-63EC09A0AD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9EB0-73EC-4EF7-9CFF-2473BBFB03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DC0B-CBA3-428B-955E-8BEF8AF6D3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1CE6-559B-49C6-AD33-2635951758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4068-5D3D-4556-BB7D-0EAD6A6A4F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C13D-886C-47A4-BD0B-06C00E0BBA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8590-AF54-47EE-89CE-6EA39A9B07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6A85-B074-4819-B516-98522CCAD3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DB2C-B6E2-4A1D-83AF-784EC8B1D1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4553-21A7-4AF4-91A0-F56CC7187A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719E-8345-4B2E-B914-476F2313AB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6DD6-65CD-4271-B9CB-3A51C649AE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76B0-8809-482A-B6F0-69319D20E2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F457-232C-4DA1-8E2B-CADD92C18A1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B5AE-942D-4F84-8451-49F8A48EC3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2329-47F8-4D37-AF86-B1D4199CEE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469-DC07-4E31-8893-1E63ABC8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D693-EF06-41A1-BEB5-40DE1091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E9E2-53E5-4027-AF59-E1FF7732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0724-0B56-4B4B-9128-52BEE8C8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517-A702-43E1-9A3E-5354EB93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07C-2E6D-4CCA-8019-357A28C8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884-1ECA-45E5-8BCD-FDF7E635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4DB5-E9E0-4B0B-A0E1-A28A0161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30A-B429-4242-952C-B949C735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5E6-8E82-43E3-B8F9-C0AFAD61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E2E4-D2EF-4AAA-8070-8E86B56D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469-C49E-404F-86E2-9C9D0583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1EB1-5A6F-48B2-8932-A6451B08AB1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The Systems Development Enviro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914400" y="7632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Third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have a direct role in systems development if the organization is sm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ically involved in allocating resources to and overseeing system development proje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prescribe what methodologies, techniques and tools to b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individuals in the systems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of a Successfu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ility to see organizations and information systems as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potential and limitations of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ility to manage projects, resources, risk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written and oral 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5ADA01C7-F636-4931-8C22-6615B48E2D5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specifications into instructions that the computer underst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program documentation and programs for tes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Mana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power to fund projects and allocate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t general requirements and constraints for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5CA55D2-D0E9-4DEC-9FF6-196E1F225CF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 IS Managers / Technic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base Administ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design, development and maintenance of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nd telecommunications exp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systems involving data and/or voice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Factors Speci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training users and writing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Audi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hat required controls are built into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1C3A238C-AC1E-491E-B00C-22F5D7203DC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s of Information Syste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action Processing Systems (T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 handling of data about business activities (transac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ement Information Systems (M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s raw data from transaction processing system into meaningful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ision Support Systems (D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sed of database designed to help decision ma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interactive environment for decision makers to manipulate data and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ert Systems (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fies and manipulate knowledge instead of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communicate with an ES through interactive dialo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3EF130BC-FCCE-4BC2-BE57-56F5ED4E2FD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 Development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process followed in an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D76F383-A62A-41D3-AFFA-2B69AF71E18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 (SDL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DL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traditional methodology used to develop, maintain, and replace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 six pha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CE1F03C-EB6E-4429-9512-DE1A98372E9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s are not necessarily sequ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hase has a specific outcome and delive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possible to complete some activities in one phase in parallel with some activities of another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terati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phases are repeated as required until acceptable system is 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ir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constantly cycle through the phases at different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 companies use customized life cy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B9A351D-0EB0-4B6A-A290-4E1BEAD4AC9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the 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Ma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and analyze organizations information system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and translation of need into a development sched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s organization to determine whether or not resources should be dedicated to a projec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 preliminary investigation of the problem at h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ation of reasons why system should or should not be developed by th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mining scope of the proposed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206EC5FB-A1DD-43B7-B995-EFA3EA4D76D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of current procedures and informa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 pha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y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requirements and eliminate redunda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te alternative desig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 alterna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 best alterna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5758D32-7F63-4967-95F5-EB2D5A7B22B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x process whereby computer-based information systems are developed and mainta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goal is to improve employee efficiency by applying software solutions to key business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tructured approa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used in order to ensure su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sult of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igned to support specific organizational functions o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forms analysis and design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’s objectives, structure and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how to exploit information technology for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convert the description into logical and then physical system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Log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ntrates on business aspects of th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t of any specific hardware or software platf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hys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specifications are transformed into technical spec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DA67A09-9050-44F0-8D1E-57F83898A2E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d – programmers write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ed – programmers and analysts test individual programs and entire system to find errors and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ed – application software is installed on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ed – documentation and training programs ar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 systematically repaired and improved depending on organization’s needs over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ers modify the system to reflect changing business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a repetition of other life cycle phases and is not a separate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4A8D2072-FB6E-437B-874A-5377E8159E9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ing and Building a scaled-down working version of the system with any computer language (4GLs) or development tools (CA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are involved in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ures requirements in concrete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Application Development (R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s prototyping to delay producing system design until after user requirements ar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198F32B-40E8-436E-92E9-7040A663CD1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pplication Design (J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, Managers and Analysts work together for several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requirements are revi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-aided software engineering (CASE)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 creation of a central repository for system descriptions and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0AEA76A0-90A5-4E17-ABC2-C6AF0546861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oftware Engineering Pro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 used to create an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quence of step-by-step approaches that help develop the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 that the analyst follows to ensure thorough, complete and comprehensive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programs that aid in applying 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key components of an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aw fa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people, objects, and events in an organization such as customer’s account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that have been processed and presented in a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humans can und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A47EAD5-E5F2-4830-A80A-901C279A136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kind of 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system uses is key to good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ous techniques are used to describe data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amo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s of data that move and flow through the system from one place to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 description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t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each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steps in the transformation of data and events that trigger these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A19A1D8F-6BC1-4762-A766-2C31093CD65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is o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ata are moved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 in an information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s creating graphical representations such a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 diagram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are tracked from sources, through intermediate steps and to final destin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ural structure of data is not spec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istence of several data files each locked within different ap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change a single data element all files has to be upd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2F7357F3-CB6B-4A3C-AD8C-5E1D759651A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ic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al organiz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, independent of where and how data ar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describes kinds of data and business relationships among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iness rules depict how organization captures and processes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7341A7C-1FDE-45DC-82C1-387C8836AF7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bases and Application Indepen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ared collection of logically relat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d to facilitate capture, storage and retrieval by multiple users in an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ntrally manag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ed around su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lication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aration of data and definition of data from applications that use thes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21362A7A-A244-43A8-8D90-61C3ED0BD7C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development is a team eff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s work in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B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ther specia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acteristics of Successfu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ersity of backgr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lerance of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and complete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ward structure that promotes shared respo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19589E06-4C8B-4639-BFD5-9184D525AD9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24Z</dcterms:modified>
  <cp:revision>82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