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DDF8F-2057-4666-A42F-ACFBF298B0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9578-0046-4254-810E-4B4BED3DBD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7AAA-1250-4C4A-8C44-03EB6FE67D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65BA-F963-4ED6-8CD1-84D7885CF5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C3D2-18E0-4A2E-B475-F3008E3BA5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0B7F-F252-4865-AC03-350CC91115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3714-4989-4582-9AD1-72D243C058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3CD19-A0F1-4FD4-800A-4843CD196D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9CB6-ECD8-4BA3-9AAC-55F401D4D3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975F-AE98-466C-A9F3-D394EA3E90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55A4-35C4-4DF3-9F1E-3DEB84F9D9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6C5E-0CEF-4672-BAF8-B0CF891593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AB54-68F9-46FD-9125-2519891307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CF06F-EA47-4F38-9403-7F75FEA5112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A134-6B34-4A6E-8FB1-213BE5C02E2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9FDD-6B1F-4E73-A7D4-8617FD6D9C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1E49-3898-4C58-9458-3DEBEB3A99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4304-9A59-452F-9B9C-A3F75D683D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24E8-ADB2-41F1-ADD5-B5614BFBAB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FF3E-484F-489C-A33F-F9718F3693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F61E-68CD-426A-9CD5-80E20EE632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49C7-8D6F-4FCA-AF14-87D22FCDE11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827C-1852-4547-82BD-4E7C4D12F2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D8E4-804A-4E13-A0C4-1448217621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03F3-0132-493E-BCC1-98B0E06F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6C51-B7FB-4812-9057-29D4EF3E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7C4F-69D3-4BC9-9212-8A2E2153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4EDC-1C02-4230-8502-0170994E0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17B4-B0CA-464F-804F-6F8454B5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1300-FB05-49B9-A4CC-1EAE2241D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64E-E729-449B-88FA-262850D8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DE0A-0281-47AD-BFD3-27B48911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B3B2-6FD4-4C0B-AC5D-0508A4DB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48E-7040-41B1-B6FB-AC777FD41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F0D7-DCD3-4F44-9217-5C7268BA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EA1-5E51-4FA8-8CBA-2012D1B9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EE88-D2E4-4B9A-B93C-34C7B102F96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The Systems Development Enviro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14400" y="7632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hird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have a direct role in systems development if the organization is sm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ically involved in allocating resources to and overseeing system development proje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rescribe what methodologies, techniques and tools to b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individuals in the systems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of a Successfu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to see organizations and information systems as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potential and limitations of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ility to manage projects, resources, risk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written and oral 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E47813D-1D3E-4584-AD70-D293426E34C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specifications into instructions that the computer underst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program documentation and programs for tes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Mana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power to fund projects and allocate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t general requirements and constraints for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85570B6-19A5-4BA0-9FFC-D978B7F2052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 IS Managers / Technic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base Administ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design, development and maintenance of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nd telecommunications exp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systems involving data and/or voice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Factors Speci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training users and writing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Audi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hat required controls are built into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290CD27B-54B6-4C52-9A81-9BB957A3888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s of Information Syst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action Processing Systems (T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 handling of data about business activities (transac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ement Information Systems (M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s raw data from transaction processing system into meaningful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sion Support Systems (D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sed of database designed to help decision ma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interactive environment for decision makers to manipulate data and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ert Systems (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fies and manipulate knowledge instead of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communicate with an ES through interactive dialo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A37D0FF-846D-46DF-9B69-7BEC06D30E3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 Development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process followed in an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4C3118C-A84A-4775-91E5-B8D20EE7737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 (SD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DL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traditional methodology used to develop, maintain, and replace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 six pha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E3882CA-AD2F-4075-8BE6-CE9EE974921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s are not necessarily sequ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hase has a specific outcome and delive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possible to complete some activities in one phase in parallel with some activities of another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terati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phases are repeated as required until acceptable system is 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ir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constantly cycle through the phases at differen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 companies use customized life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FDC77C7-4EE5-44E3-A70F-0B496AC69D8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the 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Ma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and analyze organizations information system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and translation of need into a development sched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s organization to determine whether or not resources should be dedicated to a projec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preliminary investigation of the problem at h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 of reasons why system should or should not be developed by th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mining scope of the proposed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2DD1CB24-7A9A-4C32-B9CE-DC19F1C62B6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of current procedures and informa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 pha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y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requirements and eliminate redunda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e alternative desig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 alterna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 best altern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25B77CC-2EC7-4FF0-9B09-4804C5809F1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x process whereby computer-based information systems are developed and mainta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goal is to improve employee efficiency by applying software solutions to key business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tructured approa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used in order to ensure su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sult of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igned to support specific organizational functions o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forms analysis and design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’s objectives, structure and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how to exploit information technology for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convert the description into logical and then physical system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og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ntrates on business aspects of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t of any specific hardware or software platf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hys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specifications are transformed into technical spec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010DB2CB-1580-40C2-A359-6A36E022E01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d – programmers write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ed – programmers and analysts test individual programs and entire system to find errors and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ed – application software is installed on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ed – documentation and training programs ar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 systematically repaired and improved depending on organization’s needs over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ers modify the system to reflect changing business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a repetition of other life cycle phases and is not a separate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C4FAB1F-5F55-4A01-913C-4B48E4E53BC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ing and Building a scaled-down working version of the system with any computer language (4GLs) or development tools (CA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are involved in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ures requirements in concrete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Application Development (R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s prototyping to delay producing system design until after user requirements ar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0475EB17-C881-4DDB-B889-E55456785F2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pplication Design (J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, Managers and Analysts work together for several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requirements are re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-aided software engineering (CASE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creation of a central repository for system descriptions and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9255F95-938A-488E-9572-2F99F9FAF7E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oftware Engineering Pro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 used to create an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quence of step-by-step approaches that help develop the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the analyst follows to ensure thorough, complete and comprehensive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programs that aid in applying 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key components of an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aw fa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people, objects, and events in an organization such as customer’s account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that have been processed and presented in a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humans can und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85D563C-9075-498A-A620-441FDE5B6B2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ind of 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system uses is key to good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ous techniques are used to describe data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amo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s of data that move and flow through the system from one place to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description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t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each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steps in the transformation of data and events that trigger these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68B7E01-3590-4E79-A4DE-EFB7D2460F7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is o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ata are moved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 in an information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s creating graphical representations such a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 diagram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are tracked from sources, through intermediate steps and to final desti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ural structure of data is not spec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istence of several data files each locked within different ap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hange a single data element all files has to be upd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7F8BAD7-153D-4C23-BFC8-FB8AEB2FF6A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ic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al organiz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, independent of where and how data ar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describes kinds of data and business relationships among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iness rules depict how organization captures and processes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BDFC3D0-ABD4-456F-A593-2613D053692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bases and Application Indepen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ared collection of logically relat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d to facilitate capture, storage and retrieval by multiple users in an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ally manag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ed around su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lication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aration of data and definition of data from applications that use thes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15306F8-71D6-4735-8867-5139CAD1B51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development is a team eff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s work in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B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ther specia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acteristics of Successfu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ersity of backgr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lerance of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and complete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ward structure that promotes shared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93DCCBD-23C7-45A1-B843-5C9187DA954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24Z</dcterms:modified>
  <cp:revision>82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