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33EF-31CC-45F6-9D67-5209F5E029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59AD-79C0-4DDF-B97B-FECE62267F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2A30-69EA-436E-A945-5C5309A78C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641B-4C84-46AA-95DF-21415B2379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5A5F-1CF4-44ED-B11B-2A48F00901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1810-CA46-4960-B0B9-45A8684576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F0A7-F0A1-4E81-AED2-7CD5DCAD51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F4CC-7BB3-4FE6-B7E1-78A50A046E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4255-0A55-413B-9D5C-C8751D8601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85FA-B090-4FCA-B8BB-6A60772F31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B8B1-BD4E-4E1A-B36C-226B55F066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3EE-2BD6-4C1E-A82F-D11CE96E44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50FE-FD8C-47EB-A1FE-4FFF5479DB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4584-19F1-4BF6-BE73-FCBAA4B2B2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36A5-2844-4C44-A897-811AC23968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0AC5-F645-42D4-A548-8A9782AF50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F5CF-C288-446C-A82F-912A2B9715C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4417-31F9-4993-8B07-C019DC71B4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2270-D6B0-40E6-8117-37286F2E60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0422-C61F-471F-8A0E-A0C70B57D9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F83B-F7BD-4749-A874-67D3F91F0A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6FA05-36C2-4EB0-948F-C801CA5A99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515B-3DC4-414F-90EA-83A9E26520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2C86-0B45-43CB-8495-E90379EBAB5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366-6F12-4569-8154-394AF996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9A3B-B768-47D2-86F2-AE1E6FA1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C51-ACAB-4812-BD0C-1CDA20B5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7BCB-6003-437C-AF4B-9F4CB574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F05D-E342-49DC-ABD8-DC912323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F785-8B14-4B41-8298-CA4DDBB7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B118-4B20-4C92-8344-238D4C5E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651-9EAF-4022-9557-55EE96C0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278-18DD-4D08-AEEF-9B74B13C5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13B4-F903-4B98-9856-64C3E090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E27-D897-460B-8821-CC21DFEE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DE6-2A5D-403D-BE00-7CF488F7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spcBef>
                <a:spcPts val="300"/>
              </a:spcBef>
              <a:buClr>
                <a:srgbClr val="ccccff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DBEF-F6D8-4FB4-A5B0-64C8B38A2C7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The Systems Development Enviro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914400" y="76320"/>
            <a:ext cx="7467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Modern Systems Analysis</a:t>
            </a:r>
            <a:br>
              <a:rPr sz="4000"/>
            </a:br>
            <a:r>
              <a:rPr b="1" lang="en-US" sz="4000" spc="-1" strike="noStrike">
                <a:solidFill>
                  <a:srgbClr val="1f497d"/>
                </a:solidFill>
                <a:latin typeface="Arial"/>
              </a:rPr>
              <a:t>and Design</a:t>
            </a:r>
            <a:br>
              <a:rPr sz="40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Third Edition</a:t>
            </a: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have a direct role in systems development if the organization is smal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ypically involved in allocating resources to and overseeing system development proje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y prescribe what methodologies, techniques and tools to b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individuals in the systems development proc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of a Successfu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Analy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naly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stem thin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ility to see organizations and information systems as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potential and limitations of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ility to manage projects, resources, risk and 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Interpers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ffective written and oral communication ski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473751D-7B1C-4827-BAB8-FB00D4DF6DA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vert specifications into instructions that the computer understa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program documentation and programs for testing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siness Manag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ve power to fund projects and allocate resour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t general requirements and constraints for pro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5E90DD6F-9C3E-44DC-9EC8-50ACD25758B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ther IS Managers / Technici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base Administr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design, development and maintenance of databa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twork and telecommunications expe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 systems involving data and/or voice communi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uman Factors Speciali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olved in training users and writing 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nal Audi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sure that required controls are built into the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BCD2AE3-6F40-4A90-8FB2-2E0A47D6E12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es of Information Syst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d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094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nsaction Processing Systems (T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e handling of data about business activities (transaction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nagement Information Systems (MI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verts raw data from transaction processing system into meaningful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cision Support Systems (D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osed of database designed to help decision ma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interactive environment for decision makers to manipulate data and mod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ert Systems (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difies and manipulate knowledge instead of info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communicate with an ES through interactive dialo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01A8720-89E9-467C-8372-7BA80F9082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 Development 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ndard process followed in an orga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217A31B-9485-48D7-B711-27E67CFB398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 (SDL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DL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traditional methodology used to develop, maintain, and replace information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 six phas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AECFFFF9-E759-4A59-B205-6E55F351692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hases are not necessarily sequenti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ch phase has a specific outcome and deliver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possible to complete some activities in one phase in parallel with some activities of another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terativ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phases are repeated as required until acceptable system is fou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metimes life cycle i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pira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– constantly cycle through the phases at differen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vidual companies use customized life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63CA3BE3-43A9-41EC-9E4C-6F93D0641C2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ases of the 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352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Ma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and analyze organizations information system nee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oritization and translation of need into a development schedu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elps organization to determine whether or not resources should be dedicated to a projec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 and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al preliminary investigation of the problem at ha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entation of reasons why system should or should not be developed by th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ermining scope of the proposed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87368E4-115A-4E6D-9177-26133C16804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udy of current procedures and information syste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 pha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dy curr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ucture requirements and eliminate redunda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nerate alternative desig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re alterna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commend best alternativ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BD31436A-3943-470B-A5DB-DC3A311E6E5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3352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formation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omplex process whereby computer-based information systems are developed and maintai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 goal is to improve employee efficiency by applying software solutions to key business tas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tructured approac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must be used in order to ensure suc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lication Softwa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Result of systems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igned to support specific organizational functions o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erforms analysis and design based up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of organization’s objectives, structure and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nowledge of how to exploit information technology for advan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67652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sig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convert the description into logical and then physical system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Log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centrates on business aspects of the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ependent of any specific hardware or software platfor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hysical Desig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ogical specifications are transformed into technical specific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9E4B851-C9EE-4BFC-BCAB-8300362F42D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ystems Development Life 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440" y="1523520"/>
            <a:ext cx="8077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ded – programmers write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ed – programmers and analysts test individual programs and entire system to find errors and corr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lled – application software is installed on hardwa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ed – documentation and training programs ar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formation system is systematically repaired and improved depending on organization’s needs over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grammers modify the system to reflect changing business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t is a repetition of other life cycle phases and is not a separate pha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EA81F37-295C-4F7F-8BFB-0994D7363DC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ty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ing and Building a scaled-down working version of the system with any computer language (4GLs) or development tools (CA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vantag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s are involved in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tures requirements in concrete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pid Application Development (RA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tilizes prototyping to delay producing system design until after user requirements are cl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F2009FF4-63CA-435E-8665-789279B4E95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Application Design (J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rs, Managers and Analysts work together for several da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 requirements are review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ed meet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-aided software engineering (CASE) t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ilitate creation of a central repository for system descriptions and specif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9FD7BDC6-AA60-415B-A1A4-276AC1AE9F2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Software Engineering Proces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094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process used to create an information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Methodolog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quence of step-by-step approaches that help develop the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 that the analyst follows to ensure thorough, complete and comprehensive analysis and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uter programs that aid in applying techni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ree key components of an 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aw fac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bout people, objects, and events in an organization such as customer’s account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that have been processed and presented in a for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at humans can underst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0D73CF6E-D7E1-444F-ABCB-54433E31321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 and Proce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derstanding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ourc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kind of 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 system uses is key to good system de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arious techniques are used to describe data and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relationship amo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s of data that move and flow through the system from one place to anoth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lude description of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est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each data f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ing Log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cribe steps in the transformation of data and events that trigger these ste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8852A244-4C83-4765-971C-83655EAD7B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762120" y="15998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cess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 is on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whe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ata are moved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 in an information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s creating graphical representations such a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ata flow diagram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are tracked from sources, through intermediate steps and to final destin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tural structure of data is not specifi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istence of several data files each locked within different ap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change a single data element all files has to be upda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D6CDE277-7336-4CD6-B6BD-7D39E42C805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proaches to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-Oriented Approa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pict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al organiz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data, independent of where and how data are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ata model describes kinds of data and business relationships among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siness rules depict how organization captures and processes th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3230DC49-79EA-45FA-9CD6-E264A6BFE30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atabases and Application Independ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hared collection of logically related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rganized to facilitate capture, storage and retrieval by multiple users in an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entrally manag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igned around subj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usto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ppli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pplication Independ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paration of data and definition of data from applications that use these da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437631BF-A999-445B-BBF5-6EE65B7446C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rganizational Responsibilities in Systems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development is a team eff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ystems Analysts work in a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te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ject Ba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S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gramm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Us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ther speciali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racteristics of Successful 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ersity of backgrou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lerance of divers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and complete communi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u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ward structure that promotes shared responsibi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fld id="{C8E554E3-4743-4D0E-AD03-21F777C7142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1:24Z</dcterms:modified>
  <cp:revision>82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