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BBA0-F61D-4988-9C4E-27A6135B1F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F4FC-024F-4806-938B-A1032B95A2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38E9-6B68-4812-85D8-0F295C753C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0889-E6D7-4A37-A380-56859772A0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8801-6B1C-469C-BFEE-30E7D0B4E1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58EE-C7B5-4D38-B170-6B4C6E796D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62C7-0F7A-4702-BA44-79A7071764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0DC1-895C-4ABB-89C1-4F3253658F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C619-8965-440D-8E47-A9FEAC65E2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165E-BF75-41A3-AE59-FF43196119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01CE-92D3-49F8-8066-D4539F57A7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C128-73DD-487B-AF78-A287DD5761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237C-DE27-46EE-8805-819A0128C1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E501-3586-4342-91EA-C128EE31A2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15F2-71E8-4E79-907A-0791EBA3DC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6D42-C499-4973-872E-3F6AFB15B6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E2A9-E43F-4EDE-8CE9-5C8C049CF9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4D54-C3A1-4749-BC3A-4F0B4740590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1AEC-7035-441B-814C-8C6C6D4814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1124-65D1-4782-B690-4DF044A438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8AD3-FAB8-44CC-AF5B-765595FF76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23BF-24C2-4345-9E2A-91AE1E07B7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85A3-1873-4DAE-B77C-442510E4F1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F885-6ACF-491A-A2CA-290982F407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37C-F75B-4CAB-BF63-F002F4EF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F1DC-21A5-476C-910F-20627586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C727-0A57-48EC-AE0E-46BBD417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2365-664B-4B50-949F-A63037C1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731-402C-454C-949E-DFEDCBA3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7D39-D880-45A1-AE05-BDCF1C8A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4FD-8931-458F-AFD5-4A3A5F7B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B41F-AE88-49D4-B293-F21A3301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1C9-7C34-4FE9-887A-9CC8C78AB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F378-00A5-446D-ACF4-C12757AF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FFB-D1F2-403D-9989-773B9A06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0B18-6056-4B39-B115-F8D2EA97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0FF9-80B6-4CE5-98FE-E85B969C9DD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hird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individuals in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9EEDCFA-A9C0-4163-AB0B-F2FDB5803F9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program documentation and programs for tes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power to fund projects and allocate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t general requirements and constraints fo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CB09CFE-C1E9-4494-A6CF-9814D80ABD7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IS Managers / Tech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base Administ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design, development and maintenance of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nd telecommunications exp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systems involving data and/or voice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Factors Speci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training users and writing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ud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hat required controls are built into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485487F-5DAA-4254-BF73-0D8914F03D7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action Processing Systems (T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Information Systems (M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sion Support Systems (D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ed of database designed to help decision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t Systems 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fies and manipulate knowledge instead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communicate with an ES through interactive dia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E63E389-43DB-4B09-8B74-C94F978D057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Develop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process followed in an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9429944-B874-4542-9352-B21EE88231E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 (SD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DL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six pha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E9283E2-0B99-47F8-BCB6-F7A15FB94FE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s are not necessarily sequ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hase has a specific outcome and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terati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ir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constantly cycle through the phases at differen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 companies use customized life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C64FD89-D2D5-40E0-869C-4816F13495C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the 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Ma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and analyze organizations information system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preliminary investigation of the problem at h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scope of the proposed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293934A2-2D7A-4061-A65B-684DD02ABAF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of current procedures and inform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 pha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y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requirements and eliminate redunda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alternative desig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 alterna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 best altern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4B27BF05-75DF-4C6E-ABEC-548BFD7F171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tructured 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used in order to ensure su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sult of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s analysis and design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how to exploit information technology for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og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ntrates on business aspects of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t of any specific hardware or software plat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hys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1621A8A-F13E-4BE6-9958-B551878DCA5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d – programmers writ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ed – application software is installed on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ed – documentation and training programs ar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30C061D-834B-4B04-B6D5-01B4F95EC5D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are involved in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ures requirements in concrete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Application Development (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36030DD-93AD-49ED-AEFC-B555031252A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pplication Design (J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, Managers and Analysts work together for several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requirements are re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-aided software engineering (CASE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creation of a central repository for system descriptions and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4F7EA0BF-3E07-49E7-B5D5-E5F00595E0C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oftware Engineer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 used to create an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programs that aid in applying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key components of an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aw fa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that have been processed and presented in a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umans can und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17E52A11-7410-48C1-B9D9-60CE22A1335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ind of 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ystem uses is key to good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amo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description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t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each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43AB8C0-730B-45BB-A90F-61C75EAC719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is 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ata are moved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 in an inform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 diagram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ural structure of data is not 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hange a single data element all files has to be upd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F892F3F-F72B-4CA6-AA03-669130EE3E7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ic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al organiz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, independent of where and how data ar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F3F556DC-A8BD-43CB-B0EC-3FBA0763FB7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bases and Application In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1B2F7A3F-3B9D-400D-9A6F-EAE4DAA4ECF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development is a team eff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s work in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ther specia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istics of Successfu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sity of backgr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lerance of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and complete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ward structure that promotes shared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284E3FD-680F-4B6B-9BCE-B8B1BE72E00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24Z</dcterms:modified>
  <cp:revision>82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