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3D9C-AF34-4094-8BC8-DB3573CAD0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05D6-139B-47FD-8C28-5BE0B8C5EE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4619-7F01-4844-BF0E-12D061AC1D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379E-1012-4928-81CB-E9B24F9394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1D98-D125-43A5-9C3F-996855FB72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05F5-5AD0-4F36-A6AA-F46D06CF70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C0BA-35E3-43D0-9464-AD18A1F1F7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9BB6-5EC3-4D1F-9689-B9D3E254B5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1D71-010B-4AB9-877A-9BB46A05A7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4FFE-E6F9-4401-B9EB-F720DCA547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C924-823C-40B1-8340-850AA019DF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3703-58D1-4542-AF4A-AE8B15F00B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A5C3-D6CE-4CFD-BBE0-E9E2AE125B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DE52-6B00-417C-951B-B6BAC22726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ED58-20AA-4C8B-BF40-1DE91D240A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CAB3-2C1B-43F0-B592-908CF2D3E4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2351-ADDB-45BA-B8CA-BBD78BEA8C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3590-CCF2-4A51-9B20-90AEA938EB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60D2-F4B5-469A-8758-DACA25D149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8FD2-443A-4B4E-8001-DCB18BB073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F024-37A5-41E5-A3CA-28FDCDF0D0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86FC-7573-4446-AA45-BD7199E650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361E-BFD7-461E-BBD4-B846D5E496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E020-EF10-4171-9D75-00A583FDC5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6F0-7A9B-4B5E-B46B-5CE58185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BE06-8355-4164-8F4D-19872E6E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4A36-590E-4D3F-8F99-8409B181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4FC-0320-4973-8DCE-C2E143DC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BD1-8243-4649-BAFE-9CD10536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058-7D6A-454B-8531-7A9E35CA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0F73-567F-4903-905F-163732F8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AAD9-723D-4A6E-96B0-6D7D10C3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0A8D-4B57-47B9-8B8B-BDBA71C9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768-ABBE-4A37-8395-3856C13D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E53-0440-4C4A-8149-64CDD9D2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74B0-1436-4342-8BF5-29E07456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C050-F7B6-4EBF-8F86-BB32E4247A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The Systems Development Enviro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914400" y="7632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Third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have a direct role in systems development if the organization is sm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ically involved in allocating resources to and overseeing system development proje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prescribe what methodologies, techniques and tools to b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individuals in the systems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of a Successfu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ility to see organizations and information systems as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potential and limitations of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ility to manage projects, resources, risk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written and oral 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3DA359AE-37A9-4E94-9F44-A94B265EAD5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specifications into instructions that the computer underst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program documentation and programs for tes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Mana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power to fund projects and allocate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t general requirements and constraints for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5C73528F-04A8-4583-BD37-3DE1BFB6084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 IS Managers / Technic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base Administ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design, development and maintenance of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nd telecommunications exp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systems involving data and/or voice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Factors Speci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training users and writing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Audi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hat required controls are built into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7AF219F-5C33-4D06-8BCF-75AED6701EB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s of Information Syste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action Processing Systems (T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 handling of data about business activities (transac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ement Information Systems (M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s raw data from transaction processing system into meaningful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ision Support Systems (D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sed of database designed to help decision ma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interactive environment for decision makers to manipulate data and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ert Systems (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fies and manipulate knowledge instead of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communicate with an ES through interactive dialo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26434F9-2BCA-4E78-9D2E-00A0A2213AA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 Development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process followed in an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BBD8816-4CDF-4292-8B78-93CEFD8A8C9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 (SDL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DL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traditional methodology used to develop, maintain, and replace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 six pha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422C48D0-F4CC-42A2-8A7C-01BA5B4AED7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s are not necessarily sequ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hase has a specific outcome and delive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possible to complete some activities in one phase in parallel with some activities of another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terati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phases are repeated as required until acceptable system is 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ir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constantly cycle through the phases at different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 companies use customized life cy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8C35871-A9AC-4B69-B9B3-D88CB36EAA5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the 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Ma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and analyze organizations information system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and translation of need into a development sched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s organization to determine whether or not resources should be dedicated to a projec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 preliminary investigation of the problem at h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ation of reasons why system should or should not be developed by th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mining scope of the proposed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A69FFAB-A7A9-4916-948A-83864EB43BD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of current procedures and informa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 pha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y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requirements and eliminate redunda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te alternative desig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 alterna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 best alterna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38D778CF-3B68-401A-8AFE-B8708E927C1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x process whereby computer-based information systems are developed and mainta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goal is to improve employee efficiency by applying software solutions to key business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tructured approa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used in order to ensure su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sult of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igned to support specific organizational functions o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forms analysis and design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’s objectives, structure and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how to exploit information technology for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convert the description into logical and then physical system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Log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ntrates on business aspects of th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t of any specific hardware or software platf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hys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specifications are transformed into technical spec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5698E7CC-FB57-4980-8B07-D6818B6C71C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d – programmers write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ed – programmers and analysts test individual programs and entire system to find errors and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ed – application software is installed on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ed – documentation and training programs ar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 systematically repaired and improved depending on organization’s needs over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ers modify the system to reflect changing business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a repetition of other life cycle phases and is not a separate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AD8FF91-12BD-4B15-BCF2-65FCDEBDE24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ing and Building a scaled-down working version of the system with any computer language (4GLs) or development tools (CA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are involved in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ures requirements in concrete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Application Development (R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s prototyping to delay producing system design until after user requirements ar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ACF656C0-79BF-4DA8-9C1D-DD4D3468C9A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pplication Design (J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, Managers and Analysts work together for several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requirements are revi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-aided software engineering (CASE)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 creation of a central repository for system descriptions and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49F0EA2D-7DCA-4D6D-995A-036B76A34DB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oftware Engineering Pro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 used to create an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quence of step-by-step approaches that help develop the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 that the analyst follows to ensure thorough, complete and comprehensive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programs that aid in applying 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key components of an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aw fa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people, objects, and events in an organization such as customer’s account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that have been processed and presented in a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humans can und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DED2243-97DD-43C4-AD01-1949387EDC6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kind of 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system uses is key to good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ous techniques are used to describe data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amo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s of data that move and flow through the system from one place to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 description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t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each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steps in the transformation of data and events that trigger these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35E2D40-6739-4831-9A5B-3ACC6AFAA4C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is o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ata are moved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 in an information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s creating graphical representations such a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 diagram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are tracked from sources, through intermediate steps and to final destin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ural structure of data is not spec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istence of several data files each locked within different ap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change a single data element all files has to be upd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F375F4E-3260-4564-A6DE-AAC2555BED9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ic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al organiz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, independent of where and how data ar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describes kinds of data and business relationships among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iness rules depict how organization captures and processes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AAD5DD3-34B3-4611-A94B-6F742B0BF68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bases and Application Indepen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ared collection of logically relat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d to facilitate capture, storage and retrieval by multiple users in an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ntrally manag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ed around su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lication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aration of data and definition of data from applications that use thes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F8296380-9315-46EF-B1BB-D960BF75477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development is a team eff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s work in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B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ther specia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acteristics of Successfu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ersity of backgr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lerance of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and complete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ward structure that promotes shared respo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D613A78-2F36-4F7D-96B9-D9692F1D4E7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24Z</dcterms:modified>
  <cp:revision>82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