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4156-FEF2-41EB-A619-8024A44693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566-75A2-4482-A566-78F8F6D8F719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F3C-1934-492C-AAFE-5181C75AF18E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ECF-A64A-4CE4-AF99-81133451F2E1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B13-52BD-49AC-A6E6-E942CAF714D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4FFC-47B4-4BEF-8786-979689123B29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6C5-A98B-406E-A71C-301FE7D432C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0F83-B147-4635-BF6A-4FCBC4BB9A0C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297-4B4E-45EA-B063-14B10B3AB2BE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662-FCA3-41CD-94A1-E28BB7DD5768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923-3582-429D-8445-82B2D5A412C2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6D36-AAE3-4A87-976F-D966EB8DEB14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84BC-35C7-404D-A996-6367850339D0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796D-AF5D-43D1-B2F8-ACF4005F1A1E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E25-7289-44C5-BCE0-8F8B3A849E29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8C73-BCD6-411E-A777-AF555D0FC5C8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E7B9-7FB5-443D-96D9-8A99D71773BC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DD0E-93A4-4EA4-A77B-6010BEEB1392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8DAC-9E90-4756-95D5-AE7E5F147561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11C-4BF2-4AE6-86DA-86892FA6467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A941-D634-44C6-9C6F-6C4E8900EBA6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B2E-7CBF-4FE7-B543-56527A31AB0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F15-E4B7-4C00-9266-BBDC4241BB97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9CD8-857B-484B-9925-CF877AC8CDE4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9E75-3836-4413-AC25-E75C8C2F6D64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A031-5C6D-416B-B3A7-44EC74D1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221B-AFE5-40AC-A531-F162C7B0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AFE9-21FE-4C7D-9445-A961C04A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9B54-0248-4699-89A0-7D33C60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9BCC-A8EF-48B3-B198-2807623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DEC5-6E3C-4801-85D1-E12E420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2C2A-E625-4B20-8CFE-334B2684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1D35-D359-4181-AAF8-17C44FB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7670-59A7-4B3F-BDE8-0F14123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22F3-CEAE-48E2-BE10-F5866CF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592-B648-4A15-BA3D-DAE94C1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711D-5057-4735-BEDE-572CDDB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5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algn="ctr">
              <a:spcBef>
                <a:spcPts val="45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D7C-D1C5-40C8-9BFA-FEB7283C7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Chapter 1</a:t>
            </a: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1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Arial"/>
                <a:ea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675e47"/>
                </a:solidFill>
                <a:latin typeface="Arial"/>
                <a:ea typeface="Arial"/>
              </a:rPr>
              <a:t>and Design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68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ystems development is a team eff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80000"/>
              </a:lnSpc>
              <a:spcBef>
                <a:spcPts val="68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ystems Analysts work in a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e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Ba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clud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S Man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gramm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Us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Other specialis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haracteristics of Successful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iversity of backgroun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olerance of diver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lear and complete communic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ru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utual Respec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Reward structure that promotes shared responsibil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0D62B6F6-3F2C-42A0-A9F4-500BB5DF5407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S Man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s Analy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Key individuals in the systems development proc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lnSpc>
                <a:spcPct val="80000"/>
              </a:lnSpc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D5E03A73-6E89-4EFC-92AA-1FE71E3A45E3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gramm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Write program documentation and programs for testing syste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Business Manag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ave power to fund projects and allocate resour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et general requirements and constraints for projec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622121B5-EBFD-41DC-A317-5BF93DBFC6C0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Other IS Managers / Technici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base Administ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volved in design, development and maintenance of datab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Network and telecommunications expe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velop systems involving data and/or voice communic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Human Factors Specialis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volved in training users and writing docu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nternal Audito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Ensure that required controls are built into the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69D3C9A5-D2F1-4170-8D42-D58F29B165C1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nd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Transaction Processing Systems (TP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Management Information Systems (MI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cision Support Systems (DS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osed of database designed to help decision mak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Expert Systems (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difies and manipulate knowledge instead of in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sers communicate with an ES through interactive dialog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D02F66DB-25DA-4471-96DA-55F2A2EA970F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 Development Methodolog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tandard process followed in an organiz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of information syste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6BAEF1DA-B847-4176-9171-3E81EFBA869F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 (SDLC)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DLC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 six phas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Identification and Selec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Initiation and Plan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581E80B3-A9CC-48FD-AA33-6779007769C9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hases are not necessarily sequenti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Each phase has a specific outcome and deliverab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ometimes life cycle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erativ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ometimes life cycle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piral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– constantly cycle through the phases at different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dividual companies use customized life cyc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963B8A0D-F562-43C2-A73C-FF2CD1C44BEF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675e47"/>
              </a:solidFill>
              <a:latin typeface="Cambria"/>
              <a:ea typeface="Times New Roman"/>
            </a:endParaRPr>
          </a:p>
        </p:txBody>
      </p:sp>
      <p:pic>
        <p:nvPicPr>
          <p:cNvPr id="104" name="Picture 8" descr="Noname.jpg"/>
          <p:cNvPicPr/>
          <p:nvPr/>
        </p:nvPicPr>
        <p:blipFill>
          <a:blip r:embed="rId1"/>
          <a:stretch/>
        </p:blipFill>
        <p:spPr>
          <a:xfrm>
            <a:off x="2347920" y="2624040"/>
            <a:ext cx="3838680" cy="2752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682360" y="601992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Arial"/>
              </a:rPr>
              <a:t>spiral life cycle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Introduction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s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tructured approach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must be used in order to ensure succes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4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Phases of the 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ject Identification and Selec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wo Main Activit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dentify and analyze organizations information system nee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ject Initiation and Plan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wo Activit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Formal preliminary investigation of the problem at ha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termining scope of the proposed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A2E5D23D-85CE-4614-8389-2BFE2B5C204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tudy of current procedures and information syste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ub phas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termine require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  <a:ea typeface="Arial"/>
              </a:rPr>
              <a:t>Study current system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  <a:ea typeface="Arial"/>
              </a:rPr>
              <a:t>Structure requirements and eliminate redundanci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Generate alternative desig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mpare alternativ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Recommend best alternativ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822F9DF1-D6CE-437D-991D-64FA83A6033C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Logical 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ncentrates on business aspects of the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dependent of any specific hardware or software platf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Physical 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20DC9839-85DF-4F49-A660-335E5EB81343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Coded – programmers write progra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Installed – application software is installed on hardwa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Supported – documentation and training programs are provid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F1A57C6B-2533-4D73-9F9D-86ACD6859186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Prototyp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dvant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sers are involved in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aptures requirements in concrete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- Prototyping  is a form of rapid application developmen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Rapid Application Development (RAD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24CCB130-15DC-4B48-AAD4-C3040C35F186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Joint Application Design (JA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Users, Managers and Analysts work together for several days in a series of intensive meeting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 requirements are review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615C8CA1-5514-4CBE-A82B-B7EEA2C8BF8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Introduction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pplication Softwa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Result of systems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ystems Analys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performs analysis and design based upon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Knowledge of how to exploit information technology for advantag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4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75e47"/>
                </a:solidFill>
                <a:latin typeface="Cambria"/>
              </a:rPr>
              <a:t>Software Engineering Process</a:t>
            </a: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 process used to create an information syste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Methodolo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echniqu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oo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uter programs that aid in applying techniqu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7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 and Process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Three key components of an information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Flow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cessing Logi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vs.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Raw fact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ata that have been processed and presented in a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that humans can under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57EDD4B9-1F8A-41C3-BD3C-5A8A9C1A74E1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 and Process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nderstanding the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ourc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kind of data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 system uses is key to good system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relationship among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 Fl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clude description of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source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tination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for each data flow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cessing Logi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585354BB-3794-40E7-AD60-5AB280303080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cess-Oriented Approac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Focus is o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wh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data are moved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ransform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of data in an information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flow diagram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har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Natural structure of data is not specif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Disadvantag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o change a single data element all files has to be updat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85B7EBFD-2BF0-4FC4-BF63-46741A81FE29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-Oriented Approac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pict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deal organiz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of data, independent of where and how data are u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3054899F-EBEB-475D-83CD-AAC410CA1683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bases and Application Independenc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38C76065-F329-483F-BBDD-79EB31007F42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1T19:09:46Z</dcterms:modified>
  <cp:revision>87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