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EE17-70B5-46D6-A015-1CBF21D8EF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7860-9C02-4F27-A958-BD02F76A9A14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0DC7-44A8-46D4-81EC-29BC4ACE9770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23D6-4435-4D13-A831-DE9359CAAB47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85BC-2ADD-447D-8D21-49E47ED6807A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9E78-077D-4BEA-B4B3-31C053703F29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E49-1FE2-4062-A8DD-B387CA4C147D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BFB8-89FF-44BE-A250-99C1B625C360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402-D269-467A-95BE-B8D55DAFE2A2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5BC4-2BB3-42B4-B8EB-720F056ADD92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6C43-9DE0-4A52-AECB-8E8031DD6A54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0FC1-8852-4AED-8BD5-8060F7BA5007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FC57-B085-4BDC-9F91-7E2CB6EA33B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B450-EECF-4FF0-B7AA-15A06E3C086C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E769-8036-46E4-B237-5DB6D92A340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CF4A-B17E-49EF-871F-4F7638C91072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12A5-125B-49EE-94C9-479F71C0D9B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4882-31CF-4D78-8642-04214908965D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006B-DF06-4C9C-80A7-ECAAEA4C5273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9329-9CD9-4CF1-9B66-F40E053BAE1D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DBEB-5402-4524-9F65-14154C04EFBA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7501-8C36-483E-AA5D-3CEB518979D7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E7C6-32D7-4F9F-84E6-1FAA1F329DD5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9A0B-F545-423A-A2A1-E51967E7543C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151-476E-45BD-BFF1-EDE81ED614A7}" type="slidenum">
              <a:rPr b="0" lang="en-US" sz="1200" spc="-1" strike="noStrike">
                <a:solidFill>
                  <a:srgbClr val="2f2b2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6675-6799-4E91-8D03-B4A7F78CD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740B2-F5BF-41EF-8FD0-03E3481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BFB8-890D-4715-AB32-40E889A8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A028-11EB-4D7B-8DB5-FBE2469E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2401-DCF3-40E5-A079-8108F1C2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0825E-8874-4E35-8475-EDEFEB4F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3EC1-05DF-48E6-94BC-2A872D01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D60E-0BA4-46BA-9509-2C481DF7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466C1-97E8-4876-81A3-13C84670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D7B7-65F0-47FA-BF2A-973D6AC8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89E1-3BFA-4C8E-85E3-A3367F26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5188-7107-4685-A0B7-3EA405C8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d25814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algn="ctr">
              <a:spcBef>
                <a:spcPts val="45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algn="ctr">
              <a:spcBef>
                <a:spcPts val="451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BC10-A8F4-4607-99CE-0DCBCEFD19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Chapter 1</a:t>
            </a: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e8d8c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1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75e47"/>
                </a:solidFill>
                <a:latin typeface="Arial"/>
                <a:ea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675e47"/>
                </a:solidFill>
                <a:latin typeface="Arial"/>
                <a:ea typeface="Arial"/>
              </a:rPr>
              <a:t>and Design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80000"/>
              </a:lnSpc>
              <a:spcBef>
                <a:spcPts val="68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ystems development is a team eff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>
              <a:lnSpc>
                <a:spcPct val="80000"/>
              </a:lnSpc>
              <a:spcBef>
                <a:spcPts val="68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ystems Analysts work in a </a:t>
            </a:r>
            <a:r>
              <a:rPr b="1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ea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Ba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clud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S Man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gramm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Us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Other specialis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3240" indent="-226080">
              <a:lnSpc>
                <a:spcPct val="7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haracteristics of Successful Tea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iversity of backgroun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olerance of diver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lear and complete communic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ru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utual Respec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994680" indent="-226080">
              <a:lnSpc>
                <a:spcPct val="7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Reward structure that promotes shared responsibil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39480" indent="-2260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A654E9B4-83FD-487C-A298-F62090C3BB7D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S Man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s Analy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Key individuals in the systems development proc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lnSpc>
                <a:spcPct val="80000"/>
              </a:lnSpc>
              <a:spcBef>
                <a:spcPts val="451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f2b2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454AC7EC-FA6C-4C04-B366-45748DF06C29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gramm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Write program documentation and programs for testing syste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Business Manag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ave power to fund projects and allocate resourc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et general requirements and constraints for projec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3DEA303C-94F2-4400-A62D-EEBF49C15A05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Organizational Responsibilities in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Other IS Managers / Technici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base Administ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volved in design, development and maintenance of datab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Network and telecommunications expe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velop systems involving data and/or voice communicatio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Human Factors Specialis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volved in training users and writing document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nternal Audito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Ensure that required controls are built into the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03CF4427-9001-4457-A624-37ADBE0F9071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nd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Transaction Processing Systems (TP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Management Information Systems (MI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cision Support Systems (DS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osed of database designed to help decision maker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Expert Systems (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difies and manipulate knowledge instead of in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sers communicate with an ES through interactive dialog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53253396-1DBE-4B19-B243-7862B4229B2E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 Development Methodolog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tandard process followed in an organiz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of information syste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85259468-BE5A-4E14-91B5-E9A4C26EB2E9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 (SDLC)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DLC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 six phas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Identification and Selec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ject Initiation and Plann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BA79D5FB-A163-4CBE-A9E7-A0D68444358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hases are not necessarily sequentia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Each phase has a specific outcome and deliverab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ometimes life cycle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erativ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ometimes life cycle i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piral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– constantly cycle through the phases at different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dividual companies use customized life cyc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859C26A6-7150-45EE-B8F6-9966FD87F91E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675e47"/>
              </a:solidFill>
              <a:latin typeface="Cambria"/>
              <a:ea typeface="Times New Roman"/>
            </a:endParaRPr>
          </a:p>
        </p:txBody>
      </p:sp>
      <p:pic>
        <p:nvPicPr>
          <p:cNvPr id="104" name="Picture 8" descr="Noname.jpg"/>
          <p:cNvPicPr/>
          <p:nvPr/>
        </p:nvPicPr>
        <p:blipFill>
          <a:blip r:embed="rId1"/>
          <a:stretch/>
        </p:blipFill>
        <p:spPr>
          <a:xfrm>
            <a:off x="2347920" y="2624040"/>
            <a:ext cx="3838680" cy="2752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682360" y="601992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2b20"/>
                </a:solidFill>
                <a:latin typeface="Arial"/>
                <a:ea typeface="Arial"/>
              </a:rPr>
              <a:t>spiral life cycle </a:t>
            </a:r>
            <a:endParaRPr b="0" lang="en-US" sz="32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Introduction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s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tructured approach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must be used in order to ensure succes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4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Phases of the 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ject Identification and Selec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	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wo Main Activit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dentify and analyze organizations information system need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ject Initiation and Plan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wo Activiti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Formal preliminary investigation of the problem at ha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termining scope of the proposed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2611192D-8184-4583-94EA-5965355AB427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nalys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tudy of current procedures and information syste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Sub phase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termine requiremen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  <a:ea typeface="Arial"/>
              </a:rPr>
              <a:t>Study current system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95a39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  <a:ea typeface="Arial"/>
              </a:rPr>
              <a:t>Structure requirements and eliminate redundancies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Generate alternative desig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mpare alternativ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Recommend best alternativ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D2AB0A4C-E1D0-421F-AF60-3DA8D54666DC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sign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Logical 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oncentrates on business aspects of the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dependent of any specific hardware or software platfor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Physical Desig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5B2B935A-E12F-48D2-8A6B-300535A48120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Systems Development Life Cycl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Implement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 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Coded – programmers write programs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Installed – application software is installed on hardwa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51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  <a:ea typeface="Arial"/>
              </a:rPr>
              <a:t>Supported – documentation and training programs are provid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Mainten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6F7B73F4-70E9-4E07-897F-A54B2151F21E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Prototyp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dvantages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sers are involved in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aptures requirements in concrete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- Prototyping  is a form of rapid application development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Rapid Application Development (RAD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9B16DA16-FA93-4AFA-B820-BB787EF0F1D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  <a:ea typeface="Arial"/>
              </a:rPr>
              <a:t>Joint Application Design (JAD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Users, Managers and Analysts work together for several days in a series of intensive meeting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System requirements are review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A5CB9E80-853C-4239-A4C0-1EBE762FC12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Introduction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pplication Softwar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Result of systems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ystems Analyst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performs analysis and design based upon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Knowledge of how to exploit information technology for advantag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4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75e47"/>
                </a:solidFill>
                <a:latin typeface="Cambria"/>
              </a:rPr>
              <a:t>Software Engineering Process</a:t>
            </a:r>
            <a:endParaRPr b="0" lang="en-US" sz="25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A process used to create an information syste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Consists of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Methodolo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echniqu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Too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Computer programs that aid in applying techniqu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7</a:t>
            </a:r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 and Process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49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Three key components of an information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Flow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Processing Logic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45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vs.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Raw fact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form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ata that have been processed and presented in a for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	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that humans can under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lnSpc>
                <a:spcPct val="8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21CEC63F-8C42-404B-A3FF-A4DAFD3D2788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 and Processes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Understanding the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sourc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kind of data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 system uses is key to good system desig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relationship among dat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 Flow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Include description of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source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0" i="1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tination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 for each data flow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cessing Logi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  <a:ea typeface="Arial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960EAC61-679A-4DCF-B34B-A51B6DFCE45F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Process-Oriented Approac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Focus is on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how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whe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data are moved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ransform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of data in an information syst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flow diagram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and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char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Natural structure of data is not specif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2f2b20"/>
                </a:solidFill>
                <a:uFillTx/>
                <a:latin typeface="Calibri"/>
                <a:ea typeface="Arial"/>
              </a:rPr>
              <a:t>Disadvantag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To change a single data element all files has to be updat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775D366C-925E-4719-843A-1A7149FB343B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Approaches to Systems Development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  <a:ea typeface="Arial"/>
              </a:rPr>
              <a:t>Data-Oriented Approac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epict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ideal organizatio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 of data, independent of where and how data are us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  <a:ea typeface="Arial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7E21F3FD-EB7E-4FBF-9E20-C02D75636F1E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5e47"/>
                </a:solidFill>
                <a:latin typeface="Cambria"/>
                <a:ea typeface="Times New Roman"/>
              </a:rPr>
              <a:t>Databases and Application Independence</a:t>
            </a:r>
            <a:endParaRPr b="0" lang="en-US" sz="2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r" rtl="1">
              <a:lnSpc>
                <a:spcPct val="8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ial"/>
                <a:ea typeface="Arial"/>
              </a:rPr>
              <a:t>1.</a:t>
            </a:r>
            <a:fld id="{F560220A-BE4B-4A36-9D3B-62E3AB00C8EE}" type="slidenum">
              <a:rPr b="0" lang="ar-SA" sz="1600" spc="-1" strike="noStrike">
                <a:solidFill>
                  <a:srgbClr val="2f2b2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 AlSultan</cp:lastModifiedBy>
  <dcterms:modified xsi:type="dcterms:W3CDTF">2015-02-01T19:09:46Z</dcterms:modified>
  <cp:revision>87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