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F2EC-6862-4E13-A97D-DB41F5CE4C7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A816-0E4A-4677-ADF7-A4AA4A4E863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981C-1034-4051-85D8-1802954489E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8182-0F78-4805-8275-F1E142E9D51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C333-C3D9-430D-A4B4-99C40A50A04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09D2-E836-4D37-BAA0-B27C136DB4C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F818-49BF-46C1-AE46-5DD244A9A0C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73BE-383B-4B37-8FA5-A4D03BD77A3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5E7F-5CBC-4414-B74A-7AE29746050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93A2-388E-42BE-971F-D0A332135D1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30A6-3999-432A-92F0-EAE766FE12E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79D5-DE8D-48D0-A8BD-CF0F6B95183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3C8B-A297-45FD-8BA2-F2A567FB886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2814-7ECF-4BC0-B3C5-7AF82DEB346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D825-8D99-4EE9-A569-CE96804DC0D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63DF-8725-46ED-8570-8786E729DC4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28D5-5E21-4462-B155-24179B8DDF5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A721-46B9-4986-A95F-6573B2ECBFA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DA36-4FEF-4186-B161-0633EE892E0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84F3-460C-4A0C-8E4A-9C210AA545B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2D93-8ACE-44F6-8687-9E005D15873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CD3B-EB57-4ECB-9844-AE1479C691B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AF02-9E12-4F22-9488-12B1681E69C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9C9B-0B27-4C93-AD73-9BA2055301D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A079-9FF7-46ED-B9ED-3DF4F707739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4AAB-E933-4D82-9681-F698F18C221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120F-9711-4F2A-820C-089702665CE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FF79-4074-435B-80BD-44095899F68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9C62-75B0-4BD3-B383-7E3427E2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99A6-9FE4-4504-A848-E907F232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40CB-3BCA-497D-A085-02303D1E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1101-F099-4EF0-BBCC-F221FD3D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7DFB-03C2-4CF1-9AD3-CED22121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2057-6D5B-4AE9-A58C-ECDCD6F8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40BC-729A-48FA-8F2A-048B0037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D619-C21A-4DD1-971D-76AD38C7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EA07-8030-4129-BD04-7C3481DA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FBFB-629C-4459-B788-162D47E9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E474-730D-4235-8019-903EB239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DA0F-E4E5-4B00-AF67-57A44B55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E0C4-A624-4FB4-963A-1ECD6D69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523B-16B2-42F9-B331-7F054DA3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B404-2BC8-4102-9566-C9FC128D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5525-882D-4A99-848E-191F034E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058E-EFA4-4A23-B5C3-8E99DEA3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C7745-1150-4724-BF88-BB29FF81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28395-3FEE-41EF-93CB-2BA1EF71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D9833-74A9-4D2D-B924-A90E2E21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DE19C-8EB0-448A-9AD2-612AF399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B54F2-722B-443D-880E-81227EB1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52B1-E330-4326-BD04-00A9DCB0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6A058-9777-4D46-9C90-F53B714B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060CF-065E-4407-8699-45A78BC4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DF3F7-A96E-4CBF-A7D3-A445E78C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5BB6C-96BB-4E85-8304-83D62559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AD129-636D-4837-8DAE-207A6419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91881-D97C-4DAB-B62D-A045F960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6530F-9FA9-4D03-BAFB-DB3C877C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D0FC-D208-44B5-8282-89926C15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FCB8-06A4-4C52-ABAD-DC78C766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186D-45FD-431D-9896-D3910457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0B82-903F-43FB-AABA-48710F80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7FE0-6DEB-4867-9B15-B5B0DE48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BEC9-AAF1-4DC3-969E-675E527E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3A0B-9A78-42A5-AF2F-3DF8B4E94A46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B8C7-A995-4024-B33F-F4ADBBDC4B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0968-4B2B-4BEC-88E4-F703419279B1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66320" y="3505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ucceeding as a Systems Analy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Log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rtrays the purpose and function of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tie the description to a specific physical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Phys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how the system will be materially constru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4AA87E3-9188-47E9-94B4-96C2FC4EF07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le to identify something as a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gnizing each of the system’s character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evant 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of a system leads to abstr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abstraction you can think about essential characteristics of specific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straction allows analyst to gain insights into specific system, to question assumptions, provide documentation and manipulate the system without disrupting the real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D127CDC2-B46E-4768-8142-56FF5FDAE8A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ing Systems Thinking to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are subsystems in larger organizational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king input from, and returning output to, their organizational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flow diagrams represent information systems as systems (clearly illustra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8C19337-68CE-42DA-B24B-514D93487A7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how organizations 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of specific functions and procedures of organization and depart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work officially gets d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departments operates, its purpose, its relationships with other departments, its relationships with customers and suppli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al poli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etitive and Regulatory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ational Strategies and Tact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169AD51-9BDA-4E7B-AB88-A4664284D64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: Difference between an existing situation and a desired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 solving:  the process of finding a way to reduce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is process of defining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erences are defined by comparing the current situation to the output of a model that predicts what the output should 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EC04F73-735D-45D6-BE01-6854B3B7E6B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analyze the problem and determine how to solve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llig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relevant information is col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ernatives are formu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o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st alternative solution is cho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tion is put into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8C41A9C9-FD51-4F4B-B208-EDF5E5E2C0D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5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tant re-education is necessary as technology changes rapid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ties to keep skills up-to-d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e pub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socie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lasses or teach at a local colle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ourses sponsored by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erences and trade sh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wse Web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e in new groups and 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8F3FD82-8883-4DF2-9A82-30DF8421B3E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a wide variety of technologies is required (requires continuous learn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rocomputers, workstations, minicomputers and mainframe compu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ing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base and file managem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communication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development tools and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 development languages and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support system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7B1C4A3-D13E-4748-B38F-0E37C455F3F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ment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 how to manage your work and use organizational resources in the most productive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categ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1307295-BAEA-4CBE-8EE7-88241F0551A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 needs to know how to get the most out of the resources of an organization, including team me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 the following cap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dicting resource u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cking resource consum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use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resource qu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uring resources from abusive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inquishing resources when no longer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A61BD0D2-FE07-4CA7-A2EF-1D9FF8190C9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500"/>
                            </p:stCondLst>
                            <p:childTnLst>
                              <p:par>
                                <p:cTn id="6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ionship between systems analyst’s skills and the SDLC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27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629400" cy="407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Go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coming in 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going over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s management in keeping track of project’s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sts of several ste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omposing project into independ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ing relationships between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gning resources and personnel to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ependent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onship managers (liais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9092EC7-9797-4262-8D7E-28459DCC2FF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5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3808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ility to anticipate what might go wrong in a pro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mize risk and/or minimize damage that might resul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cement of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of activities to achieve greatest ga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B6282209-1F21-48BD-87AE-A0C2F4B8629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09480" y="3809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838080" y="46483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assist people in making transition to new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deal with technical issues related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ol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person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stery of interpersonal skills is paramount to success as a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types of skill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ing expec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D96C3D9E-8A87-48E2-BAA8-9A74B9CC520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38080" y="1752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ffective communication helps to establish and maintain good working relationships with clients and colleag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ly and Effectively communicate with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types used by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kills improve with experi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3F80BC2-C1A7-484C-A8EC-212096A2245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1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ans to gather information about a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ening to answers is just as important as asking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listening leads to understanding of problem and generates additional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nsive and time-consu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DFD5314-A935-42AB-BA3F-062D9035855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609480" y="3581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838080" y="4191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costly than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are less biased due to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ffective than interviews due to lack of follow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d to document progress of project and communicate this to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cation takes several form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 summ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chedules and descri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anda requesting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ests for proposals from vendors and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B5EFFE6-7968-4C8D-BEE8-A5ECCFE69DE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1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alone on aspects of project involves manag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i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d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m work involves establishing standards of cooperation and coord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 when to trust judgment of others and when to question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 strengths and weakness of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ble 2-2 presents characteristics of a high-performance 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9F9E8FF-F3C3-4383-8738-93284385AC1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haracteristics of High-Performance Te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696080" cy="37670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03680" y="5867280"/>
            <a:ext cx="516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have motivation and a 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s guiding a group without being a part of the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st work to keep the effort on tr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skill for sessions such as Joint Application Development (JA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351D866-EB9B-4D9D-9ECA-7ECE2C67FD3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60948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Managing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838080" y="37339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ing expectations is directly related to successful system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s for successful expectation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of technology and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communicate a realistic picture of new system to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education of management and users throughout systems development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8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500"/>
                            </p:stCondLst>
                            <p:childTnLst>
                              <p:par>
                                <p:cTn id="8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0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500"/>
                            </p:stCondLst>
                            <p:childTnLst>
                              <p:par>
                                <p:cTn id="8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Analysis as a Prof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have been established for education, training, certification and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 ways of analyzing, designing, and implemen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ety for Information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of Information Technology Profession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for Computing Machinery (AC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rtified Computing Professional (CCP) ex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ral aspect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F462E56B-C030-4E05-BEF5-863271C9903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t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Sets of Analytical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5D7F1B9C-4421-4416-8545-6E8354C9AF1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09480" y="3892680"/>
            <a:ext cx="8305920" cy="23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interrelated set of components, with an  identifiable boundary, working together for a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has nin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exists within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undary separates a system from it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85800" y="3657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80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orsed Development Method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procedures and techniques to be used during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consistency and reliability across all of an organization’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roved Development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s standardize around a specific platform, sometimes tied to development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ization of Ro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s are becoming better defined across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of a Common Langu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modeling languages, such as Unified Modeling Language (U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0A4FC9C-3278-4CFC-A3CC-25008C8D0B7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500"/>
                            </p:stCondLst>
                            <p:childTnLst>
                              <p:par>
                                <p:cTn id="8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M Code of Ethics – See Figure 2-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ck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aken by a business is acceptable as long as it is legal and maximizes stockholder prof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ke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violates rights of stakeholder must be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al Contract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is deceptive, can dehumanize employees or that could discriminate is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5D23BFF6-D770-411A-AF74-DD0F20C6F6B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within a large corpo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ware vend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opportunities outside of systems 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E530F2E-BFAF-4B66-8286-B80B84042E7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77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racteristics of a Syste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n irreducible part or aggregation of parts that make up a system, also called a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sub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Interrelated 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pendence of one subsystem on one or more subsyste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Bound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line that marks the inside and outside of a system and that separates the system from its enviro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Purpo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overall goal or function of a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n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verything outside the system’s boundary that interacts with the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E8DCE6E-A49C-4A58-A28D-ED716F2FFC9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9680" y="685440"/>
            <a:ext cx="4267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oint of conta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 which the system meets its environment or where subsystems meet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rom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mits to what it can do and how it can achieve its purpose within an environment (capacity, speed or capabilit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24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Ope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act freely with their environments, taking in input and returning out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environment changes, systems much adapt to changes or suffer consequ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losed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interact with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aptability are not issues for closed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siness Information System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Decompos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breaking down a system into smaller components which can be further broken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the systems analyst t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ak a system into small, manageable 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on one area at a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entrate on component relating to one group of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 different components at independent ti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F93F33D-6724-4F02-A02D-6CC78236C5B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ividing a system into modules of a relativel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niform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 result of decom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ules simplify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up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xtent to which the subsystems depend on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 should be as independent as possible 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ilure of one subsystem fails the entire sy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nt to which a system or a subsystem performs a single 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A977D5E-A809-4EB5-A84D-33C274C973A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08Z</dcterms:modified>
  <cp:revision>139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