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61A9-2004-437C-BFCD-249E6E1CFB3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578D-1A94-4416-A368-457D4460428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E4EC-62E9-4304-A381-FE1035372CA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BFDE-75FA-4C57-B772-F01D1F02A91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93CF-E259-4CD1-84ED-E207C23453F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7FA8-FAEE-49D1-B3DC-7799605874C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C046-AF25-40B5-98A6-0E17FC0EB47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AA27-EA7B-453B-A9AF-72C07A6F39F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B55A-CFCF-42FB-8DDF-9D7C8A1A328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283C-4BC2-4472-AFD9-F16583BD971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A0B1-55CE-418B-AE5E-9DD4A09A442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98A2-224E-40A2-85D3-88ED1C1E7B2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69C1-2B69-4BF1-8E90-DE2A9BB0263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5B76-8AA0-42AE-9122-D68A82B769D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8C64-6348-4704-8E73-84C35C0FC87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2361-A31D-4FE8-AF37-3625EAAB1F8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9FCA-4279-48E0-A35E-4E753134AD6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1CDF6-7A96-458F-9D39-5B86E34EA5D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7CB1-6695-480E-B650-00C476E5336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C178-B44B-4786-81A2-BB920D9BFDF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78B6-EA83-4F57-A482-B410D4BA16B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5F5E-BB02-4D76-AC64-6A3AA5C2D65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8A25-DA1C-4CD3-8D86-57D9E995949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6B09-67BF-45A2-83BB-C48698F9607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48EB-B5EC-4404-A716-6D4E295D73B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DF67-A648-4BA5-80C5-8ACFAB1EE83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14E2-5933-4C55-8823-41554B1703E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ACB3-C373-4899-B4BF-BCB575D8461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40F4-F925-4D82-9996-0D7590DF5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F225-F9E1-4032-928F-5D43293E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7264-F71F-4EB6-8ADD-773137724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1E1D-9DBA-4DDB-94EB-FC5C85D1C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BE93-503D-43C5-9066-C18FF9815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566A-7826-4965-9C1C-024E1199D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1923C-8405-4D66-98C0-2D4A1FDF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EC59-75B1-46EF-B89D-457B5999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C63B-3134-4FBE-A1CA-269AACCC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EF20-3BD9-4163-BED1-76CBC08D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6900-5002-43D7-92B7-2E05730E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9FB8-FDC7-4E5F-8D1C-81370DD8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D76E-9264-432F-9633-25C8EFBD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7CEF-7A6D-42D3-A5A2-CB6052D8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CFF1B-AD52-45A3-84E1-730F3E51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01F0-632C-4D99-9864-22296C336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9427-EF79-4413-B47B-8ECAFE883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A21FB-A293-4E68-83CE-D3C8CDBF3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48F5E-12D5-48CD-AC18-DFDB103C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61D81-30B1-4319-AB30-1E514980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15113-A720-45B3-9615-DC28F19E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AACFF-BB2D-4478-8ADC-2A678C85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D06B-F449-43C6-904F-2A668F2B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47BEF-1905-4570-A119-3DB8E582F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FAC88-DD69-40C4-92FB-031A5E9F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42DE3-BD5D-46E5-87D4-EFE91F0F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A10B0-57AD-4078-BABA-D36753E2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88ADA-9B8C-47EE-8CFE-EDEEA2A9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A7D1E-C10A-4363-9CE6-B8FCAA033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97BD4-E79B-47AE-966E-71E43DE5D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E48D-2C74-46BE-AA49-187F1809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B2EC-CCD3-4ECF-AA21-F140B454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E611-3B35-4C6C-8C74-5D230C3D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922D-2E66-4787-9587-30B565DA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C523-8E02-471B-AE89-2F918E54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B909-423F-47C2-848A-FBCADFAB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A950-D6F2-41AE-BD3D-5DA7EE197C7B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B589-47D0-4ADB-A487-4111A89908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FFED-DDB3-4416-B91C-07F42B881287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66320" y="35053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ucceeding as a Systems Analy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Logical System Descrip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rtrays the purpose and function of th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es not tie the description to a specific physical imple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Physical System Descrip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es on how the system will be materially constru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35C8E6D0-AF9A-43A1-98E8-DD91FD47EA3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le to identify something as a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ognizing each of the system’s characterist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ntifying bound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evant in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ication of a system leads to abstra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om abstraction you can think about essential characteristics of specific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straction allows analyst to gain insights into specific system, to question assumptions, provide documentation and manipulate the system without disrupting the real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6FDC4433-295B-4AEA-A84A-538F387C2E5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50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ying Systems Thinking to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s are subsystems in larger organizational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king input from, and returning output to, their organizational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flow diagrams represent information systems as systems (clearly illustrat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bound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relation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5EDFC31E-7781-45C6-A2E3-6EAACF064D3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500"/>
                            </p:stCondLst>
                            <p:childTnLst>
                              <p:par>
                                <p:cTn id="3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500"/>
                            </p:stCondLst>
                            <p:childTnLst>
                              <p:par>
                                <p:cTn id="3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Knowled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derstanding of how organizations wo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ledge of specific functions and procedures of organization and depart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work officially gets do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departments operates, its purpose, its relationships with other departments, its relationships with customers and suppli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al polic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etitive and Regulatory 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ganizational Strategies and Tacti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114B3A1B-1E9B-4F31-8425-9E1F3EB487E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blem Ident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blem: Difference between an existing situation and a desired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blem solving:  the process of finding a way to reduce differe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ication is process of defining differe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fferences are defined by comparing the current situation to the output of a model that predicts what the output should b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D047CC40-00C5-4823-9640-45D66F67D77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blem Analyzing and Sol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analyze the problem and determine how to solve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Ph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llige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relevant information is coll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ternatives are formu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o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st alternative solution is chos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lution is put into pract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ED9B9ADF-6117-4218-A9EA-BFAF179268A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500"/>
                            </p:stCondLst>
                            <p:childTnLst>
                              <p:par>
                                <p:cTn id="4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500"/>
                            </p:stCondLst>
                            <p:childTnLst>
                              <p:par>
                                <p:cTn id="5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4000"/>
                            </p:stCondLst>
                            <p:childTnLst>
                              <p:par>
                                <p:cTn id="5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500"/>
                            </p:stCondLst>
                            <p:childTnLst>
                              <p:par>
                                <p:cTn id="5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chn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tant re-education is necessary as technology changes rapid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ities to keep skills up-to-d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de pub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fessional socie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end classes or teach at a local colle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end courses sponsored by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erences and trade sho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owse Webs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icipate in new groups and con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6ECC5648-8BE0-4C50-92BF-4E0430C3990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chn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derstanding of a wide variety of technologies is required (requires continuous learn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crocomputers, workstations, minicomputers and mainframe compu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gramming langu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ing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base and file management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communication stand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s development tools and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b development languages and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support system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50F7312A-9164-4CE4-A502-08A03B6DD95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500"/>
                            </p:stCondLst>
                            <p:childTnLst>
                              <p:par>
                                <p:cTn id="5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agement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 how to manage your work and use organizational resources in the most productive w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 catego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ourc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E2BCB97A-09F8-4886-8E3C-CA8EC66C7C1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500"/>
                            </p:stCondLst>
                            <p:childTnLst>
                              <p:par>
                                <p:cTn id="5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ource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analyst needs to know how to get the most out of the resources of an organization, including team memb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ludes the following capab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dicting resource us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cking resource consum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use of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 of resource qu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uring resources from abusive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inquishing resources when no longer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1371E583-AAC6-4B69-9BA9-ADC987DBB92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6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500"/>
                            </p:stCondLst>
                            <p:childTnLst>
                              <p:par>
                                <p:cTn id="6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500"/>
                            </p:stCondLst>
                            <p:childTnLst>
                              <p:par>
                                <p:cTn id="6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lationship between systems analyst’s skills and the SDLC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027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629400" cy="4073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Go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projects from coming in l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projects from going over budg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ists management in keeping track of project’s progr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ists of several ste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omposing project into independent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ing relationships between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igning resources and personnel to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ependent contr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ra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ationship managers (liais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A307DEFE-A86E-4B86-99CD-AB322EB2BF9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500"/>
                            </p:stCondLst>
                            <p:childTnLst>
                              <p:par>
                                <p:cTn id="6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3000"/>
                            </p:stCondLst>
                            <p:childTnLst>
                              <p:par>
                                <p:cTn id="6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3500"/>
                            </p:stCondLst>
                            <p:childTnLst>
                              <p:par>
                                <p:cTn id="6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4000"/>
                            </p:stCondLst>
                            <p:childTnLst>
                              <p:par>
                                <p:cTn id="6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isk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38080" y="1676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ility to anticipate what might go wrong in a proj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mize risk and/or minimize damage that might resul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acement of resour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oritization of activities to achieve greatest ga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3FF33725-F441-4EE4-AD59-D662082B272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09480" y="3809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hang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838080" y="46483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assist people in making transition to new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deal with technical issues related to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oles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00"/>
                            </p:stCondLst>
                            <p:childTnLst>
                              <p:par>
                                <p:cTn id="7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500"/>
                            </p:stCondLst>
                            <p:childTnLst>
                              <p:par>
                                <p:cTn id="7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3000"/>
                            </p:stCondLst>
                            <p:childTnLst>
                              <p:par>
                                <p:cTn id="7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3500"/>
                            </p:stCondLst>
                            <p:childTnLst>
                              <p:par>
                                <p:cTn id="7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person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stery of interpersonal skills is paramount to success as a Systems Analy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 types of skill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king alone and with a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cilitating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ing expec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BA9D515A-584A-4601-BA2E-FB278B27D3A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munication Sk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38080" y="1752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ffective communication helps to establish and maintain good working relationships with clients and colleag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ly and Effectively communicate with ot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ree types used by Systems Analy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viewing and Liste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estionnai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ten and Oral Presen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kills improve with experi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FE3C1029-C8A3-43BB-AF86-6451E6D2FD5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0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500"/>
                            </p:stCondLst>
                            <p:childTnLst>
                              <p:par>
                                <p:cTn id="7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viewing and Liste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091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ans to gather information about a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stening to answers is just as important as asking qu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listening leads to understanding of problem and generates additional qu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ensive and time-consu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999F8FC3-ED33-49D2-A32D-B0CD4141056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609480" y="3581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Questionn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838080" y="4191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costly than inter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are less biased due to standard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effective than interviews due to lack of follow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500"/>
                            </p:stCondLst>
                            <p:childTnLst>
                              <p:par>
                                <p:cTn id="7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ritten and Oral Pres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d to document progress of project and communicate this to ot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unication takes several form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ing age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ing minu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view summ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schedules and descri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moranda requesting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ests for proposals from vendors and contr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al presen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C112E91E-BC03-4EA8-8C90-AAB5AD705D2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rking Alone and with a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0912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king alone on aspects of project involves managing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it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adl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am work involves establishing standards of cooperation and coordin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 when to trust judgment of others and when to question 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 strengths and weakness of team memb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ble 2-2 presents characteristics of a high-performance te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613377C1-CF35-47FE-B0FB-4B0B42BFF90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Characteristics of High-Performance Tea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696080" cy="37670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1903680" y="5867280"/>
            <a:ext cx="5168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t have motivation and a 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acilitating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s guiding a group without being a part of the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st work to keep the effort on tra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ful skill for sessions such as Joint Application Development (JA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9AA81CBD-25A6-45FC-BAE9-A72814B87F8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609480" y="3048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Managing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838080" y="373392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ing expectations is directly related to successful system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kills for successful expectation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of technology and work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ility to communicate a realistic picture of new system to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education of management and users throughout systems development life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500"/>
                            </p:stCondLst>
                            <p:childTnLst>
                              <p:par>
                                <p:cTn id="8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2000"/>
                            </p:stCondLst>
                            <p:childTnLst>
                              <p:par>
                                <p:cTn id="8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500"/>
                            </p:stCondLst>
                            <p:childTnLst>
                              <p:par>
                                <p:cTn id="8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3000"/>
                            </p:stCondLst>
                            <p:childTnLst>
                              <p:par>
                                <p:cTn id="8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3500"/>
                            </p:stCondLst>
                            <p:childTnLst>
                              <p:par>
                                <p:cTn id="8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Analysis as a Prof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s have been established for education, training, certification and pract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 ways of analyzing, designing, and implementing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ety for Information Mana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ion of Information Technology Profession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ion for Computing Machinery (ACM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ertified Computing Professional (CCP) ex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ral aspect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s of Pract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thi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reer Pat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DCB37B44-94E5-49C2-AAFD-19141ACBB36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alyt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Sets of Analytical Sk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al Knowled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Identif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Analyzing and Solv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6B416C47-94C3-4C76-84D9-155C8C050E0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09480" y="3892680"/>
            <a:ext cx="8305920" cy="23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 interrelated set of components, with an  identifiable boundary, working together for a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stem has nine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stem exists within 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oundary separates a system from its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685800" y="3657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andards of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380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dorsed Development Methodolo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ic procedures and techniques to be used during 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 consistency and reliability across all of an organization’s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proved Development Platfor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s standardize around a specific platform, sometimes tied to development method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ization of Ro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les are becoming better defined across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ment of a Common Langu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on programming langu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on modeling languages, such as Unified Modeling Language (UM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322B7F51-9B4D-4CA0-9F38-BFCD0518A45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500"/>
                            </p:stCondLst>
                            <p:childTnLst>
                              <p:par>
                                <p:cTn id="8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2000"/>
                            </p:stCondLst>
                            <p:childTnLst>
                              <p:par>
                                <p:cTn id="8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500"/>
                            </p:stCondLst>
                            <p:childTnLst>
                              <p:par>
                                <p:cTn id="8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3000"/>
                            </p:stCondLst>
                            <p:childTnLst>
                              <p:par>
                                <p:cTn id="8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3500"/>
                            </p:stCondLst>
                            <p:childTnLst>
                              <p:par>
                                <p:cTn id="8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4500"/>
                            </p:stCondLst>
                            <p:childTnLst>
                              <p:par>
                                <p:cTn id="8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th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fessional Eth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M Code of Ethics – See Figure 2-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siness Eth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ockholder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aken by a business is acceptable as long as it is legal and maximizes stockholder prof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keholder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hat violates rights of stakeholder must be rej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cial Contract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hat is deceptive, can dehumanize employees or that could discriminate is rej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D6F3CB9C-2D70-4BAC-946A-569FF2091FC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eer Pa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ult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s within a large corpo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ftware vend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ther opportunities outside of systems 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F2DC9F84-1DC9-4056-B032-8C75AC255EB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7720" y="15238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racteristics of a Syste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n irreducible part or aggregation of parts that make up a system, also called a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sub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Interrelated Compon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ependence of one subsystem on one or more subsystem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 Bound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line that marks the inside and outside of a system and that separates the system from its environ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 Purpo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overall goal or function of a 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n 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verything outside the system’s boundary that interacts with the 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7E430975-BB2B-4288-AE75-F5E38184EF1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09680" y="685440"/>
            <a:ext cx="4267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oint of conta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t which the system meets its environment or where subsystems meet each 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ever a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ak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rom its environment in order to fulfill its purp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ever a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tur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its environment in order to fulfill its purp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mits to what it can do and how it can achieve its purpose within an environment (capacity, speed or capabiliti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5246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Open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act freely with their environments, taking in input and returning outp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environment changes, systems much adapt to changes or suffer consequ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losed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es not interact with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aptability are not issues for closed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siness Information System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Decomposi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ocess of breaking down a system into smaller components which can be further broken d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the systems analyst to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eak a system into small, manageable sub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 on one area at a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centrate on component relating to one group of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ild different components at independent ti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2A6A6BFE-E5E6-40E3-999A-37199E8C56C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dividing a system into modules of a relatively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uniform s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rect result of decom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ules simplify system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upl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xtent to which the subsystems depend on each 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ystems should be as independent as possible e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ilure of one subsystem fails the entire syst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he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tent to which a system or a subsystem performs a single 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6589053D-6E40-495C-AAA6-89A73099504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5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1:08Z</dcterms:modified>
  <cp:revision>139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