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DA16-2DB4-440E-8671-4AFA7E483E0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4BFA-302A-42E7-9B62-5C587EDBF96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2C60-2C59-4D49-9030-0ADD127E091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7F1F-CFA3-43C9-8D51-C2FB46B2F6F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52D6-1D28-4E5D-9FE6-441465D19A3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5D89-F10D-49A9-85FC-27E3980651C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D6BB-14A0-484B-AEA9-496026F55CA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0076-0E6A-4B38-B98D-065FAB5F06D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0711-3466-4506-910D-979C6D94F50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22B3-CAD4-49AC-962D-3662BBCB271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20F6-43A0-40C5-8F60-D8F8C6B7A36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1C84-C524-476A-A12B-4D55A220145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C453-A884-4FE9-B266-A82C6743957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39B1-4F9C-491E-88EC-34BD53667EB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A363-8A7B-4FE3-AB6E-1A81383F802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182B-77BD-4FB3-85C6-1A488766CD7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CCAD-18C5-40BE-8C89-F53FFB18EED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287F-09AE-4880-A4F0-738B84EC2EB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3370-C179-4C89-8034-F91FB6F3CF6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9264-6C1D-4E61-A3C4-923E795AEE8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B74B-5A7B-4440-B8CF-AD4E5D87B2A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F640-AD91-451B-92BE-F9F6BFB099C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27FA-20AB-4CB5-ADC7-4276D738DCD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C240-5928-4C0D-9963-3345826850F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B041-B29C-4BBF-B420-EE14B7A3A3D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7880-0544-4820-9E4E-ADD2D4B4204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57AF-734E-410E-9F32-0F493B7FC2D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2A08-C124-4221-9547-3D8D55A8C2E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072-0399-41D0-ADD8-EAD472F2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8C2-50F1-4956-B3F1-891FB983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6F6-13A6-45DD-A85D-A9263350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942-1912-4AC6-80A1-4BB21A70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66CE-04C2-4D87-8850-3E7BCE7C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1100-601E-41D0-84BE-8DFAA45D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3E96-E690-402E-8079-CE2C7F3F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31A0-791C-4871-9BEB-9F4940D6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4FBA-5EF4-4519-ACFD-4BF4AC91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3F41-AAB0-4D24-A1FB-3DCBE557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9C8E-5D3D-49C3-87E8-09BF4AF9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902-F24B-45FE-A0FD-FA48A0BC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92EB-1A5F-438C-8F0C-8A44FE2E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E68F-9FF5-41E6-A0CA-186E47E0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C61E-B07B-4DFA-9A10-7D965C66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1F3C-5C9A-4494-A812-78980C39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C568-6417-46A3-873E-7B8D0B06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79F8C-E22E-42E0-A9BC-DC685765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6C9D9-C29C-415E-98CA-80D93EE8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D5456-AC8C-45D7-89FE-F994CFAE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D0C19-50F3-4660-89DD-93FDFAB5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B32F1-EFB3-4BC8-A871-E184C1C2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518-57EC-4F79-B2A0-F5DA4EC8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8C44A-30A9-4A71-924D-CABAC8D6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E3399-3BF2-4F9E-AA09-082DA7EB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BCE55-61B2-4971-9417-45C742D8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E0176-FA2E-4BBE-B948-245F2BF6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5D92D-8D37-4E22-84BC-1C4069AE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24B18-9154-4211-BDEB-CD7A452B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FC0CD-4F15-40F5-B951-76083E8B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1E7-00DC-4BEF-9F8A-2EF30E0D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FD8-EF0E-42A1-B6DA-F680E26D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7632-6D74-4491-B445-BA437111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62A7-BA23-420B-BE78-2A6B0F2C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7C80-619C-4E6A-8107-D01CD2AA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A47-31F5-4CE5-9EBF-B2373740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15CA-60EB-48ED-A5CC-E754A999A444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B2D5-D03E-4178-B95B-840E74A9FF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DDB3-8DAD-4DFF-82B6-BB173D4F25AA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ucceeding as a Systems Analy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Log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rays the purpose and function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tie the description to a specific physical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Phys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how the system will be materially constru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3C9AEE9-6664-4E17-AC6E-89C5CA9DD24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identify something as a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gnizing each of the system’s character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t 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of a system leads to abstr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abstraction you can think about essential characteristics of specific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straction allows analyst to gain insights into specific system, to question assumptions, provide documentation and manipulate the system without disrupting the real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5A7375A-70CF-43B9-BB4C-FB4AB677941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ing Systems Thinking to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are subsystems in larger organizational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ing input from, and returning output to, their organizational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represent information systems as systems (clearly illust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0594448-08E8-435A-A514-89B65AC3FF0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how organizations 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of specific functions and procedures of organization and depar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work officially gets d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epartments operates, its purpose, its relationships with other departments, its relationships with customers and suppl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etitive and Regulatory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ational Strategies and Tac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BBED2A6-E856-4167-A5FD-70FE78FB3C9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: Difference between an existing situation and a desired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 solving:  the process of finding a way to reduce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is process of defining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s are defined by comparing the current situation to the output of a model that predicts what the output should 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330D864-3D6E-437B-8099-1CB98450013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nalyze the problem and determine how to solv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levant information is col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s are formu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st alternative solution is cho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tion is put into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133ED7C-D004-45F7-B51F-A5C2B12C0A4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ant re-education is necessary as technology changes rapid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ies to keep skills up-to-d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e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socie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lasses or teach at a local col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ourses sponsored by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erences and trade sh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wse Web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e in new groups and 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86EE375-9676-469E-BEBD-57DE0C4C32B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a wide variety of technologies is required (requires continuous learn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computers, workstations, minicomputers and mainframe compu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base and file manag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communication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development tools and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development languages and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upport system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06CE521-4B9B-4F08-9B5D-CA641C78D4C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how to manage your work and use organizational resources in the most productive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85A13F7-2869-4324-87D4-F1A2E34A07C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 needs to know how to get the most out of the resources of an organization, including team me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the following cap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ing resource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ing resource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use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resource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ng resources from abusive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nquishing resources when no longer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6845FD6-FD6C-470A-BD25-CBDB6CACBE4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ship between systems analyst’s skills and the SDLC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27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29400" cy="407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coming in 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going over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s management in keeping track of project’s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several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mposing project into independ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relationships between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ing resources and personnel to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pendent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managers (liai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2CF9EF7-0CE6-4E17-8B83-CE5702A99B1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80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ility to anticipate what might go wrong in a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ize risk and/or minimize damage that might resu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cement of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of activities to achieve greatest g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F69944C-D9E3-471E-B24B-8A4315931D1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094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838080" y="4648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ist people in making transition to new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deal with technical issues related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person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tery of interpersonal skills is paramount to success as a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skil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ing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A8DB12E-8EE2-465C-95B6-933A68C0B6E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ective communication helps to establish and maintain good working relationships with clients and colleag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ly and Effectively communicate with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types used by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lls improve with exper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F93A4AD-0730-408A-96BB-51D069EE23F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s to gather information about a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ening to answers is just as important as asking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listening leads to understanding of problem and generates additional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nsive and 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D189982-6A7A-4F18-9FC5-9B267C998F5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0948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3808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stly than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less biased due to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ective than interviews due to lack of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d to document progress of project and communicate this to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cation takes several for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summ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s and descri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anda requesting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s for proposals from vendors and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8D8566B-18F5-4B28-82C1-4CB585DA60B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alone on aspects of project involves manag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work involves establishing standards of cooperation and coord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 when to trust judgment of others and when to question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 strengths and weakness of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2-2 presents characteristics of a high-performanc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2128187-397B-47C2-A8B4-C91CD1B1323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haracteristics of High-Performance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96080" cy="3767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3680" y="5867280"/>
            <a:ext cx="516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motivation and a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s guiding a group without being a part of the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work to keep the effort on t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skill for sessions such as Joint Application Development (J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01D724C-7981-41BC-AF61-47833EAD4B2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Manag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838080" y="3733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ing expectations is directly related to successful system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for successful expectat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technology and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communicate a realistic picture of new system 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education of management and users throughout systems development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Analysis as a Prof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have been established for education, training, certification and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 ways of analyzing, designing, and implemen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y for Information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of Information Technology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for Computing Machinery (AC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ed Computing Professional (CCP) ex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ral aspec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8D07155-74FD-4CCD-B0B6-DF3B0F9A654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t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ts of Analytic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124EEA6-77FA-4720-8454-C6D4CBB9AAE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480" y="3892680"/>
            <a:ext cx="830592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errelated set of components, with an  identifiable boundary, working together for a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has nin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exists within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separates a system from it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8580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orsed Development Method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rocedures and techniques to be used during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consistency and reliability across all of an organization’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ved Development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s standardize around a specific platform, sometimes tied to development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ation of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s are becoming better defined across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a Common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modeling languages, such as Unified Modeling Language (U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E821474-E537-4C17-A61B-99D848628C5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M Code of Ethics – See Figure 2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ck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aken by a business is acceptable as long as it is legal and maximizes stockholder prof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violates rights of stakeholder must be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Contract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is deceptive, can dehumanize employees or that could discriminate is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E27DB1B-5CD1-4904-9B13-BD63A92C610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within a large corp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ven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opportunities outside of systems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D02765F-946D-4D22-901B-94C28554924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racteristics of a Syste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 irreducible part or aggregation of parts that make up a system, also called 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b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Interrelated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pendence of one subsystem on one or more subsyst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Bound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line that marks the inside and outside of a system and that separates the system from its enviro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Purp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overall goal or function of a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n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verything outside the system’s boundary that interacts with the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D61F448-062C-4818-B3B3-94F41C4C217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int of cont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which the system meets its environment or where subsystems meet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s to what it can do and how it can achieve its purpose within an environment (capacity, speed or capabilit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2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pe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act freely with their environments, taking in input and returning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environment changes, systems much adapt to changes or suffer con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losed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interact with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bility are not issues for closed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Information System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breaking down a system into smaller components which can be further broken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the systems analyst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 a system into small, manageable 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one area at a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ntrate on component relating to one group of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 different components at independent 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5B12FBF-5BF1-4D17-8CF1-2972513592D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ividing a system into modules of a relative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form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result of de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s simplify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tent to which the subsystems depend on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 should be as independent as possible 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of one subsystem fails the entir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to which a system or a subsystem performs a single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DA0830C-79B1-4FB7-B367-9924FDE3759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08Z</dcterms:modified>
  <cp:revision>139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