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2EF8-E277-4FC3-8A6C-6B2B30A1F88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8CCF-0132-4E6B-AFAC-B2A7B21AC4A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5E09-B61C-4FA3-B1D6-9523E2CC084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4995-EFD1-4F86-BE7C-71FD3B159F8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48DD-8CDD-4989-A96B-8BB63B6CC10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FC30-A564-462F-9D2F-33680064DD7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5526-F032-406C-881F-1E6343A70FA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AE61-C9BE-483D-A1C8-F4281550C2A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4CC9-6319-4E6F-BB3E-D150D866FE0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5744-388D-46C6-A1F7-B981C96D4F0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8DB1-0698-4657-8392-D8E236971FA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3C0D-6D41-4CE3-8B8A-9E14083733C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C8CE-DC91-4A38-87EE-C98A691EF7B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37C7-4301-4A3C-96B7-1CE5F3EE552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788F-37D2-433C-A207-0B53DEC2DFF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3BCC-30C7-47DB-8162-9E2C9786976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74CD-4065-4B0B-B301-59B19954BA3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0A43-51AB-48A7-B5BB-5374EAA0157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EE50-9D61-4827-B99E-91B1429C0C6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E965-4841-422B-9516-689B9549E8D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9A16-12A7-4FB7-B44A-43C352B0B12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3919-6231-42CA-8EF3-A484EFA1767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2DD9-9E11-461B-AF4C-9E4A9C6FA0D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342D-480A-44B4-9457-C341EAF180E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8A95-0CF6-40A0-B2F5-BBC3BCF39AE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9EE1-2CEF-47B9-8059-EF1363A489E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8422-D0C5-4568-A789-1F6A7A1BDEE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B8CE-96F4-4A0F-BA9C-BEF6130288D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EFCA-7829-4C76-BB3F-22FA5A9C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7E57-0A94-494F-941A-6E896F57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05C8-5E65-48A6-9F07-E93E5A75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8CA0-E398-4495-9EB3-9257B85C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A1A5-3175-418B-A0E5-ACD04086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6B61-B4E5-41DE-ABE8-9D087C39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134F-BD02-4A4B-9BF3-4B55B824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FC1C-0928-4018-967E-27A55F48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DD61-5FAB-4A84-A2F1-C76B7031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29D7-1A5A-4197-8BE7-EE7F4490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487B-99B5-4057-9E47-3F560D54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A06A-673F-4900-A052-F20A61F4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0739-F4B0-487E-B62C-FF15A60C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FF0D-D82F-4CB7-974A-2994683C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9338-A7D6-4B47-A1FD-70BB1ABA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5433-596A-4A5B-B6DC-70546538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6CB7-9903-44C2-8FF4-DFDE498D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3B3D0-C697-48F2-A5A3-5C1CE858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4987B-F5BB-462C-90E5-BB8385F1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686CA-DE7E-404A-92D5-1DA42401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2F4F7-519D-41C8-8830-0064E728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53458-7B8C-436F-A907-E701B123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8005-8348-4C78-86CA-558E2832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7F920-7016-4AFD-9E6B-744B46DA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E0963-B1CC-4BA4-8F82-ACDD00E8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F9889-A083-401B-9336-44E4E63F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4E113-6ED8-4A30-ACCD-AAA524EE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24B57-4E10-40FD-BCBF-46047922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EE7E2-2DB7-420A-8229-7B64DD96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371BB-A17C-484A-909B-3FBA54A7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E96F-BFC6-49E1-B88B-B24EB69D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AA58-AF85-4707-BD04-3794265B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4F0F-A24D-4FB7-8C2D-E0760426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6DDC-3BB5-4533-8F95-CD12CE20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3926-3AF9-421C-ADBE-5E91E0B0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6D7D-3458-4449-93B7-BC697398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ABF3-4C09-4854-8C67-6A9C4400237F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F0D3-7E6D-4403-9284-29D01A74C3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EB24-A3E6-4C0B-9961-A8A9D569F0A9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66320" y="35053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ucceeding as a Systems Analy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Log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rtrays the purpose and function of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tie the description to a specific physical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Phys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how the system will be materially constru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088D0867-A39C-4C06-B3AF-A3F1FC78704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le to identify something as a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gnizing each of the system’s characteris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ing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evant 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of a system leads to abstra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abstraction you can think about essential characteristics of specific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straction allows analyst to gain insights into specific system, to question assumptions, provide documentation and manipulate the system without disrupting the real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B25CB941-BF5D-47B5-A333-B9CA7449404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ing Systems Thinking to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are subsystems in larger organizational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king input from, and returning output to, their organizational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flow diagrams represent information systems as systems (clearly illustra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555A7C83-3A5D-459A-9FB1-352FBC0B805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how organizations 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 of specific functions and procedures of organization and depart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work officially gets d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departments operates, its purpose, its relationships with other departments, its relationships with customers and suppli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al poli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etitive and Regulatory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ational Strategies and Tact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B6DB2F61-F600-43A4-98AC-7E905720304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: Difference between an existing situation and a desired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 solving:  the process of finding a way to reduce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is process of defining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erences are defined by comparing the current situation to the output of a model that predicts what the output should 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ABE652A8-556A-4242-8F1F-36ED106D948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analyze the problem and determine how to solve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llig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relevant information is col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ternatives are formu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o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st alternative solution is cho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ution is put into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0EB9BEA-BE4B-4A1D-935C-6C137880C1B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5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tant re-education is necessary as technology changes rapid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ties to keep skills up-to-d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e pub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socie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lasses or teach at a local colle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ourses sponsored by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erences and trade sh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wse Web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ipate in new groups and 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443842C2-E607-496C-AE3B-DCF6D341DBC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a wide variety of technologies is required (requires continuous learn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rocomputers, workstations, minicomputers and mainframe compu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ing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base and file management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communication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development tools and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b development languages and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support system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0CEA6D01-2554-4A82-B7B0-6CED7D0B7EC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ment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 how to manage your work and use organizational resources in the most productive 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categ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74A65935-5647-40BA-BA07-FD95C1229EA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 needs to know how to get the most out of the resources of an organization, including team me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 the following cap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dicting resource u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cking resource consum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use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resource qu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uring resources from abusive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inquishing resources when no longer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0148853-C8E3-40A3-8D87-8A7B0D013A3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500"/>
                            </p:stCondLst>
                            <p:childTnLst>
                              <p:par>
                                <p:cTn id="6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ionship between systems analyst’s skills and the SDLC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27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629400" cy="407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Go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coming in 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going over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sts management in keeping track of project’s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ists of several ste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omposing project into independ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ing relationships between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gning resources and personnel to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ependent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onship managers (liais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F68EF1E7-6339-492F-8516-828C37F4F71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50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40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3808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ility to anticipate what might go wrong in a pro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mize risk and/or minimize damage that might resul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cement of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of activities to achieve greatest ga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6BC690B-8C55-4B02-ACBE-A4D4503FB97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09480" y="3809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838080" y="46483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assist people in making transition to new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deal with technical issues related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ol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person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stery of interpersonal skills is paramount to success as a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types of skill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ing expec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1DCF0E6B-50B3-41DB-82AC-6B45C68EB20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38080" y="1752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ffective communication helps to establish and maintain good working relationships with clients and colleag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ly and Effectively communicate with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types used by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kills improve with experi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5D76D544-A9CD-4FC3-8C6A-FC2F6190C22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7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1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ans to gather information about a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ening to answers is just as important as asking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listening leads to understanding of problem and generates additional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nsive and time-consu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DC423DB-ACD3-4EC3-AF93-55007F63382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609480" y="3581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Question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838080" y="4191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costly than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are less biased due to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ffective than interviews due to lack of follow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d to document progress of project and communicate this to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cation takes several form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ag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 summ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chedules and descri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anda requesting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ests for proposals from vendors and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4057352-9890-4CA1-949E-6E8C6311FDC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1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alone on aspects of project involves manag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i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d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m work involves establishing standards of cooperation and coord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 when to trust judgment of others and when to question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 strengths and weakness of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ble 2-2 presents characteristics of a high-performance 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8730B086-2706-4DBB-A65A-5EF9C7D544D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haracteristics of High-Performance Te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696080" cy="37670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903680" y="5867280"/>
            <a:ext cx="516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have motivation and a 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s guiding a group without being a part of the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st work to keep the effort on tr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skill for sessions such as Joint Application Development (JA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A834187A-1984-42A2-9BE3-87861725DE4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60948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Managing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838080" y="37339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ing expectations is directly related to successful system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s for successful expectation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of technology and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communicate a realistic picture of new system to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education of management and users throughout systems development 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8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0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500"/>
                            </p:stCondLst>
                            <p:childTnLst>
                              <p:par>
                                <p:cTn id="8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0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3500"/>
                            </p:stCondLst>
                            <p:childTnLst>
                              <p:par>
                                <p:cTn id="8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Analysis as a Prof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have been established for education, training, certification and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 ways of analyzing, designing, and implemen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ety for Information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of Information Technology Profession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for Computing Machinery (AC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rtified Computing Professional (CCP) ex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ral aspect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03C18BA-B5FF-4F4C-99B5-5D63BEB14C9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t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Sets of Analytical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1FC118D0-70E2-4436-9148-DE2FDA2DF68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09480" y="3892680"/>
            <a:ext cx="8305920" cy="23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interrelated set of components, with an  identifiable boundary, working together for a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has nine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exists within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oundary separates a system from it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685800" y="3657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80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orsed Development Methodolo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procedures and techniques to be used during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consistency and reliability across all of an organization’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roved Development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s standardize around a specific platform, sometimes tied to development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ization of Ro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s are becoming better defined across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 of a Common Langu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modeling languages, such as Unified Modeling Language (UM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F13DCB76-6344-4455-BB55-B4FC2C175D5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3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500"/>
                            </p:stCondLst>
                            <p:childTnLst>
                              <p:par>
                                <p:cTn id="8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M Code of Ethics – See Figure 2-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ck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aken by a business is acceptable as long as it is legal and maximizes stockholder prof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ke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violates rights of stakeholder must be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ial Contract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is deceptive, can dehumanize employees or that could discriminate is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D9BADC23-BD13-4997-9B3D-54A3854BFA3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within a large corpo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ware vend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opportunities outside of systems 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4A58D76F-0E35-4F88-9B96-546FC6ADD3C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7720" y="15238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racteristics of a Syste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n irreducible part or aggregation of parts that make up a system, also called a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sub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Interrelated 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pendence of one subsystem on one or more subsyste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Bound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line that marks the inside and outside of a system and that separates the system from its enviro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Purpo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overall goal or function of a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n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verything outside the system’s boundary that interacts with the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4B2C2B3C-76BD-4796-86B5-D0E7229B6A0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09680" y="685440"/>
            <a:ext cx="4267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oint of conta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t which the system meets its environment or where subsystems meet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rom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mits to what it can do and how it can achieve its purpose within an environment (capacity, speed or capabilit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524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Ope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act freely with their environments, taking in input and returning out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environment changes, systems much adapt to changes or suffer consequ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losed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interact with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aptability are not issues for closed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siness Information System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Decomposi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cess of breaking down a system into smaller components which can be further broken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the systems analyst t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eak a system into small, manageable 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on one area at a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entrate on component relating to one group of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 different components at independent ti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0A05073-25E3-45BE-9C96-27AA5747410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dividing a system into modules of a relativel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niform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 result of decom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ules simplify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up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xtent to which the subsystems depend on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 should be as independent as possible 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ilure of one subsystem fails the entire sys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he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ent to which a system or a subsystem performs a single 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1A44FD6-1562-46ED-B93C-43F9CE3F0E2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08Z</dcterms:modified>
  <cp:revision>139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