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AF59-3457-4A9D-A499-CC3AF8D57CF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1FCD-49E7-48DA-A790-B9090583E5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729F-6D41-4E49-B538-3E754A1EF39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338A0-6594-4525-8C97-2F9411A464E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0529-BA15-4D79-8BCB-D04ECF3E8D3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EE21-D545-4F5D-93A1-7063920481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2B69-E8B5-4149-A03A-A23503E25FF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BB80D-D42B-48BE-8288-0D4528A9B36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F55-E01A-41B5-B493-82550EDDD1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7DE4-2E50-4DFE-80E2-89C80870BF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2803-91C5-4E1E-ABEA-E5B163B368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B3B7-A6D5-4E13-AE0E-5195D4E885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9F1A-0077-4F4D-BB5D-211290CC2C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5CD8-84DE-46BD-B918-C6825B346D1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49DE-3932-4473-9144-4A6CB98BCBB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476-E1DE-4BEC-A815-B545F7D4F23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C031-3206-497F-8391-EA3CDA4593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622C-D261-4224-B8C4-CFE0419156F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36F7-2764-4A74-BA1A-E31D41334DA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6C36-5534-460E-919D-F3CB01B6D5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DA66-12E5-4F21-8E5F-10DA0B477D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8C816-37A2-41C7-8EE5-B1557303D41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0A63-CF8B-4E0D-8A2E-D9AF5D7D90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B487-69AD-400F-90FE-33630914BB7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2E6A-11BD-4950-9270-9109C3CC35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65F-A781-46A8-BFC9-016567BF57C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332E-EE38-465C-B77F-FADB67EC6A2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FF1B-9549-416D-A6C1-2631D9F84C0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62C-5DFF-4AB1-8C61-F296E0C7B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EA51-0201-406E-BE18-A920CB30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A9D-6BEB-4528-8ADC-985E45C0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871D-80A0-4124-A745-41D74399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AFCD-EDB4-43F1-9DB1-E120208B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9F8C5-52D3-4F12-885E-B81E4AEB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435C7-B09D-49E2-B6C8-36EE5B1D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1AF7-9EC3-4910-928B-8F91E55F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0A54-2832-4F8C-9413-21C58641D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DE9D-0C72-48AF-9F80-EF38249C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DC19-60A5-4F03-B517-E56A8485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7B59-6795-4E10-91E3-C8018DDE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D53C-A4B5-4599-A344-EA8155B3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E54C-3D0C-49D3-96F1-52794141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6877-172D-4738-9F8D-14BE139A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2736-A86C-4905-B6F4-076CEE220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57156-3A7A-496E-BA3D-4523F362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AAE6-5ABC-40B9-828A-85A80662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6D7A-10F6-4593-B8DA-A3815D52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BC906-1797-40D8-A4B8-DFEACC76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52BC6-BBFE-4EB5-816F-B3313425A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084C2-18AB-4CA3-BFD5-25553DF3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C26-7E44-4410-BD55-85348E0A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22589-5576-433E-8479-78D98AA8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50C2A-B961-4ABC-9E01-F4945FAE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13259-E9EB-4BD5-ADF5-5C89BB25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2DB63-4187-44CB-8D68-7197BFAD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C7A23-878A-4921-8AEF-C93E6D5F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70B3C-A7E6-4F8E-B430-F500092E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DD613-610D-4253-BAA8-C30E56B47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83E-7BBD-488E-939D-2CB725FC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8B9C-BAFE-437A-8E63-237C185A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C0B-AAF2-4769-B26F-C946AB52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76C9-36FB-45BC-808C-0685F8D6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DFCE-2762-4EEB-AC96-37E884F9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F28-9EE7-4B05-AAE9-4448395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EDF-9AB1-42D4-9B2F-62D0FDFF6C13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1A08-B808-4EFE-AC4D-1F3441FF7E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17AD-9144-46A2-9AB7-D1DD4ACE999F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66320" y="35053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Succeeding as a Systems Analy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Log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rtrays the purpose and function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tie the description to a specific physical imple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Physical System Descrip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how the system will be materially constru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89B937C-8C0A-4D1B-87C1-7B83ADDF36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le to identify something as a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gnizing each of the system’s characterist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evant 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of a system leads to abstra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rom abstraction you can think about essential characteristics of specific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straction allows analyst to gain insights into specific system, to question assumptions, provide documentation and manipulate the system without disrupting the real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D78BCE6-9C0E-4F93-94EE-D2AFA0EC6B2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3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3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lying Systems Thinking to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are subsystems in larger organizational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king input from, and returning output to, their organizational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flow diagrams represent information systems as systems (clearly illustrat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bound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94D9E48-AFEC-4F58-9FAD-0870F1FFF1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0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5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how organizations wor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ledge of specific functions and procedures of organization and depart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work officially gets don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departments operates, its purpose, its relationships with other departments, its relationships with customers and suppli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al poli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etitive and Regulatory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ational Strategies and Tact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2E6B220-EEFB-4CE7-99A2-B2A9760ECF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2000"/>
                            </p:stCondLst>
                            <p:childTnLst>
                              <p:par>
                                <p:cTn id="4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: Difference between an existing situation and a desired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blem solving:  the process of finding a way to reduce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ication is process of defining differen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erences are defined by comparing the current situation to the output of a model that predicts what the output should b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5A5F033-D7F9-4D31-8DF0-5155DC060A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analyze the problem and determine how to solve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llige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relevant information is col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ternatives are formu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st alternative solution is chos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lution is put into pract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D254CBA-230A-46E7-BE94-D390B9F88E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000"/>
                            </p:stCondLst>
                            <p:childTnLst>
                              <p:par>
                                <p:cTn id="4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4500"/>
                            </p:stCondLst>
                            <p:childTnLst>
                              <p:par>
                                <p:cTn id="5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tant re-education is necessary as technology changes rapid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ies to keep skills up-to-d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de publ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socie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lasses or teach at a local colle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end courses sponsored by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erences and trade sh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wse Web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e in new groups and confer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A1348D75-0643-4F7F-9C4B-F6604318C1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chn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nderstanding of a wide variety of technologies is required (requires continuous learn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crocomputers, workstations, minicomputers and mainframe compu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ng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base and file management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communication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development tools and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b development languages and 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support system gen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2ECD4B1-A3BF-4070-B033-E7B7C4E5E7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5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ement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now how to manage your work and use organizational resources in the most productive w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categ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57CF644E-053A-4044-B017-7A8976A9DE6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000"/>
                            </p:stCondLst>
                            <p:childTnLst>
                              <p:par>
                                <p:cTn id="5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ource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 needs to know how to get the most out of the resources of an organization, including team me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 the following capabil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dicting resource us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cking resource consum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use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resource qua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uring resources from abusive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inquishing resources when no longer nee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1C5D1B4-8970-4EC7-8A59-9CCF13D78B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500"/>
                            </p:stCondLst>
                            <p:childTnLst>
                              <p:par>
                                <p:cTn id="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2000"/>
                            </p:stCondLst>
                            <p:childTnLst>
                              <p:par>
                                <p:cTn id="6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500"/>
                            </p:stCondLst>
                            <p:childTnLst>
                              <p:par>
                                <p:cTn id="6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ship between systems analyst’s skills and the SDLC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027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6629400" cy="407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Go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coming in 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projects from going over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s management in keeping track of project’s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ists of several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omposing project into independent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ing relationships between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igning resources and personnel to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ependent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a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lationship managers (liais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3911A897-5F8F-4682-8285-3B447996E1E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000"/>
                            </p:stCondLst>
                            <p:childTnLst>
                              <p:par>
                                <p:cTn id="6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2500"/>
                            </p:stCondLst>
                            <p:childTnLst>
                              <p:par>
                                <p:cTn id="6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500"/>
                            </p:stCondLst>
                            <p:childTnLst>
                              <p:par>
                                <p:cTn id="6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4000"/>
                            </p:stCondLst>
                            <p:childTnLst>
                              <p:par>
                                <p:cTn id="6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838080" y="16761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ility to anticipate what might go wrong in a pro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mize risk and/or minimize damage that might resul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ment of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of activities to achieve greatest gai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877204A1-7693-40A7-B623-4F2AD65FAC6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609480" y="3809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hang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838080" y="4648320"/>
            <a:ext cx="777240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assist people in making transition to new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ility to deal with technical issues related to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olesc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500"/>
                            </p:stCondLst>
                            <p:childTnLst>
                              <p:par>
                                <p:cTn id="7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3500"/>
                            </p:stCondLst>
                            <p:childTnLst>
                              <p:par>
                                <p:cTn id="7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person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stery of interpersonal skills is paramount to success as a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 types of skill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ing expec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B329EE8F-0498-4FFB-AD7C-9F81B9BD3A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3808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ffective communication helps to establish and maintain good working relationships with clients and colleag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ly and Effectively communicate with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types used by Systems Analy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uestionnai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kills improve with experi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7EF6BF31-1CC6-492F-8C66-58CE2EA603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viewing and Liste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ans to gather information about a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stening to answers is just as important as asking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listening leads to understanding of problem and generates additional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pensive and time-consum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C45A88F8-CDA1-463F-A6EB-75F9E2674A3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609480" y="3581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838080" y="4191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costly than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are less biased due to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effective than interviews due to lack of follow-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0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ritten and Oral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d to document progress of project and communicate this to oth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cation takes several form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age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ing minu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view summar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chedules and descri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moranda requesting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ests for proposals from vendors and contr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al presen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55D0D3E-674C-46D5-8B3E-53BF9A157CD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rking Alone and with a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alone on aspects of project involves manag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i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d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work involves establishing standards of cooperation and coordin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 when to trust judgment of others and when to question 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 strengths and weakness of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ble 2-2 presents characteristics of a high-performance 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FFAB2C96-090D-460C-8935-BDF8F8FC63D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Characteristics of High-Performance Tea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7696080" cy="37670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4"/>
          <p:cNvSpPr/>
          <p:nvPr/>
        </p:nvSpPr>
        <p:spPr>
          <a:xfrm>
            <a:off x="1903680" y="5867280"/>
            <a:ext cx="516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st have motivation and a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acilitating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s guiding a group without being a part of the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st work to keep the effort on tr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skill for sessions such as Joint Application Development (JA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F663647-B5F0-4036-8C91-B41151DEAD0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609480" y="30481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Managing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838080" y="37339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SzPct val="1132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ing expectations is directly related to successful system imple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SzPct val="1132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kills for successful expectat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of technology and work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communicate a realistic picture of new system to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ive education of management and users throughout systems development life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0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"/>
                            </p:stCondLst>
                            <p:childTnLst>
                              <p:par>
                                <p:cTn id="8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1000"/>
                            </p:stCondLst>
                            <p:childTnLst>
                              <p:par>
                                <p:cTn id="8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500"/>
                            </p:stCondLst>
                            <p:childTnLst>
                              <p:par>
                                <p:cTn id="8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2500"/>
                            </p:stCondLst>
                            <p:childTnLst>
                              <p:par>
                                <p:cTn id="8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000"/>
                            </p:stCondLst>
                            <p:childTnLst>
                              <p:par>
                                <p:cTn id="8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8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Analysis as a Prof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have been established for education, training, certification and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 ways of analyzing, designing, and implemen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ety for Information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of Information Technology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ociation for Computing Machinery (ACM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rtified Computing Professional (CCP) ex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ral aspect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C4A8323-5F00-436A-ACE4-2BB986360B8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alytical Skills for Systems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ts of Analytical Ski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al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Ident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Analyzing and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A200F4E-BC2C-4D3A-B873-CA63BD0D3F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609480" y="3892680"/>
            <a:ext cx="8305920" cy="23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interrelated set of components, with an  identifiable boundary, working together for a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has nin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ystem exists within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boundary separates a system from its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685800" y="3657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tandards o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80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dorsed Development Methodolo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c procedures and techniques to be used during development 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mote consistency and reliability across all of an organization’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ved Development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rganizations standardize around a specific platform, sometimes tied to development method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ation of Ro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oles are becoming better defined across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of a Common Langu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programming langu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on modeling languages, such as Unified Modeling Language (UM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9F37FE3C-D2AD-4C04-928A-C7C55843E1B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500"/>
                            </p:stCondLst>
                            <p:childTnLst>
                              <p:par>
                                <p:cTn id="8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000"/>
                            </p:stCondLst>
                            <p:childTnLst>
                              <p:par>
                                <p:cTn id="8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3000"/>
                            </p:stCondLst>
                            <p:childTnLst>
                              <p:par>
                                <p:cTn id="8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8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4500"/>
                            </p:stCondLst>
                            <p:childTnLst>
                              <p:par>
                                <p:cTn id="8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fessional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M Code of Ethics – See Figure 2-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iness Eth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ock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aken by a business is acceptable as long as it is legal and maximizes stockholder prof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keholde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violates rights of stakeholder must be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cial Contract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y action that is deceptive, can dehumanize employees or that could discriminate is rej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E45E8E11-4C5E-4121-9718-A56439C153C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reer Path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s within a large corpo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ware vend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ther opportunities outside of systems 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0B88E1AF-FFBA-4D06-8DB3-5F306B5034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7720" y="15238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racteristics of a System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n irreducible part or aggregation of parts that make up a system, also called a 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sub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Interrelated Compon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Dependence of one subsystem on one or more subsystem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Bound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line that marks the inside and outside of a system and that separates the system from its environme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 Purpo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The overall goal or function of a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An Environ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verything outside the system’s boundary that interacts with the system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1AA18680-FED9-4F76-9564-6004AD233E0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5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40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5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09680" y="685440"/>
            <a:ext cx="42674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terfa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oint of contac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t which the system meets its environment or where subsystems meet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ak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rom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ever a system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tur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its environment in order to fulfill its purpo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mits to what it can do and how it can achieve its purpose within an environment (capacity, speed or capabiliti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524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Ope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act freely with their environments, taking in input and returning outp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environment changes, systems much adapt to changes or suffer consequen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losed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es not interact with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aptability are not issues for closed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siness Information Systems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ope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Decompos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breaking down a system into smaller components which can be further broken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s the systems analyst t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eak a system into small, manageable sub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on one area at a 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centrate on component relating to one group of us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 different components at independent ti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252585D5-3456-4C0C-B529-658D19AA2E0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Thin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ortant System Concep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(Continu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ividing a system into modules of a relatively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uniform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rect result of de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dules simplify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upl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extent to which the subsystems depend on each 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systems should be as independent as possible el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ilure of one subsystem fails the entire syste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Calibri"/>
              </a:rPr>
              <a:t>Cohe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tent to which a system or a subsystem performs a single 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fld id="{44595B43-F893-437D-9BDE-D44F207B929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08Z</dcterms:modified>
  <cp:revision>139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