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6C45-231E-47B1-9653-FC34D58B84F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AE0E-4466-4293-AAB8-964FD37F602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794D-38F1-4726-BE5D-24C4660F0A1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8CE1-FDF7-4819-9546-DCC2527A9AD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96D7-D708-4E99-A062-E814E72B546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3E1A-E874-448A-8463-C2FE85453CF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887B-7525-4EB3-87E0-1E19C982918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9F6D-45A4-46B1-8DE8-4F0E2CF3238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6BE2-43D7-49BF-80DA-8870E87B2FE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7843-CB2C-42E5-AE69-B5D0122634E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82FD-2D09-41C9-A2A3-337634C3E5D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87D9-E9C0-4C6D-AC88-899EC476730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786E-9DFC-41C5-B94E-7BED5A86A89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5087-1339-47DF-97B9-5D344E98002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8719-31A7-40BE-B35B-9AD5EF080F4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6D7D-5E99-4C61-AF99-27D302DD2B0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C905-52BB-4C40-BE82-8F341982DDF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8D9E-36AB-4669-9062-BB957DEC14C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5529-7912-4903-B96B-A9CEBD16A51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C359-438A-4A30-9807-B8F74526009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264B-363A-4C62-BFF7-0BE2AA317EE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220A-DF17-4CB8-AB2A-B8FD1B46188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F134-3839-455E-8DE0-EA16990A586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666F-AE0C-4B7B-9AAE-CAD3DB68CB9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3426-8667-483B-88F4-E4E5B007DB3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5E18-1C04-4267-A1F1-9F3C844E060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F93E-F9CA-400F-ABC7-A6BBC9E0C65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294A-1621-483C-8C19-981DEFC9058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FAF-981B-45E7-A16C-2005BE98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A775-7AD8-4492-9266-5A0605C7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1BD7-D171-4E52-B6B0-E46B304E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F443-8664-433A-8B9A-FA91F39C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5C09-18F9-4B1E-9CF0-71252A3F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A9D8-9E5E-4951-AAAD-F13883AC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7779-9EC3-4252-99E3-05721E7F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DBF8-0920-4F68-9923-75C240CE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EFF3-5ACC-425E-B671-AD006425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B433-01D0-4E8D-9B95-F2C977CC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0959-2F11-46F2-953D-07E8D21E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160-B55A-466D-BB14-9E16AAD6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3E15-0106-4E6F-AFEF-A23F6D81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F234-C8F4-4706-B127-1AD1C470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3600-CD0D-4557-BA41-4646B1C5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0970-8C54-4491-8BA9-A5D01093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707F-463E-40E7-9753-440E91E0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EE94B-FC72-4215-B41B-1628C8CA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A9D0A-CC44-4195-A98D-ED453CCA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EEE33-911A-494F-B474-86DC956C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7EAC3-1492-47A6-9A38-90A96F11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12736-12BE-43BC-A8E9-350441A0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B8DF-C61E-4B5C-8986-66D5081D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BF4E9-C722-4ADE-92BC-CF686500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EEA58-4D07-42D1-BE2F-B39C3D7D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C829A-8FB8-4C62-A5BB-83348317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2E021-39E2-450E-94F2-AB70B26C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5C474-DB9E-4D93-8D73-92D51769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47BA0-6E32-4A2A-9A6B-ED77772D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512EF-6BF4-43E9-A337-63BF15DE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8B3-27A4-40E2-9D31-16212433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01E-872D-43C6-BC6E-86407B29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EA53-A552-4ACC-A62A-8F2D0DA7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DC9E-EB3F-4484-ABD7-63B86826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5B4-4352-485C-9BDE-1260DF06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0FF-9F38-4CB7-AE1F-853B54E9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19F0-0A8A-451E-A43F-80F19394C597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126B-D001-4D27-A656-630A50566B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8395-C3E2-47FC-84A9-D7ECF46610B6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ucceeding as a Systems Analy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Log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rays the purpose and function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tie the description to a specific physical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Phys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how the system will be materially constru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9640730-A9A8-4E94-845B-C500C6C9250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le to identify something as a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gnizing each of the system’s character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t 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of a system leads to abstr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abstraction you can think about essential characteristics of specific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straction allows analyst to gain insights into specific system, to question assumptions, provide documentation and manipulate the system without disrupting the real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E7948A3-CE49-4B2B-9079-5B485C6C4BA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ing Systems Thinking to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are subsystems in larger organizational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ing input from, and returning output to, their organizational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represent information systems as systems (clearly illustra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9C78758-3EAF-402E-99D8-080FD467545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how organizations 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of specific functions and procedures of organization and depart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work officially gets d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departments operates, its purpose, its relationships with other departments, its relationships with customers and suppl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l poli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etitive and Regulatory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ational Strategies and Tact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8E6F6E6-5DD4-4D02-8590-7C249F216F8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: Difference between an existing situation and a desired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 solving:  the process of finding a way to reduce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is process of defining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s are defined by comparing the current situation to the output of a model that predicts what the output should 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446E0FC-0860-4554-BF55-6464285AB4C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analyze the problem and determine how to solv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levant information is col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natives are formu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st alternative solution is cho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tion is put into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589FD7C-2871-4C95-8B1C-3A9BF6EECC1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tant re-education is necessary as technology changes rapid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ies to keep skills up-to-d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e pub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socie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lasses or teach at a local colle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ourses sponsored by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erences and trade sh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wse Web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e in new groups and 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F727A25-E952-4507-9B42-198DCCE8179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a wide variety of technologies is required (requires continuous learn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computers, workstations, minicomputers and mainframe compu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base and file managem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communication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development tools and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development languages and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upport system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EF92A82-270D-4F9B-A3D0-7E9DE62B871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 how to manage your work and use organizational resources in the most productive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AB75401-5A11-4947-846D-930888F16F9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 needs to know how to get the most out of the resources of an organization, including team me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 the following cap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dicting resource 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ing resource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use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resource 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uring resources from abusive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nquishing resources when no longer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84C2199-F5C5-430D-B15C-008D74218B2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onship between systems analyst’s skills and the SDLC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27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629400" cy="407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Go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coming in 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going over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s management in keeping track of project’s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several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mposing project into independ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relationships between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ing resources and personnel to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pendent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managers (liais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8CAF178-C735-4114-B132-6208E915BF7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80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ility to anticipate what might go wrong in a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ize risk and/or minimize damage that might resu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cement of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of activities to achieve greatest g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CAE78FE-1FCB-4033-A9F9-8D811FC8C6D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0948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838080" y="46483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assist people in making transition to new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deal with technical issues related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ol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person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tery of interpersonal skills is paramount to success as a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skill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ing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A28BEA5-C355-4D83-8089-53EBEA0272E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ffective communication helps to establish and maintain good working relationships with clients and colleag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ly and Effectively communicate with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types used by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lls improve with experi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A0D4810-AAB5-440B-9FF7-E0975EEA3C7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1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ns to gather information about a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ening to answers is just as important as asking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listening leads to understanding of problem and generates additional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nsive and 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A02B425-2DF8-4D08-B16D-FA68381ACA3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09480" y="3581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838080" y="4191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stly than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less biased due to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ective than interviews due to lack of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d to document progress of project and communicate this to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cation takes several form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summ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chedules and descri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anda requesting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s for proposals from vendors and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0AA2B62-9EB8-402B-8CD9-6E8792067B1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alone on aspects of project involves manag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d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work involves establishing standards of cooperation and coord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 when to trust judgment of others and when to question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 strengths and weakness of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2-2 presents characteristics of a high-performance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3375353-61C5-4534-AB33-A6532430D78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haracteristics of High-Performance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696080" cy="3767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3680" y="5867280"/>
            <a:ext cx="516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have motivation and a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s guiding a group without being a part of the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t work to keep the effort on tr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skill for sessions such as Joint Application Development (J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1AC4E3D-3F6B-493A-847D-4D77F719321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0948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Managing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838080" y="3733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ing expectations is directly related to successful system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 for successful expectatio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technology and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communicate a realistic picture of new system to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education of management and users throughout systems development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Analysis as a Prof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have been established for education, training, certification and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 ways of analyzing, designing, and implemen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ety for Information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of Information Technology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for Computing Machinery (AC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rtified Computing Professional (CCP) ex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ral aspec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01F0E26-851B-45F4-AE92-4ED8A56451E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t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ts of Analytic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741D8E4-E73A-40AF-BB93-7BFE0116A50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09480" y="3892680"/>
            <a:ext cx="830592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errelated set of components, with an  identifiable boundary, working together for a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has nin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exists within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separates a system from it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85800" y="3657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orsed Development Method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rocedures and techniques to be used during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consistency and reliability across all of an organization’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ved Development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s standardize around a specific platform, sometimes tied to development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ation of 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s are becoming better defined across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of a Common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modeling languages, such as Unified Modeling Language (U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814E112-46FF-4527-BC01-B7A18504D28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500"/>
                            </p:stCondLst>
                            <p:childTnLst>
                              <p:par>
                                <p:cTn id="8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M Code of Ethics – See Figure 2-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ck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aken by a business is acceptable as long as it is legal and maximizes stockholder prof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violates rights of stakeholder must be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Contract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is deceptive, can dehumanize employees or that could discriminate is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DF71318-CE54-4D7E-9C19-1B942B8C51C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within a large corp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ware vend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opportunities outside of systems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DABBE70-4E2E-4CCE-B5D8-1892A730D0E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racteristics of a Syste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 irreducible part or aggregation of parts that make up a system, also called 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ub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Interrelated 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pendence of one subsystem on one or more subsyste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Bound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line that marks the inside and outside of a system and that separates the system from its enviro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Purpo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overall goal or function of a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n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verything outside the system’s boundary that interacts with the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0015D07-D5A5-4CD0-8EC8-3CD787EBF1A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oint of cont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which the system meets its environment or where subsystems meet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its to what it can do and how it can achieve its purpose within an environment (capacity, speed or capabilit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2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Ope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act freely with their environments, taking in input and returning 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environment changes, systems much adapt to changes or suffer consequ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losed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interact with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bility are not issues for closed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 Information System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breaking down a system into smaller components which can be further broken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the systems analyst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ak a system into small, manageable 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on one area at a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ntrate on component relating to one group of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 different components at independent t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09C6E4C-7099-43BD-AB17-70E65E4C3BB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ividing a system into modules of a relativel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iform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result of de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es simplify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tent to which the subsystems depend on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 should be as independent as possible 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of one subsystem fails the entire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t to which a system or a subsystem performs a single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4517425-3636-4622-B6C7-C8D4B12FB9B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08Z</dcterms:modified>
  <cp:revision>139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