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719B-98C8-4784-80E3-CA926628F00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87F3-F1AB-4487-93A2-B587833B461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2C7B-B059-44F9-A9BA-31FD13757BE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C43D-8AB8-44DD-9B11-648A3D83D60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7E20-92B8-4DCD-B3DD-CCDC157935B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CAB5-53D1-4FDA-B9C9-A7BF34DFB45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DBD0-1F9C-4474-9C37-2324B39A2F0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4228-6F6F-4AF7-8D86-A27A70BC082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BC86-505B-4150-84BC-5A748337D5F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570B-7436-4BD1-B314-C24C7C85C4D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79F8-D7C3-490A-BB09-15D7B35E3B9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AA5C-A064-4AAA-8B27-80AE097368A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1EF1-C6A2-41C5-AE63-933011FDD1A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E6CF-7ACF-41F2-96DA-24D36689E5C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F202-107A-4B3F-A543-CCBB007426A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0FE9-E19C-4F20-85EE-F2ADD9EBA67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5AC8-B2BC-4E92-869E-86E911A8285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160C-6DDB-43D0-BE3B-7501445A7C8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737F-8082-4FF9-8397-52431441B77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9A03-8922-4B89-A95D-0DD9E973ABD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6BEE-CAD4-4715-B819-1C4D00106EA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D0FF-739F-4031-8CB5-3288AD417CB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6BF2-9109-4623-BE1E-DA1026ADD09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4B43-B0D0-43D1-89BB-03E2C44DD43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DCA5-078B-40CC-9D02-82FD4E13EA5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2A70-6165-4B46-B0B1-E59FE0F1ADF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3DB3-AAED-4C65-814C-F2A7DE61DAF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34C1-8542-437A-8BEA-C08EA50A044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E15A-A68F-4B84-A7F4-0C336C657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3CBA-1649-4C0A-A136-EC589E96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5B19-5753-449F-BE2F-BB6590A9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E767-BABA-4C2C-838A-45BBCECB9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1C02-88EF-49E2-A8B7-3D4D0F734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40A0-E0A6-4148-8A18-6497D90F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22C4-6DFE-41F9-907F-0682C099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698B-FD1E-421D-B036-659FDB38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50C2-F1F2-43E4-A9BC-B2E74039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FEBB-E795-4335-897C-54DF8B1A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DE39-131C-4B92-BB80-4A7A5B69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D5D0-11BD-43B1-BBC7-0BB5B12D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92D2-81A5-4614-90D0-FC4F43B9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8BB6-E89E-424B-8A7C-E832E42B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B272-FC8F-41D5-BEDA-A95E89BA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CCA2-F678-4F6D-8C91-D27D24880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078D-EFB5-43C5-BA5D-A51CF0855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BE74D-0B39-44D2-B1AD-4021ABC7D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37EF1-0BF8-45A7-AB87-614EC741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765C3-66A6-46E6-91AC-6F0899B1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19574-7E33-4ABD-B09F-BBF7D298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C254C-0F59-41F4-AB6C-AC396226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DA4A-2AEB-41E7-AAF4-B51F833F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5ECDB-EB00-45AD-A248-E3A06C2A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7DF09-C9BB-4CB2-8356-2CF449FA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311CD-6E6F-46FB-9200-309E0CF4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CC4C8-A0BE-4CD3-966D-1E61CD26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96048-273A-4877-8AC9-AA435BF4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B73C8-9511-4895-B5E0-C16BFBD2E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50C71-4BD8-4559-979F-48C3E5A73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190F-F7BA-4ECF-9176-2FFDB512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DBEC-35AC-4D6F-B0F0-1DA4DD87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B081-3B3B-4A1B-9E89-DEC0AF32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2B4C-85F8-4689-A509-7AC18F64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5D25-3DC8-44CA-90E0-6CB68879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B511-2EC5-458B-A11B-68252729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A06A-305D-46EA-A889-7B71220CF9E9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356C-F396-457B-9EE0-93735050BF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9319-343C-466D-AAD6-A9D5505518EA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66320" y="35053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ucceeding as a Systems Analy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Logical System Descri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rtrays the purpose and function of th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 not tie the description to a specific physical imple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Physical System Descri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es on how the system will be materially constru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C01FE6F-4212-4EC2-8EDF-F53DACE8668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le to identify something as a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ognizing each of the system’s characterist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ying bound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evant in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ication of a system leads to abstra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om abstraction you can think about essential characteristics of specific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straction allows analyst to gain insights into specific system, to question assumptions, provide documentation and manipulate the system without disrupting the real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4656E735-CB98-4ECA-B211-E3E4F9D3B1F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ing Systems Thinking to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s are subsystems in larger organizational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king input from, and returning output to, their organizational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flow diagrams represent information systems as systems (clearly illustrat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bound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1D76E4B9-1DE1-482E-B69E-B254F7BA04E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500"/>
                            </p:stCondLst>
                            <p:childTnLst>
                              <p:par>
                                <p:cTn id="3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500"/>
                            </p:stCondLst>
                            <p:childTnLst>
                              <p:par>
                                <p:cTn id="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Knowled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standing of how organizations 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ledge of specific functions and procedures of organization and depart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work officially gets do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departments operates, its purpose, its relationships with other departments, its relationships with customers and suppli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al polic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etitive and Regulatory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ganizational Strategies and Tacti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622B9E3A-DB1F-4570-AAFF-03F2B7E1219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blem Ident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lem: Difference between an existing situation and a desired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lem solving:  the process of finding a way to reduce dif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ication is process of defining dif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fferences are defined by comparing the current situation to the output of a model that predicts what the output should 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B88829C8-568C-4DB6-A7FC-FBCACF786E0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blem Analyzing and Sol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analyze the problem and determine how to solve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P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llig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relevant information is coll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ternatives are formu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o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st alternative solution is chos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ution is put into prac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02EC0A83-D44E-4F49-B2FC-BE86950DEBF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500"/>
                            </p:stCondLst>
                            <p:childTnLst>
                              <p:par>
                                <p:cTn id="4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500"/>
                            </p:stCondLst>
                            <p:childTnLst>
                              <p:par>
                                <p:cTn id="5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4000"/>
                            </p:stCondLst>
                            <p:childTnLst>
                              <p:par>
                                <p:cTn id="5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500"/>
                            </p:stCondLst>
                            <p:childTnLst>
                              <p:par>
                                <p:cTn id="5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tant re-education is necessary as technology changes rapid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ities to keep skills up-to-d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e pub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essional socie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d classes or teach at a local colle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d courses sponsored by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erences and trade sho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owse Webs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icipate in new groups and con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F6FEED08-1CA8-4DA6-8AFB-7105835832A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standing of a wide variety of technologies is required (requires continuous learn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crocomputers, workstations, minicomputers and mainframe compu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ming langu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ing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base and file management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communication stand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development tools and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b development languages and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support system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4E4D701-C43D-456D-A02C-CD3355C4544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ement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 how to manage your work and use organizational resources in the most productive w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catego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ourc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7690C926-56E7-4D06-83FE-61A4B0E3B50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5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ource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analyst needs to know how to get the most out of the resources of an organization, including team memb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des the following capa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dicting resource us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cking resource consum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use of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of resource qu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uring resources from abusive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inquishing resources when no longer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8F88F18A-5A93-43EA-9C8B-67CF47C7916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500"/>
                            </p:stCondLst>
                            <p:childTnLst>
                              <p:par>
                                <p:cTn id="6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500"/>
                            </p:stCondLst>
                            <p:childTnLst>
                              <p:par>
                                <p:cTn id="6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lationship between systems analyst’s skills and the SDLC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027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629400" cy="4073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Go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projects from coming in 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projects from going over bud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ists management in keeping track of project’s progr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ists of several ste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omposing project into independent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ing relationships between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igning resources and personnel to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ependent contr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ra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ationship managers (liais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F08CFDA4-B698-4F93-9C15-B2EACE270ED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3000"/>
                            </p:stCondLst>
                            <p:childTnLst>
                              <p:par>
                                <p:cTn id="6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3500"/>
                            </p:stCondLst>
                            <p:childTnLst>
                              <p:par>
                                <p:cTn id="6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4000"/>
                            </p:stCondLst>
                            <p:childTnLst>
                              <p:par>
                                <p:cTn id="6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isk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38080" y="1676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ility to anticipate what might go wrong in a proj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mize risk and/or minimize damage that might resul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cement of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oritization of activities to achieve greatest ga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D2B425FF-CB51-45C9-A0C2-44D27C2AA25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09480" y="3809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hang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838080" y="46483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assist people in making transition to new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deal with technical issues related to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oles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"/>
                            </p:stCondLst>
                            <p:childTnLst>
                              <p:par>
                                <p:cTn id="7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500"/>
                            </p:stCondLst>
                            <p:childTnLst>
                              <p:par>
                                <p:cTn id="7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3000"/>
                            </p:stCondLst>
                            <p:childTnLst>
                              <p:par>
                                <p:cTn id="7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3500"/>
                            </p:stCondLst>
                            <p:childTnLst>
                              <p:par>
                                <p:cTn id="7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person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stery of interpersonal skills is paramount to success as a Systems Analy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types of skill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king alone and with a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ilitating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ing expec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48D86D3-25D6-44FA-9211-09489257404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munication Sk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38080" y="1752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ffective communication helps to establish and maintain good working relationships with clients and colleag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ly and Effectively communicate with ot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ree types used by Systems Analy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ing and Liste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estionnai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ten and Oral Pres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kills improve with experi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BD36179C-19C8-4730-B2C9-F1F294D5EEF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500"/>
                            </p:stCondLst>
                            <p:childTnLst>
                              <p:par>
                                <p:cTn id="7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viewing and Liste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091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ans to gather information about a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stening to answers is just as important as asking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listening leads to understanding of problem and generates additional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nsive and time-consu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32E8047D-79D7-41EB-A1BA-D826DA425E8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609480" y="3581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Questionn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838080" y="4191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costly than inter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are less biased due to standard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effective than interviews due to lack of follow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500"/>
                            </p:stCondLst>
                            <p:childTnLst>
                              <p:par>
                                <p:cTn id="7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ritten and Oral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d to document progress of project and communicate this to ot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cation takes several form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ing age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ing minu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 summ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schedules and descri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oranda requesting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ests for proposals from vendors and contr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al pres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F4FB23B5-416E-456F-BB72-E90DC6C5CFA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rking Alone and with a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0912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king alone on aspects of project involves manag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it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adl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am work involves establishing standards of cooperation and coordin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 when to trust judgment of others and when to question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 strengths and weakness of team mem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ble 2-2 presents characteristics of a high-performance 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9DC178DE-C79E-4993-8211-498816EC3A0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haracteristics of High-Performance Tea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696080" cy="37670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903680" y="5867280"/>
            <a:ext cx="5168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t have motivation and a 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acilitating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s guiding a group without being a part of the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st work to keep the effort on tr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ful skill for sessions such as Joint Application Development (JA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321C9F16-4B3F-41DB-8DDA-5AD8E938C5E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609480" y="3048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Managing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838080" y="37339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ing expectations is directly related to successful system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ills for successful expectation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of technology and work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ility to communicate a realistic picture of new system to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education of management and users throughout systems development life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500"/>
                            </p:stCondLst>
                            <p:childTnLst>
                              <p:par>
                                <p:cTn id="8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2000"/>
                            </p:stCondLst>
                            <p:childTnLst>
                              <p:par>
                                <p:cTn id="8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500"/>
                            </p:stCondLst>
                            <p:childTnLst>
                              <p:par>
                                <p:cTn id="8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000"/>
                            </p:stCondLst>
                            <p:childTnLst>
                              <p:par>
                                <p:cTn id="8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3500"/>
                            </p:stCondLst>
                            <p:childTnLst>
                              <p:par>
                                <p:cTn id="8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Analysis as a Prof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s have been established for education, training, certification and prac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 ways of analyzing, designing, and implementing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ety for Information Man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ion of Information Technology Profession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ion for Computing Machinery (ACM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rtified Computing Professional (CCP) ex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ral aspect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s of Prac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thi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reer Pat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80F078FB-2649-48EE-A562-4FDC89C34AB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alyt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Sets of Analytical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al Knowled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Ident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Analyzing and Solv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3B8B0CBA-8ED4-467B-8742-0DFA1E99D5D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09480" y="3892680"/>
            <a:ext cx="8305920" cy="23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 interrelated set of components, with an  identifiable boundary, working together for a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 has nine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 exists within 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oundary separates a system from its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685800" y="3657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andards of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380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dorsed Development Methodolo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c procedures and techniques to be used during 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consistency and reliability across all of an organization’s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roved Development Platfor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s standardize around a specific platform, sometimes tied to development method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ization of Ro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s are becoming better defined across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ment of a Common Langu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 programming langu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 modeling languages, such as Unified Modeling Language (UM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DFB097C-C5FB-463A-A8F7-776CF063B86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000"/>
                            </p:stCondLst>
                            <p:childTnLst>
                              <p:par>
                                <p:cTn id="8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500"/>
                            </p:stCondLst>
                            <p:childTnLst>
                              <p:par>
                                <p:cTn id="8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3000"/>
                            </p:stCondLst>
                            <p:childTnLst>
                              <p:par>
                                <p:cTn id="8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3500"/>
                            </p:stCondLst>
                            <p:childTnLst>
                              <p:par>
                                <p:cTn id="8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4500"/>
                            </p:stCondLst>
                            <p:childTnLst>
                              <p:par>
                                <p:cTn id="8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th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essional Eth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M Code of Ethics – See Figure 2-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siness Eth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ockholder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aken by a business is acceptable as long as it is legal and maximizes stockholder prof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keholder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hat violates rights of stakeholder must be rej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cial Contract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hat is deceptive, can dehumanize employees or that could discriminate is rej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7C052B8C-517A-4530-B6FC-83614FAC8EC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eer P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ul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s within a large corpo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ware vend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ther opportunities outside of systems 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B853B9A-57FE-41EC-9E21-2DD7C1EBD6D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7720" y="15238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racteristics of a Syste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n irreducible part or aggregation of parts that make up a system, also called a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sub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Interrelated Compon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ependence of one subsystem on one or more subsystem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 Bound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line that marks the inside and outside of a system and that separates the system from its environ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 Purpo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overall goal or function of a 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n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verything outside the system’s boundary that interacts with the 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0AF080A5-B0FE-4322-A6EC-24A84FFC6B6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09680" y="685440"/>
            <a:ext cx="4267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oint of conta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t which the system meets its environment or where subsystems meet each 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ever a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ak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rom its environment in order to fulfill its purp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ever a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tur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its environment in order to fulfill its purp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mits to what it can do and how it can achieve its purpose within an environment (capacity, speed or capabiliti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5246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Open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act freely with their environments, taking in input and returning outp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environment changes, systems much adapt to changes or suffer consequ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losed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 not interact with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aptability are not issues for closed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siness Information System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Decomposi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cess of breaking down a system into smaller components which can be further broken d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the systems analyst t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eak a system into small, manageable sub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 on one area at a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centrate on component relating to one group of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ild different components at independent ti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8284B460-6002-46B2-828D-CA36DC6B610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dividing a system into modules of a relativel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uniform s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rect result of decom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ules simplify system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up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xtent to which the subsystems depend on each 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ystems should be as independent as possible e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ilure of one subsystem fails the entire syst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he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tent to which a system or a subsystem performs a single 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A5D625F5-6F95-4D4E-AAA4-3907F806AE3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1:08Z</dcterms:modified>
  <cp:revision>139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