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C518-C875-4B21-81D5-59D57662198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010F-33C6-42F8-BE5B-50EF6A29553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E9B9-C116-4A98-8B9F-4BD81E4C9A5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B9FA-DE65-485B-AB6C-545C41A7E9E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A1E6-55D1-4A18-8FE9-5448FC2F027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496A-04A8-4BFD-9C67-AB2A0C3CAFC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3CC8-F534-41AA-93D7-F42CD08783C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2B26-E2B7-4E23-A79E-75584AB565D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9BE0-67DB-4495-B808-82882F4CC45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5DA4-DB94-4F80-A5BA-7BFE00F8AB8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07AD-F9F5-4F94-B102-E4B29DFB0E1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6F88-365E-4EAD-A6D1-AEE0813C7BD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DD03-DF53-419F-B4F5-DD83B2E398C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1026-277E-447C-BEE6-66A69057EA4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E71D-259C-4EFA-B930-27A472E5655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61A1-5FB2-41B3-84E5-89DB90F6ADC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63AC-6792-4CF9-92A1-F07EC117FC1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4326-5B37-4147-BC43-64946582508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A0F1-D599-4166-98F3-334A751AF39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BF4B-1B7D-43F3-A6FB-0E6A6BCA53E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5728-4976-4E7D-B0B1-957A29E103F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D38E-C74F-4538-B49F-7D5F23EE563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3CF4-D818-4399-B9C4-35CFD1D68BC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0E91-BD4A-4C96-B64C-8FD1347B4B1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4B45-A410-4AED-8F27-283546E2D97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FFCC-8BF3-4567-907C-C7DAD13A3BD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5657-23C6-40C1-B043-05014F74C7D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3D59-D80B-4699-83CA-96982B1A85F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639-B734-4296-8B8B-47604112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ABD-468D-48B5-A6AC-9B2B7254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D29A-5E68-460D-876E-C64C32D8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25E3-5F43-42A9-A629-B5B7503C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3B84-1877-41C2-BC29-35271FB7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E147-D0A6-4141-8423-82911AAB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50C72-71A1-46EB-B970-C04E6188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873D-6FF7-48B7-AE07-A0A461FF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0F31-6066-4324-8EAC-F3BE5F53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67B6-A3DF-49CE-BA0A-ABE8A6F1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29E1-9126-408C-9017-7C978474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053-2406-4BF0-B6E4-5024286B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D95E-B7E5-428D-934F-8250B4DF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245B-5629-4EFF-96A2-3B333AFA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3A93-3347-4E6F-98F4-E9AD45E5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E534-83B5-4E1A-8B0B-6B9F5896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E399-BB19-4F05-8B51-1BAD9C2C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516C3-471A-49B6-B934-CB7AC60F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C5C3C-53F3-4A24-84DB-7BF36940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EE60C-AB7E-4FB1-B209-4FB56E5D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B2A1A-1215-4394-ADB0-CFB3A855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6AB2A-64D2-40E9-8E9D-C9EC2F78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7CE-FA9F-4752-AE2B-53EB2DE8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FC928-C99C-45A3-B6C2-6DD718CA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FB9C3-B94E-4A6C-89FA-4EB0F341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16464-0DD4-4489-A899-794D53BE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2D8DA-62E7-4AF8-847B-37DBF253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F35F4-4FE0-454D-A164-2EAF598A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B868D-5DE5-473A-BF41-A7BFA54E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D5BF6-B836-4BC0-8D7A-F684BF379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03A7-8222-4730-AE70-069AB919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4247-0490-4711-B790-5F81BCB6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279-1767-4216-AE7E-4304BCC8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F1DB-E2F8-4770-A843-95D0017D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C31-7B2B-4072-9F7E-E8F267D6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B8FA-F192-427A-A54E-DE867C13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3DD9-640D-46DE-842D-AFF6B0269780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486F-E4DC-45B7-A9CA-1F99D08938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2A9E-48D1-4EAD-B666-48A32651D2DB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ucceeding as a Systems Anal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ys the purpose and function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tie the description to a specific physical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Phys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how the system will be materially constru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EC32030-3A7B-4F26-B480-B2C8232D5BF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identify something as a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gnizing each of the system’s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a system leads to abst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abstraction you can think about essential characteristics of specific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straction allows analyst to gain insights into specific system, to question assumptions, provide documentation and manipulate the system without disrupting the real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A5ACC01-DB7A-4D49-A055-BC86ABC6650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Systems Thinking to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are subsystems in larger organizationa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input from, and returning output to, their organization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represent information systems as systems (clearly illust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7DC710F-C9E8-4365-947B-F724AD1BC29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how organizations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of specific functions and procedures of organization and depar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ork officially gets d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epartments operates, its purpose, its relationships with other departments, its relationships with customers and suppl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 and Regulator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ational Strategies and Tac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5226F7D-D939-40EE-92B8-CB630BE4252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: Difference between an existing situation and a desired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solving:  the process of finding a way to reduc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is process of defining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are defined by comparing the current situation to the output of a model that predicts what the output should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1F7930F-8A5F-401B-91C3-9DF36CF58FA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nalyze the problem and determine how to solv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levant information is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s are form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alternative solution is ch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on is put into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491CE6B-3A5A-46DB-85A6-9FB2B252DE0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ant re-education is necessary as technology changes rapid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to keep skills up-to-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socie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lasses or teach at a local col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ourses sponsored by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s and trade sh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wse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new groups and 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9B04444-1BF0-45DA-8F56-0881FB16424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a wide variety of technologies is required (requires continuous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computers, workstations, minicomputers and mainframe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and file manag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communication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development tools and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development languages and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upport system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9D100E1-6F1B-41CF-B310-E9C9031691A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how to manage your work and use organizational resources in the most productive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925A249-ED6A-4EFE-BE23-C517B20B833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0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 needs to know how to get the most out of the resources of an organization, including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the following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ing resource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 resourc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use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resource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ng resources from abusive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nquishing resources when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72E0978-D882-4167-B56B-B30249EFC4B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0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ship between systems analyst’s skills and the SDLC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2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0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coming in 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going over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s management in keeping track of project’s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several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ing project into independ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relationships between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resources and personnel to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pendent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managers (liai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51C8279-8C70-4A08-96C7-231EBC27F68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ility to anticipate what might go wrong in a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e risk and/or minimize damage that might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ment of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of activities to achieve greatest g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B7E3094-21AD-4288-B9BD-BC5AAF9FD2D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38080" y="4648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ist people in making transition to new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deal with technical issues related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person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y of interpersonal skills is paramount to success as a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skil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C12FEE6-213A-4295-98BA-BFCE67530E6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ective communication helps to establish and maintain good working relationships with clients and colleag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ly and Effectively communicate with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types used by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 improve with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8FAB729-6FFE-4702-9137-47A27167653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0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s to gather information about a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ening to answers is just as important as asking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listening leads to understanding of problem and generates additional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nsive and 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21D4538-FF78-4721-AD5B-D93ADC41240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0948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3808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stly than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less biased due t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ective than interviews due to lack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0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d to document progress of project and communicate this to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ion takes several for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summ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s and descri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anda request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s for proposals from vendors and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09E0358-D851-44C3-B609-A61F9EF43AD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alone on aspects of project involves manag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work involves establishing standards of cooperation and coord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 when to trust judgment of others and when to question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strengths and weakness of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2-2 presents characteristics of a high-performanc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BFC53BA-7C47-4505-AED5-928814AD7AA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racteristics of High-Performance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96080" cy="3767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5867280"/>
            <a:ext cx="516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motivation and a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s guiding a group without being a part of the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work to keep the effort on t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skill for sessions such as Joint Application Development (J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7A403E2-52CD-4136-8B28-D2CBBA0A2F1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anag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3808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expectations is directly related to successful system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for successful expectat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technology and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communicate a realistic picture of new system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education of management and users throughout systems development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0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Analysis as a Pro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have been established for education, training, certification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ways of analyzing, designing, and implemen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y for Information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of Information Technology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for Computing Machinery (AC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ed Computing Professional (CCP) ex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al aspec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1C81461-BD5F-4F45-B0B0-65C1D3B9896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t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ts of Analytic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314F37A-D535-4BCC-9CA6-8AA9EF020CE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480" y="3892680"/>
            <a:ext cx="830592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rrelated set of components, with an  identifiable boundary, working together for a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has nin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exists withi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separates a system from it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58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orsed Development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rocedures and techniques to be used during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consistency and reliability across all of an organization’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ved Development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standardize around a specific platform, sometimes tied to develop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ation of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are becoming better defined across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a Commo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modeling languages, such as Unified Modeling Language (U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0EB465F-9973-40A8-830B-A8BFC6A3345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M Code of Ethics – See Figure 2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ck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aken by a business is acceptable as long as it is legal and maximizes stockholder prof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violates rights of stakeholder must be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Contract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is deceptive, can dehumanize employees or that could discriminate is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E4647C2-9171-4171-9099-0E46BA30084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within a large corp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ven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opportunities outside of system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3EAC02A-97CA-49AB-965F-937DCA26B0E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istics of a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rreducible part or aggregation of parts that make up a system, also called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b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nterrelated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pendence of one subsystem on one or more sub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line that marks the inside and outside of a system and that separates the system from its enviro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Purp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overall goal or function of a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n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verything outside the system’s boundary that interacts with the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D2EABA9-57A7-4C63-B058-ABBF596E163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int of 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which the system meets its environment or where subsystems meet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to what it can do and how it can achieve its purpose within an environment (capacity, speed or capab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2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 freely with their environments, taking in input and returning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environment changes, systems much adapt to changes or suffer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losed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interact with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bility are not issues for closed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Information System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breaking down a system into smaller components which can be further broken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the systems analyst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a system into small, manageable 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one area at a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 on component relating to one group of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different components at independent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A39807A-A487-4F24-ADBF-979E9D99030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ividing a system into modules of a relative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form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result of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s simplify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tent to which the subsystems depend on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 should be as independent as possible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of one subsystem fails the entir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o which a system or a subsystem performs a singl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1D47B45-8657-4A77-B29A-0D18504375F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 AlSultan</cp:lastModifiedBy>
  <dcterms:modified xsi:type="dcterms:W3CDTF">2015-02-06T15:40:44Z</dcterms:modified>
  <cp:revision>13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