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8FFE-FEAD-47CD-85B3-E46C77A1242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9C5B-D72A-4EF5-B8C6-790D94D4F37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A393-5CD5-4DCD-A9F7-8384A5F8EA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0DD1-AF2A-49C9-905F-389BA124DFA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B94D-C6B8-47EF-9759-56F7F2C1971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7421-EF9A-49F7-AF05-EE2AF0AA03F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80BA-AB58-489E-9659-78135131B57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19CF-3C19-4F41-A74B-0422605B5B8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7109-1E61-4F14-A72B-16FF59DB9F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8EB9-D729-4DF1-ADEA-B0FBA30D0B08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867F-1F44-4BF2-AA45-86240472071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5CB3-88B7-47CE-80B0-B03B308F5BDD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7B23-9991-477B-B361-D15E0BC653F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C1D4-13D8-45F7-8E82-780B32DEA4E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A6A0-532E-4EE4-939E-70CCA73713F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E1A2-C721-403A-BDDE-70DB38E43D0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C900-08E8-4DAA-8D94-D18724FE07F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B54C-40B9-4995-B959-2D5A3A95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00E8-A49D-4A1E-ADAC-8A402DA8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141B-047F-4697-9F8A-B5F28BFF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FE16-43AA-4299-AFF6-D0673104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6288-6ADE-407A-B479-C2DDA161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44DD-1CE4-4229-ACBD-F715F0F8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F7A7-451D-499D-BAE9-C3F8F8E9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C3CD-A3BE-4058-A843-C8590344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5DBC-DA81-42F5-87BD-7D3FF1F9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8D82-9897-4FE2-93CB-D8B794DD1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4731-742A-4E9B-8F3F-24A7DE9C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07F-562E-48D3-A203-DBCE26D0D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2BB6-F553-4E88-AEA7-E756190E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E59A1-D3DB-4C37-8682-3CDB24CE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B7A-0D54-4BD6-8E17-DF79F6C2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56ED-8562-4F68-BD02-CC51F2D1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74854-C685-4187-86E3-642B3FD0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8AB-16FC-48BC-B6B8-52268CD1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5C63-0A83-4011-B27F-3C6CE97C6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DE6-7AEA-4DA9-928B-93610BA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8B1-0365-4C3B-9131-1C38D8B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F10-FEFA-4985-9E66-DF0134C2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751A-CA3E-4C66-839E-4D1DEE77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210-58EC-4580-A137-724B2E38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3DAA9-B33B-4059-A441-4A2E5AF98F20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4723-F9CE-4388-AE3F-FC67AA2B4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Managing the Information Systems Proje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337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838080" y="16761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9. Develop a statemen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ccurs near the end of the project planning ph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primarily for the custo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s work that will be done and describe what the project will deliver and du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0. Set a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of project’s tasks and resource requirements that guides the next project phase – execu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312C3CC0-5454-4CB2-85D6-B08E3034AD7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ject Execu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plans created in pri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 phases are put into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Occurs during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analysis, design, implementation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phases of SD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e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quire and assign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 new team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 project on schedule -  as tasks are completed, mark them as completed by perc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nitor project progr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just resources, budget and/or activities if project gets ahead or behind sched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n result in modifications to current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FDFB18C2-979D-44F7-A536-DBF818FA3DB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xecu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9047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 changes to Baseline Project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lipped completion d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s in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activities found l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ngled activities to be redo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project workbook to maintain complete records of all project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unicate project status with entire project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5FB5D1D2-799E-4760-9F68-9E76F0ECB63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6212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closedow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– bring pr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ct to an 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ccurs after implementation phase of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r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ypes of termin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quirements have been met – project is completed successfu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Unnatur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stopped before completion – due to running out of time or mon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onnel Appraisal – job and assignment changes, job termination, praising team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6D939A71-AA60-4C6D-89B5-62D82DF0274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osing Down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1905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post-project revie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termine strengths and weaknesses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deliver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ment 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 customer contr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E06A8638-C3B0-4F61-AAA4-6602F9984B2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presenting and Scheduling Project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nt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depicting simple projects or parts of large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start and completion dates for individual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T Ch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ow order of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CA4E3794-6460-436E-A81D-C02693F8E5F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522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omparison of Gantt and PERT Ch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380880" y="3962520"/>
            <a:ext cx="38102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uration of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time overlap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slack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4343400" y="39625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dependencies between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ly shows which tasks can be done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s slack time by data in rect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gure 3-16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raphical diagrams that depict project pla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a) A Gantt Chart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) A PERT 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153A678-BFA7-44ED-936A-47D3CE5BE60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324840" cy="2482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2"/>
          <a:stretch/>
        </p:blipFill>
        <p:spPr>
          <a:xfrm>
            <a:off x="2514600" y="4103640"/>
            <a:ext cx="4800600" cy="260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Softw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systems are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ree activities required to u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start or end d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ter tasks and assign task relationshi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 scheduling method to review project repo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04E40CFC-2362-4E1D-B99D-5B8E51FBC2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cus of proje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sure that information system projects meet customer expect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ivered in a timely man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 time constraints and requir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41F0B09-22F4-4451-AD3E-20768ACCCD8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83808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s Analy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ponsible for Pro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Managing the Information Systems Projec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kill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ade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chnic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blem solv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lict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ustomer re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m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sk and chang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Management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nned undertaking of related activities to reach an objective that has a beginning and an 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 end product in a phase of the SDL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easibility Stu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termines if the information system makes sense for the organization from an economic and operational stand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tudy takes place before the system is construc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Management Process involves Four Ph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it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osing d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E3CE83D-DB20-4D72-882A-180ADE51B65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itiat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09120" y="152352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niti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first phase of the project management process in whic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 are performed to assess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ex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the project and to establish procedures to support later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relationship with custom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initi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management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 project management environment and workbo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workboo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An on-line or hard-copy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ositor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for all project correspondence, inputs, outputs, deliverables, procedures, and standards used by all team members useful for project audits, orientation of new team members and performing post project review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88D0CB9F-357C-4A4D-B888-AF248CDBDF5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Project Plann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– defining clear, discrete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making assumptions about availability of resour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 activities are easier to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planning activiti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escribe projec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scop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lternative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 and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ope and Feasibil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derstand the proj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problem is address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 results are to be achiev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asures of suc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99548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mpletion cri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ork breakdown structur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The process of dividing the project into manageable tasks and logically ordering them to ensure a smooth evolution between tas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7616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me tasks may be performed in parallel whereas others must follow one another sequentiall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79E5A2B-DBF1-4AB6-86AD-44A653DE469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w to define tasks? 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s a known method, can be done by one-person or well-defined group, has accepted predecessor and successor steps, is measurable so that percent complete can be determin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ide the project into manageable task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antt char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A graphical representing of a project showing each task as    a horizontal bar whose length is proportional to its time for comple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ntt charts do not show how tasks must be ordered but simply shows when an activity must begin and en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Different colors, shades, shapes can be used to highlight each kind of ta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. Estimate resources and create a resource p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resource requirements for each project a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ource plan helps assemble and deploy resources in most effectiv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ople are most important and expensive part of resourc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tasks to people that suit their skills and allows to learn new ski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AA7C36D6-D6BC-4C89-8D39-B9C3B7C03D9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09480" y="380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60948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Develop a preliminary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ime estimates to each activity in work breakdow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estimates allows creating target starting and ending dates for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e Gantt and PERT ch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499"/>
              </a:spcBef>
              <a:buClr>
                <a:srgbClr val="0000ff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am Evaluation Review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ER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 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diagram that shows pro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 tasks and their 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ing of tasks is shown by connecting tasks with its predecessor and success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1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ly individual tasks are dra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no summary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lanning the Pro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 Develop a communication pl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communication procedures among customers, team members and 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cation plan includes when and how written and oral reports will be provided by the team, how team members will coordinate work, what messages will be s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 Determine project standards and proced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y how deliverables are tested and produc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7. Identify and assess r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 sour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timate consequences of ris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8. Create a preliminary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line planned expenses and revenues of the project to study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fld id="{1CCA2CEF-0F07-4613-8452-6851A058EF4C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Huda</cp:lastModifiedBy>
  <cp:lastPrinted>2009-04-22T19:24:48Z</cp:lastPrinted>
  <dcterms:modified xsi:type="dcterms:W3CDTF">2012-09-16T11:22:46Z</dcterms:modified>
  <cp:revision>105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