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AE04-706D-4BCF-9171-888E85931EB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35A6-0166-4518-B04F-0663DA193C6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BC8B-03BE-4FF7-B0E7-F5CDACA38AE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4C07-AFBB-4C23-8CE8-1B2030AE3D2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A86CB-21AB-4F2C-9EE7-148237939B9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00CC6-06E7-4B9C-8570-3E7CA50B747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7052-389D-4208-A380-20BE219CD1E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1245-136E-4174-BC01-DD8B49C6FEA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40D5-2CF2-4B3A-AD44-DFA1858C8AB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EFAA-9818-4DF0-9717-D5CDC6E1E89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EE3D-D6DB-4A54-ADE9-0E2B44A8C68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1838-1475-490F-A7FC-C3054D3F39B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3C82-8BDD-45DA-A6D4-74AE71246EB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F092-A862-4EAD-9404-4A69DA638A6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4828-0E61-4FD3-9346-CE073204305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68C1-CD97-4F05-AF76-CD958F8D215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F3BC-787A-40FD-8436-CCBBF9469DC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A04A-6ECA-4DE0-B233-2E5848E29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8FCF-1478-4180-88FC-3229E079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D2F1-E6A2-4238-988A-7E81298C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2792-6C54-4786-B293-5AE76B585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D2EE-73D5-43B4-A22B-1185782C4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2A2E-6FF9-4E3A-89E1-A86B1864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A62B-7B15-4D56-B286-DC7E73C9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B87B-0BDC-41D0-A5B4-5E7CBFEF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2658C-9970-4B5D-889F-61E8554A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150A-FBF8-473E-8EF3-C8F61704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6EFE-5C96-4353-BF2C-DB17CBF5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959A-8084-41B3-9E37-21D1C0EC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FE93-0C18-4BEC-9CE3-4C0D0E74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32D9-42ED-43AA-8424-35529DE6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F6FD-AC65-4BB5-A218-6A217110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9B7E-5CD0-4F43-9DB3-DE947F10E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3AE9-12C6-4B7B-9DA0-28BC0B3E8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6E6B-DA22-4E1E-83F7-961B49DF0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82E2-7218-4097-A252-494460DE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CD7D-6E73-4A2F-AABC-0B987924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9E70-0321-4260-B1EA-D86DBCD8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9860-4DE7-4DEB-820B-3CFA662B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1BC5-C6DE-4128-9476-2074F265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82DC-80B0-4093-B25F-6FBF10FD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17E4-C151-4449-B5D2-66E31BE610AB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239C-24E8-449E-8196-BB24732B4C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Managing the Information Systems Proj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8080" y="16761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. Develop a statemen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ccurs near the end of the project planning ph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ed primarily for the custo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s work that will be done and describe what the project will deliver and du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. Set a Baseline Projec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 of project’s tasks and resource requirements that guides the next project phase – execu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10705BC7-7CA0-4B03-A23A-DF1E04D681F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ecut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roject Executio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– plans created in pri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 phases are put into 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ccurs during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nalysis, design, implementatio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phases of SDL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ecute Baseline Projec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quire and assign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in new team memb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ep project on schedule -  as tasks are completed, mark them as completed by perc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nitor project progr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just resources, budget and/or activities if project gets ahead or behind sched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n result in modifications to current p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19026F45-BA1B-4B2F-8C21-948A7DBC6AF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ecut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8080" y="19047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 changes to Baseline Projec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lipped completion d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s in perso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activities found la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ngled activities to be red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tain project workbook to maintain complete records of all project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e project status with entire project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C4F9C191-7CD5-4B6B-909F-EEC0D2B50D21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osing Down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621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ject closedow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– bring pr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ct to an 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ccurs after implementation phase of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r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ypes of termin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atu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irements have been met – project is completed successful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Unnatu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stopped before completion – due to running out of time or mon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sonnel Appraisal – job and assignment changes, job termination, praising team memb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1A2D0530-B74A-42B7-8261-5D50C7D3CDF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osing Down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1905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uct post-project revi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e strengths and weaknesses of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deliver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manage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ose customer contr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A7D8CF74-FC66-4D84-A413-9116B023825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presenting and Scheduling Project P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ntt Cha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ful for depicting simple projects or parts of large pro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w start and completion dates for individual tas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T Cha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w order of 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3673F353-FD01-4AA1-9EFD-65784508CE8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522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omparison of Gantt and PERT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0880" y="3962520"/>
            <a:ext cx="38102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n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duration of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time overlap between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slack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4343400" y="3962520"/>
            <a:ext cx="3809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dependencies between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which tasks can be done in parall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s slack time by data in rect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gure 3-1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raphical diagrams that depict project pla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a) A Gantt Char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b) A PERT ch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D36C012D-397A-4895-AC4F-56EB6B167C0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324840" cy="2482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2"/>
          <a:stretch/>
        </p:blipFill>
        <p:spPr>
          <a:xfrm>
            <a:off x="2514600" y="4103640"/>
            <a:ext cx="4800600" cy="2602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 Soft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systems are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e activities required to us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start or end d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er tasks and assign task relation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 scheduling method to review project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BE134991-1701-4E4F-84C6-C9DD0CC7C1F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aging the Information Systems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cus of project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ensure that information system projects meet customer expect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livered in a timely man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 time constraints and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851F572B-8F55-43DD-B9D8-15F583E9205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83808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s Analy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sponsible for Pro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ing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Managing the Information System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lls 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solv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lict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tomer re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am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 and chang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nned undertaking of related activities to reach an objective that has a beginning and an 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liver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end product in a phase of the SDL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easibility Stu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termines if the information system makes sense for the organization from an economic and operational standpo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tudy takes place before the system is construc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Management Process involves Four Ph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iti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osing d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EA81194C-CDA5-4F53-BAB1-770224FD997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itiat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niti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rst phase of the project management process in whic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ities are performed to assess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lex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 project and to establish procedures to support later projec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initiation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relationship with custom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initi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management proced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management environment and workbo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workboo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An on-line or hard-copy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all project correspondence, inputs, outputs, deliverables, procedures, and standards used by all team members useful for project audits, orientation of new team members and performing post project review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5AB6B84C-7A80-4637-879D-8A83A663E4C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48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Project Planning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– defining clear, discrete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ires making assumptions about availability of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-term activities are easier to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planning activiti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Describe project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scop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alternatives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feasi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cope and Feasi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derstand the projec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problem is address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results are to be achiev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asures of suc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mpletion criter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vide the project into manageable task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ork breakdown structur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The process of dividing the project into manageable tasks and logically ordering them to ensure a smooth evolution between tas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tasks may be performed in parallel whereas others must follow one another sequential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1CD3A513-F2BD-4130-8902-77C8CD04F56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5238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w to define tasks? 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s a known method, can be done by one-person or well-defined group, has accepted predecessor and successor steps, is measurable so that percent complete can be determin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vide the project into manageable task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antt char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 graphical representing of a project showing each task as    a horizontal bar whose length is proportional to its time for comple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ntt charts do not show how tasks must be ordered but simply shows when an activity must begin and e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fferent colors, shades, shapes can be used to highlight each kind of ta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. Estimate resources and create a resource pl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 resource requirements for each project 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ource plan helps assemble and deploy resources in most effective 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ople are most important and expensive part of resource plan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tasks to people that suit their skills and allows to learn new skil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0014F711-8B76-4E6F-8550-81FCA82035B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60948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09480" y="1295280"/>
            <a:ext cx="8534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Develop a preliminary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time estimates to each activity in work breakdow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estimates allows creating target starting and ending dates for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Gantt and PERT ch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am Evaluation Revie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R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diagram that shows pro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 tasks and their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ing of tasks is shown by connecting tasks with its predecessor and successor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y individual tasks are dra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no summary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. Develop a communic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 communication procedures among customers, team members and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unication plan includes when and how written and oral reports will be provided by the team, how team members will coordinate work, what messages will be s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. Determine project standards and proced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y how deliverables are tested and produc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. Identify and assess r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entify sources of ri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 consequences of ri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. Create a preliminary bud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 planned expenses and revenues of the project to study cost-benefit analy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9945D911-15EE-4A73-A4D9-514574CF690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Huda</cp:lastModifiedBy>
  <cp:lastPrinted>2009-04-22T19:24:48Z</cp:lastPrinted>
  <dcterms:modified xsi:type="dcterms:W3CDTF">2012-09-16T11:22:46Z</dcterms:modified>
  <cp:revision>105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