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E9A4-2EAF-4BE5-B364-BB9A4EF59CD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3F26-D922-42CA-A49C-FAFEB82FFFF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3326-9EC3-40AC-8C23-B1B55C307F0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9F03-988A-497E-8A34-6E3C0093E56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3C50-B148-4D66-AFD0-E5A2DED496F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7B53-D37D-4F18-AF15-6EBC0F4B5E4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D3A1-8D9F-4BC7-A1E0-D15C21A4A2D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F27B-D3D8-4C80-A0AF-B636FA6405F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CBEC-6246-423B-9DBA-B223D755854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8719-3018-4549-AE25-4212358194C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23F1-537F-4E68-844D-AC499D19913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2DE8-6A75-458A-8310-FBC4E7AB5A0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ACD5-A77D-4DF7-83CC-CF0B4EDFD1E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4CA3-E9E6-4442-A1B6-BFEC609364B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04E1-F000-49F5-A953-E5D3A2D5910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EB82-6F33-4BC7-AF56-3538D5AA4D6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DB88-6080-4468-A8E6-880B0C161AB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CC7-B5DD-481F-8325-D90D0A96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960-621E-4D49-B724-E1D8301D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F82E-A46F-4426-A295-0F88A3BF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4C05-2C77-467E-B958-76CB5D27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6978-C33D-4955-A0B8-506EC1F8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485E-66D4-4F14-BA40-65462FB5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EC89-5CCB-4F97-B850-8461EFA6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E12E-2A01-4625-A4EE-77F08501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6F68-82B1-4B89-A3D0-68E6F865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69DA-BA1E-4A20-9298-37D43793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93B8-986F-4E11-AA73-4563B57F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9FB-1B58-49AE-A9A8-8BEB78D9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C526-44A4-40A2-BA5F-A7D46247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C6F6-6695-4563-AF97-987B6312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41A4-1FA0-4F26-AFA4-7833DA12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D016-6973-443B-ACBD-7420453C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18FF-4A7A-473A-8FA0-0EB9DD56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968C-FF4A-4C6F-9EDD-C8E71B53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5A6A-347A-4BA7-A325-C99CCEBD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E8E2-EF4F-410C-8117-5E5F991B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D362-44C9-4806-B376-0252F36C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2C46-C8FB-4A4F-AF19-11B6E5DD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655-B1F7-49D3-8F32-E2E5AC6A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90B8-8FA5-4B98-B0A1-3C43B2DC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60FF-E59F-459C-BEE1-EF56699BF78A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A2EC-BDEC-4680-A488-E50EA546C6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Managing the Information Systems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676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Develop a statemen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ccurs near the end of the project planning ph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ed primarily for the custo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s work that will be done and describe what the project will deliver and du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Set a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of project’s tasks and resource requirements that guides the next project phase – execu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904446CF-8C7B-4643-AD4C-DAB4DEDAEB3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ject Execu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plans created in pri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 phases are put into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ccurs during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nalysis, design, implementa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phas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e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quire and assign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in new team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project on schedule -  as tasks are completed, mark them as completed by perc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 project prog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 resources, budget and/or activities if project gets ahead or behind sched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result in modifications to current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7194B3A4-7473-44E3-AEDA-D44A1E22679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 changes to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lipped completion d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s in pers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activities found l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ngled activities to be red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project workbook to maintain complete records of all project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e project status with entire project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D3C150AA-6C7A-45C8-9843-E00F571DB0D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closedow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– bring p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ct to an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ccurs after implementation phase of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es of ter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 have been met – project is completed successfu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n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stopped before completion – due to running out of time or mon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onnel Appraisal – job and assignment changes, job termination, praising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2CDB69DA-E401-448A-97E3-7C4307A485B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 post-project re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strengths and weaknesses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deliver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 customer con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7B7C3A4F-5AE7-465F-8ABD-C36FFD7293B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resenting and Scheduling Project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nt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depicting simple projects or parts of large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start and completion dates for individual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order of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2B9C0BF5-D111-4E0D-B2BC-57B49ED3FDD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omparison of Gantt and PERT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0880" y="3962520"/>
            <a:ext cx="3810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n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time overlap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slac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343400" y="3962520"/>
            <a:ext cx="3809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ependencies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which tasks can be done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s slack time by data in rect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gure 3-1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phical diagrams that depict project pla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) A Gantt Char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) A PERT ch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EB72C42D-C29F-495F-BA62-A0751578087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24840" cy="248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2514600" y="4103640"/>
            <a:ext cx="4800600" cy="260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systems are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activities required to 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start or end d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er tasks and assign task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scheduling method to review project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6F0070EC-FDA8-4267-A187-C85749DB2D8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cus of proje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nsure that information system projects meet customer expect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ivered in a timely ma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 time constraints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13D761CA-AAA3-4F68-B175-A7C848FE733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83808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ponsible for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li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and 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ned undertaking of related activities to reach an objective that has a beginning and an 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nd product in a phase of the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asibility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s if the information system makes sense for the organization from an economic and operational stand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tudy takes place before the system is constru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ment Process involves 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2A31E132-0A27-4BA0-BA77-3AEBB97AC54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phase of the project management process in whi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 are performed to asses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ex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roject and to establish procedures to support later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relationship with custo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management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management environment and work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workboo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n on-line or hard-copy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all project correspondence, inputs, outputs, deliverables, procedures, and standards used by all team members useful for project audits, orientation of new team members and performing post project review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8950D693-B3B7-4DB5-9B28-5C060D17F81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defining clear, discret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making assumptions about availability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 activities are easier to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planning activ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escribe projec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cop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lternativ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ope and 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derstand the proj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problem is addres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results are to be achie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es of suc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letion crite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k breakdown struc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he process of dividing the project into manageable tasks and logically ordering them to ensure a smooth evolution between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tasks may be performed in parallel whereas others must follow one another sequenti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E5F08E6A-8C26-47E3-B225-89FA7BAD9A1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to define tasks? 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 a known method, can be done by one-person or well-defined group, has accepted predecessor and successor steps, is measurable so that percent complete can be determ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ntt cha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 graphical representing of a project showing each task as    a horizontal bar whose length is proportional to its time for comple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ntt charts do not show how tasks must be ordered but simply shows when an activity must begin and e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ferent colors, shades, shapes can be used to highlight each kind of ta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. Estimate resources and create a resource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resource requirements for each project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ource plan helps assemble and deploy resources in most effective 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are most important and expensive part of resource 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tasks to people that suit their skills and allows to learn new ski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52C66BF0-AAC3-4BCD-8F47-7D1850C64A2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0948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48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evelop a preliminar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time estimates to each activity in work breakdow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estimates allows creating target starting and ending dates for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Gantt and PERT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 Evaluation Re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iagram that shows pro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 tasks and thei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ng of tasks is shown by connecting tasks with its predecessor and successo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individual tasks are dra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no summary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Develop a communic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communication procedures among customers, team members and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cation plan includes when and how written and oral reports will be provided by the team, how team members will coordinate work, what messages will be 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. Determine project standards and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how deliverables are tested and produ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Identify and assess r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sour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consequen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Create a preliminary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planned expenses and revenues of the project to study cost-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9C793033-F42E-4C77-9173-76AC62554DC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cp:lastPrinted>2009-04-22T19:24:48Z</cp:lastPrinted>
  <dcterms:modified xsi:type="dcterms:W3CDTF">2012-09-16T11:22:46Z</dcterms:modified>
  <cp:revision>105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