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7327-05F2-42C1-976E-8DA0CFF8555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22CB-0F25-4018-B972-5C32FB87163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A1AC-9636-425B-A81D-3A53441DCAF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01B6-F175-444D-ADAF-97FE10BDBF5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6A92-574E-433A-B10A-4CB232A1A2F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8D33-779F-47FF-8EF3-8B6A90D2F93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1F83-E8B1-4C99-846C-1B255097BA7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ACA6-B809-4593-B7EC-AF737621DCF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47B9-45DF-4AB1-8185-99C79396577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ADA1-4F00-461B-9E73-03D586ACAFA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6CCF-5A32-43AB-8C50-E0EBBFF4A2D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0A34-48D8-4105-92A7-7700AF3A1FA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5155-A98C-487E-8E5F-80C47CCDBB1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E4A5-1470-47C2-BF70-7C95A6DE6C1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77F2-2E4E-4948-8533-340507B2749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0ABF-CA11-46E6-AD25-7B7B92F89C3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EA0F-7923-4AE1-9EFF-7498DD8D46C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557-3343-44A7-8FC6-31CCF7AD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AD6B-1C38-4D75-895A-52781B1A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9EC4-C4C4-411C-B6C4-507181DD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A48-FCDA-4C99-B92A-D8B78341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3D8E-E4E2-44A8-B9F9-935182AB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0889-F316-47C7-81D9-01490B6C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325A-88C8-4083-AE79-65B2CF38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E03B-7569-408E-BE86-590CBF5E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A1CC-F516-4837-97D0-7819961E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FAFD-DEDD-45F0-88DB-4316B7BD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57FD-7263-4604-B4FE-7E332642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4331-62B9-48C0-8F1B-51C3C189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380F-49BC-40BE-9340-31F882A3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4B15-AC20-40CB-B247-CA33CF11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FE5B-D6BC-43FD-881B-2F492F12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9F09-669F-4270-9BE1-9013C67F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94F3-CACD-4A81-9A65-9DEA4095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C395-83C9-4748-AD8D-DE3D335E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508-68C3-4FC7-8A74-EFE731FC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00E8-C500-4A58-AB5F-1B06C920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E17-3911-40EF-BCC7-12A3E445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5032-C681-402C-A26A-BCDCDFD8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A4D-A4FE-44FE-861D-9DC06F78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C1EE-D38E-4E9C-AF81-0A7E51C4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292C-CD48-405E-9833-4FF851CAFB3D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89BB-5E48-423C-B174-357195CDCF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Managing the Information Systems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676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Develop a statemen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ccurs near the end of the project planning ph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ed primarily for the custo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s work that will be done and describe what the project will deliver and du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 Set a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of project’s tasks and resource requirements that guides the next project phase – execu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249FE15B-A4B5-45BD-AD14-8F4844EB2EB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ject Execu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plans created in pri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 phases are put into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ccurs during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nalysis, design, implementa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phas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e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quire and assign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in new team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project on schedule -  as tasks are completed, mark them as completed by perc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itor project prog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 resources, budget and/or activities if project gets ahead or behind sched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result in modifications to current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1E7BB6A7-547C-4FA6-8DB0-282611E9A8A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 changes to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lipped completion d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s in pers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activities found l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ngled activities to be red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project workbook to maintain complete records of all project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e project status with entire project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82277CF9-82F6-4BB0-8045-9CF9EE942F5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closedow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– bring p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ct to an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ccurs after implementation phase of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es of ter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 have been met – project is completed successfu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n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stopped before completion – due to running out of time or mon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onnel Appraisal – job and assignment changes, job termination, praising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3F7550CA-FFEF-4EFF-9CE9-7DD434F5C2C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905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 post-project re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strengths and weaknesses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deliver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 customer con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80414AC6-EB6F-4ECE-A7C9-E74E1AED62B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resenting and Scheduling Project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nt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for depicting simple projects or parts of large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start and completion dates for individual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order of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E38F9EB1-5824-4AFE-ADBF-8D3152FE8AF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omparison of Gantt and PERT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0880" y="3962520"/>
            <a:ext cx="3810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n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time overlap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slac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343400" y="3962520"/>
            <a:ext cx="3809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ependencies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which tasks can be done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s slack time by data in rect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gure 3-1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phical diagrams that depict project pla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) A Gantt Char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) A PERT ch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220270DB-5321-4F19-9C9C-25B05CEB5C7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24840" cy="248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2514600" y="4103640"/>
            <a:ext cx="4800600" cy="260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systems are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activities required to 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start or end d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er tasks and assign task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scheduling method to review project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8CE407F6-E4C9-4ED8-843C-A8CCEBDFA68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cus of proje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nsure that information system projects meet customer expect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ivered in a timely man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 time constraints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61D64DDC-D207-45F1-976C-F25E5C236F0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83808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ponsible for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li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and 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ned undertaking of related activities to reach an objective that has a beginning and an 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end product in a phase of the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asibility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s if the information system makes sense for the organization from an economic and operational stand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tudy takes place before the system is constru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ment Process involves 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34F3CB8C-111A-49E0-858C-6B7839AA4F6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phase of the project management process in whi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 are performed to asses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ex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roject and to establish procedures to support later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relationship with custo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management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management environment and work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workboo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n on-line or hard-copy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all project correspondence, inputs, outputs, deliverables, procedures, and standards used by all team members useful for project audits, orientation of new team members and performing post project review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375EEA85-DDC0-4DEB-BDD4-9CD7AF0C0AC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defining clear, discret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making assumptions about availability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 activities are easier to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planning activit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escribe project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cop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lternative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ope and 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derstand the proj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problem is addres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results are to be achie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es of suc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letion crite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k breakdown structu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he process of dividing the project into manageable tasks and logically ordering them to ensure a smooth evolution between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tasks may be performed in parallel whereas others must follow one another sequenti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797DC5CE-8AD2-4391-8391-EC05D75FE32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to define tasks? 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 a known method, can be done by one-person or well-defined group, has accepted predecessor and successor steps, is measurable so that percent complete can be determ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antt char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 graphical representing of a project showing each task as    a horizontal bar whose length is proportional to its time for comple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ntt charts do not show how tasks must be ordered but simply shows when an activity must begin and e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ferent colors, shades, shapes can be used to highlight each kind of ta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. Estimate resources and create a resource p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resource requirements for each project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ource plan helps assemble and deploy resources in most effective 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are most important and expensive part of resource 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tasks to people that suit their skills and allows to learn new ski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F8FBBBB4-39C4-4719-B3E3-42E77483F9D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0948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948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Develop a preliminar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time estimates to each activity in work breakdow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estimates allows creating target starting and ending dates for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Gantt and PERT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 Evaluation Re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iagram that shows pro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 tasks and thei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ng of tasks is shown by connecting tasks with its predecessor and successo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individual tasks are dra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no summary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Develop a communic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communication procedures among customers, team members and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cation plan includes when and how written and oral reports will be provided by the team, how team members will coordinate work, what messages will be 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. Determine project standards and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how deliverables are tested and produ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Identify and assess r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sour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consequen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. Create a preliminary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planned expenses and revenues of the project to study cost-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9353F39D-D52E-4A6E-9E94-A3BE9BAC7DF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cp:lastPrinted>2009-04-22T19:24:48Z</cp:lastPrinted>
  <dcterms:modified xsi:type="dcterms:W3CDTF">2012-09-16T11:22:46Z</dcterms:modified>
  <cp:revision>105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