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ahoma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4DDDC-020B-46EC-A061-BB1B24418319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BF243-A795-4EBB-BD67-20CC870420D1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96C4F-2B40-4740-9F20-8AD518DE56CF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40CC3-A776-43F5-9CCA-A3C18052FF98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1D856-DAB7-48F3-BB04-BE7F0A5F3ECD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19515-2EA8-4329-85B2-08915DE399C6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19AF1-E5E5-4E81-B4DF-6D678B1F5D05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01805-8F60-4F50-86E1-918CCE0008F8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AC2E0-F4D4-46F4-BE87-42E0B84F6CA8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9F9E7-E13C-4256-BD19-194E1200C87A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E468A-91C9-4705-9F32-9EBF1CFF0204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3B0E4-B4D7-4281-92D7-28A9B3CC0525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0086A-DE5D-4068-B341-70C6E20F2CD0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AE6CB-9819-4CC6-805B-1FE6825B536B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270C8-906F-4142-9D54-5111C74A064E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D451D-F3F5-44AA-9255-698510EC7474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47435-AAB0-4608-9B2A-B0E48DF91CCD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C339-1C30-44D9-97B0-49297B96C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B8E2-7DC2-4AEF-9915-F7C338712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BFAD-B783-48E4-8DD6-A47534F1E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E9A7-54F7-46A8-ABBB-1F0C3577C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51DC2-4B1E-415F-BEEB-2882BD14E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379B3-15F8-4FA5-9803-7F3019FCB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B7159-136D-4EFC-A656-CCD18B984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EDCE4-536B-48EB-9900-22951C6C3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FD7E3-C9D3-4A65-9BCF-CF03C630A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C63F0-DC2E-4C16-89AC-581DB1727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D511D-A0C6-4F22-8510-AEBD3A377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3DE8-FFDB-4039-9758-0C4DBD373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4B94F-CD74-461F-BD3D-A5FA9BED1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BB11B-D287-4A00-BD7D-E7324020A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77A60-6C63-4D55-8F7D-40102BEE6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A01EE-D640-458E-B995-7445DB7B2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503B7-80E9-4BE0-9BA6-BC6BBCF5A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BCE4-10E5-4773-A798-08DE9A112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FD83-F230-4B93-8DAF-AE30B753A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7D80-AE6F-4EDD-B0CA-CFC5762CD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979B-8372-478F-AE76-853035B58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B60A-CC59-43D4-8AA5-3247FFD92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CBBF-23B5-49D6-AA72-C64E0BCF3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17C0-32B2-492B-A343-F347662C5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07B29-7C54-4BFD-AA93-43ADFC24C1DE}" type="slidenum">
              <a:rPr b="0" lang="ar-SA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46D03-F1F4-4FA0-8F91-C68415969EA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467480" cy="29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odern Systems Analysi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nd Design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ird Edition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066320" y="327672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Chapter 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Managing the Information Systems Projec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228600" y="6172200"/>
            <a:ext cx="609480" cy="3373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lanning the Pro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838080" y="167616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9. Develop a statement of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ccurs near the end of the project planning pha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veloped primarily for the custom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utlines work that will be done and describe what the project will deliver and du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0. Set a Baseline Project Pl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stimate of project’s tasks and resource requirements that guides the next project phase – executio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fld id="{F37D2100-3B25-42E6-997E-2A9BD7C7E0F0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xecuting the Pro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858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Project Execution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– plans created in prio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 phases are put into a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Occurs during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analysis, design, implementation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phases of SDL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ecute Baseline Project Pl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cquire and assign resour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rain new team memb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eep project on schedule -  as tasks are completed, mark them as completed by perc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onitor project progr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djust resources, budget and/or activities if project gets ahead or behind schedu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an result in modifications to current pla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fld id="{1E20CE38-99F7-4960-806C-22340ECEE63C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xecuting the Pro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838080" y="190476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nage changes to Baseline Project Pl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lipped completion da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anges in personn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ew activities found la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ungled activities to be redo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intain project workbook to maintain complete records of all project ev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municate project status with entire project te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fld id="{E9E2313E-F450-4EB3-8057-B43A76C06536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losing Down the Pro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76212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Project closedown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– bring pro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ject to an e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Occurs after implementation phase of SDL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ermin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ypes of termin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Natur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quirements have been met – project is completed successfull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Unnatur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ject stopped before completion – due to running out of time or mone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ocument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ersonnel Appraisal – job and assignment changes, job termination, praising team memb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fld id="{F35F490A-E802-472D-9153-B05A1091829C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losing Down the Pro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1905120"/>
            <a:ext cx="777240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duct post-project review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termine strengths and weaknesses of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ject deliverab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ject management 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velopment 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ose customer contra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fld id="{1C4F0025-F065-417C-9C80-5FB405295AF9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epresenting and Scheduling Project Pla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85800" y="15235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antt Char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ful for depicting simple projects or parts of large projec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ow start and completion dates for individual task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ERT Char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ow order of activit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fld id="{C75E2B49-3801-42C7-BFE8-C45D68D8168E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152280" y="32767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Arial"/>
              </a:rPr>
              <a:t>Comparison of Gantt and PERT Ch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380880" y="3962520"/>
            <a:ext cx="381024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SzPct val="1131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ant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sually shows duration of ta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sually shows time overlap between ta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sually shows slack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8"/>
          <p:cNvSpPr/>
          <p:nvPr/>
        </p:nvSpPr>
        <p:spPr>
          <a:xfrm>
            <a:off x="4343400" y="3962520"/>
            <a:ext cx="380988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SzPct val="1131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sually shows dependencies between ta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sually shows which tasks can be done in parall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ws slack time by data in rectang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igure 3-16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raphical diagrams that depict project plan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a) A Gantt Chart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b) A PERT char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fld id="{10D9084A-5C5B-4C92-9E25-20DA86B2DF88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8" descr=""/>
          <p:cNvPicPr/>
          <p:nvPr/>
        </p:nvPicPr>
        <p:blipFill>
          <a:blip r:embed="rId1"/>
          <a:stretch/>
        </p:blipFill>
        <p:spPr>
          <a:xfrm>
            <a:off x="1523880" y="1600200"/>
            <a:ext cx="6324840" cy="24829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9" descr=""/>
          <p:cNvPicPr/>
          <p:nvPr/>
        </p:nvPicPr>
        <p:blipFill>
          <a:blip r:embed="rId2"/>
          <a:stretch/>
        </p:blipFill>
        <p:spPr>
          <a:xfrm>
            <a:off x="2514600" y="4103640"/>
            <a:ext cx="4800600" cy="26020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roject Management Softwa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ny systems are availa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ree activities required to us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stablish project start or end da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ter tasks and assign task relationship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lect scheduling method to review project repor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fld id="{9E0987E7-1826-45D2-B6EF-BEB3F97F5903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anaging the Information Systems Pro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ocus of project manag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o ensure that information system projects meet customer expect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livered in a timely mann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eet time constraints and require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fld id="{38456F26-EEBE-4DDF-A1BB-CCCD1497E110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838080" y="3733920"/>
            <a:ext cx="77724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ject 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ystems Analy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esponsible for Proje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osing d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Managing the Information Systems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ject Manag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kills includ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nag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eadershi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echnic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blem solv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flict manag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ustomer rel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eam manag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isk and change manag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roject Management Proc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16002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anned undertaking of related activities to reach an objective that has a beginning and an e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elivera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 end product in a phase of the SDL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easibility Stud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termines if the information system makes sense for the organization from an economic and operational standpoi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study takes place before the system is construct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ject Management Process involves Four Pha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iti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an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osing dow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fld id="{345DC788-1556-4E66-9BAD-07B7790597BD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itiating the Pro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09120" y="1523520"/>
            <a:ext cx="85345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ject Initiation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first phase of the project management process in which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ctivities are performed to assess th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iz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cop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omplexit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f the project and to establish procedures to support later projec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ctiv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stablish project initiation te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stablish relationship with custom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stablish project initiation pl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stablish management procedu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stablish project management environment and workboo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roject workbook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An on-line or hard-copy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positor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for all project correspondence, inputs, outputs, deliverables, procedures, and standards used by all team members useful for project audits, orientation of new team members and performing post project review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fld id="{64AF7D7E-7378-41EA-AB14-962D4C107478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lanning the Pro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09480" y="15235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Project Planning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– defining clear, discrete activ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quires making assumptions about availability of resour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hort-term activities are easier to pl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ject planning activitie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76160" indent="-3326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Describe project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scope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,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alternatives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 and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feasibilit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551960" indent="-221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cope and Feasibilit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1995480" indent="-221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Understand the projec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1995480" indent="-221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hat problem is address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1995480" indent="-221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hat results are to be achiev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1995480" indent="-221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easures of succes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1995480" indent="-221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ompletion criteri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76160" indent="-3326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ivide the project into manageable task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Work breakdown structur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The process of dividing the project into manageable tasks and logically ordering them to ensure a smooth evolution between task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me tasks may be performed in parallel whereas others must follow one another sequentially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fld id="{FA4774FB-7581-499E-A63A-161BD447D357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lanning the Pro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523880"/>
            <a:ext cx="853416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ow to define tasks? A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tas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as a known method, can be done by one-person or well-defined group, has accepted predecessor and successor steps, is measurable so that percent complete can be determin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ivide the project into manageable task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antt char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A graphical representing of a project showing each task as    a horizontal bar whose length is proportional to its time for completio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antt charts do not show how tasks must be ordered but simply shows when an activity must begin and en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Different colors, shades, shapes can be used to highlight each kind of tas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. Estimate resources and create a resource pla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stimate resource requirements for each project activ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source plan helps assemble and deploy resources in most effective wa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ople are most important and expensive part of resource plann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tasks to people that suit their skills and allows to learn new skil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fld id="{7B4B360C-AC86-497C-B101-8E623333C593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4"/>
          <p:cNvSpPr/>
          <p:nvPr/>
        </p:nvSpPr>
        <p:spPr>
          <a:xfrm>
            <a:off x="609480" y="3808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Arial"/>
              </a:rPr>
              <a:t>Planning the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609480" y="1295280"/>
            <a:ext cx="8534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Develop a preliminary sche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ign time estimates to each activity in work breakdow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estimates allows creating target starting and ending dates for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tilize Gantt and PERT cha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SzPct val="11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gram Evaluation Review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ique (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ER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 Ch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574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 diagram that shows proj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 tasks and their relationsh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574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dering of tasks is shown by connecting tasks with its predecessor and successor ta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574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nly individual tasks are dra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no summary ta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lanning the Pro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5. Develop a communication pl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utline communication procedures among customers, team members and manag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mmunication plan includes when and how written and oral reports will be provided by the team, how team members will coordinate work, what messages will be sen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6. Determine project standards and procedu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pecify how deliverables are tested and produc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7. Identify and assess ris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dentify sources of ris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stimate consequences of ris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8. Create a preliminary budge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utline planned expenses and revenues of the project to study cost-benefit analysi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fld id="{AC9A8BD0-FCA3-402F-82E2-12ACE65787EC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1T00:26:26Z</dcterms:created>
  <dc:creator>John Russo</dc:creator>
  <dc:description/>
  <dc:language>en-US</dc:language>
  <cp:lastModifiedBy>Huda</cp:lastModifiedBy>
  <cp:lastPrinted>2009-04-22T19:24:48Z</cp:lastPrinted>
  <dcterms:modified xsi:type="dcterms:W3CDTF">2012-09-16T11:22:46Z</dcterms:modified>
  <cp:revision>105</cp:revision>
  <dc:subject/>
  <dc:title>Modern  Systems Analysis and Design  Joey F. George  Jeffrey A. Hoffer  Joseph S. Valacich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