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C4E0-14B6-446F-8C59-07B917F0118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3EFE-F2BA-4263-B9E1-7CE578A20CB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10AF-170A-4E3D-9440-24E7E9C3877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96B7-5EBE-4019-8909-09B515C46BC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972B-C3BC-42F4-A3A3-C87A1A6DB16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B7C5-1AAC-4759-83A9-F7CB910E99F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61691-7003-4362-80EF-5E9EB23A715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223A-5EA9-427D-A876-E04F5F919B0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8DC2-E57D-43E7-9FEA-DF16469C417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5F16-1E30-4100-9018-81C229B3C50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4FE6-D37C-4049-9F8A-BF3C36E007A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CAC8-1312-4FE3-85AF-2A9D6524DE7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739E-2EBE-4A77-A474-8EB8F75F897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54123-9AA5-4587-B707-49E88F85BA6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47C3-DB57-4906-9175-30C6D6D9C17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CCDD-034D-4FD9-AF75-B1862277204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ADBEC-12B1-41CE-9520-1AE255182C5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51C4-9102-42D8-A39A-B0FF61577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B757-F762-479F-AC07-B4687CFB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DB5F-8708-44AA-91F2-C6AE6B0A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B8FE-F694-4B7C-91FA-EE3085490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0C91-9CCA-4AF0-B60A-A0B1C26E2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7736B-85EE-4A38-910D-AA77FE18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A35F-935A-4B60-AEF2-53CA876B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B482-8335-46F3-B7A5-C8A862D2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47A5-F24C-4FF4-8F51-98770FC4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F051-D359-4BD8-89C9-0D62D16B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4E20-0F05-45ED-B370-063B0B43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93D5-74DC-4B4C-89C3-4C263019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E2F9-1357-4EA8-A1BB-0E82C157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5D06-366E-4E5C-B343-6C2F100C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03B3-E998-4013-BB21-A0F6ED89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22600-C7DD-4D50-901F-BBB0B4A37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3283-DF7B-4AEC-8200-A412BF9F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CE94-7447-4108-A035-871BB693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2DF5-9549-413E-8455-EC9D10A4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EFDD-7591-4D0E-925B-39318C81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636E-B231-4BF3-84A8-C8F2CA2D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C5B7-F197-40B6-A6EE-B3794EC9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080A-CD09-491C-A2DC-B37043DE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5D1D-B9B1-4FBF-A09D-137E589F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4B65-302E-47BB-9906-955BA3976DB5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CF42-2969-451F-923D-7E30380B15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Managing the Information Systems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16761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. Develop a statemen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ccurs near the end of the project planning ph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ed primarily for the custo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s work that will be done and describe what the project will deliver and du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. Set a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of project’s tasks and resource requirements that guides the next project phase – execu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309DCD68-C585-4A4E-AC93-6351F70288B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ecu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roject Execu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– plans created in pri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 phases are put into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ccurs during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nalysis, design, implementa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phases of SDL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ecute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quire and assign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in new team memb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 project on schedule -  as tasks are completed, mark them as completed by perc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nitor project progr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just resources, budget and/or activities if project gets ahead or behind sched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n result in modifications to current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7FAAB8F0-46C7-4520-875A-DC70F832B0C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ecu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8080" y="19047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 changes to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lipped completion d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s in pers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activities found l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ngled activities to be red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tain project workbook to maintain complete records of all project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e project status with entire project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43853E25-DF5F-4424-8DC3-D81BC924D98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osing Down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closedow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– bring pr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ct to an 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ccurs after implementation phase of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r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es of termi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atu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ments have been met – project is completed successful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Unnatu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stopped before completion – due to running out of time or mon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sonnel Appraisal – job and assignment changes, job termination, praising team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E5D16531-F555-49C8-BE99-12D09A72664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osing Down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1905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uct post-project re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strengths and weaknesses of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deliver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manage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ose customer contr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AFC99A3A-4FD9-43B7-ACCE-B89C5FA8065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presenting and Scheduling Project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ntt Cha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ful for depicting simple projects or parts of large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w start and completion dates for individual tas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T Cha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w order of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82C2D22F-B4C6-41AA-85C8-D024B7BB73E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omparison of Gantt and PERT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0880" y="3962520"/>
            <a:ext cx="38102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n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dura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time overlap between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slack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343400" y="3962520"/>
            <a:ext cx="3809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dependencies between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which tasks can be done in 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s slack time by data in rect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gure 3-1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aphical diagrams that depict project pla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a) A Gantt Char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b) A PERT ch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108F6414-40F9-4889-8DFD-C78377ACBCC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324840" cy="2482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2"/>
          <a:stretch/>
        </p:blipFill>
        <p:spPr>
          <a:xfrm>
            <a:off x="2514600" y="4103640"/>
            <a:ext cx="4800600" cy="2602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 Soft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systems are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activities required to us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start or end d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er tasks and assign task 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 scheduling method to review project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9B6B4DA7-7941-4BCA-8BA1-75FFBEB710C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ing the Information Systems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cus of project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ensure that information system projects meet customer expect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livered in a timely man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 time constraints and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F466F1EB-7AC9-48C2-9526-2DF8F917453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83808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s Analy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ponsible for Pro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ing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Managing the Information System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lls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solv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lict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er re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m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and chang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ned undertaking of related activities to reach an objective that has a beginning and an 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liver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end product in a phase of the SDL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easibility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termines if the information system makes sense for the organization from an economic and operational standpo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tudy takes place before the system is construc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Management Process involves Four P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iti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osing d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5C8FA3C2-5351-4817-AC73-EF4B8886D8C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itia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niti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rst phase of the project management process in whi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ies are performed to assess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lex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project and to establish procedures to support later proje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initiation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relationship with custom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initi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management proced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management environment and workbo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workboo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An on-line or hard-copy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all project correspondence, inputs, outputs, deliverables, procedures, and standards used by all team members useful for project audits, orientation of new team members and performing post project review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A08809EC-9BCA-4D8A-8F97-AE109344372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Project Planning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– defining clear, discrete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s making assumptions about availability of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-term activities are easier to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planning activiti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Describe project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scop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alternatives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feasi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cope and Feasi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derstand the projec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problem is address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results are to be achiev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asures of suc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pletion criter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vide the project into manageable task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ork breakdown structur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The process of dividing the project into manageable tasks and logically ordering them to ensure a smooth evolution between tas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tasks may be performed in parallel whereas others must follow one another sequential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336626CD-A223-493B-882F-3AD8BCE3CDC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5238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w to define tasks? 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s a known method, can be done by one-person or well-defined group, has accepted predecessor and successor steps, is measurable so that percent complete can be determi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vide the project into manageable task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antt char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 graphical representing of a project showing each task as    a horizontal bar whose length is proportional to its time for comple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ntt charts do not show how tasks must be ordered but simply shows when an activity must begin and e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fferent colors, shades, shapes can be used to highlight each kind of ta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. Estimate resources and create a resource pl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resource requirements for each project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ource plan helps assemble and deploy resources in most effective 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ople are most important and expensive part of resource plan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tasks to people that suit their skills and allows to learn new skil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3D59B800-7796-4D16-B45D-C5399ED7520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60948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09480" y="1295280"/>
            <a:ext cx="8534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Develop a preliminary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time estimates to each activity in work breakdow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estimates allows creating target starting and ending dates for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Gantt and PERT ch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am Evaluation Revi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diagram that shows pro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 tasks and thei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ing of tasks is shown by connecting tasks with its predecessor and successor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individual tasks are dra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no summary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. Develop a communic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 communication procedures among customers, team members and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cation plan includes when and how written and oral reports will be provided by the team, how team members will coordinate work, what messages will be s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. Determine project standards and proced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y how deliverables are tested and produc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. Identify and assess r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y sources of ri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consequences of ri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. Create a preliminary bud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 planned expenses and revenues of the project to study cost-benefit analy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0F742702-6C7B-4C89-AFDF-C96C99B8B47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Huda</cp:lastModifiedBy>
  <cp:lastPrinted>2009-04-22T19:24:48Z</cp:lastPrinted>
  <dcterms:modified xsi:type="dcterms:W3CDTF">2012-09-16T11:22:46Z</dcterms:modified>
  <cp:revision>105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