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72A3-ED4A-4F79-90CC-49199CD0D97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4A04-2CAC-454B-86CF-869B658D68A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2635-93DA-4A97-AD37-C825C62ED48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AE2D-819B-48B9-ABB9-D2B21D0035F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5493-2697-44C0-9B7A-D4352324930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C2BA-8321-46A2-B132-4FDB7333FA1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0AA1-958A-4879-8A5A-395CB77CC48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BA16-440E-4AA1-8EC3-2BC51A6DDCD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4170-4356-49E1-BADD-945501C8AFA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EF9C-42B1-437B-B77E-7A740B54602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545B-81DD-42F3-B4C0-F37997C0F89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52DA-9BB8-4120-9EFC-D67143356E0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E12E-26F7-42EF-95D5-5138CCE8016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7F0C-5168-4397-80A2-74F15E6ED16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1B31-4C25-4D50-9469-88F656A130C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976D-D40A-4A17-A288-B4ADB9D9C27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E31F-9A8A-4045-BB96-992A40D07D1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4D30-C2D5-48C5-BA82-84BB9463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F0AB-7A1D-4AE4-9D33-3939B221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F182-AF5F-47DB-BDC6-F00E6DF3F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2CFC-7F19-4806-B782-7E981BFC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72F4-6FC6-4539-8508-DB8CC7BD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A7B8-2441-457D-BA62-72A49FDD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F623-919F-4986-98EF-5348A569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993E-5BE7-4C79-9673-A708790D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C12A-6C72-4F3E-8AB7-81BB0FCE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2CBA-418B-4FD4-84BE-09B38E0E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EA31-CBA0-4D20-A1B8-1EC0D53B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EB1F-0110-4CB5-A893-1D197401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8FAA-7B80-485A-B3FE-DC57BB10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EBCB-FA8A-4DBB-8E5A-F635E9DB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E737-C84B-4424-8EAB-8D629F78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D26B-AEFC-4CB9-8C52-C299D2F1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FE0F-3B9F-4A22-9F48-7BA452CE1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3374-295C-45CC-B192-BEDD5977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3F05-A125-4483-963A-06297327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33CD-EB24-4ED7-8860-95592306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E73C-B0C2-4C7D-B2D7-2700A528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909D-9E14-4A3D-AAF3-AEAFD46B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5360-35AE-4511-9E7A-01CA8F4D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D5B5-FAB9-4F84-AE5C-8B418CD3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B667-FBDB-4FE3-9C23-09707598B2E3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3D67-812E-44B0-BBE7-54DEBC7724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Managing the Information Systems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676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. Develop a statemen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ccurs near the end of the project planning ph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ed primarily for the custo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s work that will be done and describe what the project will deliver and du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. Set a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of project’s tasks and resource requirements that guides the next project phase – execu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E60A2E75-DFD0-4EDE-B56C-F4B48CB6597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ecu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ject Execu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plans created in pri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 phases are put into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ccurs during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nalysis, design, implementa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phases of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e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quire and assign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in new team mem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 project on schedule -  as tasks are completed, mark them as completed by perc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itor project prog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ust resources, budget and/or activities if project gets ahead or behind sched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result in modifications to current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0E46FA35-F900-4741-B3AD-FAD8FCE74ED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ecu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1904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 changes to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lipped completion d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s in pers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activities found l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ngled activities to be red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tain project workbook to maintain complete records of all project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e project status with entire project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1F80E70E-3CA5-4C26-9ACD-A06A4C55967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ing Down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closedow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– bring p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ct to an 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ccurs after implementation phase of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es of term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 have been met – project is completed successfu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n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stopped before completion – due to running out of time or mon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onnel Appraisal – job and assignment changes, job termination, praising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33272089-B7F4-423C-98A7-3F436766A7E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ing Down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905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 post-project re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strengths and weaknesses o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deliver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manage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 customer cont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8727F29C-58FB-4561-BDB8-270C42AB3BF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resenting and Scheduling Project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ntt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ful for depicting simple projects or parts of large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start and completion dates for individual 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T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order of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3613E8F0-8E97-4BB3-A0C8-C3FF8220E9D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omparison of Gantt and PERT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0880" y="3962520"/>
            <a:ext cx="38102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n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time overlap betwee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slack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343400" y="3962520"/>
            <a:ext cx="3809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dependencies betwee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which tasks can be done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s slack time by data in rect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gure 3-1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phical diagrams that depict project pla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a) A Gantt Char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) A PERT ch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1D9B9BB9-31E7-4796-AB0D-8A388FD6B8A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324840" cy="2482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2"/>
          <a:stretch/>
        </p:blipFill>
        <p:spPr>
          <a:xfrm>
            <a:off x="2514600" y="4103640"/>
            <a:ext cx="4800600" cy="260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systems are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activities required to u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start or end d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er tasks and assign task 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scheduling method to review project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8CFBB123-2128-44A4-849B-874EA4749B6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ing the Information Systems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cus of project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ensure that information system projects meet customer expect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ivered in a timely man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 time constraints and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E9635237-AD61-4041-9F14-38EEC066262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83808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ponsible for Pro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ing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anaging the Information System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li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re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m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and 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ned undertaking of related activities to reach an objective that has a beginning and an 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liv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end product in a phase of the SDL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asibility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termines if the information system makes sense for the organization from an economic and operational stand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tudy takes place before the system is constru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Management Process involves 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it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ing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3D8574E7-5A0A-4E4C-B30F-FC3588EBCEF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rst phase of the project management process in whi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 are performed to assess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lex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project and to establish procedures to support later proje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initiation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relationship with custom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initi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management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management environment and workbo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workboo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n on-line or hard-copy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all project correspondence, inputs, outputs, deliverables, procedures, and standards used by all team members useful for project audits, orientation of new team members and performing post project review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765F2CD8-B5E1-4B7D-A18A-00BCFEA6486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defining clear, discrete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making assumptions about availability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 activities are easier to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planning activiti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Describe project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cop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alternative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feasi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cope and Feasi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derstand the proje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problem is addres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results are to be achie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sures of suc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letion criter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ide the project into manageable tas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rk breakdown structu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he process of dividing the project into manageable tasks and logically ordering them to ensure a smooth evolution between 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tasks may be performed in parallel whereas others must follow one another sequential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5BFA68D1-C3BA-4D79-9693-C4E179D8E1F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to define tasks? 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s a known method, can be done by one-person or well-defined group, has accepted predecessor and successor steps, is measurable so that percent complete can be determ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ide the project into manageable tas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antt char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 graphical representing of a project showing each task as    a horizontal bar whose length is proportional to its time for comple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ntt charts do not show how tasks must be ordered but simply shows when an activity must begin and e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fferent colors, shades, shapes can be used to highlight each kind of ta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. Estimate resources and create a resource p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resource requirements for each project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ource plan helps assemble and deploy resources in most effective 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are most important and expensive part of resource plan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tasks to people that suit their skills and allows to learn new ski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EF58427A-0CA1-4BA2-8DAD-ABD52C52559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0948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0948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Develop a preliminary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time estimates to each activity in work breakdow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estimates allows creating target starting and ending dates for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Gantt and PERT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 Evaluation Re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iagram that shows pro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 tasks and thei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ing of tasks is shown by connecting tasks with its predecessor and successor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individual tasks are dra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no summary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Develop a communic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communication procedures among customers, team members and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cation plan includes when and how written and oral reports will be provided by the team, how team members will coordinate work, what messages will be s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. Determine project standards and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y how deliverables are tested and produc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. Identify and assess r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 sources of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consequences of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. Create a preliminary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planned expenses and revenues of the project to study cost-benefit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4A4C9B77-02C8-40CB-9314-911A5B47340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Huda</cp:lastModifiedBy>
  <cp:lastPrinted>2009-04-22T19:24:48Z</cp:lastPrinted>
  <dcterms:modified xsi:type="dcterms:W3CDTF">2012-09-16T11:22:46Z</dcterms:modified>
  <cp:revision>105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