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3B2A-6543-419F-9D79-9D75871F3B1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80B4-0446-465A-9A19-65B5ECD1187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BC4A-7990-4151-8ECC-591FAC98384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4529-05A6-4105-9FB0-1F8BD930B17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277B-B694-4040-8A2B-DA1DD4C4B6E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3886-6A8C-4486-9DF3-72556404D55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13FB-335B-4930-AFEE-16FCD6BE085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044E-E398-46F7-A68A-470901EC9C1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326E-598C-4E50-8C76-2FD244B7E4D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1AAA-BCF3-4327-AD51-89FE2D7290F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10A4-63CD-4F91-B0EB-C5890AE83FA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ED8E-8336-4A46-90A9-BB466C437F3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E08D-575D-4FE6-9835-E8271B7DC35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1A48-EB8C-40C1-BA30-FF068A9D5C6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FEF0-FA4B-41F0-BD99-7C65D9247D6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AE83-D6B1-4E85-89D1-C4AFBBEBA0F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D370-CA41-4E3B-A51D-80030CA382E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2618-37F6-4ADC-BEF3-112B6056E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EDF-EFD3-4EF0-921C-A58817F4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17E-CDFA-4E5C-88AF-225399A77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B624-DCD6-4958-BDF9-6A585EC7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DEAF-69B9-4E3E-8CBE-8CA3C012D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4E24-776F-432A-80F7-9FFB2B0E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52CA-FD25-483C-A05D-C777B692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C60A-5AD9-4C7A-B04C-2D99A20B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778D-0E6C-40B0-ACDF-69E693AB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72A3-3165-4AD0-B43B-DE702EC3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F7EF-CDA4-4BE8-822C-D77462B7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7CD7-B92F-4C24-9FE8-7FAD44294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3621-7899-454A-B268-7337F06AA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8952-0718-40F2-9194-B286F1DA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9F0C-28ED-48ED-ADDD-DEBC7EFCF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1D81-FE9E-4F82-AC8C-BE1CE3FF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5EA6-D1E3-4029-8D34-8EA7AC53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60E-08D8-479A-B6AB-AB3E6E2E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A54E-0E7E-4EB0-8429-FE383E22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F6B-A400-422E-8EDB-1C0103FC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1B00-C833-4D90-A26A-74DE3A81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257-11C0-4F9B-9BB5-773EA894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3931-779A-4373-90F2-BC0AFC4B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7543-98FC-44C2-9212-33274A7B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76C5-0639-42CB-AD76-1AB3D2AA4C3A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7594-5483-459D-8AF4-D7331FDB0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Managing the Information System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Develop a statemen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near the end of the project planning ph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primarily for the 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s work that will be done and describe what the project will deliver and d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Set a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of project’s tasks and resource requirements that guides the next project phase – execu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2E471F9C-7706-486A-AA8C-E8E7798A736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ject Execu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plans created in p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phases are put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ccurs dur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nalysis, design, implement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has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e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quire and assig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 new team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project on schedule -  as tasks are completed, mark them as completed by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 project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resources, budget and/or activities if project gets ahead or behind sche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sult in modifications to curr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8FEDEDB8-1850-472C-9995-3A85D47438C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changes to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pped completion d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in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activities found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ngled activities to be re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project workbook to maintain complete records of all project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project status with entire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45BD3888-1946-4CB7-94C5-11877A88A67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closed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bring p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ct to an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curs after implementation phase of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have been met – project is completed successfu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topped before completion – due to running out of time or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nel Appraisal – job and assignment changes, job termination, praising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19DFBB5-1F03-4DA2-A347-0F52D98EFBE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post-project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strengths and weaknesses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 customer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B8615EAD-ABBA-4E2E-AA1B-795A7C34A90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ing and Scheduling Project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nt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depicting simple projects or parts of larg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start and completion dates for individual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order of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39311AA-6916-4030-9605-A5471DC1F4C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mparison of Gantt and PERT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0880" y="3962520"/>
            <a:ext cx="3810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time overlap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slac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343400" y="39625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ependencies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which tasks can be done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slack time by data in rect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3-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phical diagrams that depict project pla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A Gantt Ch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A PERT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831068BC-CEB4-425B-B0ED-DB59ECD49D4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24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2514600" y="4103640"/>
            <a:ext cx="4800600" cy="260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ystems are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activities required to 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start or end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tasks and assign task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scheduling method to review project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53754763-746F-459F-9E47-9416DA3736A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cus of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sure that information system projects meet customer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in a timely m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time constrai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63B744EF-7BB3-4E26-B7EE-B9B51D520B4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onsible for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and 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undertaking of related activities to reach an objective that has a beginning and an 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d product in a phase of the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s if the information system makes sense for the organization from an economic and operational stand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udy takes place before the system is constru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ment Process involves 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D510C874-D739-4604-84F8-37B63818DA6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 of the project management process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are performed to asses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roject and to establish procedures to support later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management environment and work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workboo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n on-line or hard-cop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ll project correspondence, inputs, outputs, deliverables, procedures, and standards used by all team members useful for project audits, orientation of new team members and performing post project revi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013BB9F-81D6-4E12-A1E2-6E1DA714D57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defining clear, discret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making assumptions about availability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 activities are easier to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planning activ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escribe projec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op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lternativ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ope and 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derstand the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problem is addres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results are to be achie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s of su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tion cri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k breakdown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process of dividing the project into manageable tasks and logically ordering them to ensure a smooth evolution between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may be performed in parallel whereas others must follow one another sequenti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5C72EB1F-3BD8-42FD-9318-EA64854E4B7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define tasks? 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a known method, can be done by one-person or well-defined group, has accepted predecessor and successor steps, is measurable so that percent complete can be determ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ntt cha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graphical representing of a project showing each task as    a horizontal bar whose length is proportional to its time for comple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ntt charts do not show how tasks must be ordered but simply shows when an activity must begin and e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colors, shades, shapes can be used to highlight each kind of 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Estimate resources and create a resource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source requirements for each projec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ource plan helps assemble and deploy resources in most effectiv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are most important and expensive part of resourc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tasks to people that suit their skills and allows to learn new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0C7DE948-DFE5-45E7-BD2A-01C3B0B31FC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velop a preliminar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ime estimates to each activity in work breakdow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estimates allows creating target starting and ending dates fo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Gantt and PERT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 Evaluation 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agram that shows p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 tasks and thei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tasks is shown by connecting tasks with its predecessor and success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individual tasks are dr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 summary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Develop a 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communication procedures among customers, team members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plan includes when and how written and oral reports will be provided by the team, how team members will coordinate work, what messages will be 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Determine project standards and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how deliverables are tested and pro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Identify and assess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sour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consequen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Create a preliminary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planned expenses and revenues of the project to study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6C73613A-CEB6-4297-A504-28EB230320E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cp:lastPrinted>2009-04-22T19:24:48Z</cp:lastPrinted>
  <dcterms:modified xsi:type="dcterms:W3CDTF">2012-09-16T11:22:46Z</dcterms:modified>
  <cp:revision>105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