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8688-E7BD-42E1-9098-96C7E89E240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BE61-480C-4EB9-BED8-ECCCBCE9A80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7D5D-85FE-470D-9E2E-45AD042C28D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11AF-38BC-4FFE-B6ED-C7C008E7965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049F-5EE1-4608-97F2-65BF5F06270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9A08-20D7-4A3E-AB55-15B6C6FDE3E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11D5-FE96-4BFD-BA37-B3A3395BA84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D6C0-21ED-4C5E-8E61-983A3ABDB82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2388-F80E-4A0B-8DFF-2DE8C3F5232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9665-E4A9-45D3-9A3A-7E533570BE7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018D-819B-4354-BFFB-4E7D0431A1A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3341-E608-48B9-B311-331246DD384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5185-6A79-4540-94AB-2A60CAE37A1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2D77-DD43-454F-BF39-855802845E7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95BE-77E4-4694-85E6-C0A4289C1A4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1D35-86C9-4938-8E70-B54A96B8A7C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B016-F69B-45E6-9F8C-69568EDB855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098D-3C09-4DC4-BE58-7881B92C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1C6D-11A4-4375-B773-28B1EBD9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404-E715-4080-8C13-201B066E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2C3-A21E-49FB-81E1-A786B4DB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C456-D55A-4DB0-9FF2-F5DF45B8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03A3-6779-4BAD-A2CE-F5518897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6444-7C1E-4651-9638-C2EF17CB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7CF9-F59C-4FB6-A679-8256C1D3E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A0E1-6FBF-4231-9CE9-1B45D9B2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40E4D-51FD-40E4-AC29-65B1172B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15D5-C7A7-4D7C-90A4-702CEA4E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3626-7D61-4110-BA4F-3CB1FB46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A08B-02FD-437C-924D-0929CC4B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4AF5-D31D-4750-959B-42527756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ACFD-CE2A-4CCB-810B-B116A3F0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A2DD-EBEB-4323-9FC1-FC8042965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2B38-CEC7-4F6B-B1EF-91CCAFBB0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F3F5-F24C-47F8-B016-E1A74558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09EA-DFFF-4F15-BFE1-B7AE7EA1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2B8A-778D-4B14-BB7B-BF352587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C5D-CBC1-44C4-9AD1-7A82D48BA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778-7039-41A6-9A51-2ED04F81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FDBA-F323-4BA4-8B54-56CAA1C9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BCA6-41D0-4DB2-B3BB-0616E0A8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54D2-6A7D-4E6D-A57B-092323304C3B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D00D2-86D5-47B9-A9FE-5FEFA58CFB9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Managing the Information System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Develop a statemen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near the end of the project planning ph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primarily for the 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s work that will be done and describe what the project will deliver and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Set a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of project’s tasks and resource requirements that guides the next project phase – execu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5B4F2117-3DE7-4E00-803C-6BC711A3DB6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ject Execu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plans created in p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phases are put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ccurs d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nalysis, design, implement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has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quire and assig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 new team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project on schedule -  as tasks are completed, mark them as completed by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 project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resources, budget and/or activities if project gets ahead or behind sche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sult in modifications to curr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C7C64B93-477C-4F3F-A89B-F4B168CCC98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changes to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pped completion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in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activities found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ngled activities to be re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project workbook to maintain complete records of all project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project status with entire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197A1C2-1997-4399-B6BD-37747EC9474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closed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bring p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ct to an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curs after implementation phase of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have been met – project is completed success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topped before completion – due to running out of time or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nel Appraisal – job and assignment changes, job termination, praising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AC2C6A1-9944-4F79-B5F4-83E21362A38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post-project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trengths and weaknesses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ustomer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69694BAC-FC60-4D51-80C6-5E5C83BC417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ing and Scheduling Project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nt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depicting simple projects or parts of larg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start and completion dates for individual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order of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99FCFA4-A067-412B-9EBE-CBDB3EB59AD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mparison of Gantt and PERT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3962520"/>
            <a:ext cx="3810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time overlap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slac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343400" y="3962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ependencies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which tasks can be done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slack time by data in rect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3-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phical diagrams that depict project pla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A Gantt Ch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A PERT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F18900CD-2886-4CD6-A26B-4E2C05EDDCA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24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2514600" y="4103640"/>
            <a:ext cx="4800600" cy="260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ystems are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activities required to 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start or end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tasks and assign task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scheduling method to review project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B258EE2E-671D-4B9F-B772-57AEA9C7AC2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cus of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sure that information system projects meet customer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in a timely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ime constrai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42537F9-AE81-46A9-BA7A-6BE10034696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sible for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and 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undertaking of related activities to reach an objective that has a beginning and an 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d product in a phase of the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s if the information system makes sense for the organization from an economic and operational stand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udy takes place before the system is constru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ment Process involves 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017A2D7-4575-45B7-968C-540EECB27B5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 of the project management process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are performed to asses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roject and to establish procedures to support later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management environment and work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workboo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n on-line or hard-cop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ll project correspondence, inputs, outputs, deliverables, procedures, and standards used by all team members useful for project audits, orientation of new team members and performing post project revi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667C7BA3-D99B-467C-9FEB-79A39969945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defining clear, discret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making assumptions about availability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 activities are easier to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planning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escribe projec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op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lternativ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ope and 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derstand the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problem is addres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results are to be achie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tion cri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k breakdown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process of dividing the project into manageable tasks and logically ordering them to ensure a smooth evolution between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may be performed in parallel whereas others must follow one another sequenti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09B8E2B8-651C-459D-9511-9985EBE8583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define tasks? 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a known method, can be done by one-person or well-defined group, has accepted predecessor and successor steps, is measurable so that percent complete can be determ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ntt cha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graphical representing of a project showing each task as    a horizontal bar whose length is proportional to its time for comple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ntt charts do not show how tasks must be ordered but simply shows when an activity must begin and 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colors, shades, shapes can be used to highlight each kind of 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Estimate resources and create a resource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source requirements for each projec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urce plan helps assemble and deploy resources in most effectiv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most important and expensive part of resourc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tasks to people that suit their skills and allows to learn new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9BF14FB9-DCBD-4573-9513-A496C70941A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velop a preliminar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ime estimates to each activity in work breakdow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estimates allows creating target starting and ending dates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Gantt and PERT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Evaluation 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agram that shows p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task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tasks is shown by connecting tasks with its predecessor and success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individual tasks are dr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 summary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Develop a 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communication procedures among customers, team member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plan includes when and how written and oral reports will be provided by the team, how team members will coordinate work, what messages will be 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Determine project standards and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how deliverables are tested and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Identify and assess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sour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consequen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Create a preliminary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planned expenses and revenues of the project to study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0CD98115-811E-4214-9057-D588CFC8E07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cp:lastPrinted>2009-04-22T19:24:48Z</cp:lastPrinted>
  <dcterms:modified xsi:type="dcterms:W3CDTF">2012-09-16T11:22:46Z</dcterms:modified>
  <cp:revision>105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