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F447-1DA4-42A5-914A-55699B19B14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970B-FDA2-46E7-9CE2-5028382E2D6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3019-7491-43D7-A97A-559863B11F7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04FE-BD30-437F-8888-7C61B9ED8AA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DB4B-28BE-4AE3-A070-2B5CD404A18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A331-E986-4F53-97A6-9D4F029DA42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0FD4-43E8-4E45-A0D9-0C1F68B4F00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C470-3973-4CFA-847D-65905202406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E4A3-17EA-491C-A211-2FB6203982D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CC6C-C139-44AE-A6C7-2F21224B647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4368-1461-4872-9382-F74EABEFAAD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A647-DA94-42FD-AC7A-BF5D1708EBF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76BD-096E-41B6-A220-5E599ED07D1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E6F2-A920-4C70-AD56-98522239843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1B60-C4C7-4164-B0BA-55165B3E684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99EFA-8F5D-4C34-9354-EB72BD063AB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3A66-8F2B-4E81-8ACA-684314125F2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E3FE-E980-4257-8418-D0D0A620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3C05-3D0F-4F32-B09F-BE29768F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896-B95E-4E7D-81DA-64708665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426-5B1E-442A-B308-C1A35C8F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7A70-C36A-48CA-8F33-18CDEF03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9C0B-2B4E-4A36-8DBD-E43A73C0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C6F6-04E2-41B2-9054-7C59C3DD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DD23-E181-45A9-963C-C0864ABD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FEC0-0528-4CC6-8B5B-EFBA5988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94B3-BA2C-4F9D-B426-7A08F36E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50D3-F00D-4E5E-841D-6825E4C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59B-F8B4-44A0-8547-03843C8B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D3AF-D2B9-4548-A10F-5A98074B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1F4A-2718-4A54-A520-5B51C65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0E22-A965-4358-BF8F-5F93358C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5BBF-B0FE-4CE6-A3DC-E8DF7D83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459C-A549-4C19-80D5-4FD04D31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AEB4-C825-4EAD-85C3-C922649E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B3DD-A837-41BE-9C0F-95C521B3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CCD-3544-4B79-9C04-951AABAF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2FB-5816-4D20-B229-481721CF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76D-677A-4CDE-9BA4-4914C1B1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D09-F690-4A7E-A1E2-B6869A32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123D-A9CC-40BB-B8E5-4E560EE2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246C-9F57-4FE7-8E9A-00FB78C5DF6A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B3FD-0469-4B42-9941-9EA549C673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D3D9D4F3-0478-4321-86BC-1FDAF9625DB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4642003-125E-477F-86D2-376363E7460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6CD1BC6-1730-4308-A40F-645253EA5D9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C189EAED-5511-4EEB-B1CC-8B604FB6949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6729345-E129-4020-9AEC-F45A4C6A23E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5A882015-4A4B-4984-B2CE-1EF1D867D91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724B355-6EC2-4B28-93FB-190FE3B826A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B7A1B9F4-5048-4D2D-A304-0D7B3A21349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00DAEF99-6B1D-4673-8291-3F1C9D41E39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BFB5F829-6C98-4A46-99BC-16C4155D126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06266708-1C50-4AD6-9287-F767DF85FDC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projec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ternativ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asi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5854C50B-2056-4021-9267-581152B32DF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imate resources and create a resource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57B739D-7B58-40BA-8C10-53DF1ACFF6F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D8A5D3A-C776-4513-8E92-83C2050EA2A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cp:lastPrinted>2009-04-22T19:24:48Z</cp:lastPrinted>
  <dcterms:modified xsi:type="dcterms:W3CDTF">2015-02-06T15:39:5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