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BAC7-AC45-4601-B76E-564BC3C901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BD89-55B1-4FBA-A2D9-2644710055E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4C9C-60A8-43E5-A348-7EB2265253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3180-46D5-4BA8-AE40-4F11D456B3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D1BD-2AF0-4045-9581-5DE7E29B9C6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90DC-12AD-4CA4-B876-60C2EDACB62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863D-5D5A-4B02-9E6C-4A1784D9655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EC6C-4AAA-4DFE-9564-0CFFDE29FB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D2A7-80D2-44FB-A572-9856FBF1D89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A0E2-F5E2-4E98-9209-6BDB44F3702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3265-22B3-44CE-9EC1-8BD7D7014D1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A84F-E0AE-4C7D-AE60-3A05289C084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DD77-BD8E-4214-B66B-975DD3818D8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B1A3-D333-4C30-AF2E-99895FD6338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FE6D-EB87-435E-B2CA-B3B9A5CCED3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0C9D-14D7-43DC-907F-F1FB439A2E4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70DF-B6E4-4225-8398-4B3F0E1BED9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60C-FAF6-4586-8439-DB6E6D22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F0F-33AA-40BC-80DB-4B0393B7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709-1176-4C1B-8165-60494ED9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926-D71C-4E4E-99E5-6F0D2898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4E9F-A01C-4A1C-A8F5-A1D828B3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47DE-1ACB-49C7-9BC1-FDFF270C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119B-312B-4EF9-9466-D382A956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C3B8-8D3C-44FA-B53C-B76E3267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4621-B156-46F4-BBB5-2FD8F71E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5D73-587C-414D-B5A1-8CBBA69A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0DD9-6CBF-4901-BCE3-59FD6DA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531-A931-4138-823B-E226CFF3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D60D-4DE2-4462-B67C-6870B88D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8635-0C85-418A-8BBC-8523F69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7B35-D365-44FF-A1A6-C471BEA1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EEBF-54FE-4055-BB73-36E080DE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FC7C-8304-4621-92FD-672E34C6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B4E-2202-48E0-A961-7C88653F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C8C-0A3C-4751-9A01-52663606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661-945F-453A-846C-87AD4DA7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B57-67A0-4F72-9C0D-EA039982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0D0-7536-4929-874B-BD78379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A92-7C69-477E-9616-527A751E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F9D-5922-4C82-9733-6BCF5F21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8AB0-FC4C-4899-91C5-55DB40F038C1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29C9-D824-43FE-991D-63EBAF5A9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CF7FF6D-522B-4598-BA0F-158E29AE97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D5AD62E5-C245-4D47-943F-EFE4838D689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F76CB43-C88E-47F9-89B8-B2152101056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FF0BB3A-A975-4140-9D61-4A12ACFFFB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30698B4-44F0-4F63-91A6-078786EF8E8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EF990C7-81FA-48D0-8072-70E07DD30CE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CC9A1DD-061C-4093-96D0-2D7158EDCFE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B7D2957-E9EE-4860-ABFA-29F4A8A23DC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9E739EC-85E4-4EED-8842-A8E343A4E63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CF81758-943E-4CCF-B886-FCE5BDFEF9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DC69136-0FF9-4E55-BCF4-80A29761E7D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projec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ternativ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asi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137860F-A1BC-41BA-A6C7-87A44E4F672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imate resources and create a resourc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ADF4057-7349-418B-AE49-1DC8A2965A1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6CBF14A-0103-444D-98DC-5D630B3D898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cp:lastPrinted>2009-04-22T19:24:48Z</cp:lastPrinted>
  <dcterms:modified xsi:type="dcterms:W3CDTF">2015-02-06T15:39:5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