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66F4-E55D-4068-A72F-586B850312E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3BA1-612B-4AF7-BE90-F2280C10467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2579-C211-400E-8E5B-CFDD0C84163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6483-5EE6-4C0E-8EE7-FC52A01919B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D7DB-DF41-461C-927A-D030AA8CAEF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AF5F-325F-4737-B2CE-8B15775E62D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FBE8-1122-49F8-8681-6ED55751EE4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09C1-AAB5-43C2-8C23-67263799D23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ABA6-6301-4197-96CA-713FC7EE192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309B-9F17-409B-B4AA-EC3B387D7CB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2618-29D5-4C94-BE09-464CED8BDAE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D21B-EB8C-4D20-8CCF-D67EBB10205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EC5D-0696-4C39-BBC7-D7A19D174C7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DDA1-AF13-42E7-8D1B-4BAD39581F2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66F7-3D83-4A54-A984-3BE9A3A52E3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271A-6AC5-4493-8CF2-ED218AEA952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EF0A-2280-485F-824E-B3988AF80D1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B69E-8B0E-4F34-9EE1-00516712CD6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F51F-03DC-4390-A57B-A16A75B15B8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CDFD-87F7-44B8-80FF-E1A68D6E7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0992-1E3F-4D45-A087-776A84EA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1487-D897-4902-A5C1-05846876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2399-2407-468E-BC4D-879859B2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166F-79E2-4982-8C40-258BE2939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283F-5021-4B79-8215-A6B0A33E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4437-D05E-42B5-8F0F-E4AB3257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5459-0A02-4FD3-B293-81B5F95C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BECF-6499-4236-B4B5-34AD7C31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8A1B-51A7-4449-8E3F-7F290591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89ED-87DF-44EE-B762-C4085EEF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C3B0-7D07-4ECD-87E3-5DC12A30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82DE-07CC-46A7-AB04-2AA98FC5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8312-1AE8-4C61-8DB9-0AF09764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9430-222B-4716-95F8-68D2AD24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466C-A731-484C-9454-4C6E6FA7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EC21-C8D7-42F2-82CA-4B4659D8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18E5-DF9E-4E40-9B29-178EC74C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F2DF-4316-4DA9-B5DD-E82B6031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2EE4-1B80-4BDB-9840-7A023A8D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BEFA-250C-412C-BB54-15C762FE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053E-8665-4968-BBFC-E59B7115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2F61-2CAB-4499-B911-57068971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8B47-B0E3-4AF1-BBF8-382805B8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9F30-7738-42FC-90C3-531D5AA2640A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ADF8-46E9-4F33-B4CA-FF99AF271C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Automated Tools for Systems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D4AFA948-523C-4C0E-9CD5-5EC3BCCCAC6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5700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Diagramming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representation of a system and component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s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for representing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cess flow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 structur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gram struc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al types of dia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Flow Diagrams (DFD) (Figure 4-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al Hierarchy Diagrams(Figure 4-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ity-Relationship Diagrams (Figure 4-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40B59E43-2EA8-40A5-BEC5-48B82F96329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1408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Form and Report Generator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62828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that support the creation of system forms and reports in order to prototype how systems will look and feel to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 Purpo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, modify and test prototypes of computer display forms and rep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y which data items to display or collect for each form or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8802AEE2-7908-40CB-9D79-1489828A5F4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39640" y="384984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ASE Analysis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768240" y="485784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tomatic checking for incomplete, inconsistent or incorrect specifications in diagrams, forms and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analyses vary depending on the organization’s development methodology and features of CAS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808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tegrated CASE (I-CAS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gration of various CASE tools and their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CASE tools use common terminology, notations and methods for system development across all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I-CASE tools have a common user interf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d systems development environment that provides numerous tools to create diagrams, forms and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nalysis, reporting and code generation fac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amlessly shares and integrates data across and between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centralized database containing all diagrams, forms and report definitions, data structure, data definitions, process flow and log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lds complete information needed to create, modify and evolve a software system from project initiation and planning to code generation and mainte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59CE9383-2E54-4BEA-BFC2-7BB8A442031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11280" y="158400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Primary Seg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formation Reposi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Data Diction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 Reposito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bines information about an organization’s business information and its application portfol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tomated tools to manage and control access to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siness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stored in corporate datab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Portfol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programs used to manage busi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AA09649D-EBC5-4D94-9182-ACA5DDF7309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 Diction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software tool used to manage and control access to the information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ll data definitions for all organizational app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 referenc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s one description of a data item to be stored and accessed by all individu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ngle definition for a data item is established and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ries have a standard defin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ment name and al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ual description of the e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 of related el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ment type and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nge of acceptable val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 information unique to the proper processing of this e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6BA70F0B-E8C4-45E5-B88E-74540889783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55280" y="1557360"/>
            <a:ext cx="7783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Repository and the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project initiation and planning phase, all information related to the problem being solved is stored in the reposi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blem domain, project resources, history and organizational con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analysis and design phases, store graphical diagrams and prototype forms and rep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stored in repository are used for basis to generate code and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al Advant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stance with project management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ids in software reus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bility to design software modules in a manner so that they can be used again and again in different systems without significant modif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CBB745AD-E8E4-45A7-996C-2931CF88187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Documentation Generator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55700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easy production of both technical and user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ow creation of master templates used to verify that documentation conforms to all stages of SDL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BEB2F647-965D-4F01-BA46-7791BF5CD81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609480" y="3430440"/>
            <a:ext cx="77724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ASE Code Genera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762120" y="4473720"/>
            <a:ext cx="777240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the automatic generation of program and database definition code directly from the design documents, diagrams, forms and reports stored in the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sual and Emerging Development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1700280"/>
            <a:ext cx="777240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-Oriented Development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hunk of program and data that is built to perform common functions within a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sil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ba221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a2212"/>
                </a:solidFill>
                <a:latin typeface="Calibri"/>
              </a:rPr>
              <a:t>Encapsu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ss of grouping data and instructions toge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environment includes pre-defined objects and facilitates reuse of c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08BBA741-15BB-4333-9EE4-DE7BCBA9858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7772400" cy="6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sual and Emerging Development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8080" y="1904760"/>
            <a:ext cx="7772400" cy="27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isual Development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developers to quickly crea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ser interfa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pular tools includ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crosoft Visual Stud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ph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buil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dFu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C4F4FB04-47AA-4B9B-A8DE-0D3E006C193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55280" y="155736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ck of consistency in technique and methodology made development of systems difficult – error-ridden, over budget, l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oal 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develop common techniques, standard methodologies, automated too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uter-Aided Software Engineering (CAS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utomated software tool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used b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ystems analys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develop information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d to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uppor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utom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ctivities throughout the systems development life cycle (SDL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roductiv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overall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CAC71608-086C-46E4-A131-6D39235CAC4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Use of CASE in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4000" y="1557360"/>
            <a:ext cx="813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rpose of CASE is to facilitate 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ingle design philosoph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thin an organization with many projects, systems, peop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runs on variety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in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fra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ystems, recent advances mad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edominant CASE workst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s of C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quality of systems develop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 speed of development and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se and improve testing process through automated chec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integration of development activities via common method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quality and completeness of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lp standardize the 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project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mplify program mainte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mote reusability of modules and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software port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359AA3A4-2E71-4959-8080-D956EFEA0D4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and System Q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557000"/>
            <a:ext cx="79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jority of organizations adopt CASE to impro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pe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system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despread deployment has bee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low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an exp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al factors that inhibit widespread deploy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ween $5,000 and $15,000 per year to provide CASE tools to one systems analy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turn on Invest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ggest benefits of CASE come in late stages of SDLC – testing, implementation and mainte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 duration for early stages – planning, analysis, design – leads to frustration by managers and 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ductivity Bottlene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ability of some tools to share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iculty in providing tools for all stages of SDL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36287154-874F-41A4-945D-320C0A061DF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Outlook for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55640" y="1546200"/>
            <a:ext cx="77724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ality is increa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 is decrea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ose CASE technology earlier in education and care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verse Engine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creating design specifications for a system or program module from program code and data defin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d tools that read program source code as input and create graphical and textual representations of program design-level information such as program control structures, data structures, logical flow, and data f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engine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ilar to reverse engineering but includes analysis fea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d tools that reads program source code as input, perform an analysis of the program’s data and logic, and automatically or interactively alters an existing system to improve quality and/or 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624EA834-B123-4F69-BB85-307EB805CB3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onents of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360" y="155700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pper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designed to support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ormation plan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itiation and plan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aly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ig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wer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designed to support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tena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ross life-cycle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designed to support activities that occu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cro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ltiple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CASE tools utilize 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ore all diagrams, form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els and report defin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F7B946EF-48F4-4CB8-BF40-3EA9638F214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onents of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55280" y="1593360"/>
            <a:ext cx="799308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s of CASE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gramming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display and report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ysis tools used to check for incomplete, inconsistent or incorrect specif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entral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de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tools also prov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urity Fea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rsion Contr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ort/Ex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up and Recov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93057A2A-4DF8-48A0-AB1A-153A53196FA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versus Traditional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itional approach does not offer support for integration of specification docu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ten, documentation is done after coding is completed in traditional systems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itional approach often leads to out- of-date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009565AF-C561-43D3-B610-D2E73BCD59E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versus Traditional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ditional Systems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hasis on coding and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per-based    specif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ual coding of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ual documen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nsive software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ain code and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00360" y="1844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-Based Systems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hasis on analysis and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pid interactive prototyp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mated code gen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mated documentation gen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mated design chec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ain design specif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A1752A97-8A9B-4143-B882-D2F96AAC7EA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 AlSultan</cp:lastModifiedBy>
  <dcterms:modified xsi:type="dcterms:W3CDTF">2015-02-06T15:41:35Z</dcterms:modified>
  <cp:revision>103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