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940A-5F13-49AE-AC57-1BB47538288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0759-F000-4F82-BEEF-1000573C710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87DD-B37D-40D7-9977-D19346F28F9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6C41-B2EA-4F57-89E0-E013F80C80D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B604-4821-46F4-BB53-C91623F028E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54F9-E685-40F0-9302-E9D0ECDEC8C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A729-C218-4B35-A6B3-C0DCD45481C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0800-02E2-45B1-9D6D-E9E91F485B9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F633-F221-46BC-A5B0-174134D0642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6C35-3F4A-4FB1-8E4E-5470459C3BA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84B1-6BC0-4E38-9FD4-E6A0F618984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7800-7794-47C7-862A-323BE68FACD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DBE6-1E36-43F4-8FDE-23CDD39BCFF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DE53-7EDA-4AFB-B6D3-801FF422977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EA9D-FA1C-474F-81B0-BA17F5EE9F0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CE94-6675-47AB-A7A7-22AEBA8C751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3D2F-496C-4496-BC58-F6B72A8D025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7C66-16E4-46B3-A13E-48C5B30B880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29DE-A1EA-473B-8B1B-4DA63CD3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6789-2A70-4C29-9AB8-F823E945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7809-FAA2-4ED9-BCCC-B403CD28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0BB7-3A91-498D-A820-C0DAB496F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B8F3-BECC-41DF-AD14-657E6537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3E43-302C-4178-9D91-B2FE011E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E5BD-7170-4B04-B99A-7BACD22B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79DF-387B-4ABA-8575-4DB24836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1130-8CC8-48E3-A166-A85050BD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5F52-CFDC-448F-AA66-CF98866C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0FB2-B6C1-4802-9898-42D13487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9F4E-B422-4047-BE17-6755F03F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BB19-1596-4B1B-A415-A7413A51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CFEC-2830-4BAE-99FC-F9600CA0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BF33-4431-4472-9200-DDBFE4A3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E379-BC9A-4DA3-8845-85B5B40CA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2561-21F9-43EE-9BD0-BC9848EFD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600CB-8A78-47D7-8B33-324AA491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360AD-B950-4629-BDBB-29AA120B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44DEB-6A13-488F-867F-51108BC6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1E66E-B1F1-43A5-9275-E5EFDA7C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0B17A-5366-42D4-9433-FE6E6D1E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F18B-9331-4BE7-9D62-6A8A9BEB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BFACB-6780-4D75-B0C1-4A59F2D6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D81B8-08FC-47A5-8A1A-3DDDA7DB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AC610-F1E2-46BC-A376-3D3313AA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603E8-D75E-4C69-BD4F-4E90F407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E4BEC-23DD-4B43-96BE-AD4ACA75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0BCCE-051A-4881-9D69-D4A7EE607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E980F-2CEA-4424-87E2-07B1CBA02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00EA1-19A9-4CB6-82DD-A3C2A6EE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21CD9-5245-4B88-88FA-071241E4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9490E-E7C3-4EF8-A716-F36B5010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ACBF-9C1F-4676-892C-692E79CB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B9A48-3825-47BC-94A6-BBC7E25C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76718-8010-461C-A6FF-35663B23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5EA2B-9F90-4EA4-9CDA-5E01FFEA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6D8E4-F9E5-4A9B-BBF5-6FBE583A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405AB-E8B3-442C-9774-E670E97D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37D6E-26E3-45E9-9AA6-AC7A6551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A051C-7861-4158-B6B6-85FA6D48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AF541-E010-43E3-8BBD-F3C76F4D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F3312-2821-4633-B040-5CD553124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8323F-E799-4591-9A8B-093D0E6A9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13AF-06CA-41BD-8A0E-3F896169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793A9-98EB-4454-A00F-587ABCA3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6DF5B-AE47-499F-AFFE-92E376D4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27812-0638-495F-95AC-4588885B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9E804-B4AA-4EAE-B5DC-E3B1A814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C0DE9-57CC-4935-82AD-9B34A40F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6A6FB-C926-42D9-ADD2-31768992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C80EF-1F16-4192-A7F0-0ED399C9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5B8CF-335E-494E-BBA8-B0D2B516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62B78-AB0A-417B-9CA8-423FA6E4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09FE2-E7B5-41BB-8130-7B7CF1D50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62DC-5E82-43ED-BB28-86F5DF7A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211CF-BCF3-4C8E-8EAA-8DBB0E258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82BD-F3E0-4E51-8EC2-B6A8B13D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1FB8-40FB-4E54-A174-ED885492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4CAE-CB6E-4494-8C34-37E44026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83EF-A607-49B4-8CB4-6369C24A521D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3897-6639-4DA7-B887-496A4B1D652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buClr>
                  <a:srgbClr val="cc9900"/>
                </a:buClr>
                <a:buSzPct val="110000"/>
                <a:buFont typeface="Wingdings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E339-E087-46F2-A2DD-D6B53684D708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29E7-38BA-44A6-9CA0-10F7C83E524D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FF43-0E27-48CD-BDC5-33C5EFD1D3D2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Perpetua"/>
              </a:rPr>
              <a:t>Chapter 4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Perpetua"/>
              </a:rPr>
              <a:t>Automated Tools for Systems Development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 rtl="1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Modern Systems Analysi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and Design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409BB3AA-AE0B-48BC-A464-949E8AF6B09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marL="34308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Data Flow Diagrams (DFD)</a:t>
            </a:r>
            <a:br>
              <a:rPr sz="2800"/>
            </a:b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472360" cy="4803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marL="34308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Entity-Relationship Diagrams</a:t>
            </a:r>
            <a:br>
              <a:rPr sz="2800"/>
            </a:b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620040" cy="4182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51408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Form and Report Generator Tool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38080" y="162828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ASE tools that support the creation of system forms and reports in order to prototype how systems will look and feel to user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wo Purpos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reate, modify and test prototypes of computer display forms and report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dentify which data items to display or collect for each form or repor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0681A304-CD7F-45CD-8335-40333B5BD46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539640" y="384984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Arial"/>
              </a:rPr>
              <a:t>CASE Analysis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768240" y="485784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tomatic checking for incomplete, inconsistent or incorrect specifications in diagrams, forms and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analyses vary depending on the organization’s development methodology and features of CAS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Repository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83808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Integrated CASE (I-CASE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ntegration of various CASE tools and their dat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-CASE tools use common terminology, notations and methods for system development across all too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ll I-CASE tools have a common user interfac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utomated systems development environment that provides numerous tools to create diagrams, forms and repor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rovides analysis, reporting and code generation faciliti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amlessly shares and integrates data across and between too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is centralized database containing all diagrams, forms and report definitions, data structure, data definitions, process flow and logic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Holds complete information needed to create, modify and evolve a software system from project initiation and planning to code generation and maintenanc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565400C4-FFEA-40E3-9A3C-E8266C11FC6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Repository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11280" y="158400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wo Primary Segmen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Information Repositor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Data Dictionar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Information Repository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mbines information about an organization’s business information and its application portfoli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rovides automated tools to manage and control access to repositor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Business Informa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ata stored in corporate databas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pplication Portfoli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pplication programs used to manage busines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62FAEF00-302E-45D9-A11B-AB6BD79C944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Repository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Data Dictionar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mputer software tool used to manage and control access to the information repositor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ntains all data definitions for all organizational applicati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ross referenc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nables one description of a data item to be stored and accessed by all individua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ingle definition for a data item is established and used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ntries have a standard defini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lement name and alia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extual description of the elemen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List of related eleme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lement type and forma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Range of acceptable val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Other information unique to the proper processing of this elemen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12A82B5A-B657-4FCB-A0C0-5F8DC0DC6E5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Repository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755280" y="1557360"/>
            <a:ext cx="7783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ASE Repository and the SDLC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uring project initiation and planning phase, all information related to the problem being solved is stored in the repository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roblem domain, project resources, history and organizational contex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uring analysis and design phases, store graphical diagrams and prototype forms and report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ata stored in repository are used for basis to generate code and document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dditional Advantag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ssistance with project management task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ids in software reusabilit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he ability to design software modules in a manner so that they can be used again and again in different systems without significant modific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62E2AEBF-6EB9-4BB7-8E45-BA0B02E7538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Documentation Generator Tool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84360" y="155700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nable the easy production of both technical and user documenta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llow creation of master templates used to verify that documentation conforms to all stages of SDLC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D032B56E-0311-488A-B55F-BA3E1F87C65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609480" y="3430440"/>
            <a:ext cx="77724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Arial"/>
              </a:rPr>
              <a:t>CASE Code Genera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762120" y="4473720"/>
            <a:ext cx="777240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the automatic generation of program and database definition code directly from the design documents, diagrams, forms and reports stored in the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Visual and Emerging Development Tool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838080" y="1700280"/>
            <a:ext cx="777240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Object-Oriented Development Tool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A chunk of program and data that is built to perform common functions within a system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Easily </a:t>
            </a: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reused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a2212"/>
                </a:solidFill>
                <a:latin typeface="Perpetua"/>
              </a:rPr>
              <a:t>Encapsul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3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rocess of grouping data and instructions together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evelopment environment includes pre-defined objects and facilitates reuse of cod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B5C35A36-DC46-4DEC-B8A2-0F38E5E9FDA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77724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Visual and Emerging Development Tool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838080" y="1904760"/>
            <a:ext cx="77724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Visual Development Tool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nable developers to quickly create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user interfac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opular tools include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Microsoft Visual Studio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elphi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owerbuilder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oldFus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6D3B8E76-8194-4105-9878-FEEAD3F4155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Introduction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755280" y="155736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Lack of consistency in technique and methodology made development of systems difficult – error-ridden, over budget, lat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Goal –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o develop common techniques, standard methodologies, automated tool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Computer-Aided Software Engineering (CASE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Automated software tools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used by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systems analysts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to develop information system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Used to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support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automat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activities throughout the systems development life cycle (SDLC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ncrease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productivit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mprove overall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of system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9B3A6270-C5E7-4B62-9ACF-5108BAB8345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The Use of CASE in Organization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4000" y="1557360"/>
            <a:ext cx="8135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urpose of CASE is to facilitate a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single design philosoph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within an organization with many projects, systems, people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ASE tools runs on variety of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mini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mainfram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system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Objectives of CAS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mprove quality of systems developed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ncrease speed of development and desig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Ease and improve testing process through automated checking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mprove quality and completeness of document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Help standardize the development proces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mprove project managemen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implify program maintenanc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romote reusability of modules and document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70D93F97-CE99-4DB2-B890-239FAFC7727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and System Quality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55640" y="1557000"/>
            <a:ext cx="792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ajority of organizations adopt CASE to improve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speed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of systems development projec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veral factors that inhibit widespread deploymen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Between $5,000 and $15,000 per year to provide CASE tools to one systems analys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Return on Investmen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Biggest benefits of CASE come in late stages of SDLC – testing, implementation and maintenanc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Long duration for early stages – planning, analysis, design – leads to frustration by managers and user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roductivity Bottleneck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nability of some tools to share inform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ifficulty in providing tools for all stages of SDLC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F8630CE3-6369-4EA9-9234-D211C0796EB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The Outlook for CASE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755640" y="154620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Functionality is increasing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Cost is decreasing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Expose CASE technology earlier in education and career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06D89B1D-89D4-4A86-A4AC-DF6837EA54F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omponents of CASE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4360" y="155700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Upper CAS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50760" indent="-511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ASE tools designed to support the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information planning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and the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project identification and selection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project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initiation and planning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analysis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design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585000" indent="-585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Lower CAS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50760" indent="-511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ASE tools designed to support the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implementation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maintenanc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585000" indent="-585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Cross life-cycle CAS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50760" indent="-511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ASE tools designed to support activities that occur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across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multiple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50760" indent="-51192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lvl="1" marL="950760" indent="-51192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ost CASE tools utilize a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to store all diagrams, forms,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50760" indent="-51192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odels and report definiti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50760" indent="-51192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EE6B16C3-9223-4868-8B51-DA60AB57C6C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96464"/>
                </a:solidFill>
                <a:latin typeface="Franklin Gothic Book"/>
              </a:rPr>
              <a:t>Components of CASE</a:t>
            </a:r>
            <a:endParaRPr b="0" lang="en-US" sz="25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55280" y="1593360"/>
            <a:ext cx="799308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ypes of CASE tool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iagramming too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mputer display and report generator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nalysis tools used to check for incomplete, inconsistent or incorrect specificati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 central repositor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ocumentation generator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de generator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ASE tools also provid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ecurity Featur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Version Control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mport/Expor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Backup and Recovery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3F0D1AFB-36A1-417C-A3F9-D56B82BC649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versus Traditional Systems Development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Traditional Systems Developm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mphasis on coding and test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aper-based    specificati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anual coding of program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anual document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tensive software test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aintain code and document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00360" y="1844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CASE-Based Systems Developm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mphasis on analysis and desig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utomated code gener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utomated documentation gener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utomated design check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aintain design specificati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22789CB0-6AE3-4D54-B57C-206CD9D8A7F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65700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Diagramming Tool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Enable representation of a system and components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visuall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Effective for representing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process flows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data structures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program structur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everal types of diagram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Data Flow Diagrams (DFD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Functional Hierarchy Diagram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Entity-Relationship Diagram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6440D50F-7D66-40B7-96FA-F0403052F9F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Huda</cp:lastModifiedBy>
  <dcterms:modified xsi:type="dcterms:W3CDTF">2012-02-24T15:09:14Z</dcterms:modified>
  <cp:revision>104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