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71FC2-AC80-440C-9E26-A86173CE599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0335-B71E-45E2-B3EF-26145222A40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782D1-3202-4352-8363-3A15FE378F4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D5170-D277-461E-9D82-9A2D3CC2202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36773-DA20-4083-B98C-83DDE07E14D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CFD25-96F2-43A2-BC14-ADB5EB06BCB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98F66-30D1-4464-B6A3-628483ECAA4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D6351-339A-45BE-9EBB-E774686A3CE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8A43D-D4EC-437C-AA97-8B11876F812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42F57-6A71-43CB-9557-F24CEDCFDF6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9381-BFA5-4EB5-9A03-944585FE27C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32906-1457-4C41-B4FA-96A871A24D1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74192-4C51-4DB6-B584-6910144EF75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8B01E-9E91-492C-B152-427571184D9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D66DE-E3AB-42B7-97E9-6B140D09C28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6497B-9288-48CE-8114-0A322067EF4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A39EB-613E-46B5-932A-A5EF064D182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5EAE8-0470-4F51-B3A2-FDCE2B43EA2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7689-49E9-4A50-AC9B-D92CDDEA4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1A7B-C70A-40C8-A247-4511EA3F0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A62B-4445-405B-BACB-737873A3D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7998-AF4D-4611-A8EE-01FC16677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A0727-E23B-4755-8ACD-17F7D2046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46226-7597-4BD3-A707-097EEDE63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91381-7D24-49D6-B869-0540C606B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7E875-EFE8-4984-9A7D-5CE757DA9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4A441-789B-49F1-8B94-10DC2936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5187F-7CEA-4861-9814-B261CADD7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D8419-7642-4860-856C-22A0CB7F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98DE-8DD4-423D-B6B5-BFD441530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3C812-9C1E-4AA9-A0C7-4CE87CCF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6EB9C-30E6-4084-9738-2D8214B9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E2E51-E5DC-4E0C-B703-7B7B5AAC0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1FCCD-41B1-4180-AC71-EC1EED164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84698-85A8-4204-A2FC-8BE36774B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A1567-ACA1-4C8E-987C-2B079E4BE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23404-B10F-40CE-A715-6D48899A4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07E11-F69B-4D2B-9D28-FBA5C33B9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A7AF7-0DF3-4542-A8DA-AA293F528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28C36-8253-4AA2-93D4-D4001B279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B8A6-A54A-4977-8C95-0541C74BC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D6B4E-D53E-45B4-BC06-A7692AA4B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F141E-9C33-4928-B69D-FD5436C7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2FA33-F660-46AC-BDED-1A330600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6F973-6DCE-40C1-893D-B910C155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2218A-4235-4761-A688-921E169B8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1721D-24F4-44FC-9EE6-38FF247A6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A3BDA-3DAA-44B3-A53E-EB90BFD65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D4BD6-3D84-473C-B0D8-8E3B9C24F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73A13-FF51-45B4-A7E1-F6A11D55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C9939-BDF3-41A5-BBAE-236768F49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0DCE-C57A-4BA4-B090-0C5947B58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79A16-AA70-4879-8EE4-389B77555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B1AB5-B155-430A-A540-98D47BAC6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F6409-4E70-4667-9FDD-7D51E539A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44E24-9DF0-4AC7-908F-598AAF15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D6056-D8EC-421E-8996-0B67D4F1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F783C-E6B0-45DC-B387-35FA9D60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A934C-1C6A-4C3C-8DC3-7CD728E1E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F9062-EA96-4FF3-8683-C26239D1F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F2AE0-696C-4CD3-B440-66819EDEA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CB28C-ABED-4905-ADEF-EA1A6AE38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1752-5BF5-4D16-99FA-6CDB6B216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65F2E-BE5B-4245-A691-5B77F1229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72B81-5E41-442D-84C6-5383B9BE3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CE960-DBC1-4FD4-B1E2-305A033A0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C7A38-C958-4B0E-B263-458517DEA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F64D9-C241-404B-9FA6-964A84AEE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1E080-1888-4E5A-AF20-1491A648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744DE-24BD-4793-98E3-16DB5454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DC92E-9005-4489-A863-1347423E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842E3-80BC-45E2-BF3E-D6133203C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E0796-E8DF-4D26-A6EA-86F6C5EFE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1837-8443-4CFE-A846-E182B5D7A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C5936-7563-4B21-BEA3-86707C2D6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99CB-803A-4897-B5B3-BC41847A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AB60-4C5E-48EA-90EC-825A5805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CFA8-2238-4F26-863C-97801441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-216000"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marL="216000" indent="-216000"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FCC51-6F70-44C7-BE5E-0199B8A9A2A9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-216000"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marL="216000" indent="-216000"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1BDE1-DEDB-4CE7-93C2-D4B69FD83B5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buClr>
                  <a:srgbClr val="cc9900"/>
                </a:buClr>
                <a:buSzPct val="110000"/>
                <a:buFont typeface="Wingdings" charset="2"/>
                <a:buChar char="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-216000"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marL="216000" indent="-216000"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AE58E-86D9-4047-9A50-9F828C302335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-216000"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marL="216000" indent="-216000"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E8D94-A5EC-45B8-90DC-58EF2D44FD7B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-216000"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marL="216000" indent="-216000"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C6380-DFF6-4C7E-A598-2889A1891E89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066320" y="32767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96464"/>
                </a:solidFill>
                <a:latin typeface="Perpetua"/>
              </a:rPr>
              <a:t>Chapter 4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ctr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96464"/>
                </a:solidFill>
                <a:latin typeface="Perpetua"/>
              </a:rPr>
              <a:t>Automated Tools for Systems Development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914040" y="-36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 rtl="1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Book"/>
              </a:rPr>
              <a:t>Modern Systems Analysi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Franklin Gothic Book"/>
              </a:rPr>
              <a:t>and Design</a:t>
            </a: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Third Editio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E93100D7-3E4F-4194-8031-8483DC05C3C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marL="34308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Data Flow Diagrams (DFD)</a:t>
            </a:r>
            <a:br>
              <a:rPr sz="2800"/>
            </a:b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1763640" y="1484280"/>
            <a:ext cx="5472360" cy="4803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marL="34308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Entity-Relationship Diagrams</a:t>
            </a:r>
            <a:br>
              <a:rPr sz="2800"/>
            </a:b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6620040" cy="4182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514080"/>
            <a:ext cx="7772400" cy="8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Franklin Gothic Book"/>
              </a:rPr>
              <a:t>CASE Form and Report Generator Tools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838080" y="1628280"/>
            <a:ext cx="77724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ASE tools that support the creation of system forms and reports in order to prototype how systems will look and feel to user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wo Purpos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Create, modify and test prototypes of computer display forms and report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Identify which data items to display or collect for each form or report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46FD819F-1733-47FF-8513-456922CAF8F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539640" y="3849840"/>
            <a:ext cx="77724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Arial"/>
              </a:rPr>
              <a:t>CASE Analysis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768240" y="485784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automatic checking for incomplete, inconsistent or incorrect specifications in diagrams, forms and repor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analyses vary depending on the organization’s development methodology and features of CASE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Franklin Gothic Book"/>
              </a:rPr>
              <a:t>CASE Repository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838080" y="155700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Integrated CASE (I-CASE)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Integration of various CASE tools and their dat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I-CASE tools use common terminology, notations and methods for system development across all tool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ll I-CASE tools have a common user interfac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utomated systems development environment that provides numerous tools to create diagrams, forms and report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Provides analysis, reporting and code generation faciliti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eamlessly shares and integrates data across and between tool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Repository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is centralized database containing all diagrams, forms and report definitions, data structure, data definitions, process flow and logic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Holds complete information needed to create, modify and evolve a software system from project initiation and planning to code generation and maintenanc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510EE930-C631-4ABB-938D-88C3AA9B287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Franklin Gothic Book"/>
              </a:rPr>
              <a:t>CASE Repository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611280" y="1584000"/>
            <a:ext cx="77724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wo Primary Segment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erpetua"/>
              </a:rPr>
              <a:t>Information Repositor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erpetua"/>
              </a:rPr>
              <a:t>Data Dictionar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Information Repository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ombines information about an organization’s business information and its application portfolio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Provides automated tools to manage and control access to repository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Business Information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Data stored in corporate databas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pplication Portfolio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pplication programs used to manage busines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F5B3E3FE-26F5-42F0-B8E4-D132A78DB5D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54936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Franklin Gothic Book"/>
              </a:rPr>
              <a:t>CASE Repository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684000" y="1557360"/>
            <a:ext cx="813564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Data Dictionary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omputer software tool used to manage and control access to the information repository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ontains all data definitions for all organizational application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ross referencing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Enables one description of a data item to be stored and accessed by all individual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ingle definition for a data item is established and used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Entries have a standard definition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Element name and alia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extual description of the element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List of related element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Element type and format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Range of acceptable valu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Other information unique to the proper processing of this element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79B09C87-37B9-48DA-9035-91F1B38A62D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54936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Franklin Gothic Book"/>
              </a:rPr>
              <a:t>CASE Repository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755280" y="1557360"/>
            <a:ext cx="7783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ASE Repository and the SDLC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During project initiation and planning phase, all information related to the problem being solved is stored in the repository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Problem domain, project resources, history and organizational context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During analysis and design phases, store graphical diagrams and prototype forms and report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Data stored in repository are used for basis to generate code and documentation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dditional Advantag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ssistance with project management task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ids in software reusability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The ability to design software modules in a manner so that they can be used again and again in different systems without significant modification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532A83AC-19EB-4E0A-BB91-58AD02947AD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47592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Franklin Gothic Book"/>
              </a:rPr>
              <a:t>CASE Documentation Generator Tools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84360" y="1557000"/>
            <a:ext cx="77724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Enable the easy production of both technical and user documentation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llow creation of master templates used to verify that documentation conforms to all stages of SDLC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C2A01101-47D3-4834-A464-193E54EC5D1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609480" y="3430440"/>
            <a:ext cx="777240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Arial"/>
              </a:rPr>
              <a:t>CASE Code Generation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762120" y="4473720"/>
            <a:ext cx="777240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the automatic generation of program and database definition code directly from the design documents, diagrams, forms and reports stored in the reposi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Franklin Gothic Book"/>
              </a:rPr>
              <a:t>Visual and Emerging Development Tools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838080" y="1700280"/>
            <a:ext cx="7772400" cy="32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Object-Oriented Development Tool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A chunk of program and data that is built to perform common functions within a system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Easily </a:t>
            </a: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reused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a2212"/>
                </a:solidFill>
                <a:latin typeface="Perpetua"/>
              </a:rPr>
              <a:t>Encapsulation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374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Process of grouping data and instructions together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Development environment includes pre-defined objects and facilitates reuse of cod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F73D8E8F-86BC-4AA0-ABF0-07F90D7DF91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404280"/>
            <a:ext cx="777240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Franklin Gothic Book"/>
              </a:rPr>
              <a:t>Visual and Emerging Development Tools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838080" y="1904760"/>
            <a:ext cx="777240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Visual Development Tool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Enable developers to quickly create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user interfac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Popular tools include: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Microsoft Visual Studio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Delphi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Powerbuilder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ColdFusion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ED1FCF54-BF52-40B6-83FE-E9ECEF63BC6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Franklin Gothic Book"/>
              </a:rPr>
              <a:t>Introduction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755280" y="1557360"/>
            <a:ext cx="806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Lack of consistency in technique and methodology made development of systems difficult – error-ridden, over budget, late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Goal –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To develop common techniques, standard methodologies, automated tool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Computer-Aided Software Engineering (CASE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erpetua"/>
              </a:rPr>
              <a:t>Automated software tools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used by </a:t>
            </a:r>
            <a:r>
              <a:rPr b="0" i="1" lang="en-US" sz="2000" spc="-1" strike="noStrike">
                <a:solidFill>
                  <a:srgbClr val="000000"/>
                </a:solidFill>
                <a:latin typeface="Perpetua"/>
              </a:rPr>
              <a:t>systems analysts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to develop information system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Used to </a:t>
            </a:r>
            <a:r>
              <a:rPr b="0" i="1" lang="en-US" sz="2000" spc="-1" strike="noStrike">
                <a:solidFill>
                  <a:srgbClr val="000000"/>
                </a:solidFill>
                <a:latin typeface="Perpetua"/>
              </a:rPr>
              <a:t>support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or </a:t>
            </a:r>
            <a:r>
              <a:rPr b="0" i="1" lang="en-US" sz="2000" spc="-1" strike="noStrike">
                <a:solidFill>
                  <a:srgbClr val="000000"/>
                </a:solidFill>
                <a:latin typeface="Perpetua"/>
              </a:rPr>
              <a:t>automate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activities throughout the systems development life cycle (SDLC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Increase </a:t>
            </a:r>
            <a:r>
              <a:rPr b="0" i="1" lang="en-US" sz="2000" spc="-1" strike="noStrike">
                <a:solidFill>
                  <a:srgbClr val="000000"/>
                </a:solidFill>
                <a:latin typeface="Perpetua"/>
              </a:rPr>
              <a:t>productivity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Improve overall </a:t>
            </a:r>
            <a:r>
              <a:rPr b="0" i="1" lang="en-US" sz="2000" spc="-1" strike="noStrike">
                <a:solidFill>
                  <a:srgbClr val="000000"/>
                </a:solidFill>
                <a:latin typeface="Perpetua"/>
              </a:rPr>
              <a:t>quality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of system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FC132FB3-C1B9-4432-ABE0-2E2AEACF7F2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Franklin Gothic Book"/>
              </a:rPr>
              <a:t>The Use of CASE in Organizations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84000" y="1557360"/>
            <a:ext cx="81356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Purpose of CASE is to facilitate a </a:t>
            </a:r>
            <a:r>
              <a:rPr b="0" i="1" lang="en-US" sz="2000" spc="-1" strike="noStrike">
                <a:solidFill>
                  <a:srgbClr val="000000"/>
                </a:solidFill>
                <a:latin typeface="Perpetua"/>
              </a:rPr>
              <a:t>single design philosophy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within an organization with many projects, systems, people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ASE tools runs on variety of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mini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mainframe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systems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Objectives of CAS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Improve quality of systems developed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Increase speed of development and design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Ease and improve testing process through automated checking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Improve quality and completeness of documentation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Help standardize the development proces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Improve project management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Simplify program maintenance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Promote reusability of modules and documentation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CF380F1D-7F39-4918-80D2-FA825AE784C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Franklin Gothic Book"/>
              </a:rPr>
              <a:t>CASE and System Quality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755640" y="1557000"/>
            <a:ext cx="7920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Majority of organizations adopt CASE to improve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speed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quality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of systems development project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everal factors that inhibit widespread deployment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ost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Between $5,000 and $15,000 per year to provide CASE tools to one systems analyst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Return on Investment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Biggest benefits of CASE come in late stages of SDLC – testing, implementation and maintenance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Long duration for early stages – planning, analysis, design – leads to frustration by managers and user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Productivity Bottleneck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Inability of some tools to share information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Difficulty in providing tools for all stages of SDLC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23DDAB43-F10A-4224-9D62-CCE27BA313F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Franklin Gothic Book"/>
              </a:rPr>
              <a:t>The Outlook for CASE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755640" y="1546200"/>
            <a:ext cx="77724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Functionality is increasing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Cost is decreasing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Expose CASE technology earlier in education and career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2B60D343-F8AA-43FF-A441-E1DE692CB4A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Franklin Gothic Book"/>
              </a:rPr>
              <a:t>Components of CASE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84360" y="155700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Upper CAS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50760" indent="-5119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ASE tools designed to support the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information planning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and the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project identification and selection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project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initiation and planning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analysis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design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phases of the systems development life cycl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585000" indent="-585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Lower CAS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50760" indent="-5119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ASE tools designed to support the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implementation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maintenance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phases of the systems development life cycl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585000" indent="-585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Cross life-cycle CAS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50760" indent="-5119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ASE tools designed to support activities that occur </a:t>
            </a:r>
            <a:r>
              <a:rPr b="0" i="1" lang="en-US" sz="2000" spc="-1" strike="noStrike">
                <a:solidFill>
                  <a:srgbClr val="000000"/>
                </a:solidFill>
                <a:latin typeface="Perpetua"/>
              </a:rPr>
              <a:t>across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multiple phases of the systems development life cycl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50760" indent="-511920"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lvl="1" marL="950760" indent="-511920"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Most CASE tools utilize a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repository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to store all diagrams, forms,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50760" indent="-511920"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models and report definition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50760" indent="-511920"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4662FA2C-1B1A-439D-A43C-C83D8A4FF80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96464"/>
                </a:solidFill>
                <a:latin typeface="Franklin Gothic Book"/>
              </a:rPr>
              <a:t>Components of CASE</a:t>
            </a:r>
            <a:endParaRPr b="0" lang="en-US" sz="25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755280" y="1593360"/>
            <a:ext cx="799308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ypes of CASE tool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Diagramming tool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omputer display and report generator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nalysis tools used to check for incomplete, inconsistent or incorrect specification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 central repository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Documentation generator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ode generator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ASE tools also provid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Security Feature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Version Control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Import/Export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Backup and Recovery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F74F2CCC-693D-4BD1-82FC-38D400AE66D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Franklin Gothic Book"/>
              </a:rPr>
              <a:t>CASE versus Traditional Systems Development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42640" indent="-2426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Traditional Systems Developmen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mphasis on coding and test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aper-based    specification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Manual coding of program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Manual document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ntensive software test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Maintain code and document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00360" y="18446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42640" indent="-2426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CASE-Based Systems Developmen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mphasis on analysis and desig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utomated code gener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utomated documentation gener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utomated design check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Maintain design specification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5E5FEEB5-182D-40E7-A47F-E5C8F759744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65700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Franklin Gothic Book"/>
              </a:rPr>
              <a:t>CASE Diagramming Tools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Enable representation of a system and components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visually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Effective for representing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process flows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data structures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program structure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Several types of diagram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Data Flow Diagrams (DFD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Functional Hierarchy Diagram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Entity-Relationship Diagram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F6394149-CECC-4329-B057-5C540524D62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Huda</cp:lastModifiedBy>
  <dcterms:modified xsi:type="dcterms:W3CDTF">2012-02-24T15:09:14Z</dcterms:modified>
  <cp:revision>104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