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ED7A-75F5-44FD-84ED-A3C5099933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55A8-745A-489C-82FF-6C631E085E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C01B-D3AA-4F3E-93DB-215140AACF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13A7-577C-4481-8B1E-FE3030ABEC3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71EA-6C7F-4C57-A96A-09BAEB5667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CA24-FE6F-4679-80CF-EC0E6E6341D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502C-D34C-4CBB-9D62-AA044C1D292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B754-5F01-42B6-BA7A-D8D178FA01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A12B-4FE8-4349-A928-9466B1D47C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1D14-12CA-4736-981E-C5FB8A084D6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9C8-C068-44C0-A8AD-708461176A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F08C-3940-43DD-B3D5-F2007F7791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C549-A29C-46C9-A509-7FB9FBA2F4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0C4B-DD5D-4448-8978-3F0FBFAC33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D88-013D-417E-8B46-E3443EA684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5B88-8934-4E62-A0F3-8CCC43EDF5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DA11-9744-42DE-9528-3AF4B8D1ED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08C1-AC89-4D69-9F27-835F60550A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371-46C3-4F2D-9664-02C0721D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04B-B724-4997-92FF-39D85862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F17-E27E-47A7-A9A4-C9727391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100-6F22-4043-B270-E6F0480C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D320-E4F0-48A0-B9A6-8A56F932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78E4-0822-4ED1-96C1-D44AFB2B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C9FB-A887-4B6E-B33B-B4426B7C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6C70-989D-48A9-93C9-B7DFA9CC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C857-B0B6-4F92-8CAB-1B0AD8F0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A704-A71E-4FC8-B219-69CD4DE2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6D2E-5A0B-477F-BF1D-4BE249F3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934-3222-43CC-98E2-CAE59FE2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B933-866E-415F-9526-63AE909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E5AE-F605-4FDC-B1B1-42D52866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94F-F650-4EA2-9E3E-3F1421A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D5F4-7C5A-436A-B99C-9030E34F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7535-FB41-43E5-8A25-5A689FCE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A1C9-0DB3-4C0A-A0F3-E0E4C7D4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81DB-09A4-43DA-8A3A-707C11A1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2C8E-E6F4-461B-A549-8BD8D3A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7BB3-A6C4-4986-981E-895F24EF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C373-0B91-4DA1-9452-BB6C4761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C54-D44A-4BE3-B78E-5E30301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07C2-09B1-40A7-8750-77FD18C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A890-35D8-4D6A-A089-DA179222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BB0F-94FE-4788-B128-C50D6E01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43B7-4418-4CBA-9D5E-14557F1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7EE0F-A2CC-427A-A26E-329ABF0C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A0DD-ADF2-4EC3-8076-7848F8BE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D1DC-7CD4-4B68-A33E-A09A8245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274CE-1ABB-4BA2-9745-DD38C347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90CC-4ED3-426E-895F-04BECF0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E3CB-C7A9-4B79-A6EF-8004A337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BF8-D150-417F-B298-3DE9BF0C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3A83-CA46-44AD-8240-13FD22E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E238-B1F2-458B-9E17-1DD58F2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FF08-8588-4CA8-AF06-BF88E79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82A0-D023-4C16-9AC7-13565CB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F9AF-DFED-4318-A9C1-0069D04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CAD5-CDCA-4A66-B87F-22661E50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6831-80E5-44F1-BFD2-7AB04F52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C7E8-710C-43DF-9CD0-DA973387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F146-19D8-4653-ABB7-5BB16767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BBDF-9BE8-4428-9FB6-4A29C8D1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6F4-4E84-48C8-B362-31DFBF64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0435-8364-4B7D-8DE8-C6592568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D61D2-1356-4E25-9192-C92B5828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2F5A-6F86-4BE4-9879-D0C6CBA9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D0B11-3790-4949-9155-D8B2DB3E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CC71-2EAF-409C-B2E7-06EB0055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80221-53BE-4A70-85AA-DFC6EEF6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48D55-B713-4917-9E50-A2FECE9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C1E1-3243-4F45-AD57-9BB059C4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D358B-D72C-4400-94E0-D177ED4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9C365-7715-4018-A9FF-6051A519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308-5B5B-48B0-BAB8-D122D77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0DB2-A48C-4CC2-B2DF-5BDB7A7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852-0C27-4AA0-B86A-2141430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EFE-D296-4113-B53D-63C49B3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4C5-6DD6-40A9-B055-2D404F44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96B8-A87A-458C-8598-26675BE5C32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B2D-81EC-40B8-900E-FB9F70725F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buClr>
                  <a:srgbClr val="cc9900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0506-2889-4C06-8B96-E8117779EE5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C98-6798-4FF3-8B6F-B8AD407E6B9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marL="216000" indent="-216000" algn="ct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E6E-F9EA-494D-AD41-339230A107E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nd Desig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CBFAA3D-65DC-40BB-9A51-308B078AFC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ata Flow Diagrams (DFD)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80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Entity-Relationship Diagrams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0040" cy="41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Form and Report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C689B8E-B92C-42B1-8535-6A1C81B763E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C5DE098-C5B0-483E-9668-2143DFCE0FD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9782911-85AB-4C87-AEC4-D9487B7E5A3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65B1563-B24D-4C4A-AEED-6E53ECAD18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Reposito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43E87E6-62B7-46E5-BF39-B39431A3B7A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ocumentation Generator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BD5A4F4-FAEB-49E2-A0EC-DFD92B150A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Perpetua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0DE11DC-55DC-4806-AAE2-93180F4F96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Visual and Emerging Development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ECC6638-C8B8-42E4-9899-A537D97EAE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7FE4730-3ABB-40CF-845B-7A534A0640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Use of CASE in Organiz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0012A15-3E97-4DEC-8926-1CC20634ED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and System Qual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6452BB7-E219-4E46-B131-34CEBB72C9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The Outlook for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Functionality is in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ost is decreasing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Expose CASE technology earlier in education and career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EA8262B-FCEF-4272-B9C1-13A8AD16B1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85000" indent="-585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50760" indent="-51192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A24BE17-9DE6-4621-B341-E78A0C9C44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96464"/>
                </a:solidFill>
                <a:latin typeface="Franklin Gothic Book"/>
              </a:rPr>
              <a:t>Components of CASE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87B1A8C-E8A4-432B-A440-2A0D5E4E5F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versus Traditional Systems Developmen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coding and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per-based   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coding of progr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ual documen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nsive software test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code and docu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CASE-Based Systems Develo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phasis on analysis and desig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code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ocumentation gene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design chec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intain design specific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C4DC707-208D-4900-9CD0-44C1C89E6D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Franklin Gothic Book"/>
              </a:rPr>
              <a:t>CASE Diagramming Tool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able representation of a system and component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visuall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ffective for representing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cess flow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ata structu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ogram structur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veral types of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ata Flow Diagrams (DF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unctional Hierarchy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tity-Relationship Diagra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31F6CBA-B53E-4A57-A07D-B5FD24F77FE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2-24T15:09:14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