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2403-BD50-4944-9692-7196BF5A8C1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1591-19CE-4C63-9AB1-9F4AACA89B0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3714-579B-4CFD-AD6D-D2436C289AD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3404-45BD-4220-85A8-D5B2CC9DCBF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85C3-2843-4D9F-A92F-E16028BD335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6759-D1B9-48C6-808F-C768930FE0B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B591-9BA6-4F64-B81E-1CC087F56F4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5C31-BEBF-4053-807A-3C5AC3D2684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6442-431C-4A1E-83B9-F4474DF0AFC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EE30-1289-4C4A-8266-79EE767B148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B854-AF7A-4924-BAB4-4479ABDB5B3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DEED-8F58-4BF5-B937-73F3EAF5BA6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28F5-DB58-4588-9173-11CC75B70B3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C53B-7C5F-43F0-B0C9-88A0D5464E8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56C3-8A7F-4583-A2D3-2235FAC564C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41D0-BBAC-4E33-9ADF-5FC295BB91C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6F54-E83D-4AC8-BA41-ECCD8A2356F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FD2F-1C70-4E48-B3D7-2A73F3D6430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590-0843-48FC-8224-F30121FA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BCCE-49FD-4611-AB47-3B68C692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F3E-22E2-42D4-9BCA-237642B7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604-695C-45DD-BFE5-50DF8951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7392-2D6F-4698-8CF3-B31D2477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B371-2D2F-4848-80A8-F9583E42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9501-4A52-4A50-A9DB-2C5F4447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EA97-0B2E-4473-A335-C15CC827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8D36-F87E-4C75-9EFE-1FCFBC6D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A2C8-D0AB-4201-92C5-64EB5095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DA35-219B-46EC-B8C2-D3CFC248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56E-B92D-40EA-BC7C-56935F66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7865-249B-481C-90D7-5F091D19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414F-4523-4BCE-A000-834D6E57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D588-F6A9-4AB8-945C-9D7C9C00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2009-25DE-496D-8592-1DE064BF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E885-BC3D-4220-8A61-206196AA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4102F-7629-4578-AEC3-B3C6B76D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2E188-5A3E-47DA-9CDE-52006F67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310B8-C2C2-4788-BC13-FB38EBEB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1C225-2DB9-47BA-B49A-C8128418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A53B5-865C-40CC-AA4A-5BA625C1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4F9-EDD3-4FD7-AC4C-B4E5E0AC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026BB-E30C-4625-9658-F0FBA742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BC9D3-8053-4E0B-AA57-E095C531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756F6-C36F-4447-9496-004FEFD1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9E457-225D-4EC0-9FDB-1CFDBD7B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7DB37-16A8-4F98-A047-11C1751D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CE799-AE83-4821-9391-2508BBC6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E1ACB-EA28-4132-9FEA-2730E664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CBA60-EFE0-4852-9593-7B680815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19FD8-6EE2-45CD-8F46-D7CE61B8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1204A-FEEB-48AE-B7F0-6AB9B59E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0F2-75C0-4AAD-9A35-3B2D8164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CD2A5-2627-4884-934D-90D8E09C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C0400-0093-4746-AB5B-E1221E5A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84AF4-0639-464B-9118-BA2F0D8B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76131-CE83-4BE6-8C4F-1EFA7384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710BA-6972-454B-8121-AF34CE74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81A0C-BACA-4F27-9424-723AE2FD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DD3D4-3D68-46DE-88F2-552F93EB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747FE-5CAE-467B-A908-382BE119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5DBE8-EF1B-4988-B5D4-2C2CBBED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9B07C-2733-4F5E-BF1F-50A96A14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FF0-372C-48DF-8BCD-92EF21B1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336EC-A504-45CD-A6D1-4E5F1430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A85EA-6ABA-4668-BC36-711C3E9D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ADF5A-E4AD-4426-86B2-7DFF1860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E0746-58F9-4CE3-91AB-59295FFC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819B2-5168-46CE-822F-0467947F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A3C65-21AF-4244-8048-DA3F3912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9939E-DAAE-40FA-9D34-769F0FFD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C0F7B-D606-43A4-BA10-05FB8814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A77BB-E49A-4111-932C-3A106F72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71377-6572-4A29-9CE3-F7A0E1F7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EEAA-FF55-45AE-A884-0AA72108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5B976-C6D8-44BA-919A-188C3B79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B15-627F-4100-9426-B9B78A6F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0FB-7E2A-45D4-B9D8-66602DAC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354-D1B8-4905-A2B3-2F9302EA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B3D7-8212-4722-BED3-9EEE0C2CD05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D0BB-1E5F-4AD9-BE87-8EFAC34FC1F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buClr>
                  <a:srgbClr val="cc9900"/>
                </a:buClr>
                <a:buSzPct val="11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F808-A115-45F4-89C3-218718F7987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61C1-C8A8-46E8-93DE-2E71492C5C7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A68E-20C7-40BB-AF82-D494F23DC23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</a:rPr>
              <a:t>Automated Tools for Systems Developmen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and Design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E0258BF-9396-44F4-96D3-607476AC656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marL="3430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ata Flow Diagrams (DFD)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472360" cy="4803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marL="3430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Entity-Relationship Diagrams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620040" cy="418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Form and Report Generator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8080" y="1628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that support the creation of system forms and reports in order to prototype how systems will look and feel to use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wo Purpos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reate, modify and test prototypes of computer display forms and repor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dentify which data items to display or collect for each form or repor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78F4F12A-9921-47A8-8FF9-B386271A243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539640" y="384984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Arial"/>
              </a:rPr>
              <a:t>CASE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768240" y="48578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tomatic checking for incomplete, inconsistent or incorrect specifications in diagrams, forms and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analyses vary depending on the organization’s development methodology and features of CA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Integrated CASE (I-CASE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tegration of various CASE tools and their d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-CASE tools use common terminology, notations and methods for system development across all too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 I-CASE tools have a common user interfa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utomated systems development environment that provides numerous tools to create diagrams, forms and repor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vides analysis, reporting and code generation faciliti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amlessly shares and integrates data across and between too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is centralized database containing all diagrams, forms and report definitions, data structure, data definitions, process flow and logi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olds complete information needed to create, modify and evolve a software system from project initiation and planning to code generation and maintenan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05E554AF-9A53-4849-9EF2-ACD303D4863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11280" y="1584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wo Primary Segm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Information Reposi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Data Dictiona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Information Repository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bines information about an organization’s business information and its application portfoli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vides automated tools to manage and control access to reposito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usiness Inform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ata stored in corporate databas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pplication Portfoli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pplication programs used to manage busines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1D7E123-93B7-44D1-97A6-F84CF79916E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puter software tool used to manage and control access to the information reposito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ntains all data definitions for all organizational applica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ross referenc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ables one description of a data item to be stored and accessed by all individua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ngle definition for a data item is established and us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tries have a standard defini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lement name and alia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extual description of the ele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ist of related elem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lement type and forma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ange of acceptable val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ther information unique to the proper processing of this ele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6C7A78E-104A-4F14-8E10-0022BDC85EF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55280" y="1557360"/>
            <a:ext cx="7783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SE Repository and the SDL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uring project initiation and planning phase, all information related to the problem being solved is stored in the repositor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blem domain, project resources, history and organizational contex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uring analysis and design phases, store graphical diagrams and prototype forms and repor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ata stored in repository are used for basis to generate code and docu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ditional Advantag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ssistance with project management task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ids in software reusabilit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ability to design software modules in a manner so that they can be used again and again in different systems without significant modific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703DDED-DE65-4BCB-9CD2-B9A406A1D62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Documentation Generator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4360" y="155700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able the easy production of both technical and user documen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ow creation of master templates used to verify that documentation conforms to all stages of SDL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F5B9454-465D-4C95-BE4A-68412F31837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609480" y="34304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Arial"/>
              </a:rPr>
              <a:t>CASE Code Gene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762120" y="447372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automatic generation of program and database definition code directly from the design documents, diagrams, forms and reports stored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Visual and Emerging Development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3808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Object-Oriented Development Too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 chunk of program and data that is built to perform common functions within a system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asily </a:t>
            </a: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2212"/>
                </a:solidFill>
                <a:latin typeface="Perpetua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cess of grouping data and instructions togeth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velopment environment includes pre-defined objects and facilitates reuse of cod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3CC9081-8A18-44C3-9483-A9EE3F842D6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Visual and Emerging Development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38080" y="190476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Visual Development Too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able developers to quickly creat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user interfac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opular tools includ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icrosoft Visual Studio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owerbuild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ldFus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3E548C6-8274-489F-8D67-0847D3C5DD3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Introduction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5528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ack of consistency in technique and methodology made development of systems difficult – error-ridden, over budget, lat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Goal –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o develop common techniques, standard methodologies, automated tool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Computer-Aided Software Engineering (CASE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Automated software tool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used by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systems analyst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o develop information system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Used to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automat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ctivities throughout the systems development life cycle (SDLC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productiv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mprove overall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f system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5E4BE4A-B247-49B7-B3B0-D05964FB066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The Use of CASE in Organization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urpose of CASE is to facilitate a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single design philosoph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within an organization with many projects, systems, peopl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runs on variety of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mini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mainfram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system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bjectives of CAS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rove quality of systems develope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crease speed of development and desig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ase and improve testing process through automated checking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rove quality and completeness of docu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elp standardize the development proces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rove project managemen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implify program maintenanc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mote reusability of modules and docu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9B8E821-65AA-4B42-9C6C-5BA67C6C651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and System Qualit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jority of organizations adopt CASE to improv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f systems development projec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veral factors that inhibit widespread deploy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etween $5,000 and $15,000 per year to provide CASE tools to one systems analys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eturn on Invest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iggest benefits of CASE come in late stages of SDLC – testing, implementation and maintenanc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ong duration for early stages – planning, analysis, design – leads to frustration by managers and user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ductivity Bottleneck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ability of some tools to share inform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ifficulty in providing tools for all stages of SDLC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8860A14-F704-4D2B-A386-6E98A63AD46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The Outlook for CAS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55640" y="1546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Functionality is increasing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Cost is decreasing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Expose CASE technology earlier in education and career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848A15C-5892-45C3-9EFE-5F961BD27DE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omponents of CAS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436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Upper CA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information planning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roject identification and selectio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initiation and planning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Lower CA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maintenanc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ross life-cycle CA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designed to support activities that occur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multiple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ost CASE tools utilize a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o store all diagrams, forms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odels and report defini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897BD49-A3DA-43C8-85AD-D6079EB8FC8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96464"/>
                </a:solidFill>
                <a:latin typeface="Franklin Gothic Book"/>
              </a:rPr>
              <a:t>Components of CASE</a:t>
            </a: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55280" y="1593360"/>
            <a:ext cx="799308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ypes of CASE too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iagramming too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puter display and report generato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alysis tools used to check for incomplete, inconsistent or incorrect specifica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 central reposito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ocumentation generato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de generato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SE tools also provid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Version Control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ackup and Recover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774494E5-F5B0-4AC6-A191-DD79508D747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versus Traditional Systems Developmen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raditional Systems Develop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phasis on coding and test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per-based    specifica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ual coding of progra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ual document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ensive software test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intain code and document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003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CASE-Based Systems Develop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phasis on analysis and desig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utomated code gener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utomated documentation gener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utomated design check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intain design specifica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051007E3-AE18-47AD-A69D-0D92A41A989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657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Diagramming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nable representation of a system and components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visuall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ffective for representing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rocess flow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data structure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rogram structur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everal types of diagra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ata Flow Diagrams (DFD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unctional Hierarchy Diagra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ntity-Relationship Diagra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7D51255D-0955-4B6A-9FC0-971D09EF003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dcterms:modified xsi:type="dcterms:W3CDTF">2012-02-24T15:09:14Z</dcterms:modified>
  <cp:revision>104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