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59B9-99F0-4C3B-941B-E86E205A328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10A4-3B95-4FC5-8C33-474688DC09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27DE-AC56-47E3-985E-63279B82BEB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AA1D-50EF-4032-B9C1-174AF14D6C9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613A-E727-4FF5-9783-C8C3108292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9AD4-4210-4DBC-81C2-E3FC6561177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A64F-BD64-4A46-865D-04CC14BCD6D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5CD7-CC79-4E23-B668-E06B2D325D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C6A9-12B7-46CE-A403-5311460858A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5737-CEDD-4DB1-83E2-5D0C32AF456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CD9-71B3-4BC5-8A6B-21C0FD0A64E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E833-3514-45BE-9777-0896AC28584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580F-B5D6-4525-B9FE-A6A8ECE7412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90CD-0D6D-415B-97C4-E2A46B9C8DB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8FEE-92F3-4DB3-9746-595517D6E63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A5EA8-E2D4-4BB2-BA9E-6BB80BDE5DA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F26A-3E24-4640-BE4D-6CC684BD25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8AE-3728-4149-9DDB-713764A8518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2343-AE16-4851-838E-8E6425FCA6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B0E4-B0C1-4593-8136-39322F95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9A8-3FF2-427B-8765-38240DD8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EE3D-6C1E-4B12-90A6-9F88A4C11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3A5-AE9B-43A8-9E13-1A674B8FD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1AB32-C113-47C4-9E06-BF76A44C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E12D-8629-454B-B8ED-65E9B19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5A1-EB55-4A5A-BB00-486787E2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CD8C-E084-442E-A051-061D234B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A6038-8F1C-4E4A-AC54-DB9B2B55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F1E-CA1C-4EB1-986E-44A9D86A7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3FC4-3942-4D0D-8D6A-912AB05D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482D-AE4E-409F-AC59-E3C27FE4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582D2-39C2-4BE1-8C26-1A3FC2AF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F53B-995C-4F3B-93AA-CD673687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3A54-1493-4BB6-B01D-71614DD9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0427-5775-407B-92A5-004C7BD6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E351-8CD2-4E0D-9F01-4C3A879B5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1E9D-FA60-4FED-B716-74946D27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38F-EA80-40BE-8A7A-947D288E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894F-8F76-4BD6-A990-79ED6FDE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37E-C050-456B-A992-BA4F79D7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308D-8798-4723-9F4B-C4F1E519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A3C2-EF13-40FA-8003-39DC8392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CB2A-EEFC-4954-8913-DF2560C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412E-D6CF-491E-826E-B35658910C3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999CC-AC06-4A1F-9FD6-B83449C96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Automated Tools for Systems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BA5FB57A-80AB-478F-86DE-C2772B2300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65700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iagramming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representation of a system and component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is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for representing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cess flow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structur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truc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types of diagra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Flow Diagrams (DFD) (Figure 4-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Hierarchy Diagrams(Figure 4-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ity-Relationship Diagrams (Figure 4-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9D82A1B-5E13-4E85-A1C8-DA55A437B3A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Form and Report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162828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that support the creation of system forms and reports in order to prototype how systems will look and feel to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wo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e, modify and test prototypes of computer display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which data items to display or collect for each form or re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24F010BA-A103-4554-8A53-06F8C56D74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39640" y="3849840"/>
            <a:ext cx="77724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Analysis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768240" y="485784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tomatic checking for incomplete, inconsistent or incorrect specifications in diagrams, forms and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analyses vary depending on the organization’s development methodology and features of CAS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8080" y="155700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tegrated CASE (I-CA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gration of various CASE tools and their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CASE tools use common terminology, notations and methods for system development across all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I-CASE tools have a common user interf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systems development environment that provides numerous tools to create diagrams, forms and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nalysis, reporting and code generation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amlessly shares and integrates data across and between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s centralized database containing all diagrams, forms and report definitions, data structure, data definitions, process flow and log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lds complete information needed to create, modify and evolve a software system from project initiation and planning to code generation and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783F88E7-3679-4CF8-9BAC-6E690FD9F63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1280" y="1584000"/>
            <a:ext cx="77724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Primary Seg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Reposi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bines information about an organization’s business information and its 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tomated tools to manage and control access to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stored in corporate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programs used to manage busi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A4BF0FBC-B8A3-42F9-B75F-A94C0241FA5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4000" y="1557360"/>
            <a:ext cx="813564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ta Diction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software tool used to manage and control access to the information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ains all data definitions for all organizational app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oss referenc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s one description of a data item to be stored and accessed by all individu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ngle definition for a data item is established and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ries have a standard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name and ali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ual description of the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 of related el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lement type and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nge of acceptable val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information unique to the proper processing of this el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BB64423-5DDB-4CAF-BC8D-0DA68C28055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Reposi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55280" y="1557360"/>
            <a:ext cx="7783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Repository and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project initiation and planning phase, all information related to the problem being solved is stored in the reposi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blem domain, project resources, history and organizational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ing analysis and design phases, store graphical diagrams and prototype forms and repo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stored in repository are used for basis to generate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Adva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stance with project managem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ids in software reus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ability to design software modules in a manner so that they can be used again and again in different systems without significant modif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4E5AB51-B87F-4176-B277-8E25EAFFC8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Documentation Generator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4360" y="1557000"/>
            <a:ext cx="7772400" cy="14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the easy production of both technical and user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ow creation of master templates used to verify that documentation conforms to all stag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D64F117-1178-4081-96FD-C74495B256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609480" y="3430440"/>
            <a:ext cx="777240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ASE Code Generation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762120" y="4473720"/>
            <a:ext cx="777240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the automatic generation of program and database definition code directly from the design documents, diagrams, forms and reports stored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1700280"/>
            <a:ext cx="777240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-Oriented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chunk of program and data that is built to perform common functions within a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ily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ba221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a2212"/>
                </a:solidFill>
                <a:latin typeface="Calibri"/>
              </a:rPr>
              <a:t>Encapsul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cess of grouping data and instructions toge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environment includes pre-defined objects and facilitates reuse of c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CA1579CD-8A85-435E-9FE1-C1388692C5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6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ual and Emerging Development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8080" y="1904760"/>
            <a:ext cx="7772400" cy="27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isual Development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able developers to quickly cre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r interfa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pular tools includ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crosoft Visual Stu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ph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buil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Fu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E80B14F3-81FE-40DD-BCF4-30D3CB2B78D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280" y="15573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ck of consistency in technique and methodology made development of systems difficult – error-ridden, over budget, l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oal –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develop common techniques, standard methodologies, automated too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uter-Aided Software Engineering (CAS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d software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used b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ystems analys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develop 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to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uppor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utomat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ctivities throughout the systems development life cycle (SDL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oductiv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overall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9923BD62-0E72-47CA-8FBA-53F03983463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Use of CASE in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4000" y="1557360"/>
            <a:ext cx="813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pose of CASE is to facilitate a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ingle design philosoph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an organization with many projects, systems, peo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runs on varie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n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fra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stems, recent advances mad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dominant CASE workst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of C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of systems develop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 speed of development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se and improve testing process through automated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integration of development activities via common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quality and completeness of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lp standardize the 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 project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mplify program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e reusability of modules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16410C01-F788-44A6-BDB3-1D6270CB091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and System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5564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jority of organizations adopt CASE to 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pee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ual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system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despread deployment has bee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lower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an exp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factors that inhibit widespread deplo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ween $5,000 and $15,000 per year to provide CASE tools to one systems analy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urn on Invest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ggest benefits of CASE come in late stages of SDLC – testing, implementation and mainten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ng duration for early stages – planning, analysis, design – leads to frustration by managers and us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vity Bottlenec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ability of some tools to share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fficulty in providing tools for all stages of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766E455-4E2A-49B5-998B-453090C03D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e Outlook for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5640" y="1546200"/>
            <a:ext cx="77724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ity is in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 is decrea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ose CASE technology earlier in education and care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verse 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reating design specifications for a system or program module from program code and data de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 program source code as input and create graphical and textual representations of program design-level information such as program control structures, data structures, logical flow, and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enginee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milar to reverse engineering but includes analysis fea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d tools that reads program source code as input, perform an analysis of the program’s data and logic, and automatically or interactively alters an existing system to improve quality and/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3ED11B54-F74D-4EA9-880B-04FC5B73C1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557000"/>
            <a:ext cx="820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pp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itiation and plan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aly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wer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intenan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oss life-cycle C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 tools designed to support activities that occur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ltiple phases of the systems development life cyc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st CASE tools utilize a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ore all diagrams, forms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els and report defini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4284D1B-D9E0-4E1B-8F9F-A4F6C9AAED9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ponents of C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280" y="1593360"/>
            <a:ext cx="799308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s of CASE to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ramming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display and report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tools used to check for incomplete, inconsistent or incorrect specif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central reposi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e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tools also provi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urity Fea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sion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ort/Ex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ckup and Recove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5667D384-B264-4B1A-91A8-DE4FB2F1352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does not offer support for integration of specification docu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ten, documentation is done after coding is completed in traditional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itional approach often leads to out- of-date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FA2EA4CB-4A67-4C82-A384-DBC15612DE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SE versus Traditional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al Systems Develop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coding and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per-based   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coding of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nual documen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ve software tes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code and docu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00360" y="1844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SE-Based Systems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mphasis on analysis and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pid interactive prototy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code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ocumentation gene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omated design check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ain design specific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</a:t>
            </a:r>
            <a:fld id="{41ABF3AD-AC4A-4B7A-9805-3F99F598981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dcterms:modified xsi:type="dcterms:W3CDTF">2012-09-28T11:45:27Z</dcterms:modified>
  <cp:revision>104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