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F3DA3-067E-471F-8C54-3FE79C10281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BC25D-BCC2-4EFD-A925-382430EEDD5A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9A0C3-8D8D-48CA-A825-5BDCDFB404E3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98A40-7446-4D93-8F0A-F2E6BFBF7F96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10B37-4EB9-4A32-87DD-1368DF6D61E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87283-62C7-4218-ADDF-8784BC09C08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0B8BE-9A30-42AE-9C12-7268775C850B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D6D50-2E08-4257-B9D8-2C21E3EBA67C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69825-A83E-4C50-9A3F-4198BC7934F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A20EA-0C3B-4769-9A15-EB6FBF9B23C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DB820-5650-4168-8B8E-00156DC4225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409CD-2C0D-429E-BF95-B7FFECDC36E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83DB8-453D-4604-BB2B-80CA5392CA01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F104C-9F77-41E1-BF8D-64E7874297CC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6EBE1-A9E9-490A-8503-C37DC8274747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F3B02-F149-4063-B33C-688C7069AD1E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2A1F3-FC2A-4397-8501-03A17709064C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43DB6-DB42-4A2D-B594-F9A45389D95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79C3E-0897-408F-B111-C7C25728687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43E1-65CA-41E3-AB63-A642A9AF4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C3CE-D5CC-46E1-BD65-1D0FE5FC4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7B29-A69A-44D6-9B2C-85CB72425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E051-4827-4C69-8ED3-E0C47560C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72A6E-B2AC-4F62-8D6C-A03680D6E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2D22D-36CB-4435-999F-03DDBB431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D1D26-7821-409B-94D4-405006377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4539E-C41B-4244-879B-98869C962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6B8BD-06CD-4289-B228-E06AB598B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35AB8-0E49-46C9-891C-3E2EA8BED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BF770-53AA-48A7-B31C-D49EEEC5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7A2A-718D-451C-B710-60F122DAE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DD457-2598-4A11-B372-799266441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6DD1A-4D58-4668-82CE-4DA4E52F2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C31A7-F95C-4BB6-A5FE-AB2428B96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72BC2-48E2-4503-8C95-CB8FD3150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14C34-14D0-4453-BFDE-2F1BB1B81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8832-F97D-4C31-BD15-D32DE449C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3CFA-E387-4139-88BD-458D7305A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0604-5006-4BCD-BDD0-76A8277E9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B28E-7657-474A-9BBE-AF7B62F41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4E73-AE6A-4F34-A6E7-288005F3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BDAF-04BD-405B-A085-B1822450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9EAB-C9C0-453D-B8A6-CC2C4F2C6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ACE1A-5100-4322-80DE-7951B250037E}" type="slidenum">
              <a:rPr b="0" lang="ar-SA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33044-1445-483B-8AFC-4E54F8F7DC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dern Systems Analysi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nd Design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ird Edition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066320" y="32767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Chapter 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Automated Tools for Systems Develop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12B72E68-2DAD-4537-87AC-0BDE66DE798E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65700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Diagramming T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 representation of a system and components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visual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ffective for representing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cess flow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ta structur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gram struct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ral types of diagra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Flow Diagrams (DFD) (Figure 4-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nctional Hierarchy Diagrams(Figure 4-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tity-Relationship Diagrams (Figure 4-6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6AF91E71-6B4A-441E-B305-3BFCE687AE1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514080"/>
            <a:ext cx="777240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Form and Report Generator T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1628280"/>
            <a:ext cx="777240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SE tools that support the creation of system forms and reports in order to prototype how systems will look and feel to us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wo Purpo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eate, modify and test prototypes of computer display forms and repo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dentify which data items to display or collect for each form or repo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D9BEBFAA-FF63-4A6A-971F-574508FEA011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539640" y="3849840"/>
            <a:ext cx="77724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CASE Analysis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768240" y="4857840"/>
            <a:ext cx="777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automatic checking for incomplete, inconsistent or incorrect specifications in diagrams, forms and repor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 of analyses vary depending on the organization’s development methodology and features of CASE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62064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Reposi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38080" y="155700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ntegrated CASE (I-CAS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gration of various CASE tools and their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-CASE tools use common terminology, notations and methods for system development across all too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I-CASE tools have a common user interf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utomated systems development environment that provides numerous tools to create diagrams, forms and repor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nalysis, reporting and code generation facil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amlessly shares and integrates data across and between too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positor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s centralized database containing all diagrams, forms and report definitions, data structure, data definitions, process flow and log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lds complete information needed to create, modify and evolve a software system from project initiation and planning to code generation and mainten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4D286E31-49C1-4019-B4AB-3A40D3CF606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62064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Reposi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11280" y="1584000"/>
            <a:ext cx="77724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Primary Seg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Information Reposit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Data Dictiona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nformation Reposito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bines information about an organization’s business information and its application portfoli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utomated tools to manage and control access to reposito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usiness Inform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stored in corporate databa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lication Portfoli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lication programs used to manage busin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1B9F7E84-2F0D-4FFD-A165-182BA7A74F4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54936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Reposi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4000" y="1557360"/>
            <a:ext cx="813564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ta Dictiona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uter software tool used to manage and control access to the information reposito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ains all data definitions for all organizational applic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oss referenc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s one description of a data item to be stored and accessed by all individua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ngle definition for a data item is established and us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tries have a standard defini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lement name and ali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xtual description of the el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st of related el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lement type and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ange of acceptable val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ther information unique to the proper processing of this el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40E3ED74-3460-4304-B94A-946E7D5266E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54936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Reposi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755280" y="1557360"/>
            <a:ext cx="77835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SE Repository and the SDL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ing project initiation and planning phase, all information related to the problem being solved is stored in the reposito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blem domain, project resources, history and organizational con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ing analysis and design phases, store graphical diagrams and prototype forms and repo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stored in repository are used for basis to generate code and documen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itional Advant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istance with project management tas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ids in software reusabi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ability to design software modules in a manner so that they can be used again and again in different systems without significant modific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9F07E4BD-F3A4-4424-9390-52A25B8374C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47592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Documentation Generator T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4360" y="1557000"/>
            <a:ext cx="7772400" cy="14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 the easy production of both technical and user docum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ow creation of master templates used to verify that documentation conforms to all stages of SDL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0D4C3298-3E9F-458F-AED5-DD39AAFBEA1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609480" y="3430440"/>
            <a:ext cx="777240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CASE Code Generation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762120" y="4473720"/>
            <a:ext cx="7772400" cy="14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the automatic generation of program and database definition code directly from the design documents, diagrams, forms and reports stored in the reposi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62064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isual and Emerging Development T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1700280"/>
            <a:ext cx="7772400" cy="32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bject-Oriented Development Too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chunk of program and data that is built to perform common functions within a sys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sily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eu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ba221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a2212"/>
                </a:solidFill>
                <a:latin typeface="Calibri"/>
              </a:rPr>
              <a:t>Encapsul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cess of grouping data and instructions toget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ment environment includes pre-defined objects and facilitates reuse of co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57C2A39B-5D25-4518-A070-1BB596789B10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404280"/>
            <a:ext cx="7772400" cy="6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isual and Emerging Development T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838080" y="1904760"/>
            <a:ext cx="7772400" cy="27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isual Development Too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 developers to quickly creat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user interfa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pular tools includ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crosoft Visual Studi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lph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werbuil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dFu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2EB9721D-318C-4903-9644-115FBB3482A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roductio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55280" y="1557360"/>
            <a:ext cx="8064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ck of consistency in technique and methodology made development of systems difficult – error-ridden, over budget, l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oal –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develop common techniques, standard methodologies, automated too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mputer-Aided Software Engineering (CAS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utomated software tool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used by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ystems analys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develop information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d to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uppor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utomat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ctivities throughout the systems development life cycle (SDL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reas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productivit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rove overall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qualit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f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5701E299-444B-412B-A98D-79C9F5B19732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47628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 Use of CASE in Organiz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4000" y="1557360"/>
            <a:ext cx="81356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urpose of CASE is to facilitate a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ingle design philosoph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within an organization with many projects, systems, peop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SE tools runs on variety of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ini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infram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systems, recent advances mad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redominant CASE worksta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bjectives of CA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rove quality of systems develop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rease speed of development and desig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se and improve testing process through automated check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rove integration of development activities via common methodolog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rove quality and completeness of documen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lp standardize the development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rove project 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mplify program mainten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mote reusability of modules and documen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8884A72E-831A-4AD0-9627-37A4FAAB3640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47628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and System Qua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755640" y="1557000"/>
            <a:ext cx="7920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jority of organizations adopt CASE to improv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pee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qualit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f systems development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idespread deployment has been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lowe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han expe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ral factors that inhibit widespread deploy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tween $5,000 and $15,000 per year to provide CASE tools to one systems analy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turn on Invest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iggest benefits of CASE come in late stages of SDLC – testing, implementation and mainten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ng duration for early stages – planning, analysis, design – leads to frustration by managers and us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ductivity Bottlenec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ability of some tools to share inform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fficulty in providing tools for all stages of SDL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715A4BD2-3A60-4AE3-B5A8-F7ABABC0CC8E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47628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 Outlook for C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55640" y="1546200"/>
            <a:ext cx="777240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nctionality is increa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st is decrea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pose CASE technology earlier in education and care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verse Enginee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ss of creating design specifications for a system or program module from program code and data defini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utomated tools that read program source code as input and create graphical and textual representations of program design-level information such as program control structures, data structures, logical flow, and data flo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enginee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milar to reverse engineering but includes analysis feat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utomated tools that reads program source code as input, perform an analysis of the program’s data and logic, and automatically or interactively alters an existing system to improve quality and/or perform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19DD78AE-C869-494A-9DA9-4DE2C82CCF3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47628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mponents of C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4360" y="155700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pper C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SE tools designed to support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formation plann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ject identification and selec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jec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itiation and plann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nalysi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sig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hases of the systems development life cyc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wer C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SE tools designed to support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mplementa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intenanc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hases of the systems development life cyc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ross life-cycle C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SE tools designed to support activities that occur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cros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ultiple phases of the systems development life cyc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st CASE tools utilize a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positor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tore all diagrams, forms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dels and report defini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41F0C03F-7B92-4617-B3EE-1794EDFF4FD9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mponents of C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755280" y="1593360"/>
            <a:ext cx="7993080" cy="49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ypes of CASE too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agramming too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uter display and report gen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alysis tools used to check for incomplete, inconsistent or incorrect specific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central reposito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cumentation gen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de gen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SE tools also provi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urity Featu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rsion Contr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ort/Expo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ckup and Recove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C2EF29B1-CC1E-4266-BDA2-218F7964040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versus Traditional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ditional approach does not offer support for integration of specification docu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ten, documentation is done after coding is completed in traditional systems develop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ditional approach often leads to out- of-date docum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FB252CA9-F97E-4A3A-A674-D9C6D29465C4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475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versus Traditional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aditional Systems Develop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mphasis on coding and tes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per-based    specific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nual coding of progra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nual documen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nsive software tes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intain code and documen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00360" y="18446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SE-Based Systems Develop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mphasis on analysis and desig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pid interactive prototyp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tomated code gene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tomated documentation gene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tomated design check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intain design specific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960F2706-5710-4690-9DC4-051EC1A3E54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00:26:26Z</dcterms:created>
  <dc:creator>John Russo</dc:creator>
  <dc:description/>
  <dc:language>en-US</dc:language>
  <cp:lastModifiedBy>Huda</cp:lastModifiedBy>
  <dcterms:modified xsi:type="dcterms:W3CDTF">2012-09-28T11:45:27Z</dcterms:modified>
  <cp:revision>104</cp:revision>
  <dc:subject/>
  <dc:title>Modern  Systems Analysis and Design  Joey F. George  Jeffrey A. Hoffer  Joseph S. Valaci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