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CC98-BC7C-4C22-B4DD-4765A9BF3E9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0517-95B0-4332-938A-5122D031158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8F92-775B-4A5F-897F-BD9F3F4D56A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878C-80B0-41DD-80AE-96219D8B55C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783F-D400-4773-8050-9AC4F6016B8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D11A-C6E7-4D03-9EEB-B8D59A7F97C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A974-5F57-4A79-ABD5-67B73D882B8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2A7F-8598-45F8-A23E-EFBC1798AC0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6B65-5130-4391-AEFC-01FD5B38B25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F3F5-279A-4F6E-A2C3-72DE71B7824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A34F-9BC6-47D8-8FE3-4AC872DB937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BB3D-A7CD-4068-8204-9D9B2FBC999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0266-2365-4222-958B-EFAA816DFDB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12EF-9FBC-430D-ACA5-1023308B913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260B-A6F6-4A1C-AC03-E9CB61F586C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E998-F861-4B4C-81C2-A59F606E964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03B7-F434-476B-A6E7-A12D1A963F4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27CA-854A-44FB-8CF7-5EBB7550E80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EEB1-9B82-4E09-879B-625143BB022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1F6C-4089-47FB-9E64-899ABCF86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F8C7-9AE8-4AFB-AB8D-2F9A0351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B19E-3775-47CB-9728-E5B67FD9C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43D9-D77F-4795-8133-D1A815B88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CBBB-4BC0-48B8-93F6-27F6C533F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1608-ECC5-4519-9B4C-BD9BD3A4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F965-9D3B-44B7-A988-D77641D0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EC1D-BE80-4513-B994-5D0474D9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AD48-CEA8-4BEC-A441-B489844B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35B3-7CFB-401B-98FF-A1B91D84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3166-FFE4-48AA-99F8-8702E31A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9BCC-431F-4300-BF58-92C016CF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6C84-1D0B-4A8D-89AA-608208D3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9486-92FF-4F25-852E-FEA48C06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AC11-3E96-4485-89D3-0B1F9A9C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C7AC-AF54-4B42-B8D6-E17138E5A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737D-1693-4FCE-9C2D-747BDA881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C27C-2B55-4208-B113-B446E212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640D-9E25-40DE-A2B8-BAE9400B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CC4F-F990-4A62-B8E4-85DA559F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436F-4FF1-4169-BA93-CA959571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53DC-DFE6-4228-979E-72BBCE13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9C73-AE0A-49B6-94DD-6CF227C9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A2DD-2180-4B74-A98D-DF186E04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0EF4-9892-4493-8653-1A4D5DC5B86A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CAAE-4376-4EDC-88A3-70B5D734FB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Automated Tools for Systems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1DD86807-882D-48A9-B65B-194E273DD9C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65700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Diagramming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representation of a system and component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isu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for representing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cess flow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ta structur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gram struc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ral types of diagr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Flow Diagrams (DFD) (Figure 4-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al Hierarchy Diagrams(Figure 4-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tity-Relationship Diagrams (Figure 4-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E9779303-FFFF-4759-B430-E602D3CEAB5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1408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Form and Report Generator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62828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that support the creation of system forms and reports in order to prototype how systems will look and feel to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wo Purpo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, modify and test prototypes of computer display forms and repo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dentify which data items to display or collect for each form or re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F30810F9-A995-4185-91A2-BEA08D64DFD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539640" y="3849840"/>
            <a:ext cx="7772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ASE Analysis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768240" y="485784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tomatic checking for incomplete, inconsistent or incorrect specifications in diagrams, forms and re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analyses vary depending on the organization’s development methodology and features of CAS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Repos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38080" y="1557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tegrated CASE (I-CAS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gration of various CASE tools and their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-CASE tools use common terminology, notations and methods for system development across all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I-CASE tools have a common user interf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d systems development environment that provides numerous tools to create diagrams, forms and rep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nalysis, reporting and code generation fac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amlessly shares and integrates data across and between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osito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centralized database containing all diagrams, forms and report definitions, data structure, data definitions, process flow and log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lds complete information needed to create, modify and evolve a software system from project initiation and planning to code generation and mainten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1FA9BF11-D829-466B-BA45-D79A2C09FD6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Repos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11280" y="1584000"/>
            <a:ext cx="77724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Primary Seg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formation Reposi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Data Diction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 Reposito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bines information about an organization’s business information and its application portfol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tomated tools to manage and control access to reposi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siness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stored in corporate datab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cation Portfol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cation programs used to manage busi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E64167F5-9592-43D4-8E6E-5BA3B059409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Repos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4000" y="1557360"/>
            <a:ext cx="81356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ta Diction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uter software tool used to manage and control access to the information reposi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s all data definitions for all organizational appl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oss referenc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s one description of a data item to be stored and accessed by all individu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ngle definition for a data item is established and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tries have a standard defin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ement name and ali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ual description of the e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st of related el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ement type and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nge of acceptable val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ther information unique to the proper processing of this e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F33697E7-1878-436D-A45C-DEBE712F2CA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Repos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55280" y="1557360"/>
            <a:ext cx="7783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Repository and the SDL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ing project initiation and planning phase, all information related to the problem being solved is stored in the reposit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blem domain, project resources, history and organizational con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ing analysis and design phases, store graphical diagrams and prototype forms and repo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stored in repository are used for basis to generate code and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itional Advant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istance with project management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ids in software reusa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bility to design software modules in a manner so that they can be used again and again in different systems without significant modif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4B2A5375-1376-4647-8B92-F80E4BC475C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Documentation Generator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360" y="1557000"/>
            <a:ext cx="77724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easy production of both technical and user 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ow creation of master templates used to verify that documentation conforms to all stages of SDL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326156F4-153B-4EBE-B26E-8423AA2DC59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609480" y="3430440"/>
            <a:ext cx="77724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ASE Code Generation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762120" y="4473720"/>
            <a:ext cx="777240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the automatic generation of program and database definition code directly from the design documents, diagrams, forms and reports stored in the repos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isual and Emerging Development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1700280"/>
            <a:ext cx="777240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-Oriented Development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chunk of program and data that is built to perform common functions within a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sily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u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ba221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a2212"/>
                </a:solidFill>
                <a:latin typeface="Calibri"/>
              </a:rPr>
              <a:t>Encapsul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cess of grouping data and instructions toge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environment includes pre-defined objects and facilitates reuse of c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4C47AB52-08D6-4CE2-861D-2FACC3786AB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7772400" cy="6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isual and Emerging Development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38080" y="1904760"/>
            <a:ext cx="7772400" cy="27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isual Development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developers to quickly creat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ser interfa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pular tools includ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crosoft Visual Stud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ph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buil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dFu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B1B62BF3-37C7-4B9A-94C9-EFFF574D607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roduc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55280" y="155736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ck of consistency in technique and methodology made development of systems difficult – error-ridden, over budget, l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oal 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develop common techniques, standard methodologies, automated too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puter-Aided Software Engineering (CAS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utomated software tool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used by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ystems analys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develop information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d to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uppor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utom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ctivities throughout the systems development life cycle (SDL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roductiv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overall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qual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A813C514-8F13-4746-8A98-E2E232CA094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Use of CASE in Organiz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4000" y="1557360"/>
            <a:ext cx="8135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rpose of CASE is to facilitate a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ingle design philosoph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ithin an organization with many projects, systems, peop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runs on variety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in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infram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ystems, recent advances mad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redominant CASE workst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ives of C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 quality of systems develop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 speed of development and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se and improve testing process through automated chec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 integration of development activities via common method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 quality and completeness of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lp standardize the develop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 project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mplify program mainten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mote reusability of modules and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49BF98C6-0988-4B1F-AA64-B3D2256117D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and System Qu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55640" y="1557000"/>
            <a:ext cx="792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jority of organizations adopt CASE to impro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pe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al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systems developm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despread deployment has bee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low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an exp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ral factors that inhibit widespread deploy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tween $5,000 and $15,000 per year to provide CASE tools to one systems analy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turn on Invest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ggest benefits of CASE come in late stages of SDLC – testing, implementation and mainten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 duration for early stages – planning, analysis, design – leads to frustration by managers and 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ductivity Bottlenec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ability of some tools to share 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fficulty in providing tools for all stages of SDL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D4BB18A1-0EDF-4338-82C8-A672E85D478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Outlook for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55640" y="1546200"/>
            <a:ext cx="77724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ality is increa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st is decrea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ose CASE technology earlier in education and care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verse Enginee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of creating design specifications for a system or program module from program code and data defin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d tools that read program source code as input and create graphical and textual representations of program design-level information such as program control structures, data structures, logical flow, and data fl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enginee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ilar to reverse engineering but includes analysis fea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d tools that reads program source code as input, perform an analysis of the program’s data and logic, and automatically or interactively alters an existing system to improve quality and/or perform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6536F0F3-7471-4462-B26C-FB9D83639AE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onents of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4360" y="155700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pper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designed to support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formation plan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itiation and plan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alys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sig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wer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designed to support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intena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ross life-cycle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designed to support activities that occur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cro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ultiple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st CASE tools utilize 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osito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ore all diagrams, form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els and report defini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1784B139-EBF9-49A0-804A-2B77D9005C4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onents of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55280" y="1593360"/>
            <a:ext cx="799308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es of CASE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agramming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uter display and report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alysis tools used to check for incomplete, inconsistent or incorrect specif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central reposi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umentation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de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tools also prov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urity Fea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rsion Contr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ort/Ex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ckup and Recov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D044865B-79DC-4FB6-AC6E-6171F56A872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versus Traditional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ditional approach does not offer support for integration of specification docu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ten, documentation is done after coding is completed in traditional systems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ditional approach often leads to out- of-date 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151F1E79-B299-4A5B-9DDC-8ECCDA7C551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versus Traditional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ditional Systems Develop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phasis on coding and tes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per-based    specific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ual coding of pro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ual documen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nsive software tes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tain code and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00360" y="1844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-Based Systems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phasis on analysis and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pid interactive prototyp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mated code gene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mated documentation gene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mated design chec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tain design specific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50AE955A-61AB-4630-B2A7-097302BDE18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Huda</cp:lastModifiedBy>
  <dcterms:modified xsi:type="dcterms:W3CDTF">2012-09-28T11:45:27Z</dcterms:modified>
  <cp:revision>104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