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487D-BD46-473B-89A2-A9D4EA0099B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09FF-C073-457F-ADEF-1291DEE64BF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686D-FFB9-4342-A668-B262DB42243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C81C-9976-4B49-BE45-9DBEBCBE69B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4DAB-2612-4FE6-9C1D-9D5B4207A49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83E4-B969-41F2-86F8-2447A61329D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64BD-E4A9-4A2B-AEB8-634029580B1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382B-1060-48E5-89C1-E45D38BD12C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F81C-00AA-451A-83B7-51F80A311BA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2C74-FCD3-4879-825A-9E10A678EB3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64EF-07CB-4F66-AECE-DC146A60D45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E80C-11E4-4790-B610-0A8AD69DCBE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26EE-D21B-4FF5-B470-C9D8F943A5E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99E6-9AD2-45C8-9538-C2D0D4939B5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4D47-E6E2-41F1-B100-44E4E160317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4253-C2A2-4FCC-A0F9-4F4E6DAFD0D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5A8A-A52E-49AA-8AB0-6F744B842ED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60A9-C772-4FDF-9226-D9FA6AFB1AC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178-813D-4926-B0B2-BE7C60C3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50AC-AEA1-434B-B61E-1DE39ECB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22A2-199B-4B7E-81D5-A7DE566C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7079-081A-4421-BEF9-7109829B2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52D2-D093-4F08-84BE-1D9C0450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85C9-C185-431F-B3F3-2ED0F732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126F-13F1-4F6F-95AC-77364BC2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D948-5440-4DD7-936D-CFDE70CA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3F8B-C261-45A9-82CB-F25969EF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DF37-3869-4373-ACF3-2D2FABA0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324A-22A8-443F-A07A-AAB68306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DA10-FB5C-4AA4-A667-F7D4D679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3355-7497-4C7A-95DC-7D36B7B0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2593-233F-47E8-9410-187FCA12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217E-9536-4FA0-B4AD-2D21D95F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5E18-A0C1-4B2C-8679-6E4C9097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36D3-2664-46B5-AB08-EB9A9443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AA20-BCEA-44D6-A259-725239BE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1057-F0D8-4E08-949C-345D134C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236A-A90D-49B7-AA63-12EE1AFB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77FF-FADB-42F7-89DE-39F9E9A8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4177-76CE-4C61-BA57-D2A944CB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E939-0FE8-4AEC-ADE2-794AB7C3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7D61-EFFE-4B83-A183-90B7D854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306D-2BB0-4CFA-BE23-6E87E14B9168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71BD-3025-4986-BE71-F6F7BD2522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Identifying and Selecting Systems Development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BFA3B0F7-9C02-4CBE-A255-71C53EDED04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ed for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perly planned projects result in systems that cannot be shared across an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business processes change, lack of integration will hamper strategy and business process 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rporate Strategic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developing and refining models of the current and future enterprise as well as a transitio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 results in several outco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ssion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etitive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E6C8509D-81A2-4D39-948C-17D49AB6E55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120" y="15235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rporate Strategic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ission Stat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atement that makes it clear what business a company is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bjective Stat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ries of statements that express an organization’s qualitative and quantitative goals for reaching a desired future 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s are critical success 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mpetitive Strate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ethod by which an organization attempts to achieve its mission and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F18F55B6-D92C-43E5-945C-51303167C38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 Systems Planning (IS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orderly means of assessing the information needs of an organization and defining the systems, databases and technologies that will best satisfy those nee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key activiti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cribe the Curren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cribe the Target (or Future)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a Transition Plan and Strate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900EF31C-6EA2-40EB-8EFB-E9479181037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p-down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ic methodology that attempts to gain a broad understanding of the information system needs of the entir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ottom-up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ic methodology that identifies and defines IS development projects based upon solving operational business problems or taking advantage of some business 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106D64BB-C54E-4DEE-A0DB-4728050E2F4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 (Continu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 team is chartered to model existing sit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ication of Organization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FA315EA5-2945-4063-8144-FA2FFA0E12F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9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 (Continu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trices are developed to cross-reference un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-to-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-to-Un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t-to-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Data Ent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-to-Data Ent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-to-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Entity-to-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on System-to-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F21714B7-ED48-44DC-989B-6F36D0985E5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. Describing the Targe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list of organizational locations, functions, etc. to reflect desired locations, function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trices are updated to reflect future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ers focus on differences between current lists and matrices and future lists and matr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3. Developing a Transition Strategy and Pl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ad, comprehensive document that looks at both short and long-term organizational development nee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sts of a series of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A6819CE3-139B-4F98-8176-59EED7AE136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ectronic Commerce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process for Internet projects is no different than other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 issues need to be taken into ac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Commerce (E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et based communication designed to support business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17108E2C-E4AD-4281-B8C8-EB8B148EB9E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et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ldwide network of networks used for electronic commer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ra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-based communication to support business activities within a single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tra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-based communication to support business-to-business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1029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33B982AE-1A4C-40F0-8D3A-2CAE4162725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et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ectronic Data Interchange (ED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use of telecommunications technologies to transfer business documents directly between organiz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net vs. Intranet/Extranet Ap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anet/Extranet – Developer knows how application will be run and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 – Developer faces various unknow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D8AF343E-7B09-4686-8CF3-B37BB6C556C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and 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urc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agement and business uni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for replacing or extending an existing system to gain needed information or to provide new service to custom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ag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ho want to make a system more efficient or less costly or to move to new operating 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mal planning group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identifies projects for improvement to help organization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ing potential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ifying and ranking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ing projects fo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EDE948E7-CE12-4B64-8272-05D7D202E40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Potential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44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s are identifi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p management – either CEO of small or medium-sized organization or senior executives of large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ering committee – composed of cross section of manag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departments – head or committee of requesting depar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group or senior IS staf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p-Down Iden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nior management or steering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is on broader needs of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tom-up Iden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 manager, Business unit or IS development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ed for a particular business need and don’t reflect overall goals of th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028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0192904D-7BA3-4812-80EB-FB77EF87D1D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609480" y="533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Identifying Potential Development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strategic focus, largest project size, longest project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functional focus, greater organizational change, formal cost-benefit analysis, larger and riskier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rrower non-strategic focus, faster development, fewer users and business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development delays, less concern on cost-benefi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assifying and Rank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12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assifying and Ranking IS Developm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assessing the relative merit of potential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performed by top managers, steering committee, business units, or IS development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iteria for assigning merit may vary and one or more than one criteria may be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alue chain analysis is often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hod to analyze an organization’s activities for making products and/or services to determine where value is added  and costs are incur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rst understand each activity, function, and process where value is or should be ad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xt determine the costs within each of these are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257EFF85-5BAD-46F0-AE2E-17B34A789F1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609480" y="685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lassifying and Ranking IS Development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335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Chai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activities add value and costs when developing products and/o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project is seen as helping the organization achieve its objectives and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project is seen as improving profits, customer service and duration of these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and type of resources the project requires and their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Size/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persons and length of time needed to complet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1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ual selection of projects for furthe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considering short and long-term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s most likely to achieve business objectives are se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very important and ongoing activity as business conditions change over time changing the importance of any single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requires consideration o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ived and real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tential and ongoing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organizational 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isting and available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aluation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269F678E-003A-4B66-AFD0-2D7A43190C3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Accep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Rej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oc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-Use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of of Conce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8B08105D-94BA-4750-9B40-05FEBD49D4C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and 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eliverables and Outcom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ry Deliv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edule of specific I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rance that careful consideration was given to project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ear understanding of project’s relation to organizational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cremental commi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rategy in systems analysis and design in which the project is reviewed after each phase and continuation of project is re justified in each of these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A86B2AB1-FD54-4C8F-A0C2-7F91FE58606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0:42Z</dcterms:modified>
  <cp:revision>88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