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A073-7A69-499D-B154-5E152F6F890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B08E-F2F2-4D8D-9C94-9A98BD7AEA0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1AC2-8A98-4CCB-A3AD-E04C6B4F4C6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4214-05FA-41FD-9304-EE97CC7C9E91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EA10-98EE-4517-B52D-05D0BC5B4E49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2676-8DA7-4BCE-8C3A-FEF3110E907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634A-8F10-481B-AEE6-3F86F009069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B8C3-1EED-4DF9-B5D1-5A8C54A66C54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449E-FFC8-4A54-92B0-0E675D0EF8C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C5E8-A260-4CDB-903E-96FB36CB2D36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0B089-4032-4623-BF24-55E166F637FF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B664-4C73-4CD5-A7F3-A8E83766116B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7653-C8E4-42D1-A64E-13893F2291C0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F278-7E05-4772-8E47-B990E468C27C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C424E-0174-4337-9942-6267AED58FFA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F2D9-9948-4628-89BF-DDCF5D9FDDC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6AB3-361B-4097-ABBB-31C203E0F0A2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3B85-610A-47AE-98FC-65A4508DE435}" type="slidenum">
              <a:rPr b="0" lang="ar-SA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1958-BF24-4F16-BFE2-696BFDAE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69D0-62EA-4ABF-AE62-C2126D2B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A5F8-3B7F-46E7-9067-A254B4615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60F7-30D4-4838-B56B-6EBEC923F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EB13-78E9-41BA-B877-C17099D7C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F0E8-BBA9-40CD-BF44-C2E99B09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2356-A55E-470D-8D48-46EA3010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C792A-7490-4756-91B0-A1F6141B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79308-D63A-4494-9C86-BB3C9BCD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CE1A-F062-4DF5-B4EE-0A75E75D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F3B59-E408-4920-9754-18B20008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9A48-8293-49D4-A914-D8F30349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7A81-0847-4D48-91BF-52C1B9A3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BD33-F9D7-487D-82D2-FBD1C227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DBE9-BFA1-4A36-8E75-DC45D64D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43F2-F18A-4687-9D37-396E5871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27A7-4C42-4FA1-92AF-51B7C8DA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67B-E2A9-467D-90FF-A90FA7E7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AE5B-97C6-47FE-9F8D-6C6F70FA8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5797-A6BE-4CB9-9343-1AB0B58C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83A-7D45-4E4F-8C29-222B2854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646-8CB2-4D9C-BC21-CC94B143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A55-80BB-4C56-8ECF-8C79790C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40E-9748-4788-9C05-4A62D648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0019-349D-42EB-AB6A-BDC5B7C537A4}" type="slidenum">
              <a:rPr b="0" lang="ar-S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FA71-2A39-423F-AC18-91ED802E93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dern Systems Analys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d Design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hird Edition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066320" y="327672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Chapter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8989"/>
                </a:solidFill>
                <a:latin typeface="Calibri"/>
              </a:rPr>
              <a:t>Identifying and Selecting Systems Development Proje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3B4F57DE-1C6A-4947-83A4-91B8B51E041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Need for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perly planned projects result in systems that cannot be shared across an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business processes change, lack of integration will hamper strategy and business process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developing and refining models of the current and future enterprise as well as a transition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results in several outcom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8C7C21EA-2717-4355-BE49-8FBA5D8423A8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09120" y="15235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rporate Strategic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ission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atement that makes it clear what business a company is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bjective Stat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eries of statements that express an organization’s qualitative and quantitative goals for reaching a desired future pos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bjectives are critical success f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petitive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method by which an organization attempts to achieve its mission and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4C999EFE-8A8C-41CE-B4EB-BD68E9002CC3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formation Systems Planning (ISP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 orderly means of assessing the information needs of an organization and defining the systems, databases and technologies that will best satisfy those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e key activiti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scribe the Target (or Future)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 a Transition Plan and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F069E25C-FAB2-48A3-B0C4-F9F375BD1FF2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op-down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attempts to gain a broad understanding of the information system needs of the entir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ttom-up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eneric methodology that identifies and defines IS development projects based upon solving operational business problems or taking advantage of some business opport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6C9E7940-5B20-41F9-89DD-43AA2D405B2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ing team is chartered to model existing situ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ication of Organizational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913C72FD-93B1-4B7A-9394-FE3FB619A1E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1. Describing the Current Situation (Continued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trices are developed to cross-reference un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tion-to-Un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it-to-Fun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Proc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Data Ent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Entity-to-Information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ation System-to-Objec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BEA16B13-4E2A-460C-A902-AB9DB742BF9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rporate and Information Systems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0948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formation Systems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2. Describing the Target Situ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list of organizational locations, functions, etc. to reflect desired locations, function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trices are updated to reflect future st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nners focus on differences between current lists and matrices and future lists and matr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. Developing a Transition Strategy and Pla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oad, comprehensive document that looks at both short and long-term organizational development nee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ists of a series of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3CF731C9-AED9-45B6-A853-2FC23944CDE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lectronic Commerce App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process for Internet projects is no different than other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issues need to be taken into accou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ctronic Commerce (E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et based communication designed to support business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2703CF1F-A965-4666-821E-C4356C39C8BB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ldwide network of networks used for electronic commer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 activities within a single org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tra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-based communication to support business-to-business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029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13D64B88-71E0-428E-946E-46C3802DC66F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ternet Develo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nic Data Interchange (ED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use of telecommunications technologies to transfer business documents directly between organiz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net vs. Intranet/Extranet Ap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anet/Extranet – Developer knows how application will be run and us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rnet – Developer faces various unknow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179A18AE-A71D-4D50-9DC2-001355F4141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808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ourc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ment and business uni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for replacing or extending an existing system to gain needed information or to provide new service to custo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ag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ho want to make a system more efficient or less costly or to move to new operating 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ormal planning group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– identifies projects for improvement to help organization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ject Identification and Sel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nsists of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ifying and ranking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lecting projects fo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34E3856E-57F2-402D-96B9-A812276B4517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440" y="16765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jects are identifi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p management – either CEO of small or medium-sized organization or senior executives of large organiz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eering committee – composed of cross section of manag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r departments – head or committee of requesting depart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group or senior IS staf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p-Down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 management or steering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 is on broader needs of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ottom-up Ident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unctional manager, Business unit or IS development gro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signed for a particular business need and don’t reflect overall goals of the 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28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E357D9D5-6556-406C-A8C2-20EF24F9D6D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609480" y="5335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Identifying Potential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ater strategic focus, largest project size, longest project 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functional focus, greater organizational change, formal cost-benefit analysis, larger and riskier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ower non-strategic focus, faster development, fewer users and business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er development delays, less concern on cost-benefit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0912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assifying and Rank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assessing the relative merit of potential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 be performed by top managers, steering committee, business units, or IS development grou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iteria for assigning merit may vary and one or more than one criteria may be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ue chain analysis is often u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thod to analyze an organization’s activities for making products and/or services to determine where value is added  and costs are incur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rst understand each activity, function, and process where value is or should be add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xt determine the costs within each of these are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37312248-BEE2-4CEB-8294-DF74258514DD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60948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Arial"/>
              </a:rPr>
              <a:t>Classifying and Ranking IS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335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Chai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activities add value and costs when developing products and/o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c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helping the organization achieve its objectives and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t to which project is seen as improving profits, customer service and duration of thes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 and type of resources the project requires and their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317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Size/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persons and length of time needed to complete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120" y="15998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ual selection of projects for furth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cess of considering short and long-term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s most likely to achieve business objectives are selec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s very important and ongoing activity as business conditions change over time changing the importance of any single pro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requires consideration of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ceived and real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tential and ongoing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rrent organizational environ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isting and available resour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valuation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F93D4845-CE76-49D5-BFF4-B1102129BB40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Accept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Rej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la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foc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d-User Develop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of of Conce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40E72E8B-A025-441F-9219-6D38F04F1C15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dentifying and Selecting IS Development Pro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eliverables and Outcom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mary Deliver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edule of specific IS development pro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urance that careful consideration was given to project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ear understanding of project’s relation to organizational objec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cremental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trategy in systems analysis and design in which the project is reviewed after each phase and continuation of project is re justified in each of these revie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28600" y="6172200"/>
            <a:ext cx="609480" cy="580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</a:t>
            </a:r>
            <a:fld id="{11A2F307-F16B-487D-B342-4327066D774A}" type="slidenum">
              <a:rPr b="0" lang="ar-SA" sz="16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00:26:26Z</dcterms:created>
  <dc:creator>John Russo</dc:creator>
  <dc:description/>
  <dc:language>en-US</dc:language>
  <cp:lastModifiedBy>KSU</cp:lastModifiedBy>
  <dcterms:modified xsi:type="dcterms:W3CDTF">2010-02-28T10:00:42Z</dcterms:modified>
  <cp:revision>88</cp:revision>
  <dc:subject/>
  <dc:title>Modern  Systems Analysis and Design  Joey F. George  Jeffrey A. Hoffer  Joseph S. Valaci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