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F388-A393-4466-AF32-6B7D78EAFFC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F231-60EC-4172-AF48-76958BAEAC3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9FAE-8EDD-406B-B55C-9565EFC76DA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6AF7-DD38-4D51-A8F2-A340A2E3850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D45C-5C05-4748-80B2-68AB93EA304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C0AF-AABC-4E98-8BF0-2F7DB5E7B4A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F26E-732A-425A-9B35-B022E313061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3A04-09F7-4DA1-9D09-498732D3D2E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B4D5-4471-4FAA-AB2E-6BF02C57481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EB1C-0B1C-464D-BAAF-68E8284B5D9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1FF4-4E3C-4844-9891-AB21C6DB382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503D-3855-420F-990E-5C400F7F4F7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AF49-F27D-4098-B773-3A10E4D0A6B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9936-066D-462C-B023-AD5FF068B91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6A04-C55B-45B4-A04D-6097B23DDD9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F852-A247-4150-98A3-4498900E68A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EA96-0B78-437D-A0D0-1A9D9B084C4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171B-68A6-459F-8279-01D751068D7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40B-FE93-441F-93B6-E7DCEFCC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490-5BF6-474D-8FF8-5D91A20E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8E23-1607-4CED-AEC1-9C830B7E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127-C073-4D60-BE50-B63A1462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E1BB-05E5-4AF8-AA2D-FDE1BFFD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C455-0088-4DE1-BF20-6FE68817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1E29-4DF0-4393-9610-8603ACC8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7793-8059-4157-8E0D-85532060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0DFE-B538-48AF-9F97-67696D5C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68F3-69E0-4B8B-9751-5AC2043A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FFBB-99A7-4A24-B053-61D090C8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7B0-7D78-4B39-A46D-5B3B060A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6058-1B1F-4787-BC72-84FAC778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ED45-E227-42CF-8AC2-230EF2DA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8176-3338-448A-B26D-7284002B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F87A-6BF4-4D20-B0E2-2858FCBF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5A82-6D65-478F-9DC6-51FB508D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1477-1877-4EC3-B95C-143AF2E2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99F-A240-4189-91CB-C4EB500F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586A-12B7-4739-B97D-3163AD10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206-9537-428B-A84F-70D9880B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A5E-EEBB-40E1-B14B-4204BC3A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13A3-B0E6-47B9-88FD-4B2DBAF3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AFF-7558-4B4F-893D-81ED68FE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046B-599D-4CDA-BC41-882FF3AE5F47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A89E-B9BE-4247-A16C-8EBC903DDF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dentifying and Select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EAF5F1CC-F3C6-4D3F-9CA1-F3521B44AE2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ed for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perly planned projects result in systems that cannot be shared across an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business processes change, lack of integration will hamper strategy and business process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eveloping and refining models of the current and future enterprise as well as a transi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results in several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24E16E50-119C-41EE-97D6-F6FB9643EF5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1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ment that makes it clear what business a company is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ries of statements that express an organization’s qualitative and quantitative goals for reaching a desired future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are critical success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thod by which an organization attempts to achieve its mission and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54EB6415-1DC3-4CF5-85D3-5BC645A34DA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Systems Planning (IS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rderly means of assessing the information needs of an organization and defining the systems, databases and technologies that will best satisfy those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key activiti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Target (or Future)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 Transition Plan and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F609E821-5FCF-401A-9D5D-24A5672029A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p-down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attempts to gain a broad understanding of the information system needs of the entir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ttom-up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identifies and defines IS development projects based upon solving operational business problems or taking advantage of some business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FA9FC84-53A4-4A80-99B3-3B1811A2046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team is chartered to model existing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ication of Organizat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2B5449AE-89E1-4C3C-BB03-BB89E425132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rices are developed to cross-reference un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Entity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7068AD7F-855A-4C3E-8135-7731F2CD570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. Describing the Targe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list of organizational locations, functions, etc. to reflect desired locations, function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rices are updated to reflect future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rs focus on differences between current lists and matrices and future lists and matr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. Developing a Transition Strategy and Pl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ad, comprehensive document that looks at both short and long-term organizational development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sts of a series of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9690DD11-F8B0-4EBF-B5C9-F9BA387B080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ic Commerc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process for Internet projects is no different than other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issues need to be taken into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Commerce (E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based communication designed to support business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4C7B51DE-F4DF-4545-943A-B939F843240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ldwide network of networks used for electronic commer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 activities within a singl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-to-business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029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9CCFDCB-FD71-423B-9FC5-D28700B901B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nic Data Interchange (ED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use of telecommunications technologies to transfer business documents directly between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 vs. Intranet/Extranet Ap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anet/Extranet – Developer knows how application will be run and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 – Developer faces various unknow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5F7FD608-B952-492A-8C64-95064A6EA32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ment and business uni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for replacing or extending an existing system to gain needed information or to provide new service to custo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o want to make a system more efficient or less costly or to move to new operating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planning grou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identifies projects for improvement to help organization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ifying and ranking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ng projects fo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7D971CC0-9F61-4EEF-AF3D-0E089924DFD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are identifi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p management – either CEO of small or medium-sized organization or senior executives of large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ering committee – composed of cross section of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departments – head or committee of requesting depar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 or senior IS sta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-Down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 management or steering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is on broader need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-up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manager, Business unit or IS develop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ed for a particular business need and don’t reflect overall goals of th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FCDE1792-2A60-46A8-BBAB-01AF87F9C79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60948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strategic focus, largest project size, longest project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functional focus, greater organizational change, formal cost-benefit analysis, larger and riskie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ower non-strategic focus, faster development, fewer users and business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development delays, less concern on cost-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assessing the relative merit of potential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performed by top managers, steering committee, business units, or IS development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iteria for assigning merit may vary and one or more than one criteria may be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ue chain analysis is often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od to analyze an organization’s activities for making products and/or services to determine where value is added  and costs are incur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st understand each activity, function, and process where value is or should be ad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xt determine the costs within each of these are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A16DC8F-6B29-4B7D-B4CB-02F29AE6B2B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0948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335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Ch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activities add value and costs when developing products and/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helping the organization achieve its objectives and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improving profits, customer service and duration of thes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and type of resources the project requires and their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ize/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ersons and length of time needed to complet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1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ual selection of projects for furth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onsidering short and long-term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s most likely to achieve business objectives are se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very important and ongoing activity as business conditions change over time changing the importance of any singl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requires consideration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ived and real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tential and ongoing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organizational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isting and available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04D2781C-A2AF-4279-8BE4-AD427AA9EDA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Accep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ej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c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-Us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of of Conce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58D77E11-14EB-4937-89EB-BF747355919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 of specific I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ance that careful consideration was given to project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ear understanding of project’s relation to organizational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cremental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rategy in systems analysis and design in which the project is reviewed after each phase and continuation of project is re justified in each of these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26404F88-2BC0-45F7-B456-57472F36D62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42Z</dcterms:modified>
  <cp:revision>8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