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896CC-528F-482F-913A-8209D7AA2CB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8EB8-10D2-4E0B-BF6E-D7773A74764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D34A-D338-41E6-91B0-C94D6DDF3C1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5CF6-24F2-4CF5-8AFE-882599FD99A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38FF-2ED5-4DE3-8BBE-3F5B237FC8C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3AE6-142F-408D-89F0-01CC1C338D0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19B6-1F21-4597-910D-DF3CE9007B1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4830-2F62-422B-89B5-A7268E38041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6D1A-2457-4E09-AC92-B50E798ECAC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0DE4-7E14-4B24-9322-B2151FB5428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FB29-290C-4093-9334-D9D29363AF2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02AF-401A-4D89-A16B-EBF88B4B6E8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B4B6-CFB9-4439-B8D0-86B35AD5FB1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9639-301E-4355-A4EF-F4E16174491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74068-84D4-4E80-ABD8-3809DC0214F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1C46-08D7-4306-8EDE-8AF5CEB0DA2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7199-020D-4CC0-AF3B-E3EBE39FDC5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1454-3B54-4E1E-9474-4C404BD6B89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FE6F-5129-4EE6-90E6-CC8A451E0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8EA-823E-44C0-B7C2-FD4F0FF1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A27B-BDDE-4939-9E37-C9FDB905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1D6A-5C36-44DF-A027-070FE0C1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175F-5724-4C32-812E-E20ABE902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876D-3EBE-4C40-8F26-DBDCF056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2840-9F2F-4ADF-9CDD-06785C4C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57AF-3F34-443E-96F9-984704B5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CC55-F700-4984-9564-EFB4B9D0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A930-6EAB-49F2-ABDC-90CE3D3D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597A-7FDA-4F6D-AC2D-8CEA1B42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EA6B-9CB6-4B4D-A4E6-5A913198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AD3A-44FC-4F4B-B030-0E5AB615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E975-9DD1-40C7-B5E0-59D272C4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92B5-965C-4A1E-BA21-15B7B195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C585-E285-44CA-9D2C-0D21A5109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5730-D392-4DD3-A2E1-D65E139FF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FE20-ADEA-491E-B7B1-A5B377A8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EF4-E429-4856-9D59-3DF17FD5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977-088C-48E3-9096-7961D95D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DBF2-2BDF-4558-9A79-83C82E2C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C8D-2BF6-47FE-AF9F-CE9704A0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075B-3449-4A80-8848-671922EC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2D16-2B61-42E1-B8A2-E94E5F61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860F-9BB8-4ECA-B620-AA2F1BD074F9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C480-2F27-4D3B-B128-BADFF3128E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Identifying and Selecting Systems Developm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B70E70B4-B8A3-44C2-9338-4802B44F2ED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ed for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perly planned projects result in systems that cannot be shared across an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business processes change, lack of integration will hamper strategy and business process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eveloping and refining models of the current and future enterprise as well as a transi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results in several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AAE31640-0FA4-4048-B7FE-5182FEAC70E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120" y="15235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atement that makes it clear what business a company is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ries of statements that express an organization’s qualitative and quantitative goals for reaching a desired future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are critical success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ethod by which an organization attempts to achieve its mission and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5CC16F4E-1ED7-4CD0-A50A-4A81A27F3E5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Systems Planning (IS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orderly means of assessing the information needs of an organization and defining the systems, databases and technologies that will best satisfy those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key activiti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Target (or Future)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 Transition Plan and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858CCCD5-8AD5-4346-A298-0C7D72513CE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p-down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attempts to gain a broad understanding of the information system needs of the entir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ottom-up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identifies and defines IS development projects based upon solving operational business problems or taking advantage of some business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6904021F-020D-49D0-B29A-15F6768085A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team is chartered to model existing sit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ication of Organizat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308B10A4-E02E-4C39-AA87-2E429C06891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trices are developed to cross-reference un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Entity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F016F6EF-B0A1-4954-94BB-46E7F62C6C8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. Describing the Targe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list of organizational locations, functions, etc. to reflect desired locations, function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rices are updated to reflect future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rs focus on differences between current lists and matrices and future lists and matr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. Developing a Transition Strategy and Pl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ad, comprehensive document that looks at both short and long-term organizational development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sts of a series of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F9AF3DF8-EC67-4147-8D44-FFD2F9D8919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ctronic Commerce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process for Internet projects is no different than other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issues need to be taken into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Commerce (E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et based communication designed to support business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5D0E4541-8AE1-46F1-B52F-A9E70711888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ldwide network of networks used for electronic commer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 activities within a singl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-to-business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029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20463222-7C05-4D5E-B3A0-C318646D4B2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nic Data Interchange (ED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use of telecommunications technologies to transfer business documents directly between organiz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 vs. Intranet/Extranet Ap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anet/Extranet – Developer knows how application will be run and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 – Developer faces various unknow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9D708D6E-B71C-4523-ACC8-B57F2D5BE5E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ment and business uni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for replacing or extending an existing system to gain needed information or to provide new service to custo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ho want to make a system more efficient or less costly or to move to new operating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mal planning grou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identifies projects for improvement to help organization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ifying and ranking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ing projects fo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B09308BB-F328-4BFD-9E33-0DB7945A16E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are identifi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p management – either CEO of small or medium-sized organization or senior executives of large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ering committee – composed of cross section of manag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departments – head or committee of requesting depar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group or senior IS sta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-Down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ior management or steering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is on broader needs of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tom-up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manager, Business unit or IS development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ed for a particular business need and don’t reflect overall goals of th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28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492069D9-E29E-419A-8200-B6B8FB42861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60948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strategic focus, largest project size, longest project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functional focus, greater organizational change, formal cost-benefit analysis, larger and riskier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rower non-strategic focus, faster development, fewer users and business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development delays, less concern on cost-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12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assessing the relative merit of potential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performed by top managers, steering committee, business units, or IS development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iteria for assigning merit may vary and one or more than one criteria may be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ue chain analysis is often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od to analyze an organization’s activities for making products and/or services to determine where value is added  and costs are incur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rst understand each activity, function, and process where value is or should be ad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xt determine the costs within each of these are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B8F45EC2-B733-43E4-A6FD-F6A3669353D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0948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335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Ch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activities add value and costs when developing products and/o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helping the organization achieve its objectives and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improving profits, customer service and duration of thes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and type of resources the project requires and their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Size/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ersons and length of time needed to complet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1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ual selection of projects for furth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onsidering short and long-term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s most likely to achieve business objectives are se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very important and ongoing activity as business conditions change over time changing the importance of any singl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requires consideration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ived and real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tential and ongoing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organizational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isting and available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289851BB-4990-40A4-867B-18C051AAA0E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Accep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Rej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c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-Us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of of Conce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ACE2E449-5FA9-4024-8561-F219EB11A52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 of specific I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ance that careful consideration was given to project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ear understanding of project’s relation to organizational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cremental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rategy in systems analysis and design in which the project is reviewed after each phase and continuation of project is re justified in each of these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F3645267-E82F-48A4-B683-9A4E40EBC14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0:42Z</dcterms:modified>
  <cp:revision>88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