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3EA32-A28A-4711-ACED-E7693C32FBB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A9B29-EA3D-4DBE-9B4D-C9FA9A0E5BD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51FFC-6BCC-4CFE-8EBA-C8AD9B97DAF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5B7F7-C0F3-44CB-AFE1-6216AF157CA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C5C68-F473-4563-89E9-3BC4D52BECE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510A0-112A-4A52-8CDC-E18467E1A07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FBB38-4D1E-4CBC-882A-EA204284FA6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88D9D-9B05-4594-8BD2-75F63FC1CD5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6CF11-7C82-45BE-8B04-A31C52E549F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60773-0218-48EA-BA4F-0BAA6C68A8F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A5657-A4F3-464F-A057-4E25686A892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089F3-B18E-482B-8174-C994A243801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9FF09-E880-474E-8561-EB22E774817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0CE00-14FE-4C73-BD40-E8F3A308EEA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F3D17-D7B4-4628-BB56-B02E7B44895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CE117-C4BC-4F4E-8099-1F0365248C5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8EFF7-1A9B-474B-8410-460D3EFB77A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73EB5-EAE5-4EF2-B49B-A2B4B62E7F0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21E9-9605-42EB-9C84-56B4B1512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34A6-5771-4312-8BAE-EE7901725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9BFD-D1F7-4AD1-9C6A-B47ECE6CE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70E8-9DB6-490E-802D-3AB80C330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15C9B-8EDF-4DA5-8BD0-1E430F7E8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9ABC0-B94C-4B1C-A82F-105E4C443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142E2-3EA6-4CF0-90EE-39168EC1F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DBC6D-4D0C-49D4-A4E3-EC0A96A88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2B988-5D0C-4244-9F9F-FB2259978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F800B-5096-44DE-ABF6-1E789380F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3AFD2-9EB2-465F-B937-95A4725F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6F89-9083-4A2F-84E5-01F9A23AD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BE203-2D54-4D33-AE46-EBBF0B88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8C8E3-48B1-478A-AA56-65C756E7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416A2-10AF-4ADB-9F4D-2ACD7C047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82220-C72B-4F92-AE27-3F7B9115B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AC881-924B-4B39-867C-DE6C0A843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03AF-E36D-438E-9534-6F45AFE1A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A8BE-A49F-4338-88C7-A1F3108CF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38E6-AF19-4135-8DF4-81E2CCFDE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35E8-2A86-4B4E-80D4-F1F578C05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E406-7E66-4EF4-90DF-B6731F18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FE1F-B9E7-4BEC-84A6-BD1EF9910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0DDC-306B-49CF-B979-E72E47A8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561A7-259C-4E7A-BACE-CFD896A1B7C8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FBD27-AC81-45C4-A906-DCC4AF940F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dern Systems Analysi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d Design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rd Edition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66320" y="32767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Chapter 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Identifying and Selecting Systems Development Projec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099FA0F7-A5B5-4B1F-B528-FB90870827A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rporate and Information Systems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0948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eed for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roperly planned projects result in systems that cannot be shared across an organ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 business processes change, lack of integration will hamper strategy and business process chan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rporate Strategic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 of developing and refining models of the current and future enterprise as well as a transition strate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nning results in several outcom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ssion Stat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jective Stat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etitive Strate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39932419-1A9B-4212-80FC-D282283E1BF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rporate and Information Systems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09120" y="15235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rporate Strategic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ission Stat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statement that makes it clear what business a company is 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Objective Stat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series of statements that express an organization’s qualitative and quantitative goals for reaching a desired future pos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jectives are critical success fa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ompetitive Strateg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method by which an organization attempts to achieve its mission and object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9DDDCE82-7890-4BC1-A691-3E8BB798419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rporate and Information Systems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nformation Systems Planning (ISP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orderly means of assessing the information needs of an organization and defining the systems, databases and technologies that will best satisfy those nee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ree key activitie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scribe the Current Situ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scribe the Target (or Future) Situ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velop a Transition Plan and Strateg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306CC7DD-F1C0-4EBF-B127-31FD2B1336F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rporate and Information Systems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formation Systems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1. Describing the Current Situ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op-down Plan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neric methodology that attempts to gain a broad understanding of the information system needs of the entire organ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ottom-up Plan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neric methodology that identifies and defines IS development projects based upon solving operational business problems or taking advantage of some business opportun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07320DFA-E08B-401A-BDDE-41EB0F98FEF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rporate and Information Systems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335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formation Systems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1. Describing the Current Situation (Continued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nning team is chartered to model existing situ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dentification of Organizational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n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rmation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F5EC60C4-0F84-48FE-9C7E-D6AB4CFA5E2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rporate and Information Systems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094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formation Systems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1. Describing the Current Situation (Continued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trices are developed to cross-reference uni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cation-to-Fun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cation-to-Un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it-to-Fun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nction-to-Objec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nction-to-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nction-to-Data Ent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-to-Data Ent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-to-Information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Entity-to-Information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rmation System-to-Objec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4BE2C27D-AA04-4053-B19B-799A9E220FA0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rporate and Information Systems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094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formation Systems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2. Describing the Target Situ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pdate list of organizational locations, functions, etc. to reflect desired locations, function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trices are updated to reflect future sta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nners focus on differences between current lists and matrices and future lists and matr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3. Developing a Transition Strategy and Pla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oad, comprehensive document that looks at both short and long-term organizational development nee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ists of a series of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33AB0CDF-27AF-4052-A8EA-C9CD62B29CD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lectronic Commerce Appli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ment process for Internet projects is no different than other proj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ecial issues need to be taken into accou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ectronic Commerce (E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net based communication designed to support business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2D7C9128-F825-42EF-BEAB-6386FF1138E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net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orldwide network of networks used for electronic commer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tra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rnet-based communication to support business activities within a single organiz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tra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rnet-based communication to support business-to-business activ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1029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B3866367-2896-4CA7-8CDA-E6B67632385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net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lectronic Data Interchange (ED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use of telecommunications technologies to transfer business documents directly between organiz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ternet vs. Intranet/Extranet Ap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ranet/Extranet – Developer knows how application will be run and us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rnet – Developer faces various unknow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2BCD2757-C994-4F0E-81EC-8B710CE82DE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dentifying and Selecting IS Development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83808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ourc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proj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nagement and business uni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for replacing or extending an existing system to gain needed information or to provide new service to custom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nager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who want to make a system more efficient or less costly or to move to new operating environ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ormal planning group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identifies projects for improvement to help organization object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Identification and Selec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nsists of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dentifying potential development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assifying and ranking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lecting projects for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683E9725-DFE6-4C34-82C1-6DED0CC02C7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dentifying Potential Development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440" y="16765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s are identified 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p management – either CEO of small or medium-sized organization or senior executives of large organiz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eering committee – composed of cross section of manag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r departments – head or committee of requesting depart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ment group or senior IS staf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p-Down Identif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nior management or steering committ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cus is on broader needs of organ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ttom-up Identif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nctional manager, Business unit or IS development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igned for a particular business need and don’t reflect overall goals of the organ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1028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26022BA5-5C96-4986-81C8-6602C41214C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609480" y="5335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Identifying Potential Development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er strategic focus, largest project size, longest project d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-functional focus, greater organizational change, formal cost-benefit analysis, larger and riskier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Depar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rrower non-strategic focus, faster development, fewer users and business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er development delays, less concern on cost-benefit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assifying and Ranking IS Development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09120" y="160020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assifying and Ranking IS Development Proj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cuses on assessing the relative merit of potential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n be performed by top managers, steering committee, business units, or IS development grou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iteria for assigning merit may vary and one or more than one criteria may be us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alue chain analysis is often u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thod to analyze an organization’s activities for making products and/or services to determine where value is added  and costs are incurr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rst understand each activity, function, and process where value is or should be add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xt determine the costs within each of these are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8082F7F3-C42A-45C9-B39D-7E219181F220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609480" y="6858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Classifying and Ranking IS Development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533520" y="1600200"/>
            <a:ext cx="86104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 Chain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t to which activities add value and costs when developing products and/or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c Al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t to which project is seen as helping the organization achieve its objectives and go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t to which project is seen as improving profits, customer service and duration of these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 Avai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ount and type of resources the project requires and their 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Size/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persons and length of time needed to complet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lecting IS Development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09120" y="159984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lecting IS Development Proj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tual selection of projects for further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 of considering short and long-term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s most likely to achieve business objectives are sele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s very important and ongoing activity as business conditions change over time changing the importance of any single pro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ision requires consideration of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ceived and real nee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tential and ongoing proje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rrent organizational environ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isting and available resour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valuation criter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671CB5C3-A170-4AA4-9389-F2EB49F8ACC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lecting IS Development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Outcom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Accept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Rej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la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foc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d-User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of of Conce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CFA95DB9-79B5-49AE-A414-AB7577FC4C2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dentifying and Selecting IS Development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16765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Deliverables and Outcom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mary Deliver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hedule of specific IS development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urance that careful consideration was given to project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ear understanding of project’s relation to organizational object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cremental commit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strategy in systems analysis and design in which the project is reviewed after each phase and continuation of project is re justified in each of these review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0EC68AE4-D1A8-4A09-8BCD-AABF7EB61CD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KSU</cp:lastModifiedBy>
  <dcterms:modified xsi:type="dcterms:W3CDTF">2010-02-28T10:00:42Z</dcterms:modified>
  <cp:revision>88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