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3F7D-1233-48CA-9027-27774066B1F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76EE-533A-4D5B-BE77-072152FF8A4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1896-1751-4B3D-82E3-65C5DFF0E60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CE353-1B03-4F08-B1D6-FDBCFDC23E3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118B-0CE5-4899-9232-34B489132B3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68F6-8247-42CA-B315-EA1FBEDDBFD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794A-08B2-4696-AEE0-94DB900BA88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F27F-8D94-47A3-8F98-EF80D7214D9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C53E-455B-445B-99E7-E34869B3F4B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26A8-1FBF-4C6C-BB04-74AD49FFFAC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7C4D-12B7-4074-B713-E8EB811ABD0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1F6DB-3B2D-4C29-81E8-16B6FD3EF09E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5BEF-606B-409F-9C15-EB6FC295046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5C05-A508-419B-A895-CC77C7F05F43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68D4-8F89-460D-886B-23E6881C58E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B423-5308-4BDE-B224-629A473792C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D171-EFF3-4A1F-9E06-AC4FCDFF4547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E661-6084-49D8-A501-8495CE63BFD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5E2-D9FC-4152-83AE-19667950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D2C-DF9F-4D1A-B9D4-E828F8C2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E6D3-575B-4A97-8187-ED6C7387A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B34E-5F4C-49BD-A0FC-78587975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FCD4-22EF-47B3-91C1-0A0A96A9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81D7-76F3-45A8-A9BB-3D19C832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B6BE-DC0C-42BE-B91A-A5D63547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A945-C086-4701-97A2-76FD559F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DB4B-A301-429D-9FA0-9C85B98D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E29D-2D76-40A8-B06C-EE386984E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056D-0E66-4745-B5B4-37649DE6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44D4-0B63-4D4A-90B4-1F3A13C41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FCFE-A687-4DA5-8C72-8DA5DB5C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BAEE-9E8A-41A4-9612-38DC76A3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4FD9-EA99-4283-ABDA-456390F6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C2F9-3E17-4568-BA2D-E46FC5F1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54DA-121F-48EA-AEF8-7810B7E0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053-A1FA-471D-A116-E8508D2A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1C2-43CB-462B-961F-9616B053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5C5-7885-48C5-83AA-F8B0BD30C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21D8-F5AD-4DF4-995D-C5EB0DB1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16F4-D0F5-4F08-AEAA-A70D9E6FB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C735-53EB-47B8-A083-5BAEE679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F5D4-CE65-4B8B-AB10-A3C2357C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C259-9986-4F22-9D5E-E6C3A84196BE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1A87-2F6F-4B14-939D-454D9A6845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dentifying and Select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A84AB72-EF6C-41AD-8F49-385BC09B940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ed for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perly planned projects result in systems that cannot be shared across an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business processes change, lack of integration will hamper strategy and business process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eveloping and refining models of the current and future enterprise as well as a transi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results in several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8DE458E1-3F18-4F7A-B8D7-961CAF4197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1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ment that makes it clear what business a company is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ries of statements that express an organization’s qualitative and quantitative goals for reaching a desired future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are critical success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by which an organization attempts to achieve its mission and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EBF57491-A696-42C8-AFE2-596A0039CF8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Systems Planning (IS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rderly means of assessing the information needs of an organization and defining the systems, databases and technologies that will best satisfy those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key activit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Target (or Future)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 Transition Plan and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C5557C83-C05C-4A8F-B65A-ADE7015395E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p-down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attempts to gain a broad understanding of the information system needs of the entir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ttom-up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identifies and defines IS development projects based upon solving operational business problems or taking advantage of some business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4C0C7E7-4A78-4D32-BD6A-BC0266C8317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team is chartered to model existing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ication of Organizat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3B3465AB-ADF9-414D-AC67-7777DE8F1FD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rices are developed to cross-reference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Entity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9CD579E-AF43-4351-94A3-5014F7E88DA9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Describing the Targe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list of organizational locations, functions, etc. to reflect desired locations, function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rices are updated to reflect future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rs focus on differences between current lists and matrices and future lists and matr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Developing a Transition Strategy and Pl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ad, comprehensive document that looks at both short and long-term organizational development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sts of a series of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068ABB87-9BE3-40BD-9D3C-ABFEA204C9E4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Commerc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process for Internet projects is no different than other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issues need to be taken into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Commerce (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based communication designed to support business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8931AC0D-1E25-441F-B04E-8F87334E04A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ldwide network of networks used for electronic commer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 activities within a singl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-to-business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29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3F7C0E9-D2C3-4039-874C-7C65E11E3C7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nic Data Interchange (ED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use of telecommunications technologies to transfer business documents directly between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 vs. Intranet/Extranet Ap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net/Extranet – Developer knows how application will be run and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 – Developer faces various unknow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FD516F5E-4256-4F3F-9B2F-EC4CFE4D1636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ment and business uni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for replacing or extending an existing system to gain needed information or to provide new service to custo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o want to make a system more efficient or less costly or to move to new operating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planning grou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identifies projects for improvement to help organization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fying and ranking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ng projects fo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72D67E50-83E5-46C2-B4F3-FA8AE7CA7B8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are identifi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p management – either CEO of small or medium-sized organization or senior executives of large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ering committee – composed of cross section of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departments – head or committee of requesting depar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 or senior IS sta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-Down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management or steering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is on broader need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-up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manager, Business unit or IS develop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ed for a particular business need and don’t reflect overall goals of th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6870442-DEA5-4142-A68C-C25DB34C2B1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60948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strategic focus, largest project size, longest projec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functional focus, greater organizational change, formal cost-benefit analysis, larger and riski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ower non-strategic focus, faster development, fewer users and business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development delays, less concern on cost-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assessing the relative merit of potential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performed by top managers, steering committee, business units, or IS development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teria for assigning merit may vary and one or more than one criteria may b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ue chain analysis is often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 to analyze an organization’s activities for making products and/or services to determine where value is added  and costs are incur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understand each activity, function, and process where value is or should be ad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xt determine the costs within each of these are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A8A2B386-5A99-4CCE-B14E-4BA54A59263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335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Ch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activities add value and costs when developing products and/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helping the organization achieve its objectives and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improving profits, customer service and duration of thes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and type of resources the project requires and their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ize/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ersons and length of time needed to complet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ual selection of projects for furth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onsidering short and long-term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s most likely to achieve business objectives are se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very important and ongoing activity as business conditions change over time changing the importance of any singl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requires consideration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ived and real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ential and ongoing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organizational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isting and available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37FFDC55-CF08-4417-A249-31ED75B73FC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Accep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ej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-Us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of of Con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0E74C4C-7B43-4E04-A2B4-8CC132E8761E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 of specific I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ance that careful consideration was given to project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r understanding of project’s relation to organizational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mental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rategy in systems analysis and design in which the project is reviewed after each phase and continuation of project is re justified in each of these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8E3363BA-1595-449F-AE30-07785EFA078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42Z</dcterms:modified>
  <cp:revision>8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