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1371-C944-4BD7-863A-41BA3FAE52B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3E07-AE3E-4B59-8A67-CC4FF2FBCDC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CDF4-796D-498F-B2C1-A484A7745FE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BD15-3870-41D4-AA04-29D92CEBFFE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41C9-A7E7-4ED4-94BE-F62FFB669D4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CCB0-9CAB-4FAC-8EB7-96D2232ACD0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5B95-8B32-4203-9DA2-B86F2C49EB3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4A78-30A3-4DF3-BF9F-D187AA6ADFE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B7FC-E094-44B9-823E-A86A275D985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A672-E4E3-44F8-BB7C-C68FFED8BC8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9201-495B-4184-A9FB-05586BF55F1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6082-715B-4B14-97D2-3ADF95E5B90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679A-CE57-4C62-9C1A-22563AE5DCB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8FE6-1A3B-48A8-BB10-6D687738ECD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848F-004F-4DCF-9317-7AEB32F4CE7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B648-9299-47D3-9247-32C85DC5B68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EF16-39B1-4AE0-9F1C-BC8ACF32B9D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0B59-6F90-41EA-BDBB-5C9AC8B53D4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E08-FAB0-4BCA-B43D-0AEDEB64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F914-BEFE-4163-8503-CC941116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EF4-BD48-48C4-8D1B-D61C1BB7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AE1-CB1D-47CD-B3F2-8F45AB18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F3D9-32BE-4C8F-BA40-FC44F870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0717-5B32-45E5-ABB2-C8CFB442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C238-903F-47AB-886F-13E0F0D5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4099-A1F4-4EDB-8B7A-1DD4CB7B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E756-272F-4858-8425-8656F598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1DC8-ADFC-46F5-AC31-12F9A5F6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CAD7-5089-4752-A927-18BEE874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EC9A-652D-491D-95C2-6491276D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9751-231E-4E25-8451-478ED459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E7B0-FEA0-4F24-9CF6-3B1F6297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D98F-8727-4E4F-8D97-2ED5BA79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6F7B-7F32-46E4-92A0-39AEB5E3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3BB1-12C4-4011-9A96-98E41B6A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15A-445C-4302-A9A8-171FC57A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DF4-EB55-43FD-BB3E-D42D2637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983-55A7-41C5-A66D-7AE1CACB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FB4-F512-41FC-AC70-CE67FE0D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215-598F-421E-8056-AD2EA484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11A-8832-4BE8-B671-CA2C907A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5C6-68B1-47B6-89ED-698B2FF9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9852-80EE-4F83-A56C-32DF24EE9BEF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684F-98EE-4C81-A15E-50138F96D4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dentifying and Select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A4EF6D82-EAA8-40D9-A1FF-E243B9DE279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ed for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perly planned projects result in systems that cannot be shared across an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business processes change, lack of integration will hamper strategy and business process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eveloping and refining models of the current and future enterprise as well as a transi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results in several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9E338C70-2D0E-4374-A4AB-FB056ECFC40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1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ment that makes it clear what business a company is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ries of statements that express an organization’s qualitative and quantitative goals for reaching a desired future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are critical success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by which an organization attempts to achieve its mission and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729CE754-6D9F-435A-B27F-51FF8AC8A26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Systems Planning (IS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rderly means of assessing the information needs of an organization and defining the systems, databases and technologies that will best satisfy those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key activit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Target (or Future)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 Transition Plan and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86AB4D07-A4C1-43B2-BDAE-DD8B8FEB749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p-down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attempts to gain a broad understanding of the information system needs of the entir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ttom-up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identifies and defines IS development projects based upon solving operational business problems or taking advantage of some business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69D9D8EF-0EC7-4F9A-80DC-197DC14DCFD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team is chartered to model existing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ication of Organizat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95997EF4-2801-4885-86F2-89C1111982A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rices are developed to cross-reference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Entity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5AA74C19-05C4-43C1-8A7C-F9FCEA7E2B5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Describing the Targe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list of organizational locations, functions, etc. to reflect desired locations, function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rices are updated to reflect future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rs focus on differences between current lists and matrices and future lists and matr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Developing a Transition Strategy and Pl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ad, comprehensive document that looks at both short and long-term organizational development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sts of a series of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791847DA-C660-416E-BC25-D6E698EC54F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Commerc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process for Internet projects is no different than other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issues need to be taken into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Commerce (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based communication designed to support business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9F37E5EA-7C11-422D-89CC-A998891CEEC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ldwide network of networks used for electronic commer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 activities within a singl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-to-business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29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BEEA4A2-2AB0-4D94-A546-36F5A7507E7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nic Data Interchange (ED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use of telecommunications technologies to transfer business documents directly between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 vs. Intranet/Extranet Ap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net/Extranet – Developer knows how application will be run and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 – Developer faces various unknow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CF12FB63-DDB4-4807-B66D-D5C7A0F1E2B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ment and business uni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for replacing or extending an existing system to gain needed information or to provide new service to custo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o want to make a system more efficient or less costly or to move to new operating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planning grou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identifies projects for improvement to help organization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fying and ranking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ng projects fo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C0EC53A5-8495-4470-85AB-1333196F08F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are identifi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p management – either CEO of small or medium-sized organization or senior executives of large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ering committee – composed of cross section of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departments – head or committee of requesting depar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 or senior IS sta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-Down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management or steering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is on broader need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-up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manager, Business unit or IS develop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ed for a particular business need and don’t reflect overall goals of th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984CD27B-FDA4-4236-A74E-16C6927939B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60948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strategic focus, largest project size, longest projec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functional focus, greater organizational change, formal cost-benefit analysis, larger and riski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ower non-strategic focus, faster development, fewer users and business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development delays, less concern on cost-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assessing the relative merit of potential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performed by top managers, steering committee, business units, or IS development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teria for assigning merit may vary and one or more than one criteria may b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ue chain analysis is often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 to analyze an organization’s activities for making products and/or services to determine where value is added  and costs are incur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understand each activity, function, and process where value is or should be ad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xt determine the costs within each of these are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F476F15-7C5C-4EF0-B662-29AF115A85E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335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Ch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activities add value and costs when developing products and/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helping the organization achieve its objectives and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improving profits, customer service and duration of thes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and type of resources the project requires and their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ize/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ersons and length of time needed to complet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ual selection of projects for furth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onsidering short and long-term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s most likely to achieve business objectives are se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very important and ongoing activity as business conditions change over time changing the importance of any singl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requires consideration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ived and real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ential and ongoing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organizational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isting and available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62AE17B5-2C68-48DF-B8E1-BB0DD680F01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Accep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ej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-Us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of of Con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D2E32C1C-10E9-4F0A-ACFE-A276551B4B1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 of specific I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ance that careful consideration was given to project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r understanding of project’s relation to organizational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mental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rategy in systems analysis and design in which the project is reviewed after each phase and continuation of project is re justified in each of these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55801C38-BF94-4E0B-9ED5-D2E709D885C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dcterms:modified xsi:type="dcterms:W3CDTF">2015-02-06T15:53:23Z</dcterms:modified>
  <cp:revision>8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