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B408-5783-4E02-B677-BDB81F5C7DE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4D6F-110E-46A7-A9A4-423631EA9CA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161F-34F1-4FCD-9E95-9D0DB9641C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2803-2435-4F68-8311-8E6D820F4A5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C4EA-8913-4BF0-9C9F-A6972FAC68E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D135-358F-419B-A7DA-F3B4D5FFD2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779A-E9A1-4442-A582-0033EA87451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E0B6-500A-42D5-AF79-8C638D2667D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605D-9214-4C1E-900F-327E52A4B2D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E3A6-7FCD-401E-87C6-5ED18A7C155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A260-E645-408E-8358-CE800DB1857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93FF-33D1-4F11-A36B-8BABAA9D6AD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AA8A-04B7-4F59-AD7E-46D5733A2D7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CF9B-288D-4CB5-AA92-708019E1B0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FE3D-1E73-4862-A2B2-8F71A2F1BFB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EFC-FB4D-4B69-BDC0-CC06ABEF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C2A-A9B9-4405-A95B-E7A47BC4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947-37EE-4BA3-BD59-EBA801FC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ECBE-FAF8-4492-B467-A7533360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83F3-5B33-4D70-B709-1F28D905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DC12-346E-4CE3-B185-D455B9EF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D922-2573-4C28-AF56-80921DE3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8F7E-E514-41CD-8932-DF215F51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2C83-98E2-49C3-9D90-5DE4FED8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FDB0-520C-4A7C-A864-9E65EAF3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614D-51F2-4F72-A639-C0C44C52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5A03-D745-4E4E-9972-ADE11A2B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7CB3-D8EA-4EE5-8580-66005275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0E712-BC67-4E76-82C0-D2BB17B3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64DD-949C-4433-95D8-A12A329D9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FE12-2933-4A30-A66C-0B015B60E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8BAE-1260-463A-8C1F-F8A73C45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6A7-E1EA-4EA9-B0B3-45D427B8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64A-D462-4EA2-BD5A-54368D78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7EE2-2BCF-4F66-B21C-25C87BA4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8F99-CD00-4396-A443-BA23C3A4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967-D0EE-47BB-A1F3-3DAC7284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1D70-D1BE-445B-938D-28B14668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657-4CD8-4FCE-95ED-53F9E9BA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02FF-1209-42CD-8B61-BBBCD260E0C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CEFF-5031-439E-B74E-854FC403E6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nitiating and Plann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50F7B891-3E83-4952-B731-5AE9DC6BD0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Other Project Feasi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280" y="1773000"/>
            <a:ext cx="78548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how a proposed system solves business problems or takes advantage of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e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ime frame and project completion dates with respect to organization constraints for affecting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al and Contractu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legal and contractual ramifications of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it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key stakeholders in organization’s view toward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67D880E3-180A-4143-98F3-568C5FFC1E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s that customer and development group have a complete understanding of the proposed system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onsoring organization with a clear idea of scope, benefits and duration of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F7270BC7-3A91-4E94-B809-1EEBECC3770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ef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mended course of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cop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aff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nside and outside the organization would b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on with other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of system cap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of possible alternativ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00A21DE-AEA2-4015-BE84-F35F98C60A2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1412640"/>
            <a:ext cx="77724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sts an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level project sche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concerns that management may have about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 conformity to organizational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arties agree to continue with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E13F8069-719E-424E-8E42-63EBE116767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viewing the Baseline Project Pl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1413000"/>
            <a:ext cx="7783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er group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Ora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Review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po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Action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res that review occurs during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B1C0C987-CC62-4FA3-8627-A9AA333540A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Workbook and Project Management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ng clear, discrete activities and the work needed to complete each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A8FD40D4-D194-47C4-A2C5-B6E6222582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line Project Plan (B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ment of Work (S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work needed to be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5668515E-8DD1-4E77-89B8-447E01B0306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Project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l and contr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ABA10B21-09D7-4127-B777-20C966F268D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– Benefi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reduction and avo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flex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speed of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d management planning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ing new markets and increasing sales 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A2B2344-97AB-4B0C-A43A-BEAEBFC629C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55700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itive neces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timely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organizational learning and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easily be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easily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customer goodw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647C872E-CECA-4583-8B81-AC8A072228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-Tim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project startup, initiation and develop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rdware and software purc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 prepa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r system conver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0A23BE2B-D8E3-4AF7-AB55-4349FCBA127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r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ongoing use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software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data storage exp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oftware and hardware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able supp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me value of mon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V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comparing present cash outlays to future expected retu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6FD4CF60-6C92-4EAC-82D9-E89EE6F20E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Technical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hn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he development organization’s ability to construct a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isk can be assessed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’s experience with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group’s experience with development projects and the application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0590718-4BEA-456A-A8DC-A8B6728CF7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33Z</dcterms:modified>
  <cp:revision>9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