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518112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2857320" y="514440"/>
            <a:ext cx="3429000" cy="2571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518112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ahom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57144-0B03-46C1-8025-8CAF84BED539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D6049-05AD-4A39-ADAE-69049E0DD190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09C60-9846-4A16-8814-FFC624C7B221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75499-AB38-4A00-B207-78D201A41041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F8361-DDB2-4847-ADF9-D96E4F0CA69E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7888C-B7FA-40FA-8931-944746807F57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F8F19-E944-4536-9034-C9472982093A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ED948-2EFA-47B8-B726-8A416A04CC56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A01AC-B62E-4113-9FE4-823FC86385C3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A5197-AB3E-4A0F-AD0F-B94F1FE7A77E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2047D-7ACE-4DBB-BE55-DFC2941AF53C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FD18E-C405-4BF1-B257-CA781F88D2BF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3BA12-929C-4392-BC66-81C49B45BB50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EBF37-BAA1-4498-871B-0D839E83B7D4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4D42C-E2EE-4E00-AE1F-45C6D498959E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03E64-4E02-4AE3-B49C-7252A73FC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8E6FD-FE67-48BC-8055-D30052835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25D53-30F8-4FE2-BABE-E4F59415A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27E7C-F5C3-4FA8-8D1C-0262614EB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73E75-06D7-4763-966C-385F5866C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8F22E-0355-4F8A-A531-2B3BA09DA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ABB77-04B6-445E-8995-78C158FC1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8D6EA-645E-4FAA-AFE7-3FCE13A7E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60CB2-24DD-451C-81E6-125DFFF46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1D05C-8242-41D2-B0F3-7AF705DF9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A988D-BA0D-426A-A644-4A40AC635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3A525-8052-4DD2-BD11-B646CCD3E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AC530-E51B-4D9A-B9A2-82CE93113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E3CDA-4B74-44D3-BCF0-52BA228CA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00310-EE89-4FBA-AE7E-AC6D82D60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991D2-956C-4FFF-9845-64138F15D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72FD7-F37F-4723-9A4A-0FDD4079D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C2A3D-BDCF-4CF6-82C4-2CC35CE6A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74BE1-AE92-4CE2-BF85-7ACC4CC2B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0692D-326C-45BD-A94F-048A4EF08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F09CD-0A61-4317-97CD-D56CC40E5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633C8-A72A-4733-BD44-F0D191A5E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B9FA1-EC10-4CD5-8544-99504E455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96B65-9A5E-4BFF-B981-8818F39C3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C6726-C727-4CFC-9AFB-C65D7ACAD29F}" type="slidenum">
              <a:rPr b="0" lang="ar-SA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C749F-19B4-43E6-90D0-F71B7CF4728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467480" cy="297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Modern Systems Analysi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and Design</a:t>
            </a:r>
            <a:br>
              <a:rPr sz="4400"/>
            </a:b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hird Edition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066320" y="327672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98989"/>
                </a:solidFill>
                <a:latin typeface="Calibri"/>
              </a:rPr>
              <a:t>Chapter 6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98989"/>
                </a:solidFill>
                <a:latin typeface="Calibri"/>
              </a:rPr>
              <a:t>Initiating and Planning Systems Development Projec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.</a:t>
            </a:r>
            <a:fld id="{C5F61929-5811-44A5-AEED-5AF2DBC0FEF7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480" y="404280"/>
            <a:ext cx="7772400" cy="9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ssessing Other Project Feasibility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755280" y="1773000"/>
            <a:ext cx="7854840" cy="476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perational Feasi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ssessment of how a proposed system solves business problems or takes advantage of opportunit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chedule Feasi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ssessment of time frame and project completion dates with respect to organization constraints for affecting chang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egal and Contractual Feasi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ssessment of legal and contractual ramifications of new syst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olitical Feasi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ssessment of key stakeholders in organization’s view toward proposed syst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.</a:t>
            </a:r>
            <a:fld id="{A8C24571-A34C-471C-8E80-3967778759B0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09480" y="620640"/>
            <a:ext cx="7772400" cy="5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Building the Baseline Project Pla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bjectiv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ssures that customer and development group have a complete understanding of the proposed system and requireme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vides sponsoring organization with a clear idea of scope, benefits and duration of projec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 Sec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troduc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ystem Descrip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easibility Assess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anagement Issu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.</a:t>
            </a:r>
            <a:fld id="{6812BC18-3BEE-4075-A471-043D2D320A1D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480" y="620640"/>
            <a:ext cx="7772400" cy="6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Building the Baseline Project Pla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755640" y="1557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troduc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ief overvie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commended course of ac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oject scope defin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its affect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o inside and outside the organization would be involv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raction with other system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ange of system capabiliti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2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ystem Descrip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utline of possible alternative solu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arrative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.</a:t>
            </a:r>
            <a:fld id="{0D3D8714-2418-4894-AC3F-BD6E89B1109B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480" y="549360"/>
            <a:ext cx="7772400" cy="68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Building the Baseline Project Pla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755640" y="1412640"/>
            <a:ext cx="7772400" cy="504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easibility Assess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ject costs and benefi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echnical difficult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igh-level project schedul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nagement Issu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utlines concerns that management may have about the projec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eam composi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mmunication pla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bjectiv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ssure conformity to organizational standard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ll parties agree to continue with projec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.</a:t>
            </a:r>
            <a:fld id="{12A3D623-3EB9-462F-A57D-9277ABCDE176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9480" y="475920"/>
            <a:ext cx="7772400" cy="7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Reviewing the Baseline Project Pla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755280" y="1413000"/>
            <a:ext cx="778356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alkthroug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eer group revie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articipan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ordinat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esent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s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creta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tandards Bear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intenance Orac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ctiviti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alkthrough Review For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dividuals poll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alkthrough Action Lis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dvantag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ures that review occurs during projec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.</a:t>
            </a:r>
            <a:fld id="{D676AF0A-4F56-4B52-A73B-9865DD584394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nitiating and Planning System Development Projec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755640" y="1762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roject Initi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stablishment of project tea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velopment of relationship with custom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ject Initiation Pla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stablishment of Management Procedur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stablishment of Project Workbook and Project Management Environ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roject Plann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fining clear, discrete activities and the work needed to complete each activit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.</a:t>
            </a:r>
            <a:fld id="{CACAA782-03D2-4CC5-ADFC-3129BEE53C9B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nitiating and Planning System Development Projec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82692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liverables and Outcom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Baseline Project Plan (BPP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cop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enefi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s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isk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ourc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Statement of Work (SOW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scribes deliverabl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utlines work needed to be perform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.</a:t>
            </a:r>
            <a:fld id="{972CE2D7-640E-4373-A7F7-C76E909800A4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480" y="475920"/>
            <a:ext cx="7772400" cy="7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ssessing Project Feasibil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 Categor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conomi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echnic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peration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egal and contractu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olitic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.</a:t>
            </a:r>
            <a:fld id="{645DAD04-4CF3-4178-8141-9E4B7F45F275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480" y="476280"/>
            <a:ext cx="7772400" cy="68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ssessing Economic Feasibil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83808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ost – Benefit Analysi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Determine Benefi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Tangible Benefi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an be measured easil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ampl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st reduction and avoidan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rror reduc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creased flexibil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creased speed of activ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roved management planning and contro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ning new markets and increasing sales opportuniti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.</a:t>
            </a:r>
            <a:fld id="{17E2C2A6-352E-4815-8045-5E013FA499BE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480" y="620640"/>
            <a:ext cx="7772400" cy="68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ssessing Economic Feasibil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539640" y="1557000"/>
            <a:ext cx="777744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Intangible Benefi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annot be measured easil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ampl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creased employee mora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mpetitive necess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re timely inform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omotion of organizational learning and understand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Determine Cos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Tangible Cos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an easily be measured in dolla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ample: Hardwa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Intangible Cos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annot be easily measured in dolla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amples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oss of customer goodwil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oss of employee mora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.</a:t>
            </a:r>
            <a:fld id="{BBDC9FE3-5DC6-4150-A31D-AA6591DD2F98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09480" y="620640"/>
            <a:ext cx="7772400" cy="5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ssessing Economic Feasibil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838080" y="15998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ne-Time Cos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ssociated with project startup, initiation and development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clud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ystem Develop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ew hardware and software purchas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ser train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te prepar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ata or system conversion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.</a:t>
            </a:r>
            <a:fld id="{F393F60F-4A26-443F-9BC4-22612561FC1F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480" y="549360"/>
            <a:ext cx="7772400" cy="68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ssessing Economic Feasibil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83808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Recurring Cos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ssociated with ongoing use of the syst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clude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pplication software maintenan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cremental data storage expens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ew software and hardware releas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sumable suppl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cremental communic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ime value of money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(TVM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process of comparing present cash outlays to future expected retur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.</a:t>
            </a:r>
            <a:fld id="{DBE4D0AA-0630-415E-8D9B-D00D152C748D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620640"/>
            <a:ext cx="7772400" cy="6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ssessing Technical Feasibil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echnical Feasi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ssessment of the development organization’s ability to construct a proposed syst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ject risk can be assessed based upon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ject siz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ject structu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velopment group’s experience with the applic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ser group’s experience with development projects and the application are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.</a:t>
            </a:r>
            <a:fld id="{5B653F2C-05C5-4BDF-89CD-6FFCA578B35F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11T00:26:26Z</dcterms:created>
  <dc:creator>John Russo</dc:creator>
  <dc:description/>
  <dc:language>en-US</dc:language>
  <cp:lastModifiedBy>KSU</cp:lastModifiedBy>
  <dcterms:modified xsi:type="dcterms:W3CDTF">2010-02-28T10:00:33Z</dcterms:modified>
  <cp:revision>98</cp:revision>
  <dc:subject/>
  <dc:title>Modern  Systems Analysis and Design  Joey F. George  Jeffrey A. Hoffer  Joseph S. Valacich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ublishingExpirationDate">
    <vt:lpwstr/>
  </property>
  <property fmtid="{D5CDD505-2E9C-101B-9397-08002B2CF9AE}" pid="3" name="PublishingStartDate">
    <vt:lpwstr/>
  </property>
</Properties>
</file>