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189B8-B51E-4DBA-86D1-350EFB340D0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E9F4D-00F2-4056-BBB2-998355B3AC5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663C4-C556-4FEB-B170-A975B948CD5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DEA89-84EC-433A-834E-83D38810371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0CDAB-DF9D-4CBE-BAF7-9B273E7BDA8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9AAAD-CC3E-4579-AC84-F4EDA415C95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42589-5CC7-4CA5-A497-D7966D6BAA3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F1CC9-1497-4E52-BD4A-4EC9F904B29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AD8EC-8F1B-41FE-AD0E-6BC863BBBD7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84D7C-8E32-4210-B337-368B546C8F4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FC527-8C4E-42CC-85BB-B4FA9921C74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124BC-F25C-423D-8463-E65C16A3CA9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2C566-04DF-41F3-8F81-982552CE2CF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0C657-4227-4C56-A2B0-42F3ED1482C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3FCE1-F46D-4083-8C86-D407EDAEE1A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74F7-6A88-46F6-9657-A74C87F14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5CA3-CD0D-498E-91F3-56EF64146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5565-BE3E-4387-99CF-898456DF1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4877-0AE0-4698-B221-269AC9432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BAA9F-6064-4DD7-8E0E-C958F9845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50902-12B1-4E69-BD3A-D9724B856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5B83A-CFAC-4337-8AA3-BA0F5CFA3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2563B-2603-471E-BC3C-901FD5E18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D316E-2226-4243-A881-85B90E906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46794-8A34-4B39-8F8E-76F9AA395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19B9F-73D7-482A-B22E-990D3A08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BBE9-6F5C-4FF9-AFE4-9985E9B27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6276A-54B7-4093-BA49-8470A667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F175C-5F15-4061-90B0-7D5BAAD8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BF263-08D2-4D21-B03C-AF12F4F40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1CDDC-3156-40BE-91A7-C0A9DE6D8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147F9-74FC-4BF9-83CA-01097AFCB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66D9-B633-482C-9E69-AAFF92376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DB83-8050-45ED-8BA4-1010D59FB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1827-4DF8-46D3-A448-2AB103A39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D4D1-492A-4904-AAE2-E91B312C5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08DC-A830-485B-BF88-9210BAC8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D3C8-47DF-4147-A590-7A6D7B71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6EAA-623C-4A69-B81F-78E2BA95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FF4A2-AF46-4096-946A-32C752DAD1DD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270ED-1178-4DE1-BE60-C06AF8E927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dern Systems Analysi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d Design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rd Editio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66320" y="32767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Initiating and Planning Systems Development Projec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2EE2B572-F34A-4CDE-8330-70F5E0801D1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404280"/>
            <a:ext cx="777240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ssessing Other Project Feasibility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55280" y="1773000"/>
            <a:ext cx="785484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perational Feasi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essment of how a proposed system solves business problems or takes advantage of opportun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chedule Feasi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essment of time frame and project completion dates with respect to organization constraints for affecting 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egal and Contractual Feasi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essment of legal and contractual ramifications of new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olitical Feasi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essment of key stakeholders in organization’s view toward proposed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D0E4437E-0E09-4462-9311-7B0ED2DA2E5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5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uilding the Baseline Project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ures that customer and development group have a complete understanding of the proposed system and requir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ponsoring organization with a clear idea of scope, benefits and duration of pro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 Se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 Descrip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easibility Assess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agement Iss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4BE4F3BB-BD8E-47A6-86B0-BE21A7A4683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uilding the Baseline Project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556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ief overvie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commended course of a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ject scope defin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its affec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o inside and outside the organization would be involv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action with other syste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nge of system capabil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2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 Descrip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line of possible alternative solu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rrative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0FEBF34D-83E8-4288-90AE-898446CE2E5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54936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uilding the Baseline Project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755640" y="1412640"/>
            <a:ext cx="7772400" cy="50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asibility Assess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costs and benef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chnical difficul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igh-level project schedu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agement Iss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utlines concerns that management may have about the pro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am compos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unication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ure conformity to organizational standar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l parties agree to continue with pro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7CC822DA-976D-48F7-9FCC-FF550E80216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47592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Reviewing the Baseline Project Pla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55280" y="1413000"/>
            <a:ext cx="77835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alkthroug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er group revie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ticipa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esen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ret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ndards Bear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intenance Orac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lkthrough Review 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ividuals poll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lkthrough Action Li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ures that review occurs during proj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0992F636-2C04-47D5-B348-D818A82A679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itiating and Planning System Development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55640" y="1762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Init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ment of project te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ment of relationship with custom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Initiation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ment of Management Proced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ment of Project Workbook and Project Management Enviro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fining clear, discrete activities and the work needed to complete each activ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D52A530D-A9A5-4382-A64F-D7BBC6780E4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itiating and Planning System Development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liverables and Outco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aseline Project Plan (BPP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enef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i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tatement of Work (SOW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cribes deliver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utlines work needed to be perform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F730A7EC-EAE3-4F07-BAC8-677D68AE3D9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47592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ssessing Project Feasi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 Catego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conom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chnic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i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gal and contractu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litic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4F841849-6A88-4B5C-BAB6-A4DF67D096C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ssessing Economic Feasi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3808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st – Benefit Analy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termine Benef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angible Benef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n be measured easi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st reduction and avoid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rror reduc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reased flexi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reased speed of activ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roved management planning and contr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ning new markets and increasing sales opportun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1B6C97C1-40F1-4B0A-A4F1-072EA522706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ssessing Economic Feasi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39640" y="1557000"/>
            <a:ext cx="7777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tangible Benef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nnot be measured easi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reased employee mora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etitive necess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re timely inform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motion of organizational learning and understan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termine Co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angible Co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n easily be measured in dolla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: Hardw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tangible Co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nnot be easily measured in dolla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ampl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ss of customer goodwi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ss of employee mora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6004F15D-0F1E-47D8-B172-E7204B33EB4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5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ssessing Economic Feasi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ne-Time Co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ociated with project startup, initiation and developme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lud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w hardware and software purcha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r trai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te prepa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or system convers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171B9A37-2BBC-4126-BDAC-E3DE4E38FD5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54936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ssessing Economic Feasi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83808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curring Co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ociated with ongoing use of the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lud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ication software mainten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mental data storage expen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w software and hardware relea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umable suppl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mental commun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ime value of mone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TV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rocess of comparing present cash outlays to future expected retur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8D81721D-24C0-4CD8-BF52-BC4D87F00EE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620640"/>
            <a:ext cx="77724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ssessing Technical Feasi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chnical Feasi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essment of the development organization’s ability to construct a proposed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risk can be assessed based up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siz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struct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ment group’s experience with the appli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r group’s experience with development projects and the application are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</a:t>
            </a:r>
            <a:fld id="{5AF922AD-41F3-4EFE-ACBE-307F7ABE3DD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KSU</cp:lastModifiedBy>
  <dcterms:modified xsi:type="dcterms:W3CDTF">2010-02-28T10:00:33Z</dcterms:modified>
  <cp:revision>98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