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AC5DC-008E-4F87-8DD0-B1CCCC66668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7BE0-E50F-43A2-AF1D-500B1129C70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CC06-DE67-43F7-ABAB-DD9BD75E4F1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3A4F-DDEC-4B18-9211-59A2952722E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9CC9-F26E-4C2D-A60F-AED6BCA438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9B7B-585B-4F00-8979-61D184D5433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CFF0-25B0-408F-8075-2605E177543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1D3-7EE0-4FFC-9C82-7336CFC77D2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B0CD-4117-446E-B796-191048C25C0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E10C-E1C8-4234-B374-886CDB34BFC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2F8E-A0EC-4E9A-8E21-D09F9978DB0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A568D-B020-4391-9826-9F2EF33D4AB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1A1D2-11DB-4069-A9F8-5FA8D25766E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C312-39B9-49C8-822F-2B9D43C7139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9F54-CF34-4BCD-8C0D-4D4A16E7B22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DE0B-C712-4596-9009-8790BE757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681-6F8D-4D68-B560-539C2DDE0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45AA-FBF4-410A-87BC-090465FA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0CC-7219-4456-9C5E-0C99C51E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33EE-06E9-4926-A213-707BAAF2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B0EF-2D6A-4011-B254-BB87BC75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44F1-99BC-48CE-ADF5-A481F773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F907-9267-4313-91F7-B2ACBC62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BC08-79D3-4FFD-AFA7-ED1B227C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74966-0F8D-4BDE-9D2B-04191955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28D7-1D88-4694-B12C-A329BC6D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D8F-DF1C-4182-8A73-7156FFB1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A509-8BD1-425E-BB21-1D844091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5321-57A9-4DDF-990A-8736705C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9583-5C50-470B-9039-EC922D89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F280-66E7-4E00-9DBC-7455F1FC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A714-CA6E-4C3D-B8C6-5D995715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9E88-6BEB-4016-8EDD-264BBBDAE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F199-63EC-45D6-AEB6-6C5E5257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584-85EF-48E5-9815-0B18BA4A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6868-1923-4979-9461-F6846E00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079-0435-4776-A500-FE4D2D7F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5BE-D6C0-4C42-AD1D-E889BED2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226-C428-484F-8B10-60BAFD5E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BFA8-F2C9-45EF-805D-DE101D4F5103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9D31-5DA0-4CFE-BC5D-6078BDFCD8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nitiating and Plann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CD46BAAE-3445-414B-A5DF-AC6FD660CB0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Other Project Feasibility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5280" y="1773000"/>
            <a:ext cx="78548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how a proposed system solves business problems or takes advantage of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edule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ime frame and project completion dates with respect to organization constraints for affecting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gal and Contractu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legal and contractual ramifications of new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it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key stakeholders in organization’s view toward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4E63F042-4C7E-4A1D-9BA6-5FD6908C410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s that customer and development group have a complete understanding of the proposed system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ponsoring organization with a clear idea of scope, benefits and duration of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142083C0-C5A8-4DEA-9777-9FAEDB58975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ef over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mmended course of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cop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s aff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inside and outside the organization would b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ction with other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 of system capa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of possible alternativ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rrative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75C7C879-2AF1-493E-9A2A-9DC3C4BE009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1412640"/>
            <a:ext cx="77724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sts and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difficul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level project sched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concerns that management may have about th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 conformity to organizational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arties agree to continue with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44E3519D-0467-4896-BF0F-2504DA5A102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eviewing the Baseline Project Pl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280" y="1413000"/>
            <a:ext cx="7783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lkthr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er group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e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ret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 Bea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 Ora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Review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po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Action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ures that review occurs during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9AF5B024-0E50-4B1C-A534-51C099A7209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Workbook and Project Management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ng clear, discrete activities and the work needed to complete each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C2718BDE-3634-4F18-AC97-636DFF81CEE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eline Project Plan (B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ement of Work (S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work needed to be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021F6F9E-68D8-493A-BBC5-4613A467C9D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Project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gal and contrac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508A86C1-2D2E-4161-B057-0F97E9DB5C4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– Benefit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reduction and avo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flex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speed of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d management planning and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ing new markets and increasing sales 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A82C8D79-3FF4-49E5-8F9A-2355C1C2582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55700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etitive neces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timely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on of organizational learning and underst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easily be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easily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customer goodw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8EDCF8BC-8119-4583-B646-A65B69B9AAE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-Tim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project startup, initiation and develop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rdware and software purc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e prepa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r system conver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24B40AD3-A3E7-4384-A3C9-66884C4CDFB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ring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ongoing use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software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data storage exp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software and hardware rel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able supp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me value of mon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V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comparing present cash outlays to future expected retu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1F997722-20E9-42F3-9168-E1CCA468817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Technical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hn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he development organization’s ability to construct a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isk can be assessed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’s experience with the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group’s experience with development projects and the application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F412176E-5F54-4E2D-B824-30831499F8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33Z</dcterms:modified>
  <cp:revision>9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