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BF81-869A-426D-B9B6-EB145D743C1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F2BF-F284-4410-969F-75B66D80566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C95B-C6C7-4024-A522-5956A819538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D8DE-D009-4C30-AC0E-6EE765A2D80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44B6-49E6-48E1-81FA-90FA5D05AF2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67A1-1255-4C0A-8DA0-1FDC10EDF4A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419C-BBA1-4A89-8C13-E787855452B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0069-0C7E-4AA2-96CC-47BA5888979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5937-1518-4C99-B025-D4F7CBC9E53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766C-C6AF-4233-B2BE-58FEC93F8C9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506E-44E6-42D0-B0CA-BA66BFC9A29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3C8D-44A1-4E72-9774-896CB4B8064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AB6F-D60A-4C5A-BA3C-7B99AF406C6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66FE-6359-42A1-8E73-A35AB3AC5C7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B33B-90CF-4BF1-89C4-37E1E03E82C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6B68-DDEF-47FF-8B8F-7F6F20D6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7EE9-149C-45A8-8AFF-E95A7A90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223E-289E-41C1-9906-395A933B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1CEF-F058-4A50-8A12-493A14D8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3558-2664-4A5E-8072-4F2F3051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22CD-5428-494E-B898-2555F6DA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5F8A-B74C-430A-B3B0-D04AB911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E041-C145-4257-BF17-EA51565A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9D42-BF34-4845-8B68-CAB70A6F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AE38-5EBE-4907-A25F-30E3CD08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71B1-9063-4D62-91DA-4698E823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F9B2-0D7C-45A6-BD21-BD7D4D6C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7060-24C1-438E-9667-C1CA2B96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9107-C371-429E-95FE-15240AC8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E342-2288-49DA-A21D-5392D5B1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86C6-D562-49F1-9418-FB33BA9A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5D6C-2804-4808-906C-128D44E7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BF95-6C25-45F4-9A8C-F25188F1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63EF-760F-46A8-A5D6-A1BD51C9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5925-DF30-4E72-8E85-AABDBBF2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34A7-6F76-4A3A-8BD3-D7EACDCD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750E-4A11-4559-A795-626F32DA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DE25-8FDF-4E03-BA99-2325C857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2670-1046-429E-B771-5022CECE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8E14-0A3B-4E1F-AC50-0589C0DC603A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BE56-8138-4E00-BB1D-2D4CC4075E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Initiating and Planning Systems Development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A23ADE13-7DF1-412B-BC7B-B634F340922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Other Project Feasibility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55280" y="1773000"/>
            <a:ext cx="785484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peration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how a proposed system solves business problems or takes advantage of 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chedule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time frame and project completion dates with respect to organization constraints for affecting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gal and Contractu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legal and contractual ramifications of new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litic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key stakeholders in organization’s view toward proposed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E5976EDB-FE45-4FBB-883F-FA0CD3C512E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ilding the Baseline Projec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res that customer and development group have a complete understanding of the proposed system and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ponsoring organization with a clear idea of scope, benefits and duration of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Se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Descri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asibility Assess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A26AB3E4-4D27-4E0D-9FBC-10D5AD0C96F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ilding the Baseline Projec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ief over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mmended course of 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scope def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s affe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o inside and outside the organization would be invol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action with other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nge of system capabil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Descri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of possible alternative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rrative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29B471DB-CA82-4C2F-85A1-C3F68E8C09B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ilding the Baseline Projec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55640" y="1412640"/>
            <a:ext cx="77724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asibility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osts and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 difficul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-level project schedu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ment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lines concerns that management may have about th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 com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re conformity to organizational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parties agree to continue with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CAC72AC3-0D01-4E3D-A4E9-343AC7EC396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Reviewing the Baseline Project Pl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55280" y="1413000"/>
            <a:ext cx="7783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lkthroug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er group re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icip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en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ret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s Bear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enance Orac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lkthrough Review 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poll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lkthrough Action Li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ures that review occurs during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46127EDF-9983-4F54-BB6A-82A8603BBCB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and Planning System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640" y="1762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ment of project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relationship with custo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Initi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ment of Management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ment of Project Workbook and Project Management 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ing clear, discrete activities and the work needed to complete each activ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4513F72A-2D91-4418-BFEB-4049BAEF618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and Planning System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aseline Project Plan (BP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tement of Work (SO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s deliver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lines work needed to be perfor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8595CA41-B2B5-4A98-BE49-FA19F0F5F18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Project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 Catego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onom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gal and contract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t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9A4FE980-67C0-45BA-B191-1E73D52BED5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 – Benefit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termine 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angible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measured easi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reduction and avoid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ror red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flexi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speed of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d management planning and 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ing new markets and increasing sales 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61A203FC-08D5-4B6C-B9FC-35085E0650E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9640" y="155700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angible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not be measured easi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employee mor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etitive neces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e timely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ion of organizational learning and underst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termine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angible 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easily be measured in doll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angible 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not be easily measured in doll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s of customer goodwi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s of employee mor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08D1540F-176A-4053-BECA-0FCFF4A51F0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ne-Time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ociated with project startup, initiation and develop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hardware and software purch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trai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te prepa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r system convers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5D3E0A8F-9DD9-4D79-BC82-A30E4C93789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80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urring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ociated with ongoing use of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software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mental data storage expe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software and hardware rele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umable supp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mental 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ime value of mone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TV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comparing present cash outlays to future expected retu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AF73A05D-8A53-48E8-AEED-0EE6A9FA8E9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Technical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chnic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the development organization’s ability to construct a proposed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risk can be assessed based up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group’s experience with the appl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group’s experience with development projects and the application a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D3D27740-649D-4543-AF8B-31EDC625062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0:33Z</dcterms:modified>
  <cp:revision>98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